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E95-4B4E-4E5F-90CA-F37509AB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866-D735-453C-BE36-0589985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0E2-EBFF-4199-9DE6-51898170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B9B-C65F-4794-9007-03AD59B8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4E5-F445-463B-9FB6-C513B4D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376-EE7A-40E1-A716-34A94EB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E5D-8455-4EBA-BCBD-885E526E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C6F-3A9A-4043-902F-1428818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BEE-404F-400E-99A0-9DFCAB5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0B2-A5E7-4E54-8F1F-D7B90DC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879-7686-4DC7-85ED-EF683A3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578-37AF-4BC3-B562-2476758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5CED-251E-4535-B663-9241C4A23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59720" cy="31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Что изучает физик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Физика позволяет выводить общие законы на основании изучения простых явл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тановив фундаментальные законы природы, человек использует их в процессе своей жизнедеятельности – механике, строительстве, энергетике, военном деле, мореплавании, даже в цирке и других област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РОДА         ФИЗИКА        ТЕХ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313"/>
                </a:solidFill>
                <a:latin typeface="Calibri"/>
              </a:rPr>
              <a:t>Согласитесь - любопыт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ему такой огромный и тяжелый океанский лайнер не тонет, а плывет по воде, но попробуйте бросить топ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57168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4"/>
          <p:cNvSpPr/>
          <p:nvPr/>
        </p:nvSpPr>
        <p:spPr>
          <a:xfrm>
            <a:off x="5572080" y="571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Учитель\Desktop\фото-1\Фото028 (1).jpg"/>
          <p:cNvPicPr/>
          <p:nvPr/>
        </p:nvPicPr>
        <p:blipFill>
          <a:blip r:embed="rId1"/>
          <a:stretch/>
        </p:blipFill>
        <p:spPr>
          <a:xfrm>
            <a:off x="1258920" y="3762360"/>
            <a:ext cx="5832360" cy="30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ему такой же огромный и тяжелый воздушный лайнер, самолет, летает по воздуху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0231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очему знаменитый барон Мюнхгаузен, опять таки, бессовестно врал, когда рассказывал, как он вытаскивал себя из болота за свои собственные волос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2071800" y="2500200"/>
            <a:ext cx="50004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з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ет ответы на все эти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еседа с использованием иллюстра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е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7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771552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8286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Некоторые физические тер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изическое тело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щество – это один из видов мате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терия – это все то, что существует во Вселенной независимо от нашего созн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пля воды, алюминиевая лож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да, алюми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бесные тела, растения, животные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7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8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1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с новым школьным предмет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ь место физики в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спределите в таблице следующие слов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инец, гром, рельсы, пурга, алюминий, рассвет, буран, Луна, спирт, ножницы, ртуть, снегопад, стол, медь, вертолет, нефть, кипение, метель, выстрел, навод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2920" y="4365720"/>
          <a:ext cx="7201080" cy="1496880"/>
        </p:xfrm>
        <a:graphic>
          <a:graphicData uri="http://schemas.openxmlformats.org/drawingml/2006/table">
            <a:tbl>
              <a:tblPr/>
              <a:tblGrid>
                <a:gridCol w="2952720"/>
                <a:gridCol w="230508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Calibri"/>
              </a:rPr>
              <a:t>Наблюдение и опы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ие  знания получены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блюд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для изучения какого-либо явления необходимо наблюдать его не один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вызывают явление падения тел, т.е. проводя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о время опытов обычно проводя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личаются о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блюден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, что их проводят с определенной целью, по заранее обдуманному плану. Т.е. выдвигае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получить научные знания об окружающем нас мире, необходимо обдумать и объяснить результаты проведенных опытов, сдела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Практическое задание в группах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йти площадь экрана монитора в класс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«Найти площадь демонстрационного сто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«Найти площадь двер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каким  новым школьным предметом мы познаком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изучает физ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новые термины узнали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е  место в жизни занимает физ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уроке проведена практическая работа, входе которой, что вы определ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 1 – 3, упр. 1,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айти площадь экрана телевизор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айти площадь двер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обок спичек, свеча, гиря, два стакана – один пустой, второй наполовину наполнен водой, портреты известных физиков, картинки, фотографии, репродукции с изображениями явлений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Роль физики в наш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Беседа с использованием иллюстр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Некоторые физические терм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Наблюдения и опы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Закрепление 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Домашни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2. Роль физики в нашей жиз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этой науки в нашей жизни очень трудно переоценить, так как она необходима инженерам, строителям, врачам и многим другим специалис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22R4"/>
          <p:cNvPicPr/>
          <p:nvPr/>
        </p:nvPicPr>
        <p:blipFill>
          <a:blip r:embed="rId1"/>
          <a:stretch/>
        </p:blipFill>
        <p:spPr>
          <a:xfrm>
            <a:off x="5000760" y="3929040"/>
            <a:ext cx="2786040" cy="2214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Fig3"/>
          <p:cNvPicPr/>
          <p:nvPr/>
        </p:nvPicPr>
        <p:blipFill>
          <a:blip r:embed="rId2"/>
          <a:stretch/>
        </p:blipFill>
        <p:spPr>
          <a:xfrm>
            <a:off x="571680" y="3786120"/>
            <a:ext cx="29286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готовление новых машин, приборов и других устройств связано с физ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C:\Users\Учитель\Desktop\фото-1\Фото029 (1)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1512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ФИЗИКА изучает мир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отором мы живем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явл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 нем происходящие, открывает законы, которым подчиняются эти явления, и то как они взаимосвяз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еди большого многообразия явлений в природе физические явления занимают особое место. К ним относя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Calibri"/>
              </a:rPr>
              <a:t>Физические яв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Движение машин, самол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Электрический ток, нагревание проводников с током, электризация т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Действие магнитов на железо, влияние магнитного поля Земли на стрелку компа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Отражение света от зеркал, излучение световых лучей от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Таяние льда, кипение во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Работа атомных реакторов, распад яд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Эх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1.Механ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2. Электр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3.Магнитн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4. Оптические 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5. Теплов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6. Атомн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7. Акуст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Физика – наука, которая изучает все эти яв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к же физика связана и с другими науками, такими как математика, природоведение, география, биология и астроном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45:34Z</dcterms:created>
  <dc:creator>Учитель</dc:creator>
  <dc:description/>
  <dc:language>en-US</dc:language>
  <cp:lastModifiedBy>Пользователь</cp:lastModifiedBy>
  <dcterms:modified xsi:type="dcterms:W3CDTF">2012-11-04T06:37:40Z</dcterms:modified>
  <cp:revision>45</cp:revision>
  <dc:subject/>
  <dc:title>Вводный урок</dc:title>
</cp:coreProperties>
</file>