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E2E-4505-44ED-924D-DFBAF51B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2C1-699F-43E7-8B3C-03EE515B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74E-644E-4FE6-AA7D-3C006038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6A9-49D3-41C7-8193-DFDCAE92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05D-CE40-4878-B2B3-B1E1CDBE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ACC-9783-4177-8B75-81C2CB0D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BB2-D1CA-4491-8DC7-D59C6877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891-C229-41DD-94E6-4D1F2800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A4F-F34B-4299-AD8B-03E0BB4E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6A3-EC08-4869-A864-CE04B739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B6F-34B2-48B2-8E15-0AC73B5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081-3E1E-4282-8A9F-CC299478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2E36-1130-47C8-B4D4-87AA0E2C5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460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659720" cy="316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5400" spc="-1" strike="noStrike">
                <a:solidFill>
                  <a:srgbClr val="ffff00"/>
                </a:solidFill>
                <a:latin typeface="Calibri"/>
              </a:rPr>
              <a:t>Что изучает физика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Физика позволяет выводить общие законы на основании изучения простых явл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тановив фундаментальные законы природы, человек использует их в процессе своей жизнедеятельности – механике, строительстве, энергетике, военном деле, мореплавании, даже в цирке и других област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ИРОДА         ФИЗИКА        ТЕХ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3313"/>
                </a:solidFill>
                <a:latin typeface="Calibri"/>
              </a:rPr>
              <a:t>Согласитесь - любопыт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чему такой огромный и тяжелый океанский лайнер не тонет, а плывет по воде, но попробуйте бросить топо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трелка вправо 3"/>
          <p:cNvSpPr/>
          <p:nvPr/>
        </p:nvSpPr>
        <p:spPr>
          <a:xfrm>
            <a:off x="2786040" y="571680"/>
            <a:ext cx="977760" cy="4838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4"/>
          <p:cNvSpPr/>
          <p:nvPr/>
        </p:nvSpPr>
        <p:spPr>
          <a:xfrm>
            <a:off x="5572080" y="571680"/>
            <a:ext cx="978120" cy="48384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Учитель\Desktop\фото-1\Фото028 (1).jpg"/>
          <p:cNvPicPr/>
          <p:nvPr/>
        </p:nvPicPr>
        <p:blipFill>
          <a:blip r:embed="rId1"/>
          <a:stretch/>
        </p:blipFill>
        <p:spPr>
          <a:xfrm>
            <a:off x="1258920" y="3762360"/>
            <a:ext cx="5832360" cy="309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чему такой же огромный и тяжелый воздушный лайнер, самолет, летает по воздуху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023160" cy="3805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очему знаменитый барон Мюнхгаузен, опять таки, бессовестно врал, когда рассказывал, как он вытаскивал себя из болота за свои собственные волосы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"/>
          <p:cNvPicPr/>
          <p:nvPr/>
        </p:nvPicPr>
        <p:blipFill>
          <a:blip r:embed="rId1"/>
          <a:stretch/>
        </p:blipFill>
        <p:spPr>
          <a:xfrm>
            <a:off x="2071800" y="2500200"/>
            <a:ext cx="500040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из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ет ответы на все эти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еседа с использованием иллюстра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родные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7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7715520" cy="614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828684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Некоторые физические терм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изическое тело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щество – это один из видов мате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атерия – это все то, что существует во Вселенной независимо от нашего созн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пля воды, алюминиевая лож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ода, алюми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бесные тела, растения, животные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9" dur="indefinite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indefinite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4" dur="indefinite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indefinite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7" dur="indefinite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8" dur="indefinite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знакомиться с новым школьным предмет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ределить место физики в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Распределите в таблице следующие слов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инец, гром, рельсы, пурга, алюминий, рассвет, буран, Луна, спирт, ножницы, ртуть, снегопад, стол, медь, вертолет, нефть, кипение, метель, выстрел, наводн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42920" y="4365720"/>
          <a:ext cx="7201080" cy="1496880"/>
        </p:xfrm>
        <a:graphic>
          <a:graphicData uri="http://schemas.openxmlformats.org/drawingml/2006/table">
            <a:tbl>
              <a:tblPr/>
              <a:tblGrid>
                <a:gridCol w="2952720"/>
                <a:gridCol w="230508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ое т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щ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Calibri"/>
              </a:rPr>
              <a:t>Наблюдение и опы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ие  знания получены и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блюд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для изучения какого-либо явления необходимо наблюдать его не один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, вызывают явление падения тел, т.е. проводя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ы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Во время опытов обычно проводя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ы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личаются о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блюдени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, что их проводят с определенной целью, по заранее обдуманному плану. Т.е. выдвигае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получить научные знания об окружающем нас мире, необходимо обдумать и объяснить результаты проведенных опытов, сдела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cc"/>
                </a:solidFill>
                <a:latin typeface="Arial"/>
              </a:rPr>
              <a:t>Практическое задание в группах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Найти площадь экрана монитора в класс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«Найти площадь демонстрационного стол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«Найти площадь двер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каким  новым школьным предметом мы познакомили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то изучает физ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ие новые термины узнали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е  место в жизни занимает физ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уроке проведена практическая работа, входе которой, что вы определ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§ 1 – 3, упр. 1,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айти площадь экрана телевизор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айти площадь двер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робок спичек, свеча, гиря, два стакана – один пустой, второй наполовину наполнен водой, портреты известных физиков, картинки, фотографии, репродукции с изображениями явлений прир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Организационный моме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Роль физики в нашей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Беседа с использованием иллюстр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Некоторые физические терм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Наблюдения и опы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Закрепление пройденн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Домашние за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2. Роль физики в нашей жизн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оль этой науки в нашей жизни очень трудно переоценить, так как она необходима инженерам, строителям, врачам и многим другим специалист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22R4"/>
          <p:cNvPicPr/>
          <p:nvPr/>
        </p:nvPicPr>
        <p:blipFill>
          <a:blip r:embed="rId1"/>
          <a:stretch/>
        </p:blipFill>
        <p:spPr>
          <a:xfrm>
            <a:off x="5000760" y="3929040"/>
            <a:ext cx="2786040" cy="2214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3" descr="Fig3"/>
          <p:cNvPicPr/>
          <p:nvPr/>
        </p:nvPicPr>
        <p:blipFill>
          <a:blip r:embed="rId2"/>
          <a:stretch/>
        </p:blipFill>
        <p:spPr>
          <a:xfrm>
            <a:off x="571680" y="3786120"/>
            <a:ext cx="292860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зготовление новых машин, приборов и других устройств связано с физи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C:\Users\Учитель\Desktop\фото-1\Фото029 (1).jpg"/>
          <p:cNvPicPr/>
          <p:nvPr/>
        </p:nvPicPr>
        <p:blipFill>
          <a:blip r:embed="rId1"/>
          <a:stretch/>
        </p:blipFill>
        <p:spPr>
          <a:xfrm>
            <a:off x="1071720" y="1785960"/>
            <a:ext cx="721512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ФИЗИКА изучает мир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котором мы живем,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явл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в нем происходящие, открывает законы, которым подчиняются эти явления, и то как они взаимосвяз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реди большого многообразия явлений в природе физические явления занимают особое место. К ним относя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Calibri"/>
              </a:rPr>
              <a:t>Физические явл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Движение машин, самоле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Электрический ток, нагревание проводников с током, электризация т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Действие магнитов на железо, влияние магнитного поля Земли на стрелку компа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Отражение света от зеркал, излучение световых лучей от различных источ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Таяние льда, кипение во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Работа атомных реакторов, распад яд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Эх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1.Механические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2. Электрические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3.Магнитные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4. Оптические 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5. Тепловые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6. Атомные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Calibri"/>
              </a:rPr>
              <a:t>7. Акустические я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8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Физика – наука, которая изучает все эти явл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ак же физика связана и с другими науками, такими как математика, природоведение, география, биология и астроном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07:45:34Z</dcterms:created>
  <dc:creator>Учитель</dc:creator>
  <dc:description/>
  <dc:language>en-US</dc:language>
  <cp:lastModifiedBy>Пользователь</cp:lastModifiedBy>
  <dcterms:modified xsi:type="dcterms:W3CDTF">2012-11-04T06:37:40Z</dcterms:modified>
  <cp:revision>45</cp:revision>
  <dc:subject/>
  <dc:title>Вводный урок</dc:title>
</cp:coreProperties>
</file>