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90CB-5C63-4743-9FE1-97C6A7FFFF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7794-8218-43A6-B4D2-8CD0CB320A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motherearthnews.com/uploadedImages/articles/issues/2009-08-01/MEN-AS09-gazette-earth-kid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A6E6-ACB1-4E55-9E4C-B1F1F68DEA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us.cdn3.123rf.com/168nwm/gemenacom/gemenacom1010/gemenacom101000061/7977533-alarm-clock-shows-half-past-three-isolated-on-white-background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orealitsyours.com/web_images/kids1.b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urses4cooks.co.uk/images/cookery-courses/learn-to-cook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lassroomclipart.com/images/gallery/Clipart/Animated_Clipart/Food/cooking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g.y8.com/gfx/Messy_Hous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s://lh3.googleusercontent.com/-goRG_yCWBVE/TW7mMY63MmI/AAAAAAAAAvg/578dgrT89JY/s1600/voicemai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pottytrainingconcepts.com/common/Category-Pics/Boys-PTBooks-T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E7D8-03D5-4627-A4F2-9A14D6DD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E88-8C7A-481A-BBBE-AD0FD746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41A-0C0C-4BB7-BAAE-9760C69F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1E69-515D-40EF-A804-C86B5A76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158C-BFFC-4102-AE9C-D9344E90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9C78-39DC-42FA-9CD7-4888C458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72D2-76CB-4652-825F-FFE40ED1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D52C-7DF7-449C-B6D8-02E9245E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7D26-AA28-47C3-BCB0-980960A7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12D7-DC45-4F33-9707-C248224C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3E1D-4ED7-455F-AD01-57F42D5A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0086-806C-43BA-88DE-25A6931D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1A5F-A056-416F-AA61-41504948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A5D4-6651-4DC5-9FE7-A5ED0A1E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2C98-B120-4F3B-871C-BA0B3FA3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3E86-0BF8-4D43-8313-88B08826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D460-D0AE-4958-AA03-7BB7050B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03E42-7FA5-4D2C-ADAC-C8D98E9E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59F21-3651-43F9-B99C-374353DE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93743-CBEB-40E2-9624-97BD0631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81DD0-900A-443B-A19F-ED8F4E52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59416-2375-424F-83AC-827F2D7F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990-353B-4D29-A531-5FC23F58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08632-7E3E-4E17-9310-84CDEE59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D6172-7185-41CA-A292-E982A0E3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F08DF-38A5-4D04-B846-4CF5B2E2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0602C-0F46-486D-AF71-9EB751F0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1FFA6-904D-40BE-92C0-3883B84B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CCEF8-4AD6-40BC-ACCE-1D468C2D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C1A5A-6BBE-4272-86CD-3700B8CE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B3EA6-497F-4959-B04D-C37DE164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D8482-42F6-4D70-857F-2FA08687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B6BC4-4DEB-4729-8AD7-AC39679F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7917-CA10-450A-AED4-CF40661B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170A9-F05A-43E7-B6C8-525F717C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25ECB-F3B4-45F1-A731-10C0EA42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3A03B-7FF7-43FA-9D0F-87E1DEB7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E0DFB-67B0-487D-9090-61C8363C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62E79-A65C-412D-BB5A-62B6C9D7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3DCB0-13CA-43A3-B712-725F10EF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DF092-412F-4200-A111-51AABB40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8A3B9-1F16-4912-80D6-8625CC55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387B8-684A-4B70-AD8E-4669FA8B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B8869-82CE-4CDC-AAF6-C86F5751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799-5055-4A04-9519-DE2E114A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24F9E-BF67-4467-A8D4-D661B9E9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2FBB4-CA53-4097-BB64-B8E825C7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F84C8-6319-4A55-A347-ADC0254B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5DCD1-72E7-49B8-9E78-314E2813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0E19C-D02C-4782-BBAD-F01C515A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4675C-A648-41B2-AC6B-E4B35CDD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3B656-4F91-4B04-969C-582AA5FA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E0729-E2E7-4327-BB3C-C59EFBD7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DA348-EABB-406D-A238-819C2921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274E9-096C-4FFA-A06B-1BF87E5D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727-119E-4024-8813-E3F4C5AA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BD289-DF3C-4FBD-9D9F-86ABDBE4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E7932-FE20-4AB8-B915-F00B3949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28CBD-1C99-468F-99E3-373C1DA5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D429B-376E-4470-981D-01973FB8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C0825-70F3-4F14-8313-8FAA8D43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92CA6-F06C-4DEB-BC67-C9FC7E71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73255-5B6A-4D4D-AE1C-96D9C613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1D9C2-46F9-43FD-90E5-43445599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CF282-EEFF-4C18-934E-D9B34E00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46E18-8F14-434F-B4B6-3032ECC5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CF2-61EE-490B-887A-622DA19B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D23E9-62C6-4161-ADEF-9C7F6CFE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097DB-A7D1-4FFC-B596-37E9590E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94085-14A6-427D-990B-147C6CF7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750B4-83F3-4739-B1BB-46FC199B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F9EB0-5127-442A-BC6E-A65366D6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2CF63-172C-4D40-A7F9-3C026A29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91E7A-FE28-4019-8BB4-123FE204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B6766-EE57-4D5D-B60D-E2AECC5E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AF381-818C-4DD9-A3D6-E3ED7ED4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B882D-6007-4DF7-98E8-AFEB8FD8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71C2-89DC-4E4C-B10C-A21304B4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5FFF8-5706-4569-9000-E3798FD4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04EE3-6C30-4226-87FD-70FA7362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7E546-6B4E-4426-A7AB-4B4557E2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17658-337C-40C5-9DE3-FE169C3D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67ACA-81A2-4D9B-8DB0-D320827E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8180-2025-48FE-A58F-6AD451D5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2EA2-BF26-41A0-8EF9-F74736A31FE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5A2D-422C-4734-B39A-A3C17334823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6C0B-C8F8-4586-8C25-63544242F8F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A6EA-49B3-40B9-9D3E-47ACB1A7888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4485-6C22-4255-8379-4CDDCCE33A0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3B0A-14A2-460F-A9EC-6A408535775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9262-F766-4DC2-99D6-9E395ED9B94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8064360" cy="39369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5280" y="3429000"/>
            <a:ext cx="8353440" cy="10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ndara"/>
              </a:rPr>
              <a:t>Present Continuous Tense</a:t>
            </a:r>
            <a:endParaRPr b="0" lang="en-US" sz="5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32000" y="486864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What are they doing?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2" descr=""/>
          <p:cNvPicPr/>
          <p:nvPr/>
        </p:nvPicPr>
        <p:blipFill>
          <a:blip r:embed="rId1"/>
          <a:stretch/>
        </p:blipFill>
        <p:spPr>
          <a:xfrm rot="21065400">
            <a:off x="0" y="4365360"/>
            <a:ext cx="2664000" cy="22762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1" descr=""/>
          <p:cNvPicPr/>
          <p:nvPr/>
        </p:nvPicPr>
        <p:blipFill>
          <a:blip r:embed="rId2"/>
          <a:stretch/>
        </p:blipFill>
        <p:spPr>
          <a:xfrm rot="275400">
            <a:off x="7308720" y="1988640"/>
            <a:ext cx="1514520" cy="2376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9" descr=""/>
          <p:cNvPicPr/>
          <p:nvPr/>
        </p:nvPicPr>
        <p:blipFill>
          <a:blip r:embed="rId3"/>
          <a:stretch/>
        </p:blipFill>
        <p:spPr>
          <a:xfrm rot="21103800">
            <a:off x="0" y="115920"/>
            <a:ext cx="2449440" cy="2444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"/>
          <p:cNvPicPr/>
          <p:nvPr/>
        </p:nvPicPr>
        <p:blipFill>
          <a:blip r:embed="rId4"/>
          <a:srcRect l="0" t="5333" r="0" b="0"/>
          <a:stretch/>
        </p:blipFill>
        <p:spPr>
          <a:xfrm>
            <a:off x="5867280" y="0"/>
            <a:ext cx="3276720" cy="20588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"/>
          <p:cNvPicPr/>
          <p:nvPr/>
        </p:nvPicPr>
        <p:blipFill>
          <a:blip r:embed="rId5"/>
          <a:stretch/>
        </p:blipFill>
        <p:spPr>
          <a:xfrm rot="681600">
            <a:off x="3995640" y="0"/>
            <a:ext cx="1138320" cy="14828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"/>
          <p:cNvPicPr/>
          <p:nvPr/>
        </p:nvPicPr>
        <p:blipFill>
          <a:blip r:embed="rId6"/>
          <a:srcRect l="18153" t="18465" r="21227" b="35834"/>
          <a:stretch/>
        </p:blipFill>
        <p:spPr>
          <a:xfrm rot="663600">
            <a:off x="6673320" y="4221000"/>
            <a:ext cx="2216160" cy="2448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"/>
          <p:cNvPicPr/>
          <p:nvPr/>
        </p:nvPicPr>
        <p:blipFill>
          <a:blip r:embed="rId7"/>
          <a:srcRect l="10078" t="0" r="19350" b="9322"/>
          <a:stretch/>
        </p:blipFill>
        <p:spPr>
          <a:xfrm rot="20815800">
            <a:off x="468360" y="2492280"/>
            <a:ext cx="1342800" cy="17272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20"/>
          <p:cNvSpPr/>
          <p:nvPr/>
        </p:nvSpPr>
        <p:spPr>
          <a:xfrm rot="2442600">
            <a:off x="1988640" y="4097160"/>
            <a:ext cx="1584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02920" y="1125000"/>
            <a:ext cx="6048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96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I </a:t>
            </a:r>
            <a:r>
              <a:rPr b="1" lang="en-US" sz="2400" spc="-1" strike="noStrike">
                <a:solidFill>
                  <a:srgbClr val="cc0000"/>
                </a:solidFill>
                <a:latin typeface="Candara"/>
              </a:rPr>
              <a:t>am calling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 my friends </a:t>
            </a:r>
            <a:br>
              <a:rPr sz="2400"/>
            </a:b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At half past three. </a:t>
            </a:r>
            <a:br>
              <a:rPr sz="2400"/>
            </a:b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They are very busy, </a:t>
            </a:r>
            <a:br>
              <a:rPr sz="2400"/>
            </a:b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They can't come to me: </a:t>
            </a:r>
            <a:br>
              <a:rPr sz="2400"/>
            </a:b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Pete </a:t>
            </a:r>
            <a:r>
              <a:rPr b="1" lang="en-US" sz="2400" spc="-1" strike="noStrike">
                <a:solidFill>
                  <a:srgbClr val="cc0000"/>
                </a:solidFill>
                <a:latin typeface="Candara"/>
              </a:rPr>
              <a:t>is reading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 a book, </a:t>
            </a:r>
            <a:br>
              <a:rPr sz="2400"/>
            </a:b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Kate </a:t>
            </a:r>
            <a:r>
              <a:rPr b="1" lang="en-US" sz="2400" spc="-1" strike="noStrike">
                <a:solidFill>
                  <a:srgbClr val="cc0000"/>
                </a:solidFill>
                <a:latin typeface="Candara"/>
              </a:rPr>
              <a:t>is learning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 to cook, </a:t>
            </a:r>
            <a:br>
              <a:rPr sz="2400"/>
            </a:b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Pat </a:t>
            </a:r>
            <a:r>
              <a:rPr b="1" lang="en-US" sz="2400" spc="-1" strike="noStrike">
                <a:solidFill>
                  <a:srgbClr val="cc0000"/>
                </a:solidFill>
                <a:latin typeface="Candara"/>
              </a:rPr>
              <a:t>is feeding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 her cat, </a:t>
            </a:r>
            <a:br>
              <a:rPr sz="2400"/>
            </a:b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Jack </a:t>
            </a:r>
            <a:r>
              <a:rPr b="1" lang="en-US" sz="2400" spc="-1" strike="noStrike">
                <a:solidFill>
                  <a:srgbClr val="cc0000"/>
                </a:solidFill>
                <a:latin typeface="Candara"/>
              </a:rPr>
              <a:t>is tidying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 his flat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Правила образован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–ing </a:t>
            </a: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форм глаголов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569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539640" y="3162240"/>
          <a:ext cx="8136000" cy="3289320"/>
        </p:xfrm>
        <a:graphic>
          <a:graphicData uri="http://schemas.openxmlformats.org/drawingml/2006/table">
            <a:tbl>
              <a:tblPr/>
              <a:tblGrid>
                <a:gridCol w="4448160"/>
                <a:gridCol w="1868760"/>
                <a:gridCol w="1819080"/>
              </a:tblGrid>
              <a:tr h="822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ffirmative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утвердительное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    (‘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+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g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e /  she  /  it/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ущ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д 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s      (‘s)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ou  /  we  /they/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ущ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н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e    (‘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ndara"/>
              </a:rPr>
              <a:t>Утвердительное предложение заканчивается на точку и не несет негативного смысла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179280" y="2708280"/>
          <a:ext cx="8640720" cy="2965320"/>
        </p:xfrm>
        <a:graphic>
          <a:graphicData uri="http://schemas.openxmlformats.org/drawingml/2006/table">
            <a:tbl>
              <a:tblPr/>
              <a:tblGrid>
                <a:gridCol w="2940120"/>
                <a:gridCol w="2965320"/>
                <a:gridCol w="2735280"/>
              </a:tblGrid>
              <a:tr h="93636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Interrogative (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ительное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+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g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doing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  /   she   /  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  /  we  /  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Вопросительное   предложение в настоящем продолжительном времен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Rectangle 1"/>
          <p:cNvSpPr/>
          <p:nvPr/>
        </p:nvSpPr>
        <p:spPr>
          <a:xfrm>
            <a:off x="1536840" y="4030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Отрицательное   предложение в настоящем продолжительном времен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39640" y="2349360"/>
          <a:ext cx="7848720" cy="3687840"/>
        </p:xfrm>
        <a:graphic>
          <a:graphicData uri="http://schemas.openxmlformats.org/drawingml/2006/table">
            <a:tbl>
              <a:tblPr/>
              <a:tblGrid>
                <a:gridCol w="2741760"/>
                <a:gridCol w="1974960"/>
                <a:gridCol w="3132000"/>
              </a:tblGrid>
              <a:tr h="652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 Negative 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рицательное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 not  (‘m no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+ing   (do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e  /   she   / 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s  not     (isn’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ou  /  we  /  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e  not   (aren’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hate (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енавидеть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love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любить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like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нравиться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need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нуждаться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want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хотеть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have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иметь какую-нибудь вещь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e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видеть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Некоторые глаголы употребляются только в </a:t>
            </a: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Present Simpl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5:27:46Z</dcterms:created>
  <dc:creator>STOSCOMP</dc:creator>
  <dc:description/>
  <dc:language>en-US</dc:language>
  <cp:lastModifiedBy>1</cp:lastModifiedBy>
  <dcterms:modified xsi:type="dcterms:W3CDTF">2012-10-14T15:42:28Z</dcterms:modified>
  <cp:revision>29</cp:revision>
  <dc:subject/>
  <dc:title>Present Continuous Tense</dc:title>
</cp:coreProperties>
</file>