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8D2-DBB6-4492-9F62-C063B21911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C1F-D4BA-4D70-9270-CCFCBF1F0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otherearthnews.com/uploadedImages/articles/issues/2009-08-01/MEN-AS09-gazette-earth-ki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56D2-05AC-40A3-8FD9-6D2A76DA6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us.cdn3.123rf.com/168nwm/gemenacom/gemenacom1010/gemenacom101000061/7977533-alarm-clock-shows-half-past-three-isolated-on-white-backgrou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realitsyours.com/web_images/kids1.b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urses4cooks.co.uk/images/cookery-courses/learn-to-cook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lassroomclipart.com/images/gallery/Clipart/Animated_Clipart/Food/cooking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g.y8.com/gfx/Messy_Hous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s://lh3.googleusercontent.com/-goRG_yCWBVE/TW7mMY63MmI/AAAAAAAAAvg/578dgrT89JY/s1600/voicemai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ottytrainingconcepts.com/common/Category-Pics/Boys-PTBooks-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9DF-6C91-439A-99FC-E6244A99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823-249B-402B-A16D-97E7590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BF0-1F0A-4BAE-AEB6-25BCE14A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3A8-D3FE-4EAF-8B8B-F6874770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254-893A-4816-9DA3-C3DD287E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E24-A230-40B6-BCBF-FED6B96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7613-3FC1-49D3-B24E-37CC3DA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A3B8-6865-4E32-B187-93D8CD5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5F4D-1EAA-4569-AB48-253A0FFF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C96-25F4-428F-9CCC-DF49614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765-93D7-4071-8925-133EF30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AE7-D69B-4FE8-87AC-3882934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1BAA-5899-48F3-A738-872BAB6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CDD-FFB2-40EF-8FD3-5D44723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6E0-3EFE-4252-8CA6-3120FEB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C4E4-3324-45EE-B4A9-B176A7B5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AF49-8E5C-4FD0-97FF-D69CF6EE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08AE-C5DE-4D8A-BA28-D093193B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F61B-647F-49A6-935B-F456933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61DE-ECD5-4AFA-9122-626B3885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CDB4-992D-4E03-8418-7E13C5B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C9D5-CEE3-43B3-B1E2-D17ECC0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BBE-73DB-4906-BC1C-5BB27881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09A8-8AFF-4CA2-AC9D-6CD7C76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B7E3-123D-4E00-9E0D-C452533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788F-9A65-43D1-B4A4-5A150D4B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36F7-35CF-4BCF-BFF8-B72015C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CE6B-08F4-4733-8D28-65133B1C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9BFB-4BB9-4079-959A-2798579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6779-82DD-4315-AEAC-14444F2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9B30-BDBC-4F27-A392-0FFD6165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BFF2-18A8-4DC3-9205-464D053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6CCB-9EA8-45A9-824F-F5D3A212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A27-96A0-4CDA-A15B-4F7DB48C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1198-4870-4F53-A154-3C26D83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81E4-EFFF-46A7-A23D-E925B606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F59E-5187-4DAF-B037-DB4797A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96C6-E17C-488C-8937-977CBDE7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C197-A272-44C1-8494-4240C70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553A-C9D1-4274-8827-DF8B8A2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F8A4-F951-44FC-80AE-05FD367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CDE9-0218-41BE-83AA-1C14AAA9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8C8A-8E52-405E-BC3A-85BB3667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6C8E-330C-4B45-9F74-DC6BDE8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A40-1B15-4C91-85C6-04FEE8F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D3FA-E487-46D0-A2B6-1DDB1E3C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FC577-3AEA-4A8E-BA94-880107DE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2F09B-8F0C-444E-B2AC-681F455D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AD53-3592-4DFF-A6AE-26267A5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573C9-7D32-473D-9576-7AC0C90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BD38-F8CB-4022-ABF6-B907AF6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B846-8352-4046-AC83-249738D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8A3F-F19D-4DD8-AAE0-1E30221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E181-EE49-4C70-873B-40967B5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87FD-C3F2-4DDC-B967-99355546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913-EA31-4745-8BDF-13F9ED9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4EE1B-4750-4878-9CA0-B65FE53F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F08D-942F-4185-8B4A-22353AB8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4203-0541-4EC9-9D1C-B61E4F8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67CA9-81C8-4840-BA31-3F9D20CE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AD7C-2189-497A-A2CD-A041CE25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F31F-AE31-42D6-A1A6-4DFB04BF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3FBA-5C1B-4006-B13B-4BD8F4A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01A88-8E29-4E2E-9918-883FF79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9BF5-ED28-4906-BAD7-67D60B4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2254B-8B76-4A88-A353-37F92E2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5CB-5BE8-4C4E-9731-E0345E2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0B54E-A4C1-4404-BFD1-76AF8A3D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2E5C-8523-4B58-B4DE-75655D5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A4D3-10B1-4630-A03F-DFBE467D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4EC3-15DE-4AFD-846D-ECCF690B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2625-D770-49B0-8CE6-C3AE66A2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5A23-941D-48FF-8155-D57E1CC8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B9F6-C565-4D7C-B747-1B4C1B5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C33F0-BC52-47E3-9332-14E35C0F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4816-D9F8-4C44-B89D-B6176E2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197B-81F8-4AD9-9CA4-9A3F1C9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020-F8CA-4E95-BF43-CAD8C99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BD8FB-8746-4561-924F-622C7DF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B4D84-A69E-4BA7-A9F0-282EA5D2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D76B-D0E4-47EE-9EA9-1CC8DEBF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BFBCE-4882-4FA2-B4DE-D282E1F2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F494E-8394-4286-8621-B3138125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607-60F4-4B31-8D7C-998EF41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41E-7772-469E-91F9-3373E83965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269-B5C6-403D-AE5D-34CDFDA105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5EC-45B8-4138-8270-0F2CD57874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8FFB-2C97-4AEF-9AD3-6F85DA00D4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514-DC63-4B3C-ABAE-0B362CA6D2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69C-183F-4173-9BA9-56D67FB9B1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98C-3BBA-473B-B4BF-79C77EB74A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8064360" cy="3936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429000"/>
            <a:ext cx="835344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ndara"/>
              </a:rPr>
              <a:t>Present Continuous Tense</a:t>
            </a:r>
            <a:endParaRPr b="0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What are they doing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2" descr=""/>
          <p:cNvPicPr/>
          <p:nvPr/>
        </p:nvPicPr>
        <p:blipFill>
          <a:blip r:embed="rId1"/>
          <a:stretch/>
        </p:blipFill>
        <p:spPr>
          <a:xfrm rot="21065400">
            <a:off x="0" y="4365360"/>
            <a:ext cx="2664000" cy="2276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1" descr=""/>
          <p:cNvPicPr/>
          <p:nvPr/>
        </p:nvPicPr>
        <p:blipFill>
          <a:blip r:embed="rId2"/>
          <a:stretch/>
        </p:blipFill>
        <p:spPr>
          <a:xfrm rot="275400">
            <a:off x="7308720" y="1988640"/>
            <a:ext cx="1514520" cy="2376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"/>
          <p:cNvPicPr/>
          <p:nvPr/>
        </p:nvPicPr>
        <p:blipFill>
          <a:blip r:embed="rId3"/>
          <a:stretch/>
        </p:blipFill>
        <p:spPr>
          <a:xfrm rot="21103800">
            <a:off x="0" y="115920"/>
            <a:ext cx="2449440" cy="2444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4"/>
          <a:srcRect l="0" t="5333" r="0" b="0"/>
          <a:stretch/>
        </p:blipFill>
        <p:spPr>
          <a:xfrm>
            <a:off x="5867280" y="0"/>
            <a:ext cx="3276720" cy="205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5"/>
          <a:stretch/>
        </p:blipFill>
        <p:spPr>
          <a:xfrm rot="681600">
            <a:off x="3995640" y="0"/>
            <a:ext cx="1138320" cy="1482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6"/>
          <a:srcRect l="18153" t="18465" r="21227" b="35834"/>
          <a:stretch/>
        </p:blipFill>
        <p:spPr>
          <a:xfrm rot="663600">
            <a:off x="6673320" y="4221000"/>
            <a:ext cx="2216160" cy="244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7"/>
          <a:srcRect l="10078" t="0" r="19350" b="9322"/>
          <a:stretch/>
        </p:blipFill>
        <p:spPr>
          <a:xfrm rot="20815800">
            <a:off x="468360" y="2492280"/>
            <a:ext cx="1342800" cy="1727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0"/>
          <p:cNvSpPr/>
          <p:nvPr/>
        </p:nvSpPr>
        <p:spPr>
          <a:xfrm rot="2442600">
            <a:off x="1988640" y="4097160"/>
            <a:ext cx="158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02920" y="1125000"/>
            <a:ext cx="60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am call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my friends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t half past three.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hey are very busy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hey can't come to me: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Pete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read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a book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ate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learn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to cook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Pat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feed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her cat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Jack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tidy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his f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авила образова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–ing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форм глаголов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539640" y="3162240"/>
          <a:ext cx="8136000" cy="3289320"/>
        </p:xfrm>
        <a:graphic>
          <a:graphicData uri="http://schemas.openxmlformats.org/drawingml/2006/table">
            <a:tbl>
              <a:tblPr/>
              <a:tblGrid>
                <a:gridCol w="4448160"/>
                <a:gridCol w="1868760"/>
                <a:gridCol w="1819080"/>
              </a:tblGrid>
              <a:tr h="822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firmative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твердительное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    (‘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 /  she  /  it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д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     (‘s)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ou  /  we  /they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   (‘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Утвердительное предложение заканчивается на точку и не несет негативного смысл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79280" y="2708280"/>
          <a:ext cx="8640720" cy="2965320"/>
        </p:xfrm>
        <a:graphic>
          <a:graphicData uri="http://schemas.openxmlformats.org/drawingml/2006/table">
            <a:tbl>
              <a:tblPr/>
              <a:tblGrid>
                <a:gridCol w="2940120"/>
                <a:gridCol w="2965320"/>
                <a:gridCol w="2735280"/>
              </a:tblGrid>
              <a:tr h="936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Interrogative (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ительно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oing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 /   she   /  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 /  we  /  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Вопросительное   предложение в настоящем продолжительном врем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1536840" y="4030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Отрицательное   предложение в настоящем продолжительном вре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39640" y="2349360"/>
          <a:ext cx="7848720" cy="3687840"/>
        </p:xfrm>
        <a:graphic>
          <a:graphicData uri="http://schemas.openxmlformats.org/drawingml/2006/table">
            <a:tbl>
              <a:tblPr/>
              <a:tblGrid>
                <a:gridCol w="2741760"/>
                <a:gridCol w="1974960"/>
                <a:gridCol w="3132000"/>
              </a:tblGrid>
              <a:tr h="652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 Negative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рицательно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 not  (‘m no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+ing   (do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  /   she   / 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 not     (isn’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ou  /  we  /  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 not   (aren’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ate (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навид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ov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люби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ike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равиться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need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уждаться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ant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хот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av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иметь какую-нибудь вещ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вид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Некоторые глаголы употребляются только в </a:t>
            </a: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Present Simpl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7:46Z</dcterms:created>
  <dc:creator>STOSCOMP</dc:creator>
  <dc:description/>
  <dc:language>en-US</dc:language>
  <cp:lastModifiedBy>1</cp:lastModifiedBy>
  <dcterms:modified xsi:type="dcterms:W3CDTF">2012-10-14T15:42:28Z</dcterms:modified>
  <cp:revision>29</cp:revision>
  <dc:subject/>
  <dc:title>Present Continuous Tense</dc:title>
</cp:coreProperties>
</file>