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0433-00DA-471C-ABF7-DAE0437115B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96F3-19C9-4850-B9FB-47D03243CFD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EA06-5D58-4412-8755-8C9B7361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115E-1522-465B-A847-959D9BD8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A3C5-9756-421F-BC77-9F3DD545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D0C4-7027-4502-97EE-BD571134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6272-25CF-4558-AE24-93E455CA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AC24-D792-4E8A-9171-37BC38F6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0E5A-D887-45D9-B8B4-E4182F9F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FAD1-A1FC-4EF9-A463-0CDDC590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30C0-6984-40E3-AAF6-EC377884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AD8C-36B3-40CF-AE7A-D239B4F6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001E-A104-4B81-A3BF-3AC11265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AFF7-CE2F-4866-8E96-092F89E6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26AC-C759-4EF0-A368-0E539A6A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0F9A-8F27-4CC7-87B7-1D8A4EBB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7F12-8257-459A-86AB-3CD30B53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1954-A2D6-4F8A-A91C-41F2CDF4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7A61-8845-43B7-ABA5-4E7E1161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2143-407B-40A9-B445-A40864FB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6008-8EDF-4A9A-A249-D1E71A38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7B20-4856-4EAE-BED1-F49C8361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FD302-E273-4FAE-B050-15D13C2E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61ED-636E-41A1-BF6F-20AC7C96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EDF73-A894-4AF7-B1EE-45298095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613F6-71B4-45BF-9690-ADC30C56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54AF-A7F2-423F-BCBD-6C4ACE8B352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56B9-219A-4D26-BB10-E72F5CE81F0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thworld.ru/enigma-division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Дело о делимост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96000" y="4149360"/>
            <a:ext cx="2952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ехов Ром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БОУ СОШ №509 7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оводител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чилава М.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928800" y="-500040"/>
            <a:ext cx="642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39640" y="234936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всех действий арифметики самое своенравное — это дел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Tahoma"/>
              </a:rPr>
              <a:t>Свойства делимости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я число в виде сумм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ажите, чт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777777 делится на 7, на 77, на 11,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777 и на 1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99 999делится на 3, на 9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123 123 делится на 123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) 111 333 делится на 1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нимательные задач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Деле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ить 5 яблок между пятью лицами так, чтобы каждый получил по яблоку и одно яблоко осталось в корзин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Решение.</a:t>
            </a: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 Один человек берет яблоко вместе с корзин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http://t3.gstatic.com/images?q=tbn:ANd9GcSEnezaEkSEMphlhIErFk2A8fu-5yg2v3CkEsTg7yTdVPGxXhBm"/>
          <p:cNvPicPr/>
          <p:nvPr/>
        </p:nvPicPr>
        <p:blipFill>
          <a:blip r:embed="rId2"/>
          <a:stretch/>
        </p:blipFill>
        <p:spPr>
          <a:xfrm>
            <a:off x="7219800" y="4357800"/>
            <a:ext cx="19242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ельская работа по тем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ло о делимост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Целью нашей работы является исследование применения знаков делим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учебную и научную литературу по тем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наки делимости чисе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расширить и углубить свои знания по этой тем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владеть в совершенстве признаками делимости чисел, изучаемых на уроках математики и вне школьной програм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обрать задачи по данной теме для самостоятельного реш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ef40a"/>
                </a:solidFill>
                <a:latin typeface="Tahoma"/>
              </a:rPr>
              <a:t>Деление натуральных чисе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уществуют правила, позволяющие быстро определить, делится ли число на заданный делитель без остатка (признаки делимост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аиболее известные признаки делимости на 2, 3, 4, 5, 8, 9, 11, 25 и их производные, также существует признаки делимости на 7, 13, 1001 и другие чис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Целое число, на которое одновременно делятся без остатка несколько чисел, называется их общим делител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знак делимости чисел на 4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4fc"/>
                </a:solidFill>
                <a:latin typeface="Tahoma"/>
              </a:rPr>
              <a:t>На 4 делятся все натуральные числа, две последние цифры которых составляют нули или число, кратное 4. Наприме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4fc"/>
                </a:solidFill>
                <a:latin typeface="Tahoma"/>
              </a:rPr>
              <a:t>124 (24 : 4 = 6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4fc"/>
                </a:solidFill>
                <a:latin typeface="Tahoma"/>
              </a:rPr>
              <a:t>103 456 (56 : 4 = 14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Курьезное и серьезное в числах. Иллюстрация"/>
          <p:cNvPicPr/>
          <p:nvPr/>
        </p:nvPicPr>
        <p:blipFill>
          <a:blip r:embed="rId1"/>
          <a:stretch/>
        </p:blipFill>
        <p:spPr>
          <a:xfrm>
            <a:off x="5000760" y="3214800"/>
            <a:ext cx="414324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знак делимости чисел на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2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елятся те натуральные числа, две последние цифры которых — нули или составляют число, кратное 25. Наприме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300; 650 ( 50 : 25 = 2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475 (75 : 25 =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http://t0.gstatic.com/images?q=tbn:ANd9GcTak7mivWa0b3EE-tZoBIi97iwuc7sTL1RvHdA2DhRkV799mEEG"/>
          <p:cNvPicPr/>
          <p:nvPr/>
        </p:nvPicPr>
        <p:blipFill>
          <a:blip r:embed="rId1"/>
          <a:stretch/>
        </p:blipFill>
        <p:spPr>
          <a:xfrm>
            <a:off x="7215120" y="4643280"/>
            <a:ext cx="192888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знак делимости чисел на 6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6 делятся те натуральные числа, которые делятся на 2 и на 3 одновременно (все четные числа, которые делятся на 3). Например: 126 (б — четное, 1 + 2 + 6 = 9, 9 : 3 = 3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http://t2.gstatic.com/images?q=tbn:ANd9GcQCppj_6rvKG6qHUGHR1KRYkOQyyYSJdEhofLnbwXvJ1703hNKC"/>
          <p:cNvPicPr/>
          <p:nvPr/>
        </p:nvPicPr>
        <p:blipFill>
          <a:blip r:embed="rId1"/>
          <a:stretch/>
        </p:blipFill>
        <p:spPr>
          <a:xfrm>
            <a:off x="7324560" y="4343400"/>
            <a:ext cx="18194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знак делимости чисел на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15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15 делятся все натуральные числа, запись которых оканчивается на 0 или на 5 и сумма цифр делится на 3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35; 4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http://t2.gstatic.com/images?q=tbn:ANd9GcR2cxUHU7nD9OF2cBHUT1eNshNS1zRJsTKXYiVQQwIeposK7Hyrpg"/>
          <p:cNvPicPr/>
          <p:nvPr/>
        </p:nvPicPr>
        <p:blipFill>
          <a:blip r:embed="rId1"/>
          <a:stretch/>
        </p:blipFill>
        <p:spPr>
          <a:xfrm>
            <a:off x="6000840" y="4286160"/>
            <a:ext cx="3143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Упрощение признака делимости на 8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нак делимости на 8: если число, которое составляют последние три цифры данного числа, делится на 8, то и все данное число делится на 8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Отрицательные числа"/>
          <p:cNvPicPr/>
          <p:nvPr/>
        </p:nvPicPr>
        <p:blipFill>
          <a:blip r:embed="rId1"/>
          <a:stretch/>
        </p:blipFill>
        <p:spPr>
          <a:xfrm>
            <a:off x="0" y="3071880"/>
            <a:ext cx="51436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знак делимости чисел на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12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того чтобы натуральное число содержащие не менее четырех цифр делилось на 125, необходимо и достаточно, чтобы делилось на 125 число, образованное тремя цифр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0:11:16Z</dcterms:created>
  <dc:creator>korichovamv</dc:creator>
  <dc:description/>
  <dc:language>en-US</dc:language>
  <cp:lastModifiedBy>Acer</cp:lastModifiedBy>
  <dcterms:modified xsi:type="dcterms:W3CDTF">2012-11-10T17:42:43Z</dcterms:modified>
  <cp:revision>23</cp:revision>
  <dc:subject/>
  <dc:title>Деление натуральных чисел</dc:title>
</cp:coreProperties>
</file>