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3ABF-66B3-46F6-95A5-B84FFBA25A2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8BA2-F99B-4B1C-8F70-3E95AFB8423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428FC-05B6-47D3-9F25-182C75AE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485B2-186D-4D10-8D71-DB871423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85645-1C81-4374-986B-8B3EAEDC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DF665-1AFF-4DD9-BAA9-62F80574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CDF0-E0EF-41E2-A04A-CCAE8DB3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502B-DDBA-4439-8418-26BDA340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A6E8-CA17-4AAE-AD30-84208173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BDAB-094D-45B5-B6B5-77225D71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6F8B-80DC-42A5-9F22-D7AF3BDF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ADDB-1DBA-46CD-8F97-CFC89682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EAF1-4FCE-4C3E-9534-0AB57669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D4C09-E7C0-4453-ABE6-1A3973B1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A57C-3BE6-4EB5-95E1-6D30E344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46F5-92DD-4E6C-9AB3-8F9529D8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67C7-0C01-451C-B496-DFBC435B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C064-5521-49F3-A3EB-0BBE10E4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614A-4D03-417F-952A-042B1E30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19ECD-7742-4DEB-82F5-65944F02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8C0DB-8692-40E0-A639-CAA8B853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078D7-85A7-4565-A9CB-64887F92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EEE6F-7021-4C24-9ABA-2A92D886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A8D50-1FD7-4B50-A883-3F080DF3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1B262-1B57-4121-AFD6-0E2C75AF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7EF36-5D15-431C-AEE2-812DE529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A8CE-394B-4FA6-A6DA-C9485B3EFD2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EFA3-FB52-452F-8332-949F6D4E9FE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athworld.ru/enigma-division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Дело о делимости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96000" y="4149360"/>
            <a:ext cx="2952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полнил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рехов Ром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БОУ СОШ №509 7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уководитель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математ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арчилава М.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928800" y="-500040"/>
            <a:ext cx="6429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539640" y="234936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всех действий арифметики самое своенравное — это дел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cc"/>
                </a:solidFill>
                <a:latin typeface="Tahoma"/>
              </a:rPr>
              <a:t>Свойства делимости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ляя число в виде суммы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кажите, чт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777777 делится на 7, на 77, на 11,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777 и на 1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99 999делится на 3, на 9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123 123 делится на 123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) 111 333 делится на 11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нимательные задач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Деле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делить 5 яблок между пятью лицами так, чтобы каждый получил по яблоку и одно яблоко осталось в корзин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Решение.</a:t>
            </a: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 Один человек берет яблоко вместе с корзино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http://t3.gstatic.com/images?q=tbn:ANd9GcSEnezaEkSEMphlhIErFk2A8fu-5yg2v3CkEsTg7yTdVPGxXhBm"/>
          <p:cNvPicPr/>
          <p:nvPr/>
        </p:nvPicPr>
        <p:blipFill>
          <a:blip r:embed="rId2"/>
          <a:stretch/>
        </p:blipFill>
        <p:spPr>
          <a:xfrm>
            <a:off x="7219800" y="4357800"/>
            <a:ext cx="19242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Спасибо за внимание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следовательская работа по тем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ло о делимост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л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Целью нашей работы является исследование применения знаков делим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дач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ить учебную и научную литературу по тем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знаки делимости чисе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расширить и углубить свои знания по этой тем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владеть в совершенстве признаками делимости чисел, изучаемых на уроках математики и вне школьной програм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обрать задачи по данной теме для самостоятельного реше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ef40a"/>
                </a:solidFill>
                <a:latin typeface="Tahoma"/>
              </a:rPr>
              <a:t>Деление натуральных чисе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уществуют правила, позволяющие быстро определить, делится ли число на заданный делитель без остатка (признаки делимости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Наиболее известные признаки делимости на 2, 3, 4, 5, 8, 9, 11, 25 и их производные, также существует признаки делимости на 7, 13, 1001 и другие чис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Целое число, на которое одновременно делятся без остатка несколько чисел, называется их общим делител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ризнак делимости чисел на 4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4fc"/>
                </a:solidFill>
                <a:latin typeface="Tahoma"/>
              </a:rPr>
              <a:t>На 4 делятся все натуральные числа, две последние цифры которых составляют нули или число, кратное 4. Например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4fc"/>
                </a:solidFill>
                <a:latin typeface="Tahoma"/>
              </a:rPr>
              <a:t>124 (24 : 4 = 6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4fc"/>
                </a:solidFill>
                <a:latin typeface="Tahoma"/>
              </a:rPr>
              <a:t>103 456 (56 : 4 = 14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Курьезное и серьезное в числах. Иллюстрация"/>
          <p:cNvPicPr/>
          <p:nvPr/>
        </p:nvPicPr>
        <p:blipFill>
          <a:blip r:embed="rId1"/>
          <a:stretch/>
        </p:blipFill>
        <p:spPr>
          <a:xfrm>
            <a:off x="5000760" y="3214800"/>
            <a:ext cx="4143240" cy="36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ризнак делимости чисел на 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25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25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делятся те натуральные числа, две последние цифры которых — нули или составляют число, кратное 25. Например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300; 650 ( 50 : 25 = 2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475 (75 : 25 = 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http://t0.gstatic.com/images?q=tbn:ANd9GcTak7mivWa0b3EE-tZoBIi97iwuc7sTL1RvHdA2DhRkV799mEEG"/>
          <p:cNvPicPr/>
          <p:nvPr/>
        </p:nvPicPr>
        <p:blipFill>
          <a:blip r:embed="rId1"/>
          <a:stretch/>
        </p:blipFill>
        <p:spPr>
          <a:xfrm>
            <a:off x="7215120" y="4643280"/>
            <a:ext cx="192888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ризнак делимости чисел на 6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6 делятся те натуральные числа, которые делятся на 2 и на 3 одновременно (все четные числа, которые делятся на 3). Например: 126 (б — четное, 1 + 2 + 6 = 9, 9 : 3 = 3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http://t2.gstatic.com/images?q=tbn:ANd9GcQCppj_6rvKG6qHUGHR1KRYkOQyyYSJdEhofLnbwXvJ1703hNKC"/>
          <p:cNvPicPr/>
          <p:nvPr/>
        </p:nvPicPr>
        <p:blipFill>
          <a:blip r:embed="rId1"/>
          <a:stretch/>
        </p:blipFill>
        <p:spPr>
          <a:xfrm>
            <a:off x="7324560" y="4343400"/>
            <a:ext cx="181944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ризнак делимости чисел на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15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15 делятся все натуральные числа, запись которых оканчивается на 0 или на 5 и сумма цифр делится на 3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ример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35; 45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5" descr="http://t2.gstatic.com/images?q=tbn:ANd9GcR2cxUHU7nD9OF2cBHUT1eNshNS1zRJsTKXYiVQQwIeposK7Hyrpg"/>
          <p:cNvPicPr/>
          <p:nvPr/>
        </p:nvPicPr>
        <p:blipFill>
          <a:blip r:embed="rId1"/>
          <a:stretch/>
        </p:blipFill>
        <p:spPr>
          <a:xfrm>
            <a:off x="6000840" y="4286160"/>
            <a:ext cx="31431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Упрощение признака делимости на 8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знак делимости на 8: если число, которое составляют последние три цифры данного числа, делится на 8, то и все данное число делится на 8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Отрицательные числа"/>
          <p:cNvPicPr/>
          <p:nvPr/>
        </p:nvPicPr>
        <p:blipFill>
          <a:blip r:embed="rId1"/>
          <a:stretch/>
        </p:blipFill>
        <p:spPr>
          <a:xfrm>
            <a:off x="0" y="3071880"/>
            <a:ext cx="514368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ризнак делимости чисел на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125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того чтобы натуральное число содержащие не менее четырех цифр делилось на 125, необходимо и достаточно, чтобы делилось на 125 число, образованное тремя цифр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0:11:16Z</dcterms:created>
  <dc:creator>korichovamv</dc:creator>
  <dc:description/>
  <dc:language>en-US</dc:language>
  <cp:lastModifiedBy>Acer</cp:lastModifiedBy>
  <dcterms:modified xsi:type="dcterms:W3CDTF">2012-11-10T17:42:43Z</dcterms:modified>
  <cp:revision>23</cp:revision>
  <dc:subject/>
  <dc:title>Деление натуральных чисел</dc:title>
</cp:coreProperties>
</file>