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chimes.wav" ContentType="audio/x-wav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802C-9FB4-40C6-AC6F-2A63616CB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73BC-20CB-46AF-B93E-8D274198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AF854B-7675-47A4-BEC8-88F53CA7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64206-1377-4D70-B36D-2CCBE351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769D2-09AE-40D5-9820-7434C57F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A6B805-CAE2-4946-95DE-D692DF8D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62FEF-E5C4-4B40-ACC0-B79D3705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E0375-CE24-4C0A-9A05-F430108D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5066D-5E77-4034-9404-4AFCEAAE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8FF56-9177-452D-96F2-2716875F8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0E229-5064-45FD-8D6D-992C3364F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20BB1-12B9-4685-B4D1-9A0C1F05B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1C08-51A0-4B6B-8BE1-8BD50B3E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5F0CB-8F8D-47B0-A3D6-B2AA8454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01E1B-6624-458F-80DF-7D5963FC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4106EB-0B93-457C-9C18-C2172997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909A34-EB68-4E0A-AD70-316795AC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CF3F3-3059-4386-9697-59ED64E6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2DD2E-F018-4032-8273-B8135DB2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D7B201-D325-4075-8DBF-1CFD267A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A84B76-6514-4957-9584-A45B0606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E4A36A-48FF-47EF-A194-74A3C224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12BAD-5FE2-4BEA-921E-881F15966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49AA-EC70-417E-BF5E-DD7A281FC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0F4D76-95D1-489D-8EE1-A798AFBA2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56AA7-7835-487A-BD57-E7F544FD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C60A2-35FB-425B-85A5-EB390EDF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F69E5-05CB-406A-BE53-68D4B604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3AFF3-BD53-47E3-9B82-287332AF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332BF-8DD5-499E-93BB-7F0365CF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D1133-4E7D-49CA-85BD-4386165C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ECD00-778F-45C9-8DCC-2D65F346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339B6-BB9E-4B54-AE72-360DB6A3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E078C-DCBE-414B-B474-850A3617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6F2E-96A2-4B3E-A146-74B3B86F5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67096-EBA7-476C-8AB9-7B8F1EC7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84333-32CE-46B5-9692-4581DFD68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4E77B-037F-4F83-B316-A400055E7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51C418-E0C7-499C-8C31-4958C60EF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E2195-8765-4475-AD44-C03EC6DC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CC0B1D-9AC1-45A8-82DE-8DF6A2B5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3300AA-95C8-4721-9383-E94B1610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FDC57C-31B7-452E-B550-FEC5A925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401C0E-1A31-4450-A05B-CE87F175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03EDB2-978E-4C74-8929-21338027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437A-2310-4C6A-B159-9E529E76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04118-EEE1-48B5-AB23-964BDF59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872E1F-6441-4565-9B3A-096BAAE5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F1868E-D315-49B8-8FFD-7D9188FA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1D063F-2578-4270-B47E-A62A63F61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468B29-592F-4952-A05D-DA9DCAA58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7DC6AE-A3E2-4212-BC3B-2968F885A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D67CC0-9DC2-498A-AF3E-9FE83FD0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4C16AD-A285-4DD3-BAAD-D5BC08A8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D31526-9EDA-41E9-9B90-0A600430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6017E0-F848-4A7E-81FC-B0578182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EFC4-1B46-481F-A17A-1AC2070D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45648D-86D0-41D2-955F-CFBD24AB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406056-9470-48E4-B032-87D4B498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70B82E-59B8-4FC4-B6BE-C5AC9D4A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22F2D7-7799-4AB7-9AC9-3E9DBAF4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D4FD5B-1CB6-4303-B897-F21A5133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AABE92-E100-4BE6-97E8-77F3B1BC5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D9391B-C4AC-45BC-801B-30BEBC167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6FD5F1-CEE1-4DDA-8DF7-7DD9A5122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87CB60-083B-4222-9942-4D2E503E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5A18FC-F6BC-4300-8FF3-29A821B0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0091-2215-4376-A6BE-856C640C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87768D-D61F-4295-BB39-225E47CF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8AD733-F85A-4004-84D4-35246BBB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6022F0-30DE-4C7C-9C06-1ADEC4ED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05019F-BC9A-4F8B-8D04-9953DFE2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7A83E7-60C7-4E58-BCEC-32088A31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63C839-7AA5-45AA-A7ED-4F663D31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0A4637-B67E-4107-B1AB-32D1FD9B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55E435-2215-4BD8-885C-BD3E1B99C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1D321E-7AAB-4D32-9B6D-D3C210CB4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317F-77A9-4672-8CE8-93FD525C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147E-9D05-4795-8AFE-BA45F05C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704A-2C3A-41E1-A800-7626F37E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6BFB-4CBB-48FF-B0CA-B81B45EB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510C-4DB4-4A75-9F14-E9C48AF1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0A30-DCD1-4761-B2B1-5ACA28CD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DCB8-014B-40FC-86C1-429FE57E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1634-5E34-4581-97B7-B556E0B39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B751-41F7-4861-B4C5-F4591F019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E630E-2CC3-490F-A6DE-5D66124DB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966B4-CB1C-4BED-943E-BE9BE050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EFEBA-CF81-444B-9C3E-0C2407E7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57E6E-2D63-4376-B47A-885E8665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0E432-B3E1-4896-B6FE-60C7FD04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7A3F-C8DF-47B8-B8BE-F4CFE816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051F2-1775-4EEC-B6ED-DE95ABAB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12E31-6CF7-4196-9CBF-BE55E804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5E84C-213F-4E37-A7BF-964E92F1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73BC0-0789-4334-903F-FFEF5068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B4C1C-BB5E-486B-A638-A63D1864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CC606-A396-4A66-BA45-BD8B1AB40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0F9D1-F8EE-411A-B2A9-BE7AC9694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D029A-A7E8-4E59-8C01-B3AF8AF01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CA8CE-26A8-48A9-BE39-4309B1B4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DA705-DCA3-4E18-AE88-7EACAE4B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E231-65F6-4B2C-AA8F-748BA437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AF723-7A71-4C49-A1D8-E6D27470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94034-A9D6-4914-999B-23D6FC27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1FAD5-CDCB-409E-895B-652970FB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3F30E-E814-46DC-94DE-4CD99062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23775-7C51-4180-89EF-525A7959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52A66-F4DB-4BAF-A161-1AE11913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E21E3-78C1-42DC-946D-C4DB3DF7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64AC9-ABDB-4FDB-BC49-2463DBF7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1AFF0-50FC-40AD-9634-F21641759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030BC-F14A-41BF-885C-A402953C4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4EF7-33B6-429A-9BDE-DC11750F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83272-4EC4-4A28-8E38-2E575FF1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2E00B-705C-40C7-AAB4-FD60D06A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15404-6B89-41EC-AA28-2B5C68ED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A5625-5303-49D1-A2B3-46DACC9A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AE6E9-73F8-42D4-B5DE-B6344904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F218B-5F45-4123-8C35-B5885B03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24DF8-E87B-497D-A34E-CC3741DC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7E4DA-4907-475D-AA4B-3437D55F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9124B-301F-470F-8D88-B036C285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C0BC6-CD3C-4554-AA8F-D7FD5DAF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8C27-564A-46AB-B527-7EDB8F82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FB295-BDCF-4A8D-A004-FA5A96ECA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3C66F-F2A0-4FE0-A2ED-17137A503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88524-CF7D-4B08-8BFC-3FC847BB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96C4D-8539-4C23-9DEF-A74D27C6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08E35-185F-4311-B0B1-FCAEFBC8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F88C8-7789-4905-94FD-0D510674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586D0-37D9-4C31-A9D5-A8F75286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0A0CF-CDBD-4BF2-931E-FB5CFBDF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35497-A568-49FD-B7C6-F5D1E699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63A4D-2EAA-4F97-BAD9-560B8EF7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0EBB-4F66-4F77-8F25-46C11F0F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6A56E-8491-4FDC-ABA3-71B561F2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4DCDF-44D4-4443-A3E7-2DF1F566F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80AC6-0F7B-4605-91F8-52E2B1828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5A93C-90E8-4E75-B53E-054514782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12E75-53C2-48DD-AF07-B847CEB0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29651-5C07-42FD-B8E2-8A863BA8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1230B-53E7-486F-9502-C94DB7EC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B8057-0DF7-4009-8FCA-BDAC98B2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698C7-3238-4CA1-98FE-262A334E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25541-FF44-411E-BC90-0C3C4D3F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55F3-7744-407C-9694-082178E9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0E61A-13A1-4E4D-AD95-93BE35E4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D195A-D90B-4866-8306-CC0508C6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75774-40D1-4B20-9297-4423F911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34BD7-B5FE-4DFB-B95F-8D88D41F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C334F-2046-4852-B4A3-E3BB0BD0C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8436A-52F8-4F4A-854A-CE969E15A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B6525-2F10-44B3-A6E0-760A83AB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1A13A-F040-42AA-B5BE-091E5700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38430-E198-4952-8BF5-349CA9D5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35A42-B760-408D-A3F0-A102AEB0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E98E-86D1-49A8-87C4-28B42CFF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5FFC2-67CE-47D7-BC73-4CD746E9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C738C-6DF2-439E-944F-BE220D73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49D76-5DBE-4557-919C-32859D76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05296-92EF-4240-9E2A-160BAAD6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6B2A4-CD87-4294-98AF-C5C05833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20821-E6D4-4A2C-9692-A8C68CA98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471DA-F2FC-4BAF-B5E3-B4A730398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138721-AB0B-4B0C-A0F2-F2651B6A9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2E7E9-BE35-49C9-B19D-8D4F484E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9C629-7662-403D-A4B0-844C9DC9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458D-3588-47F5-B8B0-1558BE65B40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5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26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7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29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0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0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FDA6-0B5A-4CB7-A73E-047D624ABFE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73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74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5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77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8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FFBD-AD87-4DE7-8CDF-339BE4D7B3A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2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2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2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2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E5B0-44AC-4128-82DC-105BA7F5821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69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7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1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7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4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3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3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3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7F62-B732-4A9F-A282-26120BBF80B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617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618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9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620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621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2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4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ftr" idx="4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sldNum" idx="4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69CA-7D85-4529-A030-87ADB0A31D2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D9AA-7D72-4E33-9184-86B7855D32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1193-8E0A-4449-A199-66669456E8E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37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38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9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0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41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2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1F33-838B-4811-8AD7-2333C09967F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85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86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89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0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A919-3E99-4CF5-95C8-46E2661BBBE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33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34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37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2E51-696C-4FED-AD8F-FE957200DA9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8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8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8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8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69FD-E68C-42F0-AB46-1F2C2791669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29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3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1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3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4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A235-A82B-46A8-A225-E5A5DF5E58D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77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78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9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81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2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E057-3462-40DB-B347-3F48C60055A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 txBox="1"/>
          <p:nvPr/>
        </p:nvSpPr>
        <p:spPr>
          <a:xfrm>
            <a:off x="1266480" y="1202760"/>
            <a:ext cx="7000920" cy="14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Arial"/>
              </a:rPr>
              <a:t>Десятичные                                                              дроби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5" name="TextBox 2"/>
          <p:cNvSpPr/>
          <p:nvPr/>
        </p:nvSpPr>
        <p:spPr>
          <a:xfrm>
            <a:off x="3377520" y="3143160"/>
            <a:ext cx="239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5 класс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6" name="TextBox 3"/>
          <p:cNvSpPr/>
          <p:nvPr/>
        </p:nvSpPr>
        <p:spPr>
          <a:xfrm>
            <a:off x="5857560" y="5286240"/>
            <a:ext cx="244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ыполнила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читель математики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ОУ АСОШ№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мирнова И.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Физкультминут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/>
          </p:nvPr>
        </p:nvSpPr>
        <p:spPr>
          <a:xfrm>
            <a:off x="1042560" y="2852280"/>
            <a:ext cx="3289320" cy="33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ачинаем бег на месте,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Финиш метров через двести.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аз-два, раз-два, раз-два.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Хватит-хватит, прибежали.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отянулись, подышал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ы ладонь к глазам приставим,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оги крепкие расставим.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оворачиваясь вправо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глядимся величаво.</a:t>
            </a:r>
            <a:br>
              <a:rPr sz="1600"/>
            </a:b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8" name="Rectangle 4"/>
          <p:cNvSpPr/>
          <p:nvPr/>
        </p:nvSpPr>
        <p:spPr>
          <a:xfrm>
            <a:off x="4716360" y="2588040"/>
            <a:ext cx="3313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И налево надо тож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оглядеть из-под ладошек.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И направо и ещё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Через левое плечо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от здоровья в чём секрет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сем друзьям физкульт-привет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вижение по рек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корость лодки 4,5 км/ч, а скорость течения 2,5 км/ч. Найти скорость лодки по течению и против течения. Если плыть на лодке 3  часа по течению, какое расстояние можно проплыть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шение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4,5 + 2,5 = 7(км/ч)-  скорость по течению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4,5 - 2,5 = 7(км/ч)-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корость против  теч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7 • 3 = 21(км)- расстояние, пройденное за 3 час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Ут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еред нами утки. За одной уткой еще 1 утка, перед одной уткой – еще одна утка. Еще одна утка– посередине. Сколько всего уток мы повстречали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твет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 утк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гры на свежем воздух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Arial"/>
              </a:rPr>
              <a:t>Выполним тест:</a:t>
            </a: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люч к тест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 вариант                          2 вариан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                                     1. 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                                     2. б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                                     3. 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б                                     4. 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б                                     5. б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ценка «5» - верно 5 задан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ценка «4» - верно 4 задан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ценка «3» - верно 3 задан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енее 3 заданий: реши дома дополнительно №1293(а, б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1" name="Rectangle 4"/>
          <p:cNvSpPr/>
          <p:nvPr/>
        </p:nvSpPr>
        <p:spPr>
          <a:xfrm>
            <a:off x="3804840" y="3246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одведение итогов. Домашнее задание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ем мы занимались на уроке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ие правила нужно знать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 дом.   № 1294, № 1295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 txBox="1"/>
          <p:nvPr/>
        </p:nvSpPr>
        <p:spPr>
          <a:xfrm>
            <a:off x="806760" y="806760"/>
            <a:ext cx="7834680" cy="6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               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Устная работа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/>
          </p:nvPr>
        </p:nvSpPr>
        <p:spPr>
          <a:xfrm>
            <a:off x="1042920" y="2420640"/>
            <a:ext cx="50896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а) 0,2 + 0,4 = 0,6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б) 0,3 + 0,03 = 0,06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в)  0,25 + 3 = 0,28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г) 1 – 0,8 = 2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д) 0,7 – 0,2 = 0,5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е)  0,2 – 0,11 = 0,09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ж)  3,5 – 2,9 = 6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з)  0,74 – 0,2 = 0,72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69" name="Picture 16" descr=""/>
          <p:cNvPicPr/>
          <p:nvPr/>
        </p:nvPicPr>
        <p:blipFill>
          <a:blip r:embed="rId1"/>
          <a:stretch/>
        </p:blipFill>
        <p:spPr>
          <a:xfrm>
            <a:off x="6659640" y="4570560"/>
            <a:ext cx="1950840" cy="203508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Сбор. Подготовка к путешествию.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1636560" y="2628720"/>
            <a:ext cx="6421680" cy="34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вой рюкзак вместе с туристским снаряжением весит 11,75 кг. Кроме того, тебе нужно взять посуду, которая весит 2 кг и 2,9 кг продуктов. Можешь ли ты взять что-то еще, если за плечами у тебя не должно быть больше 17 кг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Решение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1, 75 + 2 + 2, 9  = 16, 65 (кг)-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асса заполненного рюкза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6, 65 &lt; 17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твет: можно еще немного чего-то  взять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шифрованная  надпис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/>
          </p:nvPr>
        </p:nvSpPr>
        <p:spPr>
          <a:xfrm>
            <a:off x="1476000" y="2362320"/>
            <a:ext cx="5210280" cy="26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1) 52+18 = 7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2) 3 + 108 = 408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3) 42 + 17 = 212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4) 736-336 = 4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5) 63 - 27 = 603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6) 57-4= 17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380000" y="5229000"/>
            <a:ext cx="1584360" cy="87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шифр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900000" y="3284640"/>
          <a:ext cx="7631280" cy="2801880"/>
        </p:xfrm>
        <a:graphic>
          <a:graphicData uri="http://schemas.openxmlformats.org/drawingml/2006/table">
            <a:tbl>
              <a:tblPr/>
              <a:tblGrid>
                <a:gridCol w="1271880"/>
                <a:gridCol w="1271520"/>
                <a:gridCol w="1272960"/>
                <a:gridCol w="1271520"/>
                <a:gridCol w="1271880"/>
                <a:gridCol w="1271520"/>
              </a:tblGrid>
              <a:tr h="14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,3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,08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,7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1,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4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в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ё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п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д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е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edg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асшифров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/>
          </p:nvPr>
        </p:nvSpPr>
        <p:spPr>
          <a:xfrm>
            <a:off x="5292360" y="2565000"/>
            <a:ext cx="32274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1" name="Rectangle 4"/>
          <p:cNvSpPr/>
          <p:nvPr/>
        </p:nvSpPr>
        <p:spPr>
          <a:xfrm>
            <a:off x="1835280" y="2637000"/>
            <a:ext cx="5616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Решение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1) 5,2+1,8 = 7      - </a:t>
            </a: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2) 3 + 1,08 = 4,08 – </a:t>
            </a: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п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3) 4,2 + 17 = 21,2 - </a:t>
            </a: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4) 7,36-3,36 = 4    - </a:t>
            </a: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р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5) 63 – 2,7 = 60,3 - </a:t>
            </a: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ё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6) 5,7-4= 1,7</a:t>
            </a: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        - </a:t>
            </a: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д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1133280" y="424080"/>
            <a:ext cx="7362360" cy="125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О погоде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838080" y="2433600"/>
            <a:ext cx="769320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12 часов дня слушаем погоду. На следующей неделе обещают сухую погоду. Можно ли  сказать, что через 36 часов будет светить солнце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твет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т, через 36 часов будет 12 часов ночи, солнце светить не буде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0T12:51:36Z</dcterms:created>
  <dc:creator>1</dc:creator>
  <dc:description/>
  <dc:language>en-US</dc:language>
  <cp:lastModifiedBy>NIK</cp:lastModifiedBy>
  <dcterms:modified xsi:type="dcterms:W3CDTF">2012-11-08T11:01:49Z</dcterms:modified>
  <cp:revision>25</cp:revision>
  <dc:subject/>
  <dc:title>Решение                                                              уравнений</dc:title>
</cp:coreProperties>
</file>