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2E6-0D56-4162-97B7-E547FA6D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DFD-228E-4418-97D0-504B8D2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9621B-9978-4B82-BF70-F0F1F8B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BDB3-1BB5-40E9-8083-024B260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0FC31-E01F-4FF0-A355-7E5BA3F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94891-4EFF-4490-8B37-1BC7624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92572-0A2D-495B-BFF7-A32E064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11001-030F-4A8B-BC06-E93FDB13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BD23B-C251-48B0-94FF-AA197B8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4C7B4-FD64-44EC-B2DF-D4CA95E4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D034C-74DD-4B5E-AF9A-D41BBC21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F31FE-B299-4492-B20E-6451B92D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4F5-CAF8-4253-AD50-9E75F297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EA8FC-3943-4D33-AEA0-FDD031E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D929A-77C3-4ED2-8A68-9CBA875E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5F288-23ED-451F-A4D6-D721CA2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5D681-CC87-460D-8454-F5D5327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CB2F8-EB82-4479-913C-1BC3A4D8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D92E-66FA-4EA4-BFBA-873090A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78A02-3F5F-4214-A81E-9B7BB2E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8CDE-5402-40C5-8482-8476AA3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E4CD9-6F35-4A34-AFF0-0382261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B27B6-8663-4AAB-8765-368D454E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12E-6A2C-48A7-ADF9-AE2AF2C1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A012-C001-4B72-BDCC-31F77EA2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F6A1D-9384-4A5D-8655-4F07361D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92FBC-345B-4265-BEC9-F330F19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F748D-C9D3-482D-A0D3-E6B76179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D8CCF-CB9B-4B37-B9B9-25DF6039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8BB9F-AD08-4D2A-B02D-D1476AC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03190-6CB3-43D9-8373-E0D0AE3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370D-C55A-410D-98C4-78149A4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6B70A-CD52-40A9-8BDB-A11A070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3782-4A53-4522-8EDB-178E149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DDA4-4A88-465E-9938-B252DC08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D8124-13FC-44F2-8349-3AF6A6F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37059-2500-48B1-8FFC-9B62C154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2D0FF-B578-4B7D-9208-BDAFBE65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7B47F-E09F-4392-B0FB-CA264C8A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081BC-6C16-44A6-BC94-3453EA12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94F16-E309-4588-BAE6-A66250A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31122-F29B-41C0-8FDC-9FF9AE3F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839D2-A561-4952-B4AF-F9C05F2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21EE-7847-4048-965C-FFC01BF2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36D83-9167-4531-9509-5C76955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94CA-6EF9-418F-8B73-C490D30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D5A5C-E7A6-4EC0-B24E-AFF457D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7DFA-3A11-4601-B9F3-DE632C2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F6C29-C14B-4467-8A56-3BBF3B9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91C69-8675-403B-8106-AA0F82A1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E39F0-C1AC-426D-923F-040EBB4D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576E9-7F9A-40AD-9650-145B8E71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53EF3-2382-401F-B448-951D216A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53BE4-2155-4C54-861E-085F9BA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7FDC3-77A1-4881-8ACA-F9339F63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2292A-A822-4695-89AE-0F7D702F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A19A-BCC9-49A4-9529-0948A33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E6E23-2E80-40B8-8E8D-850B3F42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A676C-9B0E-473C-81AB-6D02B81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6EB93-CD1D-4D6C-BB86-2F134E4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88BBD-E3E9-4D19-AC94-5DC5A542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5C746-BE52-437C-839E-883F445D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36C66-5F60-47BA-AA4D-82D5B5FB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FFE5A-35AA-41AD-BC18-E2F6AA87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66B8F-0006-46F1-BD03-82C0E4D6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BF044-FA37-4E3E-A6AF-233C3BC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BC691-750C-4466-ACBC-E12736E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B2C5-3E4E-4626-8998-6EC11EE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79B4D-DCBB-469F-9995-D11C1D6B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BC52E-4432-45B0-8FAD-D17926C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3DE70-80F8-495E-B1AB-B428449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C7686-9647-4162-AB3F-B1E8200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861E2-29B2-48F6-BC4F-0A3AAA0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61425-560E-4F54-9B1C-60F80DF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E07CB-1CCF-4ECD-BFB8-988078F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7A750-4CD5-484E-AFDD-A0F03D51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EE34B-D7CE-4AD6-B2BE-E8400917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A0AF-C7C9-4332-AAF4-EA38FFE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EDA-023B-42FA-8CAA-13341D8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CFC4-3F22-4B55-A9AF-D234A67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A01-7A13-48AB-B029-7BE91FE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961-5655-43E8-B416-70D8634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0FD2-171A-4296-9089-E8C3093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FAA-56AF-4A28-A96C-A94D2E1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1440-E161-434F-A4ED-887BB994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933-9F1B-438F-9CF9-FD826E5B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662F-CE97-43EE-825B-79F2423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BEDF-F030-4DEE-876E-117AF57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5759-8DB7-4DD7-9141-D25BA1F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274D-C1B9-476E-B3EC-D14DB5B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1D7D-31E2-40F3-A137-4BCECC09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B6A-2BE1-4091-BA8C-76C2FD6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67F5-FC99-4477-B7AB-18145D32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61EE-76AF-4201-BDB1-0D1F368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CAFB-FCAF-491A-9094-5013FEC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79F9-0651-4454-B964-3ABD022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8BDE-37DF-4795-B321-A30B80F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7D90-4D32-491F-8A40-AC433024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4C1C-43A0-4138-8C99-11B46FD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9871-0339-4D66-B4BE-7F3C392A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83B3-C376-42D9-A9B4-E879519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76C3-80D1-4AD4-A311-0EDAF3C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BD4-8206-4B69-BB28-B57B206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58D2-74FF-4943-A5A4-157D01F2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2F4F-E739-41F3-99A1-FD135A7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3E45-0753-4BC9-A853-A75CC8A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78DF-FFF8-48EA-A26F-1DE2D38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AAE4-387F-4B80-81F1-4C7BE76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5C91-96C6-4241-9680-AE026A5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8BFF-ED69-4866-9BBB-0DDBA27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E184-644F-4048-B368-7EFAC3DD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46E4-4BD1-4ABB-818C-F930DB02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5767-0966-479C-8DC4-F7C00096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78D-DC0D-4413-8217-FE3A364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DE617-B589-4456-9048-4198338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A1B3D-3CAE-4BF3-AB17-A833B31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4294-72DD-45C1-8A96-93CE9E0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3DC2-841F-468F-AC86-0997E418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BB5E-79CD-4EFB-810B-A282F198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BBF4-CAA3-4A9A-99A9-6966221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50E5-934F-4ED4-8EB5-14BD374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4883-A0DB-40DF-894C-CEED9D3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597B-AACB-4EEB-8990-3070007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A3A4B-FC84-48C5-B470-5070983E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1F4-6227-4505-AD3F-03F679A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B92B-EC23-4077-B6CC-7E9EBF42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0E8D-7D48-49C7-B34C-04C8044E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DF38-FA59-41FA-AA19-2526B250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AD2A-2D28-44DD-B39D-CE5F04C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BBFE-FC23-442E-9CD2-9F2DEB98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9AF6-8621-4468-8555-649BDAFA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B7ED-A11C-4E1D-9858-273532EA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E060-B479-4259-9538-11AC66A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FABB-DC18-4D1B-97A8-51EBD27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C389-0B92-44E8-AF9B-B8A7E84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CE2-42C0-405C-8DE3-18664B7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20CC-EE67-49B6-B3AE-B7A6192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DC5CC-AF30-4FD7-A7E9-7F0D295D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7233-525E-4229-9E20-21568AC5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40B8-1784-434A-B260-69E8FBFB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E180-AE99-4D5D-90E0-A4BFBDF7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6CDF-8A5E-432D-BE17-121B878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F1089-BAB7-4C94-9D86-89091877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0C110-F240-4F47-A3C7-A716E34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E7FF-740E-4827-873E-B0BC9F1D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943C-1CAE-4743-A265-CEF929F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E51-1438-4EB6-955E-47FD7AE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0F65-BD5E-4FDA-ACA3-92CE027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B3FC-1D40-4D8E-AAEB-79C47F0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BB25B-41C5-4000-97B7-156BA0D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EC234-3091-48DB-B9C7-5EBBDA39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0F38-562F-4B7C-8E0E-910A5C25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C693-A903-442E-8017-ADDC57F5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AF7B-A3C4-4EAE-935E-5CC61D3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4FB7-E051-4B4D-9645-A20428F6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C475F-9A19-4A09-94B0-A05DDB8E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96E00-760D-40FD-B2B6-B22689B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C25-29CF-4C84-BB9C-28B4941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111F-43E4-4D7F-9D90-DDEDAC55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F917C-8122-4A52-8DDF-11A64D1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CD02D-76C2-4061-A205-C20B8CE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7D234-CA7D-4A5C-AB60-246150F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6F0F-DC16-4C87-A7EB-CA5E52D2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23B37-D6F1-43EC-9919-809B6901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403C-D738-4FD9-8008-4FB2E6B8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3D81-4A27-4127-9C80-529D6EE3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D032-A0D6-4871-8C64-F9B749D2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FC38B-08E7-4B1A-8077-84B7082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6E9C-4E9E-40CF-B590-FA970EF6819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2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2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666-1178-489A-8C8F-7A7E5276FF5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7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7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7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247-686D-458C-BF69-93445D05757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89D-D2B5-4D2B-8B8D-6D81BFF2D3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6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F43E-FDAE-4ED7-B203-7FC5E7B8376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1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9849-A4B5-4C8C-86C8-1CF4C2F7CE8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3FF3-A90A-4299-AD4B-5D22789291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2EE1-58B0-42C3-9449-0462A98B4A1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EFA-7BCA-4269-B2A8-6D87A38ACF9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F49-2B04-46BC-A279-D0AB65FAD59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4AEF-29BF-426B-A563-3C7618F953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82F-7FD5-4F73-9DC3-7C68688DCFE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71A-97D6-4FFC-984D-3D9D0A7A4B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CB5B-ED59-4145-9F4B-A5C162EC68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1266480" y="1202760"/>
            <a:ext cx="700092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Десятичные                                                              дроби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TextBox 2"/>
          <p:cNvSpPr/>
          <p:nvPr/>
        </p:nvSpPr>
        <p:spPr>
          <a:xfrm>
            <a:off x="3377520" y="31431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5 клас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TextBox 3"/>
          <p:cNvSpPr/>
          <p:nvPr/>
        </p:nvSpPr>
        <p:spPr>
          <a:xfrm>
            <a:off x="5857560" y="528624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АСОШ№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мирнова И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культмину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042560" y="2852280"/>
            <a:ext cx="32893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чинаем бег на месте,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ниш метров через двест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-два, раз-два, раз-два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Хватит-хватит, прибежал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тянулись, подышал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ы ладонь к глазам приставим,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оги крепкие расставим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ворачиваясь вправо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ядимся величаво.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4716360" y="2588040"/>
            <a:ext cx="331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налево надо тож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глядеть из-под ладошек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направо и ещё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Через левое плеч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т здоровья в чём секрет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сем друзьям физкульт-привет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по ре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ость лодки 4,5 км/ч, а скорость течения 2,5 км/ч. Найти скорость лодки по течению и против течения. Если плыть на лодке 3  часа по течению, какое расстояние можно проплыть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,5 + 2,5 = 7(км/ч)-  скорость по течен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,5 - 2,5 = 7(км/ч)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ость против  те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 • 3 = 21(км)- расстояние, пройденное за 3 ча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 нами утки. За одной уткой еще 1 утка, перед одной уткой – еще одна утка. Еще одна утка– посередине. Сколько всего уток мы повстречал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 ут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ы на свежем воздух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Выполним тест: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люч к тест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 вариант                          2 вариан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                                    1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                                    2. 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                                    3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                                     4. 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                                     5. б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5» - верно 5 зад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4» - верно 4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ценка «3» - верно 3 зад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нее 3 заданий: реши дома дополнительно №1293(а, б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3804840" y="324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ведение итогов. Домашнее задани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мы занимались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правила нужно зна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дом.   № 1294, № 129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806760" y="806760"/>
            <a:ext cx="7834680" cy="6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50896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) 0,2 + 0,4 = 0,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) 0,3 + 0,03 = 0,0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)  0,25 + 3 = 0,2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) 1 – 0,8 = 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) 0,7 – 0,2 = 0,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е)  0,2 – 0,11 = 0,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)  3,5 – 2,9 = 6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)  0,74 – 0,2 = 0,7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9" name="Picture 16" descr=""/>
          <p:cNvPicPr/>
          <p:nvPr/>
        </p:nvPicPr>
        <p:blipFill>
          <a:blip r:embed="rId1"/>
          <a:stretch/>
        </p:blipFill>
        <p:spPr>
          <a:xfrm>
            <a:off x="6659640" y="4570560"/>
            <a:ext cx="1950840" cy="2035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бор. Подготовка к путешествию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636560" y="2628720"/>
            <a:ext cx="642168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й рюкзак вместе с туристским снаряжением весит 11,75 кг. Кроме того, тебе нужно взять посуду, которая весит 2 кг и 2,9 кг продуктов. Можешь ли ты взять что-то еще, если за плечами у тебя не должно быть больше 17 кг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шение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1, 75 + 2 + 2, 9  = 16, 65 (кг)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са заполненного рюкза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6, 65 &lt; 17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вет: можно еще немного чего-то  взя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шифрованная  надпис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476000" y="2362320"/>
            <a:ext cx="521028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) 52+18 = 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2) 3 + 108 = 408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3) 42 + 17 = 21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4) 736-336 = 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5) 63 - 27 = 60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6) 57-4= 17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380000" y="5229000"/>
            <a:ext cx="158436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шиф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900000" y="3284640"/>
          <a:ext cx="7631280" cy="2801880"/>
        </p:xfrm>
        <a:graphic>
          <a:graphicData uri="http://schemas.openxmlformats.org/drawingml/2006/table">
            <a:tbl>
              <a:tblPr/>
              <a:tblGrid>
                <a:gridCol w="1271880"/>
                <a:gridCol w="1271520"/>
                <a:gridCol w="1272960"/>
                <a:gridCol w="1271520"/>
                <a:gridCol w="1271880"/>
                <a:gridCol w="1271520"/>
              </a:tblGrid>
              <a:tr h="14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,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,0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,7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,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ё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сшифров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5292360" y="2565000"/>
            <a:ext cx="3227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1835280" y="2637000"/>
            <a:ext cx="56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1) 5,2+1,8 = 7  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2) 3 + 1,08 = 4,08 –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3) 4,2 + 17 = 21,2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4) 7,36-3,36 = 4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5) 63 – 2,7 = 60,3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6) 5,7-4= 1,7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    -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1133280" y="424080"/>
            <a:ext cx="736236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 погод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838080" y="2433600"/>
            <a:ext cx="76932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12 часов дня слушаем погоду. На следующей неделе обещают сухую погоду. Можно ли  сказать, что через 36 часов будет светить солнц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, через 36 часов будет 12 часов ночи, солнце светить не буд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2:51:36Z</dcterms:created>
  <dc:creator>1</dc:creator>
  <dc:description/>
  <dc:language>en-US</dc:language>
  <cp:lastModifiedBy>NIK</cp:lastModifiedBy>
  <dcterms:modified xsi:type="dcterms:W3CDTF">2012-11-08T11:01:49Z</dcterms:modified>
  <cp:revision>25</cp:revision>
  <dc:subject/>
  <dc:title>Решение                                                              уравнений</dc:title>
</cp:coreProperties>
</file>