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gif" ContentType="image/gif"/>
  <Override PartName="/ppt/media/image3.png" ContentType="image/png"/>
  <Override PartName="/ppt/media/image2.png" ContentType="image/png"/>
  <Override PartName="/ppt/media/image25.png" ContentType="image/png"/>
  <Override PartName="/ppt/media/image26.wmf" ContentType="image/x-wmf"/>
  <Override PartName="/ppt/media/image15.png" ContentType="image/png"/>
  <Override PartName="/ppt/media/image23.wmf" ContentType="image/x-wmf"/>
  <Override PartName="/ppt/media/image22.wmf" ContentType="image/x-wmf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96E9-C389-4A6B-A1D4-04210C8A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A33-C8AC-4BEE-BCD4-D2724AFB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97A-9B2E-4F9D-8855-4BEC519D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3EE7-9C1A-49A5-85E9-A6D6D828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432F-6BD0-4F86-927E-42905D42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23A1-F6B7-4C33-83FC-A5EFE1DC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95E3-D4AE-48A9-94B1-57E15E26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200C-604A-4CAA-8B10-831339E6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CA4E-190B-4984-A2B5-D43CF1B7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1F63-B0B9-4506-9581-CC11FD31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1E21-C250-4230-BEF3-9D408004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21EB-9627-447D-B350-42B82FE8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3D19-1064-4128-8091-0203D344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6104-9E4D-417D-AA01-96500099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D2B3-DF3A-4828-BD50-C0E79976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D65B-6C89-44AE-8B43-933C5605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9594-85F8-4428-98EB-3E75B656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951-AC27-484E-B226-D5950BE6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A17-EF94-4CD7-B907-7D73EA20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D20-726E-4E39-B577-882DB624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EB7-B90C-407D-AB07-F2BAD396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A35D-8521-441A-A5F5-05DFCD20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FD7-9F37-4893-A7E2-5F6EA2A6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B78-9C37-41D2-B13A-8F31FA1C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B4C5-9186-464F-ADA2-0E39171D9D5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8405-2EBD-4271-B267-6F45BFBF994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gif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352680" y="2666880"/>
            <a:ext cx="2808360" cy="3189240"/>
          </a:xfrm>
          <a:prstGeom prst="rect">
            <a:avLst/>
          </a:prstGeom>
          <a:ln w="0">
            <a:noFill/>
          </a:ln>
        </p:spPr>
      </p:pic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8729640" cy="247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8480" y="526680"/>
            <a:ext cx="6597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428280" y="3148200"/>
            <a:ext cx="2283480" cy="1248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де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6858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ый, не причиняющий зла жив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5562720" y="1371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Честный и справедл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1676520" y="12952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лый и реш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7345440" y="1600200"/>
            <a:ext cx="17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юбящий и заботл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0" y="198108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вободолюбивый и ответ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7467480" y="266688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Творящий и оберегающий красоту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3526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стоятельный и законопослуш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4267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орящий и оберегающий красоту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876920"/>
            <a:ext cx="358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триотичный (гот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упиться своими интере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и «своих» – класса, школ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ода/села, Рос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 rot="10800000">
            <a:off x="3504960" y="60933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удолюбивый и настойч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715000"/>
            <a:ext cx="42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емящийся к знан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критично мысля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769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aramond"/>
              </a:rPr>
              <a:t>Содержание духовно-нравственного развития и воспитания являются ценности: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лигиоз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тническ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ультурные               тради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мей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2209680"/>
            <a:ext cx="304920" cy="2438640"/>
          </a:xfrm>
          <a:custGeom>
            <a:avLst/>
            <a:gdLst>
              <a:gd name="textAreaLeft" fmla="*/ 0 w 304920"/>
              <a:gd name="textAreaRight" fmla="*/ 11016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1914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aramond"/>
              </a:rPr>
              <a:t>Традиционные источники нравственности: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01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триотиз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любовь к России, к своему народу, к своей «малой Родин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ая солидар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свобода личная и национальна, справедливость, милосердие; доброта; честь; честность; достоин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жданствен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правовое государство; гражданское общество; долг перед Отечеством, старшими поколениями, семьей; закон и правопорядок; межэтнический мир; свобода совести и вероисповед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Семь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любовь и верность; здоровье; достаток; почитание родителей; забота о старших и младших; продолжение р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уд и творче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созидание; целеустремленность и настойчивость; трудолюбие; бережлив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Наука — познание; истина; научная картина мира; экологическое созн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диционные российские религ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едставления о вере и духо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кусство и литер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красота; гармония; духовный мир человека; нравственный выбор; смысл жизни; эстетическое развит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р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жизнь; родная земля; планета Зем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ловече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мир во всем мире; многообразие культур и народов; прогресс человечества; международное сотрудниче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4"/>
          <p:cNvSpPr/>
          <p:nvPr/>
        </p:nvSpPr>
        <p:spPr>
          <a:xfrm>
            <a:off x="285840" y="1219320"/>
            <a:ext cx="8858160" cy="5000400"/>
          </a:xfrm>
          <a:prstGeom prst="rect">
            <a:avLst/>
          </a:prstGeom>
          <a:solidFill>
            <a:srgbClr val="99cc00">
              <a:alpha val="5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468360" y="228600"/>
            <a:ext cx="8137440" cy="1143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253c57"/>
              </a:gs>
              <a:gs pos="50000">
                <a:srgbClr val="cc9900"/>
              </a:gs>
              <a:gs pos="100000">
                <a:srgbClr val="253c5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Рабочая програм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значение и особ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_s1037"/>
          <p:cNvGrpSpPr/>
          <p:nvPr/>
        </p:nvGrpSpPr>
        <p:grpSpPr>
          <a:xfrm>
            <a:off x="158760" y="3029040"/>
            <a:ext cx="2176560" cy="1390680"/>
            <a:chOff x="158760" y="3029040"/>
            <a:chExt cx="2176560" cy="1390680"/>
          </a:xfrm>
        </p:grpSpPr>
        <p:pic>
          <p:nvPicPr>
            <p:cNvPr id="149" name="_s1037" descr=""/>
            <p:cNvPicPr/>
            <p:nvPr/>
          </p:nvPicPr>
          <p:blipFill>
            <a:blip r:embed="rId1"/>
            <a:stretch/>
          </p:blipFill>
          <p:spPr>
            <a:xfrm>
              <a:off x="158760" y="3029040"/>
              <a:ext cx="21765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41280" y="3198960"/>
              <a:ext cx="181764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Пояснитель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записк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_s1037"/>
          <p:cNvGrpSpPr/>
          <p:nvPr/>
        </p:nvGrpSpPr>
        <p:grpSpPr>
          <a:xfrm>
            <a:off x="2298600" y="3029040"/>
            <a:ext cx="2181240" cy="1390680"/>
            <a:chOff x="2298600" y="3029040"/>
            <a:chExt cx="2181240" cy="1390680"/>
          </a:xfrm>
        </p:grpSpPr>
        <p:pic>
          <p:nvPicPr>
            <p:cNvPr id="152" name="_s1037" descr=""/>
            <p:cNvPicPr/>
            <p:nvPr/>
          </p:nvPicPr>
          <p:blipFill>
            <a:blip r:embed="rId2"/>
            <a:stretch/>
          </p:blipFill>
          <p:spPr>
            <a:xfrm>
              <a:off x="2298600" y="3029040"/>
              <a:ext cx="21812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484360" y="3198960"/>
              <a:ext cx="181764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Общая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характеристика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В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_s1037"/>
          <p:cNvGrpSpPr/>
          <p:nvPr/>
        </p:nvGrpSpPr>
        <p:grpSpPr>
          <a:xfrm>
            <a:off x="4516560" y="3029040"/>
            <a:ext cx="2176200" cy="1390680"/>
            <a:chOff x="4516560" y="3029040"/>
            <a:chExt cx="2176200" cy="1390680"/>
          </a:xfrm>
        </p:grpSpPr>
        <p:pic>
          <p:nvPicPr>
            <p:cNvPr id="155" name="_s1037" descr=""/>
            <p:cNvPicPr/>
            <p:nvPr/>
          </p:nvPicPr>
          <p:blipFill>
            <a:blip r:embed="rId3"/>
            <a:stretch/>
          </p:blipFill>
          <p:spPr>
            <a:xfrm>
              <a:off x="4516560" y="3029040"/>
              <a:ext cx="21762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699080" y="3198960"/>
              <a:ext cx="181764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Описание места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НВ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в учебном план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_s1037"/>
          <p:cNvGrpSpPr/>
          <p:nvPr/>
        </p:nvGrpSpPr>
        <p:grpSpPr>
          <a:xfrm>
            <a:off x="6729480" y="3029040"/>
            <a:ext cx="2176560" cy="1390680"/>
            <a:chOff x="6729480" y="3029040"/>
            <a:chExt cx="2176560" cy="1390680"/>
          </a:xfrm>
        </p:grpSpPr>
        <p:pic>
          <p:nvPicPr>
            <p:cNvPr id="158" name="_s1037" descr=""/>
            <p:cNvPicPr/>
            <p:nvPr/>
          </p:nvPicPr>
          <p:blipFill>
            <a:blip r:embed="rId4"/>
            <a:stretch/>
          </p:blipFill>
          <p:spPr>
            <a:xfrm>
              <a:off x="6729480" y="3029040"/>
              <a:ext cx="21765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913440" y="3198960"/>
              <a:ext cx="181764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Описание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ценностных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ориентиров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содержания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В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_s1037"/>
          <p:cNvGrpSpPr/>
          <p:nvPr/>
        </p:nvGrpSpPr>
        <p:grpSpPr>
          <a:xfrm>
            <a:off x="158760" y="4383000"/>
            <a:ext cx="2176560" cy="1822680"/>
            <a:chOff x="158760" y="4383000"/>
            <a:chExt cx="2176560" cy="1822680"/>
          </a:xfrm>
        </p:grpSpPr>
        <p:pic>
          <p:nvPicPr>
            <p:cNvPr id="161" name="_s1037" descr=""/>
            <p:cNvPicPr/>
            <p:nvPr/>
          </p:nvPicPr>
          <p:blipFill>
            <a:blip r:embed="rId5"/>
            <a:stretch/>
          </p:blipFill>
          <p:spPr>
            <a:xfrm>
              <a:off x="158760" y="4383000"/>
              <a:ext cx="217656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61800" y="4576680"/>
              <a:ext cx="177660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Содержание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Н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_s1037"/>
          <p:cNvGrpSpPr/>
          <p:nvPr/>
        </p:nvGrpSpPr>
        <p:grpSpPr>
          <a:xfrm>
            <a:off x="2298600" y="4383000"/>
            <a:ext cx="2181240" cy="1822680"/>
            <a:chOff x="2298600" y="4383000"/>
            <a:chExt cx="2181240" cy="1822680"/>
          </a:xfrm>
        </p:grpSpPr>
        <p:pic>
          <p:nvPicPr>
            <p:cNvPr id="164" name="_s1037" descr=""/>
            <p:cNvPicPr/>
            <p:nvPr/>
          </p:nvPicPr>
          <p:blipFill>
            <a:blip r:embed="rId6"/>
            <a:stretch/>
          </p:blipFill>
          <p:spPr>
            <a:xfrm>
              <a:off x="2298600" y="4383000"/>
              <a:ext cx="21812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505240" y="4576680"/>
              <a:ext cx="177624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Личностные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ланируем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результаты 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_s1037"/>
          <p:cNvGrpSpPr/>
          <p:nvPr/>
        </p:nvGrpSpPr>
        <p:grpSpPr>
          <a:xfrm>
            <a:off x="4516560" y="4383000"/>
            <a:ext cx="2176200" cy="1822680"/>
            <a:chOff x="4516560" y="4383000"/>
            <a:chExt cx="2176200" cy="1822680"/>
          </a:xfrm>
        </p:grpSpPr>
        <p:pic>
          <p:nvPicPr>
            <p:cNvPr id="167" name="_s1037" descr=""/>
            <p:cNvPicPr/>
            <p:nvPr/>
          </p:nvPicPr>
          <p:blipFill>
            <a:blip r:embed="rId7"/>
            <a:stretch/>
          </p:blipFill>
          <p:spPr>
            <a:xfrm>
              <a:off x="4516560" y="4383000"/>
              <a:ext cx="217620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719600" y="4576680"/>
              <a:ext cx="177660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Примерное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тематическое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планирование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_s1037"/>
          <p:cNvGrpSpPr/>
          <p:nvPr/>
        </p:nvGrpSpPr>
        <p:grpSpPr>
          <a:xfrm>
            <a:off x="6729480" y="4383000"/>
            <a:ext cx="2176560" cy="1822680"/>
            <a:chOff x="6729480" y="4383000"/>
            <a:chExt cx="2176560" cy="1822680"/>
          </a:xfrm>
        </p:grpSpPr>
        <p:pic>
          <p:nvPicPr>
            <p:cNvPr id="170" name="_s1037" descr=""/>
            <p:cNvPicPr/>
            <p:nvPr/>
          </p:nvPicPr>
          <p:blipFill>
            <a:blip r:embed="rId8"/>
            <a:stretch/>
          </p:blipFill>
          <p:spPr>
            <a:xfrm>
              <a:off x="6729480" y="4383000"/>
              <a:ext cx="217656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934320" y="4576680"/>
              <a:ext cx="177624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Описание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материально-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технического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обеспечения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образовательного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процесс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Прямая соединительная линия 34"/>
          <p:cNvSpPr/>
          <p:nvPr/>
        </p:nvSpPr>
        <p:spPr>
          <a:xfrm>
            <a:off x="4500720" y="2714760"/>
            <a:ext cx="0" cy="21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_s1036"/>
          <p:cNvGrpSpPr/>
          <p:nvPr/>
        </p:nvGrpSpPr>
        <p:grpSpPr>
          <a:xfrm>
            <a:off x="2871720" y="1311120"/>
            <a:ext cx="3181320" cy="1524240"/>
            <a:chOff x="2871720" y="1311120"/>
            <a:chExt cx="3181320" cy="1524240"/>
          </a:xfrm>
        </p:grpSpPr>
        <p:pic>
          <p:nvPicPr>
            <p:cNvPr id="174" name="_s1036" descr=""/>
            <p:cNvPicPr/>
            <p:nvPr/>
          </p:nvPicPr>
          <p:blipFill>
            <a:blip r:embed="rId9"/>
            <a:stretch/>
          </p:blipFill>
          <p:spPr>
            <a:xfrm>
              <a:off x="2871720" y="1311120"/>
              <a:ext cx="318132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3062160" y="1490760"/>
              <a:ext cx="2805120" cy="11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рограмм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Прямая соединительная линия 38"/>
          <p:cNvSpPr/>
          <p:nvPr/>
        </p:nvSpPr>
        <p:spPr>
          <a:xfrm>
            <a:off x="1228680" y="2932200"/>
            <a:ext cx="660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40"/>
          <p:cNvSpPr/>
          <p:nvPr/>
        </p:nvSpPr>
        <p:spPr>
          <a:xfrm>
            <a:off x="3392640" y="2928960"/>
            <a:ext cx="0" cy="20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42"/>
          <p:cNvSpPr/>
          <p:nvPr/>
        </p:nvSpPr>
        <p:spPr>
          <a:xfrm>
            <a:off x="3394080" y="4300560"/>
            <a:ext cx="0" cy="20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43"/>
          <p:cNvSpPr/>
          <p:nvPr/>
        </p:nvSpPr>
        <p:spPr>
          <a:xfrm>
            <a:off x="1243080" y="2936880"/>
            <a:ext cx="0" cy="20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50"/>
          <p:cNvSpPr/>
          <p:nvPr/>
        </p:nvSpPr>
        <p:spPr>
          <a:xfrm>
            <a:off x="5595840" y="2928960"/>
            <a:ext cx="0" cy="20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52"/>
          <p:cNvSpPr/>
          <p:nvPr/>
        </p:nvSpPr>
        <p:spPr>
          <a:xfrm>
            <a:off x="5595840" y="4286160"/>
            <a:ext cx="0" cy="20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53"/>
          <p:cNvSpPr/>
          <p:nvPr/>
        </p:nvSpPr>
        <p:spPr>
          <a:xfrm>
            <a:off x="1238400" y="4295880"/>
            <a:ext cx="0" cy="20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54"/>
          <p:cNvSpPr/>
          <p:nvPr/>
        </p:nvSpPr>
        <p:spPr>
          <a:xfrm>
            <a:off x="7819920" y="2928960"/>
            <a:ext cx="0" cy="20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56"/>
          <p:cNvSpPr/>
          <p:nvPr/>
        </p:nvSpPr>
        <p:spPr>
          <a:xfrm>
            <a:off x="7815240" y="4295880"/>
            <a:ext cx="0" cy="20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8129520" cy="1143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3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1 разде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ль и задачи духовно-нравственного развития и воспитания обучающихся на ступени начального общего образования</a:t>
            </a:r>
            <a:r>
              <a:rPr b="1" lang="en-US" sz="2600" spc="-1" strike="noStrike">
                <a:solidFill>
                  <a:srgbClr val="cc99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сформулирован современный воспитательный идеал, на достижение которого должны быть направлены совместные усилия школы, семьи и других институтов общест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1520" y="277920"/>
            <a:ext cx="304920" cy="1161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88" name="Group 29"/>
          <p:cNvGrpSpPr/>
          <p:nvPr/>
        </p:nvGrpSpPr>
        <p:grpSpPr>
          <a:xfrm>
            <a:off x="1523880" y="1295280"/>
            <a:ext cx="6629400" cy="762120"/>
            <a:chOff x="1523880" y="1295280"/>
            <a:chExt cx="6629400" cy="762120"/>
          </a:xfrm>
        </p:grpSpPr>
        <p:sp>
          <p:nvSpPr>
            <p:cNvPr id="189" name="Text Box 17"/>
            <p:cNvSpPr/>
            <p:nvPr/>
          </p:nvSpPr>
          <p:spPr>
            <a:xfrm>
              <a:off x="1523880" y="1447560"/>
              <a:ext cx="617220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тическое 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3"/>
            <p:cNvSpPr/>
            <p:nvPr/>
          </p:nvSpPr>
          <p:spPr>
            <a:xfrm rot="5400000">
              <a:off x="7543440" y="1447560"/>
              <a:ext cx="762120" cy="457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4"/>
          <p:cNvGrpSpPr/>
          <p:nvPr/>
        </p:nvGrpSpPr>
        <p:grpSpPr>
          <a:xfrm>
            <a:off x="1447920" y="6172200"/>
            <a:ext cx="6629400" cy="761760"/>
            <a:chOff x="1447920" y="6172200"/>
            <a:chExt cx="6629400" cy="761760"/>
          </a:xfrm>
        </p:grpSpPr>
        <p:sp>
          <p:nvSpPr>
            <p:cNvPr id="192" name="Text Box 21"/>
            <p:cNvSpPr/>
            <p:nvPr/>
          </p:nvSpPr>
          <p:spPr>
            <a:xfrm>
              <a:off x="1447920" y="6324480"/>
              <a:ext cx="617220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стетическое 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28"/>
            <p:cNvSpPr/>
            <p:nvPr/>
          </p:nvSpPr>
          <p:spPr>
            <a:xfrm rot="5400000">
              <a:off x="7467840" y="6324480"/>
              <a:ext cx="761760" cy="457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3"/>
          <p:cNvGrpSpPr/>
          <p:nvPr/>
        </p:nvGrpSpPr>
        <p:grpSpPr>
          <a:xfrm>
            <a:off x="1447920" y="5334120"/>
            <a:ext cx="6629400" cy="761760"/>
            <a:chOff x="1447920" y="5334120"/>
            <a:chExt cx="6629400" cy="761760"/>
          </a:xfrm>
        </p:grpSpPr>
        <p:sp>
          <p:nvSpPr>
            <p:cNvPr id="195" name="Text Box 20"/>
            <p:cNvSpPr/>
            <p:nvPr/>
          </p:nvSpPr>
          <p:spPr>
            <a:xfrm>
              <a:off x="1447920" y="5486400"/>
              <a:ext cx="617220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спитание здорового образа жиз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27"/>
            <p:cNvSpPr/>
            <p:nvPr/>
          </p:nvSpPr>
          <p:spPr>
            <a:xfrm rot="5400000">
              <a:off x="7467840" y="5486400"/>
              <a:ext cx="761760" cy="457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2"/>
          <p:cNvGrpSpPr/>
          <p:nvPr/>
        </p:nvGrpSpPr>
        <p:grpSpPr>
          <a:xfrm>
            <a:off x="1447920" y="4495680"/>
            <a:ext cx="6629400" cy="762120"/>
            <a:chOff x="1447920" y="4495680"/>
            <a:chExt cx="6629400" cy="762120"/>
          </a:xfrm>
        </p:grpSpPr>
        <p:sp>
          <p:nvSpPr>
            <p:cNvPr id="198" name="Text Box 19"/>
            <p:cNvSpPr/>
            <p:nvPr/>
          </p:nvSpPr>
          <p:spPr>
            <a:xfrm>
              <a:off x="1447920" y="4647960"/>
              <a:ext cx="617220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кологическое 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26"/>
            <p:cNvSpPr/>
            <p:nvPr/>
          </p:nvSpPr>
          <p:spPr>
            <a:xfrm rot="5400000">
              <a:off x="7467480" y="4647960"/>
              <a:ext cx="762120" cy="457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31"/>
          <p:cNvGrpSpPr/>
          <p:nvPr/>
        </p:nvGrpSpPr>
        <p:grpSpPr>
          <a:xfrm>
            <a:off x="1447920" y="3505320"/>
            <a:ext cx="6629400" cy="761760"/>
            <a:chOff x="1447920" y="3505320"/>
            <a:chExt cx="6629400" cy="761760"/>
          </a:xfrm>
        </p:grpSpPr>
        <p:sp>
          <p:nvSpPr>
            <p:cNvPr id="201" name="Text Box 18"/>
            <p:cNvSpPr/>
            <p:nvPr/>
          </p:nvSpPr>
          <p:spPr>
            <a:xfrm>
              <a:off x="1447920" y="3733560"/>
              <a:ext cx="617220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рудовое 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25"/>
            <p:cNvSpPr/>
            <p:nvPr/>
          </p:nvSpPr>
          <p:spPr>
            <a:xfrm rot="5400000">
              <a:off x="7467840" y="3657600"/>
              <a:ext cx="761760" cy="457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0"/>
          <p:cNvGrpSpPr/>
          <p:nvPr/>
        </p:nvGrpSpPr>
        <p:grpSpPr>
          <a:xfrm>
            <a:off x="1523880" y="2286000"/>
            <a:ext cx="6629400" cy="761760"/>
            <a:chOff x="1523880" y="2286000"/>
            <a:chExt cx="6629400" cy="761760"/>
          </a:xfrm>
        </p:grpSpPr>
        <p:sp>
          <p:nvSpPr>
            <p:cNvPr id="204" name="Text Box 13"/>
            <p:cNvSpPr/>
            <p:nvPr/>
          </p:nvSpPr>
          <p:spPr>
            <a:xfrm>
              <a:off x="1523880" y="2442960"/>
              <a:ext cx="617220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ражданско-патриотическое 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24"/>
            <p:cNvSpPr/>
            <p:nvPr/>
          </p:nvSpPr>
          <p:spPr>
            <a:xfrm rot="5400000">
              <a:off x="7543800" y="2438280"/>
              <a:ext cx="761760" cy="457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927360" cy="762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698400" cy="9907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1"/>
          <p:cNvSpPr/>
          <p:nvPr/>
        </p:nvSpPr>
        <p:spPr>
          <a:xfrm>
            <a:off x="304920" y="1371600"/>
            <a:ext cx="914400" cy="685800"/>
          </a:xfrm>
          <a:custGeom>
            <a:avLst/>
            <a:gdLst>
              <a:gd name="textAreaLeft" fmla="*/ 213120 w 914400"/>
              <a:gd name="textAreaRight" fmla="*/ 700920 w 914400"/>
              <a:gd name="textAreaTop" fmla="*/ 72000 h 685800"/>
              <a:gd name="textAreaBottom" fmla="*/ 434160 h 6858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4" descr=""/>
          <p:cNvPicPr/>
          <p:nvPr/>
        </p:nvPicPr>
        <p:blipFill>
          <a:blip r:embed="rId3"/>
          <a:stretch/>
        </p:blipFill>
        <p:spPr>
          <a:xfrm>
            <a:off x="7872480" y="2743200"/>
            <a:ext cx="14238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210" name="Text Box 4"/>
          <p:cNvGrpSpPr/>
          <p:nvPr/>
        </p:nvGrpSpPr>
        <p:grpSpPr>
          <a:xfrm>
            <a:off x="1371600" y="4267080"/>
            <a:ext cx="6205680" cy="685440"/>
            <a:chOff x="1371600" y="4267080"/>
            <a:chExt cx="6205680" cy="685440"/>
          </a:xfrm>
        </p:grpSpPr>
        <p:pic>
          <p:nvPicPr>
            <p:cNvPr id="211" name="Text Box 4" descr=""/>
            <p:cNvPicPr/>
            <p:nvPr/>
          </p:nvPicPr>
          <p:blipFill>
            <a:blip r:embed="rId4"/>
            <a:stretch/>
          </p:blipFill>
          <p:spPr>
            <a:xfrm>
              <a:off x="1371600" y="4267080"/>
              <a:ext cx="6205680" cy="68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381320" y="4275000"/>
              <a:ext cx="619272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ПРИРОДА НАШ Д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Жизнь, планета Земля и т.д.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Text Box 6"/>
          <p:cNvGrpSpPr/>
          <p:nvPr/>
        </p:nvGrpSpPr>
        <p:grpSpPr>
          <a:xfrm>
            <a:off x="1447920" y="3429000"/>
            <a:ext cx="6151320" cy="731880"/>
            <a:chOff x="1447920" y="3429000"/>
            <a:chExt cx="6151320" cy="731880"/>
          </a:xfrm>
        </p:grpSpPr>
        <p:pic>
          <p:nvPicPr>
            <p:cNvPr id="214" name="Text Box 6" descr=""/>
            <p:cNvPicPr/>
            <p:nvPr/>
          </p:nvPicPr>
          <p:blipFill>
            <a:blip r:embed="rId5"/>
            <a:stretch/>
          </p:blipFill>
          <p:spPr>
            <a:xfrm>
              <a:off x="1447920" y="3429000"/>
              <a:ext cx="61513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457280" y="3436920"/>
              <a:ext cx="61351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ТРУД ДЛЯ СЕБЯ И ДЛЯ ДРУГ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Творчество (созидание, творчество) Наука (знание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Text Box 8"/>
          <p:cNvGrpSpPr/>
          <p:nvPr/>
        </p:nvGrpSpPr>
        <p:grpSpPr>
          <a:xfrm>
            <a:off x="1523880" y="2286000"/>
            <a:ext cx="6205680" cy="990720"/>
            <a:chOff x="1523880" y="2286000"/>
            <a:chExt cx="6205680" cy="990720"/>
          </a:xfrm>
        </p:grpSpPr>
        <p:pic>
          <p:nvPicPr>
            <p:cNvPr id="217" name="Text Box 8" descr=""/>
            <p:cNvPicPr/>
            <p:nvPr/>
          </p:nvPicPr>
          <p:blipFill>
            <a:blip r:embed="rId6"/>
            <a:stretch/>
          </p:blipFill>
          <p:spPr>
            <a:xfrm>
              <a:off x="1523880" y="2286000"/>
              <a:ext cx="62056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533600" y="2292840"/>
              <a:ext cx="619272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СТРАНА ГРАЖДА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Патриотизм (любовь к «своим» и действие в благо их и т.д.), Гражданственность (служение, закон, равенство, многообразие и т.д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2"/>
          <p:cNvSpPr/>
          <p:nvPr/>
        </p:nvSpPr>
        <p:spPr>
          <a:xfrm>
            <a:off x="1523880" y="1295280"/>
            <a:ext cx="6140520" cy="860400"/>
          </a:xfrm>
          <a:prstGeom prst="rect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ДОБРЫЕ ЧУВСТВА, МЫСЛИ, ПОСТУ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Человек (жизнь, добро, честь, свобода, дружба, справедливость и т.д.) Семья (любовь, забота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484280" y="5181480"/>
            <a:ext cx="6120000" cy="685800"/>
          </a:xfrm>
          <a:prstGeom prst="rect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ЗДОРОВЬЕ ТЕЛА И ДУХА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здоровый образ жизн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447920" y="5943600"/>
            <a:ext cx="5771880" cy="692280"/>
          </a:xfrm>
          <a:prstGeom prst="rect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КРАСОТА СПАСЕТ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Красота природы и искусства, гармо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2" descr=""/>
          <p:cNvPicPr/>
          <p:nvPr/>
        </p:nvPicPr>
        <p:blipFill>
          <a:blip r:embed="rId7"/>
          <a:stretch/>
        </p:blipFill>
        <p:spPr>
          <a:xfrm>
            <a:off x="457200" y="4114800"/>
            <a:ext cx="776160" cy="795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7" descr=""/>
          <p:cNvPicPr/>
          <p:nvPr/>
        </p:nvPicPr>
        <p:blipFill>
          <a:blip r:embed="rId8"/>
          <a:stretch/>
        </p:blipFill>
        <p:spPr>
          <a:xfrm rot="18552600">
            <a:off x="191160" y="3466080"/>
            <a:ext cx="1035000" cy="350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D:\Мама\анимашки\здоровье\2.gif"/>
          <p:cNvPicPr/>
          <p:nvPr/>
        </p:nvPicPr>
        <p:blipFill>
          <a:blip r:embed="rId9"/>
          <a:stretch/>
        </p:blipFill>
        <p:spPr>
          <a:xfrm>
            <a:off x="457200" y="4952880"/>
            <a:ext cx="760320" cy="990720"/>
          </a:xfrm>
          <a:prstGeom prst="rect">
            <a:avLst/>
          </a:prstGeom>
          <a:ln w="0">
            <a:noFill/>
          </a:ln>
        </p:spPr>
      </p:pic>
      <p:pic>
        <p:nvPicPr>
          <p:cNvPr id="225" name="Rectangle 2" descr=""/>
          <p:cNvPicPr/>
          <p:nvPr/>
        </p:nvPicPr>
        <p:blipFill>
          <a:blip r:embed="rId10"/>
          <a:stretch/>
        </p:blipFill>
        <p:spPr>
          <a:xfrm>
            <a:off x="990720" y="23760"/>
            <a:ext cx="769608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aramond"/>
              </a:rPr>
              <a:t>Перечень планируемых результатов воспитания: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Формирование ценностных ориентаций, социальных компетенций, моделей поведения, рекомендаций по организации и текущему педагогическому контролю урочной и внеурочной деятель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Ознакомление с общечеловеческими ценностями мировой культуры, духовными ценностями отечественной культуры, нравственно-эстетическим ценностями народов Росс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Формирование активной жизненной позиции, потребности в самореал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Развитие коммуникативных навыков, навыков самоорган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Расширение опыта позитивного взаимодействия с окружающими миром (правовой, эстетической, физической, экологической культуры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72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6633"/>
                </a:solidFill>
                <a:uFillTx/>
                <a:latin typeface="Garamond"/>
              </a:rPr>
              <a:t>2 раздел  </a:t>
            </a: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Основные направления духовно-нравственного развития и воспитания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22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·воспитание гражданственности, патриотизма, уважения к правам, свободам и обязанностям человек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·воспитание нравственных чувств и этического созна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·воспитание трудолюбия, творческого отношения к учению, труду, жизн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·воспитание ценностного отношения к природе, окружающей среде (экологическое воспитание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·воспитание ценностного отношения к прекрасному, формирование представлений об эстетических идеалах и ценностях (эстетическое воспитание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869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6633"/>
                </a:solidFill>
                <a:uFillTx/>
                <a:latin typeface="Garamond"/>
              </a:rPr>
              <a:t>3 раздел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53452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ределяется концептуальная основа уклада школьной жизни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спитание, направленное на духовно-нравственное развитие обучающихся и поддерживаемое всем укладом школьной жизни, включает в себя организацию учебной, внеучебной, общественно значимой деятельности младших школьников. Интеграция содержания различных видов деятельности обучающихся в рамках программы их духовно-нравственного развития и воспитания осуществляется на основе воспитательных идеалов и ценност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762120"/>
            <a:ext cx="830556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нципы и особенности организации содержания духовно - нравственного развития и воспит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3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3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3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3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57280" y="277920"/>
            <a:ext cx="798192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Принципы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9720" y="1484280"/>
            <a:ext cx="8158680" cy="4618080"/>
            <a:chOff x="459720" y="1484280"/>
            <a:chExt cx="8158680" cy="4618080"/>
          </a:xfrm>
        </p:grpSpPr>
        <p:cxnSp>
          <p:nvCxnSpPr>
            <p:cNvPr id="235" name="_s185349"/>
            <p:cNvCxnSpPr>
              <a:stCxn id="236" idx="1"/>
              <a:endCxn id="237" idx="2"/>
            </p:cNvCxnSpPr>
            <p:nvPr/>
          </p:nvCxnSpPr>
          <p:spPr>
            <a:xfrm flipH="1" flipV="1" rot="10800000">
              <a:off x="3428280" y="2504520"/>
              <a:ext cx="1911240" cy="2748600"/>
            </a:xfrm>
            <a:prstGeom prst="bentConnector4">
              <a:avLst>
                <a:gd name="adj1" fmla="val -5972"/>
                <a:gd name="adj2" fmla="val 10837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8" name="_s185350"/>
            <p:cNvCxnSpPr>
              <a:stCxn id="239" idx="0"/>
              <a:endCxn id="240" idx="2"/>
            </p:cNvCxnSpPr>
            <p:nvPr/>
          </p:nvCxnSpPr>
          <p:spPr>
            <a:xfrm flipV="1" rot="16200000">
              <a:off x="6959160" y="3846600"/>
              <a:ext cx="874800" cy="3240"/>
            </a:xfrm>
            <a:prstGeom prst="bentConnector3">
              <a:avLst>
                <a:gd name="adj1" fmla="val 13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1" name="_s185351"/>
            <p:cNvCxnSpPr>
              <a:stCxn id="242" idx="3"/>
            </p:cNvCxnSpPr>
            <p:nvPr/>
          </p:nvCxnSpPr>
          <p:spPr>
            <a:xfrm flipH="1" flipV="1">
              <a:off x="532800" y="4901760"/>
              <a:ext cx="2372760" cy="295560"/>
            </a:xfrm>
            <a:prstGeom prst="bentConnector3">
              <a:avLst>
                <a:gd name="adj1" fmla="val -48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3" name="_s185352"/>
            <p:cNvCxnSpPr>
              <a:stCxn id="244" idx="0"/>
              <a:endCxn id="240" idx="2"/>
            </p:cNvCxnSpPr>
            <p:nvPr/>
          </p:nvCxnSpPr>
          <p:spPr>
            <a:xfrm flipH="1" rot="16200000">
              <a:off x="4971600" y="986760"/>
              <a:ext cx="352800" cy="4496400"/>
            </a:xfrm>
            <a:prstGeom prst="bentConnector5">
              <a:avLst>
                <a:gd name="adj1" fmla="val -32686"/>
                <a:gd name="adj2" fmla="val 49923"/>
                <a:gd name="adj3" fmla="val 1649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5" name="_s185353"/>
            <p:cNvCxnSpPr>
              <a:stCxn id="242" idx="0"/>
              <a:endCxn id="240" idx="2"/>
            </p:cNvCxnSpPr>
            <p:nvPr/>
          </p:nvCxnSpPr>
          <p:spPr>
            <a:xfrm flipH="1" flipV="1" rot="5400000">
              <a:off x="4101480" y="991440"/>
              <a:ext cx="874800" cy="5713560"/>
            </a:xfrm>
            <a:prstGeom prst="bentConnector3">
              <a:avLst>
                <a:gd name="adj1" fmla="val 13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185354"/>
            <p:cNvCxnSpPr/>
            <p:nvPr/>
          </p:nvCxnSpPr>
          <p:spPr>
            <a:xfrm flipH="1" rot="16200000">
              <a:off x="4925520" y="-276840"/>
              <a:ext cx="1811880" cy="5563440"/>
            </a:xfrm>
            <a:prstGeom prst="bentConnector5">
              <a:avLst>
                <a:gd name="adj1" fmla="val -6339"/>
                <a:gd name="adj2" fmla="val 49970"/>
                <a:gd name="adj3" fmla="val 1126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0" name="_s185355"/>
            <p:cNvSpPr/>
            <p:nvPr/>
          </p:nvSpPr>
          <p:spPr>
            <a:xfrm>
              <a:off x="6172560" y="1600200"/>
              <a:ext cx="2445840" cy="18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Аксиологическ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ринцип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85356"/>
            <p:cNvSpPr/>
            <p:nvPr/>
          </p:nvSpPr>
          <p:spPr>
            <a:xfrm>
              <a:off x="459720" y="1600200"/>
              <a:ext cx="2449080" cy="18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Следовани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нравственному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примеру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85357"/>
            <p:cNvSpPr/>
            <p:nvPr/>
          </p:nvSpPr>
          <p:spPr>
            <a:xfrm>
              <a:off x="459720" y="4285440"/>
              <a:ext cx="2445840" cy="181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Ориентац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на идеал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5358"/>
            <p:cNvSpPr/>
            <p:nvPr/>
          </p:nvSpPr>
          <p:spPr>
            <a:xfrm>
              <a:off x="1676880" y="3058920"/>
              <a:ext cx="2443320" cy="18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Идентификаци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персонификации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85359"/>
            <p:cNvSpPr/>
            <p:nvPr/>
          </p:nvSpPr>
          <p:spPr>
            <a:xfrm>
              <a:off x="4116960" y="3442680"/>
              <a:ext cx="2445840" cy="18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Диалогическог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обще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85360"/>
            <p:cNvSpPr/>
            <p:nvPr/>
          </p:nvSpPr>
          <p:spPr>
            <a:xfrm>
              <a:off x="6172560" y="4285440"/>
              <a:ext cx="2445840" cy="1803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олисубъектност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оспита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85361"/>
            <p:cNvSpPr/>
            <p:nvPr/>
          </p:nvSpPr>
          <p:spPr>
            <a:xfrm>
              <a:off x="3429360" y="1600200"/>
              <a:ext cx="2445840" cy="18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Систем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деятельностно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организац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оспитания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533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Методическое сопровождение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Рисунок 3" descr="C:\Documents and Settings\IAntonova\Рабочий стол\Обложки Стандарты\koncep_dux-nrav_razvitiya.jpg"/>
          <p:cNvPicPr/>
          <p:nvPr/>
        </p:nvPicPr>
        <p:blipFill>
          <a:blip r:embed="rId1"/>
          <a:stretch/>
        </p:blipFill>
        <p:spPr>
          <a:xfrm>
            <a:off x="5411880" y="1676520"/>
            <a:ext cx="2665440" cy="411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Рисунок 1" descr="C:\Documents and Settings\IAntonova\Рабочий стол\Обложки Стандарты\federal_gos_obraz_stand.jpg"/>
          <p:cNvPicPr/>
          <p:nvPr/>
        </p:nvPicPr>
        <p:blipFill>
          <a:blip r:embed="rId2"/>
          <a:stretch/>
        </p:blipFill>
        <p:spPr>
          <a:xfrm>
            <a:off x="990720" y="1752480"/>
            <a:ext cx="2590560" cy="403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666520" y="572760"/>
            <a:ext cx="62866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6633"/>
                </a:solidFill>
                <a:uFillTx/>
                <a:latin typeface="Garamond"/>
              </a:rPr>
              <a:t>4 раздел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70c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99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Основное содержание духовно-нравственного развития и воспитания обучающихся по каждому из направлений организации воспитания в начальной школ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омпоненты воспитания, обучения и развития обучающихся, их коммуникативной, информационной, проектной, социальной деятельн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пределение конкретного содержания духовно – нравственного развития и воспитания в каждом ОУ, в каждом классе осуществляется с учетом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 Реальных услов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Индивидуальных особенностей обучающихс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Потребностей обучающихся и  их родителей (законных представителей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3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3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66520" y="671400"/>
            <a:ext cx="62866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6633"/>
                </a:solidFill>
                <a:uFillTx/>
                <a:latin typeface="Garamond"/>
              </a:rPr>
              <a:t>5 раздел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24920" cy="5181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ы деятельности и формы занятий с обучающими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усвоение элементарных представлений о ценностях, о традициях о в культуре народов России, других стран (в ходе изучения инвариантных и вариативных учебных дисциплин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получение первоначального опыт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получение первоначального опыта участия в деятельности и реализации проект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посильное участие в деятельности общественных организац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усвоение в семье позитивных образцов общения, заботы, участие вместе с родителями (законными представителями) в деятельности по месту жительств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3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3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3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3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3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9000"/>
                            </p:stCondLst>
                            <p:childTnLst>
                              <p:par>
                                <p:cTn id="6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3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3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3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3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585720"/>
            <a:ext cx="788688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Формы воспитательной работы в общеобразовательной школе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Урочная деятельн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воспитательные задачи интегрированы в содержание учебных предметов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Внеурочная деятельн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ультурные практик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Внешкольная деятельн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оциальные и культурные практик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Семейное воспитание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грация воспитательных усилий семьи и школы имеет приоритетное значение на ступени начального общего образован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 Изучение культурологических основ традиционных российских религ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охранение целостного воспитательного пространства школ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6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6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6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0"/>
                            </p:stCondLst>
                            <p:childTnLst>
                              <p:par>
                                <p:cTn id="7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7000"/>
                            </p:stCondLst>
                            <p:childTnLst>
                              <p:par>
                                <p:cTn id="7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6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6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6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9000"/>
                            </p:stCondLst>
                            <p:childTnLst>
                              <p:par>
                                <p:cTn id="7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9328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6633"/>
                </a:solidFill>
                <a:uFillTx/>
                <a:latin typeface="Garamond"/>
              </a:rPr>
              <a:t>6 раздел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словия совместной деятельности образовательного учреждения с семьями обучающихся, с общественными институтами по духовно-нравственному развитию и воспитанию обучающих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4000"/>
                            </p:stCondLst>
                            <p:childTnLst>
                              <p:par>
                                <p:cTn id="7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453600"/>
            <a:ext cx="79628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Участники образовательного процес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122960" cy="43354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914400" y="58672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пита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процесс принятия человеком цен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важных правил и идей), которые определяют 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а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8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666520" y="671400"/>
            <a:ext cx="62866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оциальные субъекты образовательного процесса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разовательное учрежд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реждения доп. образ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реждения культуры и спо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радиционные религиозные организ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щественные объединения (детско-юношеские движения и организаци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Ведущая роль принадлежи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педагогическому коллективу О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2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500"/>
                            </p:stCondLst>
                            <p:childTnLst>
                              <p:par>
                                <p:cTn id="7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6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0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500"/>
                            </p:stCondLst>
                            <p:childTnLst>
                              <p:par>
                                <p:cTn id="7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4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8500"/>
                            </p:stCondLst>
                            <p:childTnLst>
                              <p:par>
                                <p:cTn id="7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8" dur="2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2" dur="2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6" dur="2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4500"/>
                            </p:stCondLst>
                            <p:childTnLst>
                              <p:par>
                                <p:cTn id="8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0" dur="20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aramond"/>
              </a:rPr>
              <a:t>Классный руководитель обеспечивает: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дагогическую поддержку решения школьниками межпредметных воспитательных задач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готовку и проведение внеклассных и внешкольных воспитательных мероприятий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астие в добровольных детских разновозрастных организаций различной направленност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ординацию программ семейного и школьного воспитания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действие в решении индивидуальных проблем духовно-нравственного развития дет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3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7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3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3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7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3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3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7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3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3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7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3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3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7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666520" y="671400"/>
            <a:ext cx="62866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6633"/>
                </a:solidFill>
                <a:uFillTx/>
                <a:latin typeface="Garamond"/>
              </a:rPr>
              <a:t>7 раздел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нципы и основные формы повышения педагогической культуры родителей (законных представителей) обучающих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en-US" sz="2900" spc="-1" strike="noStrike" u="sng">
                <a:solidFill>
                  <a:srgbClr val="006633"/>
                </a:solidFill>
                <a:uFillTx/>
                <a:latin typeface="Garamond"/>
              </a:rPr>
              <a:t>8 раздел (заключительный)</a:t>
            </a:r>
            <a:br>
              <a:rPr sz="46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ланируемые воспитательные результаты по каждому из основных направлений духовно-нравственного развития и воспит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854760" cy="11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Garamond"/>
              </a:rPr>
              <a:t>Как увидеть результат воспитания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-3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ОЯ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6095880" y="1828800"/>
            <a:ext cx="2438640" cy="672840"/>
          </a:xfrm>
          <a:prstGeom prst="rect">
            <a:avLst/>
          </a:prstGeom>
          <a:gradFill rotWithShape="0">
            <a:gsLst>
              <a:gs pos="0">
                <a:srgbClr val="b196d2"/>
              </a:gs>
              <a:gs pos="100000">
                <a:srgbClr val="e7e1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направляемые ценност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152280" y="1905120"/>
            <a:ext cx="2362320" cy="672840"/>
          </a:xfrm>
          <a:prstGeom prst="rect">
            <a:avLst/>
          </a:prstGeom>
          <a:gradFill rotWithShape="0">
            <a:gsLst>
              <a:gs pos="0">
                <a:srgbClr val="b196d2"/>
              </a:gs>
              <a:gs pos="100000">
                <a:srgbClr val="e7e1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ло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смысление ц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36400" y="2742840"/>
            <a:ext cx="1943280" cy="1066680"/>
          </a:xfrm>
          <a:prstGeom prst="rect">
            <a:avLst/>
          </a:prstGeom>
          <a:gradFill rotWithShape="0">
            <a:gsLst>
              <a:gs pos="0">
                <a:srgbClr val="b196d2"/>
              </a:gs>
              <a:gs pos="100000">
                <a:srgbClr val="e7e1f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сознание, Оценка Заявл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6705720" y="2743200"/>
            <a:ext cx="1828800" cy="703800"/>
          </a:xfrm>
          <a:prstGeom prst="rect">
            <a:avLst/>
          </a:prstGeom>
          <a:gradFill rotWithShape="0">
            <a:gsLst>
              <a:gs pos="0">
                <a:srgbClr val="b196d2"/>
              </a:gs>
              <a:gs pos="100000">
                <a:srgbClr val="e7e1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йствия, поступ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4038480"/>
            <a:ext cx="2362320" cy="916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Диагностические задания письменны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7"/>
          <p:cNvSpPr/>
          <p:nvPr/>
        </p:nvSpPr>
        <p:spPr>
          <a:xfrm>
            <a:off x="304920" y="5410080"/>
            <a:ext cx="2590560" cy="1194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Не подписывать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Оценивать аргументацию, а не пози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3886200"/>
            <a:ext cx="2089080" cy="785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едаг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5181480"/>
            <a:ext cx="3581640" cy="1465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ценивается не лич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 конкретные посту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амооценка и саморефлексия первичны, а внешняя оценк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тори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5029200"/>
            <a:ext cx="2209680" cy="1615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К ОЦЕН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ЗУЛЬТАТ, НЕ ПРОВОЦИРУ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ИЦЕМЕРИ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484360" y="2057400"/>
            <a:ext cx="3611520" cy="2362320"/>
          </a:xfrm>
          <a:prstGeom prst="sun">
            <a:avLst>
              <a:gd name="adj" fmla="val 25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38680" y="19051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0" y="1828800"/>
            <a:ext cx="380880" cy="228600"/>
          </a:xfrm>
          <a:prstGeom prst="leftArrow">
            <a:avLst>
              <a:gd name="adj1" fmla="val 50000"/>
              <a:gd name="adj2" fmla="val 4165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67480" y="35053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38098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809880" y="27432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534520" y="2362320"/>
            <a:ext cx="609480" cy="685800"/>
          </a:xfrm>
          <a:custGeom>
            <a:avLst/>
            <a:gdLst>
              <a:gd name="textAreaLeft" fmla="*/ 81360 w 609480"/>
              <a:gd name="textAreaRight" fmla="*/ 528120 w 6094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133720"/>
            <a:ext cx="457200" cy="761760"/>
          </a:xfrm>
          <a:custGeom>
            <a:avLst/>
            <a:gdLst>
              <a:gd name="textAreaLeft" fmla="*/ 61200 w 457200"/>
              <a:gd name="textAreaRight" fmla="*/ 396000 w 45720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4500"/>
                            </p:stCondLst>
                            <p:childTnLst>
                              <p:par>
                                <p:cTn id="9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500"/>
                            </p:stCondLst>
                            <p:childTnLst>
                              <p:par>
                                <p:cTn id="9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8500"/>
                            </p:stCondLst>
                            <p:childTnLst>
                              <p:par>
                                <p:cTn id="9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2500"/>
                            </p:stCondLst>
                            <p:childTnLst>
                              <p:par>
                                <p:cTn id="9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700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9000"/>
                            </p:stCondLst>
                            <p:childTnLst>
                              <p:par>
                                <p:cTn id="9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акон РФ «Об образовани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онцепция духовно-нравственного развития и воспитания личности гражданина Росс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ctangle 2" descr=""/>
          <p:cNvPicPr/>
          <p:nvPr/>
        </p:nvPicPr>
        <p:blipFill>
          <a:blip r:embed="rId1"/>
          <a:stretch/>
        </p:blipFill>
        <p:spPr>
          <a:xfrm>
            <a:off x="1120680" y="351000"/>
            <a:ext cx="671220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62863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Диагностика - оценка личностных достижений школьников осуществляется: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301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в ходе неперсонифицированных мониторинговых исследований - это основание для принятия управленческих решений, информация об уровне освоения программ и обобщенные данные о моральной атмосфере в школьных коллектива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с помощью портфоли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ртфолио — это способ фиксирования, накопления и оценивания педагогами, родителями и самим учеником результатов его духовно-нравственного развития. Технология портфолио делает процесс духовно-нравственного развития школьника открытым, объективным и корректируемым со стороны педагогов и родителей. Портфолио предоставляет учащимся широкие возможности для нравственной рефлекс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3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3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8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22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Garamond"/>
              </a:rPr>
              <a:t>Титульный  лист программы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22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ное наименование учредителя и образовательного учреждения в соответствии с устав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де, когда и кем утверждена рабочая учебная програм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именование учебного предмета (курс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казания на принадлежность рабочей учебной программы к ступени, уровню общего образов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рок реализации данной програм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казание примерной программы и ее авторов, на основе которой разработана данная рабочая учебная програм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.и.о. учителя, составившего данную рабочую учебную програ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3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3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8" dur="3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3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3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3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0" dur="3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3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6" dur="3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3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2" dur="3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3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3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3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3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30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Рассматривается  на методическом  объединении или на научно-методическом совете (см. Устав). Решение ШМО или НМС оформляется протоколом. Возможно предварительная внешняя экспертиза. (июнь  месяц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Директором школы издается приказ об утверждении  каждой учебной  программы. На каждой программе должно быть отметка о принятии  программы  ШМО или НМС, результаты экспертизы (если была), отметка  директора школы об утверждении  программы (дата и номер приказа). Утверждение всех программ  до 31 авгу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. Один экземпляр учебных программ являются  частью ООП и находятся у администрации в соответствии с номенклатурой дел. Второй экземпляр у педагог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3808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уть  утверждения  учебной  программы членов  педагог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оллектива (учителя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3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3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27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3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3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3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3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3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238880" y="277920"/>
            <a:ext cx="144792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Желаем успехов в реализации ФГОС!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666520" y="572760"/>
            <a:ext cx="62866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Агния Барто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«Совесть»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82880" y="1599840"/>
            <a:ext cx="4721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Я кошку выставил за дверь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казал, что не впущ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есь день ищу ее теперь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езде ее ищ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з-за не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торую ноч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се повторяется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очь-в-точь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о сне, как наяву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Я прогоняю кошку прочь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Я прогоняю кошку прочь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том опять зов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6520" y="553680"/>
            <a:ext cx="62866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224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5f5f5f"/>
                </a:solidFill>
                <a:latin typeface="Arial"/>
              </a:rPr>
              <a:t>Концепция формулирует социальный заказ современной общеобразовательной школе как определённую систему общих педагогических требований, соответствие которым обеспечит эффективное участие образования в решении важнейших общенациональных задач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2004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Garamond"/>
              </a:rPr>
              <a:t>Основная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Garamond"/>
              </a:rPr>
              <a:t>образовательная программ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78240" y="1820880"/>
            <a:ext cx="7787520" cy="4088520"/>
          </a:xfrm>
          <a:prstGeom prst="rect">
            <a:avLst/>
          </a:prstGeom>
          <a:solidFill>
            <a:srgbClr val="cc9900">
              <a:alpha val="62000"/>
            </a:srgbClr>
          </a:solidFill>
          <a:ln w="19080">
            <a:solidFill>
              <a:srgbClr val="6ecfef"/>
            </a:solidFill>
            <a:miter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Arial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0" y="1268280"/>
            <a:ext cx="9144000" cy="5056200"/>
          </a:xfrm>
          <a:prstGeom prst="roundRect">
            <a:avLst>
              <a:gd name="adj" fmla="val 16667"/>
            </a:avLst>
          </a:prstGeom>
          <a:solidFill>
            <a:srgbClr val="cc9900">
              <a:alpha val="62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2771640" y="1557360"/>
            <a:ext cx="3429000" cy="1008000"/>
          </a:xfrm>
          <a:prstGeom prst="rect">
            <a:avLst/>
          </a:prstGeom>
          <a:solidFill>
            <a:srgbClr val="bfe2f7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чальн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2"/>
          <p:cNvSpPr/>
          <p:nvPr/>
        </p:nvSpPr>
        <p:spPr>
          <a:xfrm>
            <a:off x="4811760" y="3033720"/>
            <a:ext cx="1584360" cy="1285920"/>
          </a:xfrm>
          <a:prstGeom prst="rect">
            <a:avLst/>
          </a:prstGeom>
          <a:solidFill>
            <a:srgbClr val="ccff99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Учеб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л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3"/>
          <p:cNvSpPr/>
          <p:nvPr/>
        </p:nvSpPr>
        <p:spPr>
          <a:xfrm>
            <a:off x="6948360" y="3033720"/>
            <a:ext cx="1584360" cy="1285920"/>
          </a:xfrm>
          <a:prstGeom prst="rect">
            <a:avLst/>
          </a:prstGeom>
          <a:solidFill>
            <a:srgbClr val="ffffcc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ви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179280" y="4791240"/>
            <a:ext cx="1584360" cy="1285560"/>
          </a:xfrm>
          <a:prstGeom prst="rect">
            <a:avLst/>
          </a:prstGeom>
          <a:solidFill>
            <a:srgbClr val="ccff99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 предме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5"/>
          <p:cNvSpPr/>
          <p:nvPr/>
        </p:nvSpPr>
        <p:spPr>
          <a:xfrm>
            <a:off x="5634000" y="4791240"/>
            <a:ext cx="1584360" cy="1285560"/>
          </a:xfrm>
          <a:prstGeom prst="rect">
            <a:avLst/>
          </a:prstGeom>
          <a:solidFill>
            <a:srgbClr val="ffffcc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коррекцио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2676600" y="3033720"/>
            <a:ext cx="1582560" cy="1285920"/>
          </a:xfrm>
          <a:prstGeom prst="rect">
            <a:avLst/>
          </a:prstGeom>
          <a:solidFill>
            <a:srgbClr val="ffffcc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ланируем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езульт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1996920" y="4791240"/>
            <a:ext cx="1584360" cy="1285560"/>
          </a:xfrm>
          <a:prstGeom prst="rect">
            <a:avLst/>
          </a:prstGeom>
          <a:solidFill>
            <a:srgbClr val="ffffcc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уховн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равствен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4"/>
          <p:cNvSpPr/>
          <p:nvPr/>
        </p:nvSpPr>
        <p:spPr>
          <a:xfrm>
            <a:off x="1008000" y="2781360"/>
            <a:ext cx="0" cy="285840"/>
          </a:xfrm>
          <a:prstGeom prst="line">
            <a:avLst/>
          </a:prstGeom>
          <a:ln w="507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0"/>
          <p:cNvSpPr/>
          <p:nvPr/>
        </p:nvSpPr>
        <p:spPr>
          <a:xfrm>
            <a:off x="7451640" y="4791240"/>
            <a:ext cx="1584360" cy="1285560"/>
          </a:xfrm>
          <a:prstGeom prst="rect">
            <a:avLst/>
          </a:prstGeom>
          <a:solidFill>
            <a:srgbClr val="ccff99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Систе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це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2"/>
          <p:cNvSpPr/>
          <p:nvPr/>
        </p:nvSpPr>
        <p:spPr>
          <a:xfrm>
            <a:off x="289080" y="2752560"/>
            <a:ext cx="8459640" cy="0"/>
          </a:xfrm>
          <a:prstGeom prst="line">
            <a:avLst/>
          </a:prstGeom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4"/>
          <p:cNvSpPr/>
          <p:nvPr/>
        </p:nvSpPr>
        <p:spPr>
          <a:xfrm>
            <a:off x="3365640" y="2781360"/>
            <a:ext cx="0" cy="285840"/>
          </a:xfrm>
          <a:prstGeom prst="line">
            <a:avLst/>
          </a:prstGeom>
          <a:ln w="507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4"/>
          <p:cNvSpPr/>
          <p:nvPr/>
        </p:nvSpPr>
        <p:spPr>
          <a:xfrm>
            <a:off x="5508720" y="2781360"/>
            <a:ext cx="0" cy="285840"/>
          </a:xfrm>
          <a:prstGeom prst="line">
            <a:avLst/>
          </a:prstGeom>
          <a:ln w="507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4"/>
          <p:cNvSpPr/>
          <p:nvPr/>
        </p:nvSpPr>
        <p:spPr>
          <a:xfrm>
            <a:off x="7740720" y="2781360"/>
            <a:ext cx="0" cy="287280"/>
          </a:xfrm>
          <a:prstGeom prst="line">
            <a:avLst/>
          </a:prstGeom>
          <a:ln w="507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20"/>
          <p:cNvCxnSpPr/>
          <p:nvPr/>
        </p:nvCxnSpPr>
        <p:spPr>
          <a:xfrm flipH="1">
            <a:off x="321480" y="2754360"/>
            <a:ext cx="2520" cy="2016720"/>
          </a:xfrm>
          <a:prstGeom prst="straightConnector1">
            <a:avLst/>
          </a:prstGeom>
          <a:ln w="50760">
            <a:solidFill>
              <a:srgbClr val="003d66"/>
            </a:solidFill>
            <a:miter/>
            <a:tailEnd len="med" type="stealth" w="med"/>
          </a:ln>
        </p:spPr>
      </p:cxnSp>
      <p:cxnSp>
        <p:nvCxnSpPr>
          <p:cNvPr id="112" name="Прямая со стрелкой 23"/>
          <p:cNvCxnSpPr/>
          <p:nvPr/>
        </p:nvCxnSpPr>
        <p:spPr>
          <a:xfrm flipH="1">
            <a:off x="8719920" y="2752200"/>
            <a:ext cx="2160" cy="2018160"/>
          </a:xfrm>
          <a:prstGeom prst="straightConnector1">
            <a:avLst/>
          </a:prstGeom>
          <a:ln w="50760">
            <a:solidFill>
              <a:srgbClr val="003d66"/>
            </a:solidFill>
            <a:miter/>
            <a:tailEnd len="med" type="stealth" w="med"/>
          </a:ln>
        </p:spPr>
      </p:cxnSp>
      <p:sp>
        <p:nvSpPr>
          <p:cNvPr id="113" name="Rectangle 25"/>
          <p:cNvSpPr/>
          <p:nvPr/>
        </p:nvSpPr>
        <p:spPr>
          <a:xfrm>
            <a:off x="3816360" y="4791240"/>
            <a:ext cx="1584360" cy="1285560"/>
          </a:xfrm>
          <a:prstGeom prst="rect">
            <a:avLst/>
          </a:prstGeom>
          <a:solidFill>
            <a:srgbClr val="ffffcc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здоров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браза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533520" y="3048120"/>
            <a:ext cx="1584360" cy="1285920"/>
          </a:xfrm>
          <a:prstGeom prst="rect">
            <a:avLst/>
          </a:prstGeom>
          <a:solidFill>
            <a:srgbClr val="99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ясните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запи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Прямая со стрелкой 37"/>
          <p:cNvCxnSpPr/>
          <p:nvPr/>
        </p:nvCxnSpPr>
        <p:spPr>
          <a:xfrm flipH="1">
            <a:off x="2410560" y="2781360"/>
            <a:ext cx="2520" cy="2016720"/>
          </a:xfrm>
          <a:prstGeom prst="straightConnector1">
            <a:avLst/>
          </a:prstGeom>
          <a:ln w="50760">
            <a:solidFill>
              <a:srgbClr val="003d66"/>
            </a:solidFill>
            <a:miter/>
            <a:tailEnd len="med" type="stealth" w="med"/>
          </a:ln>
        </p:spPr>
      </p:cxnSp>
      <p:cxnSp>
        <p:nvCxnSpPr>
          <p:cNvPr id="116" name="Прямая со стрелкой 38"/>
          <p:cNvCxnSpPr/>
          <p:nvPr/>
        </p:nvCxnSpPr>
        <p:spPr>
          <a:xfrm flipH="1">
            <a:off x="4536720" y="2771280"/>
            <a:ext cx="2160" cy="2017080"/>
          </a:xfrm>
          <a:prstGeom prst="straightConnector1">
            <a:avLst/>
          </a:prstGeom>
          <a:ln w="50760">
            <a:solidFill>
              <a:srgbClr val="003d66"/>
            </a:solidFill>
            <a:miter/>
            <a:tailEnd len="med" type="stealth" w="med"/>
          </a:ln>
        </p:spPr>
      </p:cxnSp>
      <p:cxnSp>
        <p:nvCxnSpPr>
          <p:cNvPr id="117" name="Прямая со стрелкой 40"/>
          <p:cNvCxnSpPr/>
          <p:nvPr/>
        </p:nvCxnSpPr>
        <p:spPr>
          <a:xfrm flipH="1">
            <a:off x="6678360" y="2781360"/>
            <a:ext cx="2160" cy="2016720"/>
          </a:xfrm>
          <a:prstGeom prst="straightConnector1">
            <a:avLst/>
          </a:prstGeom>
          <a:ln w="50760">
            <a:solidFill>
              <a:srgbClr val="003d66"/>
            </a:solidFill>
            <a:miter/>
            <a:tailEnd len="med" type="stealth" w="med"/>
          </a:ln>
        </p:spPr>
      </p:cxn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Garamond"/>
              </a:rPr>
              <a:t>Структура образовательной программы ОУ:</a:t>
            </a:r>
            <a:r>
              <a:rPr b="1" lang="en-US" sz="2900" spc="-1" strike="noStrike">
                <a:solidFill>
                  <a:srgbClr val="99ffcc"/>
                </a:solidFill>
                <a:latin typeface="Garamond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50720"/>
                <a:tab algn="l" pos="816120"/>
                <a:tab algn="l" pos="2163600"/>
                <a:tab algn="l" pos="4834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ояснительная записк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в ней конкретизируются общие цели начального общего образования с учетом специфики учебного предмет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50720"/>
                <a:tab algn="l" pos="816120"/>
                <a:tab algn="l" pos="2163600"/>
                <a:tab algn="l" pos="4834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 планируемые результаты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освоения обучающимися основной образовательной программ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50720"/>
                <a:tab algn="l" pos="816120"/>
                <a:tab algn="l" pos="2163600"/>
                <a:tab algn="l" pos="4834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 базисный учебный план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О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50720"/>
                <a:tab algn="l" pos="816120"/>
                <a:tab algn="l" pos="2163600"/>
                <a:tab algn="l" pos="4834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 программа формирования УУД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у учащих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50720"/>
                <a:tab algn="l" pos="816120"/>
                <a:tab algn="l" pos="2163600"/>
                <a:tab algn="l" pos="4834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 программы отдельных учебных предметов, курсов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50720"/>
                <a:tab algn="l" pos="816120"/>
                <a:tab algn="l" pos="2163600"/>
                <a:tab algn="l" pos="4834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 ПРОГРАММА ДУХОВНО – НРАВСТВЕННОГО РАЗВИТИЯ , ВОСПИТАНИЯ ОБУЧАЮЩИХСЯ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на ступени начального общего образова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50720"/>
                <a:tab algn="l" pos="816120"/>
                <a:tab algn="l" pos="2163600"/>
                <a:tab algn="l" pos="4834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 программа формирования здорового и безопасного образа жизни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450720"/>
                <a:tab algn="l" pos="816120"/>
                <a:tab algn="l" pos="2163600"/>
                <a:tab algn="l" pos="4834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50720"/>
                <a:tab algn="l" pos="816120"/>
                <a:tab algn="l" pos="2163600"/>
                <a:tab algn="l" pos="4834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К рабочим учебным программам могут прикладываться и другие документы, которые необходимы учителю для полноценного и эффективного осуществления образовательного процесс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476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Программа духовно-нравственного воспитания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лжна быть направлена на обеспечение духовно-нравственного развития обучающихся в единстве урочной, внеурочной и внешкольной деятельности, в совместной педагогической работе ОУ, семьи и других институтов обществ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основу Программы должны быть положены ключевые воспитательные задачи, базовые национальные ценности российского обществ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грамма должна предусматривать приобщение обучающихся к культурным ценностям своей этнической или социокультурной группы, базовым национальным ценностям российского общества, общечеловеческим ценностям в контексте формирования у них гражданской идентичности и обеспечивать:  создание системы воспитательных мероприятий, позволяющих обучающемуся осваивать и на практике использовать полученные зн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редневековая Русь – православная вера, духовное единство народа. Ценности: честь, верность, соборность, самоотверженность, служение, любовь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чало 18 в.- «человек государственный, слуга царю и Отечеству». Формирование человека-патриота, высокая нравственность, трудолюбие, любовь к наукам, служение Росс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 век - идеал полезного государству и Отечеству гражданина. Воспитание благонадежных подданных, преданных и полезных монархии и Отечеству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После 1917 года – вера в коммунизм, беззаветное служение партии и советскому строю. Педагогическая задача: формирование советского человека-строителя коммунизм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 в.- воспитание всесторонне развитой личности (примеры патриотизма, самопожертвования во имя будущего страны и народа, пренебрежение материальным во имя идеального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0-е гг. 20в. – педагогический идеал свободной в своем самоопределении личности, «освобожденной» от ценностей, национальных традиций, обязательств перед обществ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837720" y="228600"/>
            <a:ext cx="8115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Национальный воспитательный идеал — высшая цель образовани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66520" y="671400"/>
            <a:ext cx="62866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Garamond"/>
              </a:rPr>
              <a:t>Современный национальный воспитательный идеал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226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енный в духовных и культурных традициях российского народ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4</cp:lastModifiedBy>
  <dcterms:modified xsi:type="dcterms:W3CDTF">2011-02-13T17:01:0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