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4.gif" ContentType="image/gif"/>
  <Override PartName="/ppt/media/image3.png" ContentType="image/png"/>
  <Override PartName="/ppt/media/image2.png" ContentType="image/png"/>
  <Override PartName="/ppt/media/image25.png" ContentType="image/png"/>
  <Override PartName="/ppt/media/image26.wmf" ContentType="image/x-wmf"/>
  <Override PartName="/ppt/media/image15.png" ContentType="image/png"/>
  <Override PartName="/ppt/media/image23.wmf" ContentType="image/x-wmf"/>
  <Override PartName="/ppt/media/image22.wmf" ContentType="image/x-wmf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CB9D-1E53-4649-8C8D-806434EA4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61DC-238F-41C3-A2B0-727028DB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1675-B1FB-4029-A201-BFA344E1E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7654-DAC4-44DE-8BFD-EA345C008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EEE6A-CA95-44A5-9E5A-EFAE9B209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C76C-5A4B-4B5F-B4C4-73B29336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FF3D-1929-44A3-AA47-915D4E03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130C-BCE5-458A-9714-B07DDF39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CFA3-EA6E-43F9-AD7B-5D795FA1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87E1-23C3-4C9D-977A-1E67533F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B59A-876D-4A02-B963-C2D55C7A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2CE5-7921-4089-94EC-FB248953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D23F-66DC-4206-9C06-AF90BB2D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B4F5-0830-4657-A6B6-BE399837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3F62-0B59-44F0-ADCE-793D0F1C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F0B7-EFEA-4230-9319-35EDB0294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94B5F-57E4-497F-B820-62669D8E3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0451-8FD5-4DBB-9732-B5304C3E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12A2-37B0-4371-B157-29EB1CC2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1ED2-0148-44CE-B8DD-81569D12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7865-2D8C-4DA0-9E9F-45927409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9AFF-6537-4D90-84DF-324C482A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120F-24D0-48CB-97BC-A027CC6D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0F2B-19A2-43F7-9151-29A141BE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234B-B379-4C4D-B3A0-1C046970698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2F74-8A52-4437-81E3-9734FD9626E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wmf"/><Relationship Id="rId8" Type="http://schemas.openxmlformats.org/officeDocument/2006/relationships/image" Target="../media/image23.wmf"/><Relationship Id="rId9" Type="http://schemas.openxmlformats.org/officeDocument/2006/relationships/image" Target="../media/image24.gif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352680" y="2666880"/>
            <a:ext cx="2808360" cy="3189240"/>
          </a:xfrm>
          <a:prstGeom prst="rect">
            <a:avLst/>
          </a:prstGeom>
          <a:ln w="0">
            <a:noFill/>
          </a:ln>
        </p:spPr>
      </p:pic>
      <p:pic>
        <p:nvPicPr>
          <p:cNvPr id="87" name="Заголовок 1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8729640" cy="247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058480" y="526680"/>
            <a:ext cx="659772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428280" y="3148200"/>
            <a:ext cx="2283480" cy="1248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деа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57600" y="68580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брый, не причиняющий зла жив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5"/>
          <p:cNvSpPr/>
          <p:nvPr/>
        </p:nvSpPr>
        <p:spPr>
          <a:xfrm>
            <a:off x="5562720" y="13716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Честный и справедли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5"/>
          <p:cNvSpPr/>
          <p:nvPr/>
        </p:nvSpPr>
        <p:spPr>
          <a:xfrm>
            <a:off x="1676520" y="129528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мелый и решит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6"/>
          <p:cNvSpPr/>
          <p:nvPr/>
        </p:nvSpPr>
        <p:spPr>
          <a:xfrm>
            <a:off x="7345440" y="1600200"/>
            <a:ext cx="179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Любящий и заботли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1"/>
          <p:cNvSpPr/>
          <p:nvPr/>
        </p:nvSpPr>
        <p:spPr>
          <a:xfrm>
            <a:off x="0" y="1981080"/>
            <a:ext cx="23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вободолюбивый и ответств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8"/>
          <p:cNvSpPr/>
          <p:nvPr/>
        </p:nvSpPr>
        <p:spPr>
          <a:xfrm>
            <a:off x="7467480" y="2666880"/>
            <a:ext cx="203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Творящий и оберегающий красоту м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3526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остоятельный и законопослуш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24480" y="42670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ворящий и оберегающий красоту м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876920"/>
            <a:ext cx="358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триотичный (гот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тупиться своими интерес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ди «своих» – класса, школ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рода/села, Росс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 rot="10800000">
            <a:off x="3504960" y="609336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удолюбивый и настойчи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72200" y="5715000"/>
            <a:ext cx="421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емящийся к знания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критично мысля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00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000"/>
                            </p:stCondLst>
                            <p:childTnLst>
                              <p:par>
                                <p:cTn id="1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0"/>
                            </p:stCondLst>
                            <p:childTnLst>
                              <p:par>
                                <p:cTn id="2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769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aramond"/>
              </a:rPr>
              <a:t>Содержание духовно-нравственного развития и воспитания являются ценности:</a:t>
            </a: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елигиоз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Этническ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ультурные               тради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емей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оциаль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38480" y="2209680"/>
            <a:ext cx="304920" cy="2438640"/>
          </a:xfrm>
          <a:custGeom>
            <a:avLst/>
            <a:gdLst>
              <a:gd name="textAreaLeft" fmla="*/ 0 w 304920"/>
              <a:gd name="textAreaRight" fmla="*/ 110160 w 30492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500"/>
                            </p:stCondLst>
                            <p:childTnLst>
                              <p:par>
                                <p:cTn id="26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500"/>
                            </p:stCondLst>
                            <p:childTnLst>
                              <p:par>
                                <p:cTn id="28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1914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aramond"/>
              </a:rPr>
              <a:t>Традиционные источники нравственности:</a:t>
            </a: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301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атриотиз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любовь к России, к своему народу, к своей «малой Родине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иальная солидар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свобода личная и национальна, справедливость, милосердие; доброта; честь; честность; достоинст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ражданствен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правовое государство; гражданское общество; долг перед Отечеством, старшими поколениями, семьей; закон и правопорядок; межэтнический мир; свобода совести и вероисповед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Семь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любовь и верность; здоровье; достаток; почитание родителей; забота о старших и младших; продолжение р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уд и творчеств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созидание; целеустремленность и настойчивость; трудолюбие; бережлив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Наука — познание; истина; научная картина мира; экологическое созна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адиционные российские религи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редставления о вере и духов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скусство и литерату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красота; гармония; духовный мир человека; нравственный выбор; смысл жизни; эстетическое развит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ро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жизнь; родная земля; планета Зем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еловечеств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мир во всем мире; многообразие культур и народов; прогресс человечества; международное сотрудничест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3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8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3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8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3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8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3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8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3" dur="5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24"/>
          <p:cNvSpPr/>
          <p:nvPr/>
        </p:nvSpPr>
        <p:spPr>
          <a:xfrm>
            <a:off x="285840" y="1219320"/>
            <a:ext cx="8858160" cy="5000400"/>
          </a:xfrm>
          <a:prstGeom prst="rect">
            <a:avLst/>
          </a:prstGeom>
          <a:solidFill>
            <a:srgbClr val="99cc00">
              <a:alpha val="57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468360" y="228600"/>
            <a:ext cx="8137440" cy="1143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253c57"/>
              </a:gs>
              <a:gs pos="50000">
                <a:srgbClr val="cc9900"/>
              </a:gs>
              <a:gs pos="100000">
                <a:srgbClr val="253c57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Рабочая програм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назначение и особ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_s1037"/>
          <p:cNvGrpSpPr/>
          <p:nvPr/>
        </p:nvGrpSpPr>
        <p:grpSpPr>
          <a:xfrm>
            <a:off x="158760" y="3029040"/>
            <a:ext cx="2176560" cy="1390680"/>
            <a:chOff x="158760" y="3029040"/>
            <a:chExt cx="2176560" cy="1390680"/>
          </a:xfrm>
        </p:grpSpPr>
        <p:pic>
          <p:nvPicPr>
            <p:cNvPr id="149" name="_s1037" descr=""/>
            <p:cNvPicPr/>
            <p:nvPr/>
          </p:nvPicPr>
          <p:blipFill>
            <a:blip r:embed="rId1"/>
            <a:stretch/>
          </p:blipFill>
          <p:spPr>
            <a:xfrm>
              <a:off x="158760" y="3029040"/>
              <a:ext cx="217656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341280" y="3198960"/>
              <a:ext cx="181764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Пояснительн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записк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_s1037"/>
          <p:cNvGrpSpPr/>
          <p:nvPr/>
        </p:nvGrpSpPr>
        <p:grpSpPr>
          <a:xfrm>
            <a:off x="2298600" y="3029040"/>
            <a:ext cx="2181240" cy="1390680"/>
            <a:chOff x="2298600" y="3029040"/>
            <a:chExt cx="2181240" cy="1390680"/>
          </a:xfrm>
        </p:grpSpPr>
        <p:pic>
          <p:nvPicPr>
            <p:cNvPr id="152" name="_s1037" descr=""/>
            <p:cNvPicPr/>
            <p:nvPr/>
          </p:nvPicPr>
          <p:blipFill>
            <a:blip r:embed="rId2"/>
            <a:stretch/>
          </p:blipFill>
          <p:spPr>
            <a:xfrm>
              <a:off x="2298600" y="3029040"/>
              <a:ext cx="218124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484360" y="3198960"/>
              <a:ext cx="181764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Общая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характеристика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ДВ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_s1037"/>
          <p:cNvGrpSpPr/>
          <p:nvPr/>
        </p:nvGrpSpPr>
        <p:grpSpPr>
          <a:xfrm>
            <a:off x="4516560" y="3029040"/>
            <a:ext cx="2176200" cy="1390680"/>
            <a:chOff x="4516560" y="3029040"/>
            <a:chExt cx="2176200" cy="1390680"/>
          </a:xfrm>
        </p:grpSpPr>
        <p:pic>
          <p:nvPicPr>
            <p:cNvPr id="155" name="_s1037" descr=""/>
            <p:cNvPicPr/>
            <p:nvPr/>
          </p:nvPicPr>
          <p:blipFill>
            <a:blip r:embed="rId3"/>
            <a:stretch/>
          </p:blipFill>
          <p:spPr>
            <a:xfrm>
              <a:off x="4516560" y="3029040"/>
              <a:ext cx="217620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4699080" y="3198960"/>
              <a:ext cx="181764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Описание места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ДНВ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в учебном план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_s1037"/>
          <p:cNvGrpSpPr/>
          <p:nvPr/>
        </p:nvGrpSpPr>
        <p:grpSpPr>
          <a:xfrm>
            <a:off x="6729480" y="3029040"/>
            <a:ext cx="2176560" cy="1390680"/>
            <a:chOff x="6729480" y="3029040"/>
            <a:chExt cx="2176560" cy="1390680"/>
          </a:xfrm>
        </p:grpSpPr>
        <p:pic>
          <p:nvPicPr>
            <p:cNvPr id="158" name="_s1037" descr=""/>
            <p:cNvPicPr/>
            <p:nvPr/>
          </p:nvPicPr>
          <p:blipFill>
            <a:blip r:embed="rId4"/>
            <a:stretch/>
          </p:blipFill>
          <p:spPr>
            <a:xfrm>
              <a:off x="6729480" y="3029040"/>
              <a:ext cx="217656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6913440" y="3198960"/>
              <a:ext cx="181764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Описание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ценностных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ориентиров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содержания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ДВ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_s1037"/>
          <p:cNvGrpSpPr/>
          <p:nvPr/>
        </p:nvGrpSpPr>
        <p:grpSpPr>
          <a:xfrm>
            <a:off x="158760" y="4383000"/>
            <a:ext cx="2176560" cy="1822680"/>
            <a:chOff x="158760" y="4383000"/>
            <a:chExt cx="2176560" cy="1822680"/>
          </a:xfrm>
        </p:grpSpPr>
        <p:pic>
          <p:nvPicPr>
            <p:cNvPr id="161" name="_s1037" descr=""/>
            <p:cNvPicPr/>
            <p:nvPr/>
          </p:nvPicPr>
          <p:blipFill>
            <a:blip r:embed="rId5"/>
            <a:stretch/>
          </p:blipFill>
          <p:spPr>
            <a:xfrm>
              <a:off x="158760" y="4383000"/>
              <a:ext cx="2176560" cy="18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361800" y="4576680"/>
              <a:ext cx="1776600" cy="14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Содержание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ДН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_s1037"/>
          <p:cNvGrpSpPr/>
          <p:nvPr/>
        </p:nvGrpSpPr>
        <p:grpSpPr>
          <a:xfrm>
            <a:off x="2298600" y="4383000"/>
            <a:ext cx="2181240" cy="1822680"/>
            <a:chOff x="2298600" y="4383000"/>
            <a:chExt cx="2181240" cy="1822680"/>
          </a:xfrm>
        </p:grpSpPr>
        <p:pic>
          <p:nvPicPr>
            <p:cNvPr id="164" name="_s1037" descr=""/>
            <p:cNvPicPr/>
            <p:nvPr/>
          </p:nvPicPr>
          <p:blipFill>
            <a:blip r:embed="rId6"/>
            <a:stretch/>
          </p:blipFill>
          <p:spPr>
            <a:xfrm>
              <a:off x="2298600" y="4383000"/>
              <a:ext cx="2181240" cy="18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2505240" y="4576680"/>
              <a:ext cx="1776240" cy="14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Личностные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планируемы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результаты </a:t>
              </a:r>
              <a:br>
                <a:rPr sz="1200"/>
              </a:b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_s1037"/>
          <p:cNvGrpSpPr/>
          <p:nvPr/>
        </p:nvGrpSpPr>
        <p:grpSpPr>
          <a:xfrm>
            <a:off x="4516560" y="4383000"/>
            <a:ext cx="2176200" cy="1822680"/>
            <a:chOff x="4516560" y="4383000"/>
            <a:chExt cx="2176200" cy="1822680"/>
          </a:xfrm>
        </p:grpSpPr>
        <p:pic>
          <p:nvPicPr>
            <p:cNvPr id="167" name="_s1037" descr=""/>
            <p:cNvPicPr/>
            <p:nvPr/>
          </p:nvPicPr>
          <p:blipFill>
            <a:blip r:embed="rId7"/>
            <a:stretch/>
          </p:blipFill>
          <p:spPr>
            <a:xfrm>
              <a:off x="4516560" y="4383000"/>
              <a:ext cx="2176200" cy="18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4719600" y="4576680"/>
              <a:ext cx="1776600" cy="14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Примерное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тематическое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планирование</a:t>
              </a:r>
              <a:br>
                <a:rPr sz="1200"/>
              </a:b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_s1037"/>
          <p:cNvGrpSpPr/>
          <p:nvPr/>
        </p:nvGrpSpPr>
        <p:grpSpPr>
          <a:xfrm>
            <a:off x="6729480" y="4383000"/>
            <a:ext cx="2176560" cy="1822680"/>
            <a:chOff x="6729480" y="4383000"/>
            <a:chExt cx="2176560" cy="1822680"/>
          </a:xfrm>
        </p:grpSpPr>
        <p:pic>
          <p:nvPicPr>
            <p:cNvPr id="170" name="_s1037" descr=""/>
            <p:cNvPicPr/>
            <p:nvPr/>
          </p:nvPicPr>
          <p:blipFill>
            <a:blip r:embed="rId8"/>
            <a:stretch/>
          </p:blipFill>
          <p:spPr>
            <a:xfrm>
              <a:off x="6729480" y="4383000"/>
              <a:ext cx="2176560" cy="18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6934320" y="4576680"/>
              <a:ext cx="1776240" cy="14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Описание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материально-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технического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обеспечения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образовательного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процесс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Прямая соединительная линия 34"/>
          <p:cNvSpPr/>
          <p:nvPr/>
        </p:nvSpPr>
        <p:spPr>
          <a:xfrm>
            <a:off x="4500720" y="2714760"/>
            <a:ext cx="0" cy="214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_s1036"/>
          <p:cNvGrpSpPr/>
          <p:nvPr/>
        </p:nvGrpSpPr>
        <p:grpSpPr>
          <a:xfrm>
            <a:off x="2871720" y="1311120"/>
            <a:ext cx="3181320" cy="1524240"/>
            <a:chOff x="2871720" y="1311120"/>
            <a:chExt cx="3181320" cy="1524240"/>
          </a:xfrm>
        </p:grpSpPr>
        <p:pic>
          <p:nvPicPr>
            <p:cNvPr id="174" name="_s1036" descr=""/>
            <p:cNvPicPr/>
            <p:nvPr/>
          </p:nvPicPr>
          <p:blipFill>
            <a:blip r:embed="rId9"/>
            <a:stretch/>
          </p:blipFill>
          <p:spPr>
            <a:xfrm>
              <a:off x="2871720" y="1311120"/>
              <a:ext cx="318132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3062160" y="1490760"/>
              <a:ext cx="2805120" cy="11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рограмм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Прямая соединительная линия 38"/>
          <p:cNvSpPr/>
          <p:nvPr/>
        </p:nvSpPr>
        <p:spPr>
          <a:xfrm>
            <a:off x="1228680" y="2932200"/>
            <a:ext cx="6605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ая соединительная линия 40"/>
          <p:cNvSpPr/>
          <p:nvPr/>
        </p:nvSpPr>
        <p:spPr>
          <a:xfrm>
            <a:off x="3392640" y="2928960"/>
            <a:ext cx="0" cy="204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42"/>
          <p:cNvSpPr/>
          <p:nvPr/>
        </p:nvSpPr>
        <p:spPr>
          <a:xfrm>
            <a:off x="3394080" y="4300560"/>
            <a:ext cx="0" cy="204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43"/>
          <p:cNvSpPr/>
          <p:nvPr/>
        </p:nvSpPr>
        <p:spPr>
          <a:xfrm>
            <a:off x="1243080" y="2936880"/>
            <a:ext cx="0" cy="204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50"/>
          <p:cNvSpPr/>
          <p:nvPr/>
        </p:nvSpPr>
        <p:spPr>
          <a:xfrm>
            <a:off x="5595840" y="2928960"/>
            <a:ext cx="0" cy="204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ая соединительная линия 52"/>
          <p:cNvSpPr/>
          <p:nvPr/>
        </p:nvSpPr>
        <p:spPr>
          <a:xfrm>
            <a:off x="5595840" y="4286160"/>
            <a:ext cx="0" cy="204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ая соединительная линия 53"/>
          <p:cNvSpPr/>
          <p:nvPr/>
        </p:nvSpPr>
        <p:spPr>
          <a:xfrm>
            <a:off x="1238400" y="4295880"/>
            <a:ext cx="0" cy="204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ая соединительная линия 54"/>
          <p:cNvSpPr/>
          <p:nvPr/>
        </p:nvSpPr>
        <p:spPr>
          <a:xfrm>
            <a:off x="7819920" y="2928960"/>
            <a:ext cx="0" cy="204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ая соединительная линия 56"/>
          <p:cNvSpPr/>
          <p:nvPr/>
        </p:nvSpPr>
        <p:spPr>
          <a:xfrm>
            <a:off x="7815240" y="4295880"/>
            <a:ext cx="0" cy="204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Заголовок 1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8129520" cy="11430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-36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1 разде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Цель и задачи духовно-нравственного развития и воспитания обучающихся на ступени начального общего образования</a:t>
            </a:r>
            <a:r>
              <a:rPr b="1" lang="en-US" sz="2600" spc="-1" strike="noStrike">
                <a:solidFill>
                  <a:srgbClr val="cc99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сформулирован современный воспитательный идеал, на достижение которого должны быть направлены совместные усилия школы, семьи и других институтов обществ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1520" y="277920"/>
            <a:ext cx="304920" cy="1161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88" name="Group 29"/>
          <p:cNvGrpSpPr/>
          <p:nvPr/>
        </p:nvGrpSpPr>
        <p:grpSpPr>
          <a:xfrm>
            <a:off x="1523880" y="1295280"/>
            <a:ext cx="6629400" cy="762120"/>
            <a:chOff x="1523880" y="1295280"/>
            <a:chExt cx="6629400" cy="762120"/>
          </a:xfrm>
        </p:grpSpPr>
        <p:sp>
          <p:nvSpPr>
            <p:cNvPr id="189" name="Text Box 17"/>
            <p:cNvSpPr/>
            <p:nvPr/>
          </p:nvSpPr>
          <p:spPr>
            <a:xfrm>
              <a:off x="1523880" y="1447560"/>
              <a:ext cx="6172200" cy="398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Этическое воспит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23"/>
            <p:cNvSpPr/>
            <p:nvPr/>
          </p:nvSpPr>
          <p:spPr>
            <a:xfrm rot="5400000">
              <a:off x="7543440" y="1447560"/>
              <a:ext cx="762120" cy="4572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34"/>
          <p:cNvGrpSpPr/>
          <p:nvPr/>
        </p:nvGrpSpPr>
        <p:grpSpPr>
          <a:xfrm>
            <a:off x="1447920" y="6172200"/>
            <a:ext cx="6629400" cy="761760"/>
            <a:chOff x="1447920" y="6172200"/>
            <a:chExt cx="6629400" cy="761760"/>
          </a:xfrm>
        </p:grpSpPr>
        <p:sp>
          <p:nvSpPr>
            <p:cNvPr id="192" name="Text Box 21"/>
            <p:cNvSpPr/>
            <p:nvPr/>
          </p:nvSpPr>
          <p:spPr>
            <a:xfrm>
              <a:off x="1447920" y="6324480"/>
              <a:ext cx="6172200" cy="398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Эстетическое воспит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28"/>
            <p:cNvSpPr/>
            <p:nvPr/>
          </p:nvSpPr>
          <p:spPr>
            <a:xfrm rot="5400000">
              <a:off x="7467840" y="6324480"/>
              <a:ext cx="761760" cy="4572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33"/>
          <p:cNvGrpSpPr/>
          <p:nvPr/>
        </p:nvGrpSpPr>
        <p:grpSpPr>
          <a:xfrm>
            <a:off x="1447920" y="5334120"/>
            <a:ext cx="6629400" cy="761760"/>
            <a:chOff x="1447920" y="5334120"/>
            <a:chExt cx="6629400" cy="761760"/>
          </a:xfrm>
        </p:grpSpPr>
        <p:sp>
          <p:nvSpPr>
            <p:cNvPr id="195" name="Text Box 20"/>
            <p:cNvSpPr/>
            <p:nvPr/>
          </p:nvSpPr>
          <p:spPr>
            <a:xfrm>
              <a:off x="1447920" y="5486400"/>
              <a:ext cx="6172200" cy="398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оспитание здорового образа жизн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27"/>
            <p:cNvSpPr/>
            <p:nvPr/>
          </p:nvSpPr>
          <p:spPr>
            <a:xfrm rot="5400000">
              <a:off x="7467840" y="5486400"/>
              <a:ext cx="761760" cy="4572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32"/>
          <p:cNvGrpSpPr/>
          <p:nvPr/>
        </p:nvGrpSpPr>
        <p:grpSpPr>
          <a:xfrm>
            <a:off x="1447920" y="4495680"/>
            <a:ext cx="6629400" cy="762120"/>
            <a:chOff x="1447920" y="4495680"/>
            <a:chExt cx="6629400" cy="762120"/>
          </a:xfrm>
        </p:grpSpPr>
        <p:sp>
          <p:nvSpPr>
            <p:cNvPr id="198" name="Text Box 19"/>
            <p:cNvSpPr/>
            <p:nvPr/>
          </p:nvSpPr>
          <p:spPr>
            <a:xfrm>
              <a:off x="1447920" y="4647960"/>
              <a:ext cx="6172200" cy="398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Экологическое воспит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26"/>
            <p:cNvSpPr/>
            <p:nvPr/>
          </p:nvSpPr>
          <p:spPr>
            <a:xfrm rot="5400000">
              <a:off x="7467480" y="4647960"/>
              <a:ext cx="762120" cy="4572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31"/>
          <p:cNvGrpSpPr/>
          <p:nvPr/>
        </p:nvGrpSpPr>
        <p:grpSpPr>
          <a:xfrm>
            <a:off x="1447920" y="3505320"/>
            <a:ext cx="6629400" cy="761760"/>
            <a:chOff x="1447920" y="3505320"/>
            <a:chExt cx="6629400" cy="761760"/>
          </a:xfrm>
        </p:grpSpPr>
        <p:sp>
          <p:nvSpPr>
            <p:cNvPr id="201" name="Text Box 18"/>
            <p:cNvSpPr/>
            <p:nvPr/>
          </p:nvSpPr>
          <p:spPr>
            <a:xfrm>
              <a:off x="1447920" y="3733560"/>
              <a:ext cx="6172200" cy="398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рудовое воспит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25"/>
            <p:cNvSpPr/>
            <p:nvPr/>
          </p:nvSpPr>
          <p:spPr>
            <a:xfrm rot="5400000">
              <a:off x="7467840" y="3657600"/>
              <a:ext cx="761760" cy="4572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30"/>
          <p:cNvGrpSpPr/>
          <p:nvPr/>
        </p:nvGrpSpPr>
        <p:grpSpPr>
          <a:xfrm>
            <a:off x="1523880" y="2286000"/>
            <a:ext cx="6629400" cy="761760"/>
            <a:chOff x="1523880" y="2286000"/>
            <a:chExt cx="6629400" cy="761760"/>
          </a:xfrm>
        </p:grpSpPr>
        <p:sp>
          <p:nvSpPr>
            <p:cNvPr id="204" name="Text Box 13"/>
            <p:cNvSpPr/>
            <p:nvPr/>
          </p:nvSpPr>
          <p:spPr>
            <a:xfrm>
              <a:off x="1523880" y="2442960"/>
              <a:ext cx="6172200" cy="398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Гражданско-патриотическое воспит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24"/>
            <p:cNvSpPr/>
            <p:nvPr/>
          </p:nvSpPr>
          <p:spPr>
            <a:xfrm rot="5400000">
              <a:off x="7543800" y="2438280"/>
              <a:ext cx="761760" cy="4572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6" name="Picture 7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927360" cy="7621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"/>
          <p:cNvPicPr/>
          <p:nvPr/>
        </p:nvPicPr>
        <p:blipFill>
          <a:blip r:embed="rId2"/>
          <a:stretch/>
        </p:blipFill>
        <p:spPr>
          <a:xfrm>
            <a:off x="457200" y="5867280"/>
            <a:ext cx="698400" cy="99072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11"/>
          <p:cNvSpPr/>
          <p:nvPr/>
        </p:nvSpPr>
        <p:spPr>
          <a:xfrm>
            <a:off x="304920" y="1371600"/>
            <a:ext cx="914400" cy="685800"/>
          </a:xfrm>
          <a:custGeom>
            <a:avLst/>
            <a:gdLst>
              <a:gd name="textAreaLeft" fmla="*/ 213120 w 914400"/>
              <a:gd name="textAreaRight" fmla="*/ 700920 w 914400"/>
              <a:gd name="textAreaTop" fmla="*/ 72000 h 685800"/>
              <a:gd name="textAreaBottom" fmla="*/ 434160 h 6858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4" descr=""/>
          <p:cNvPicPr/>
          <p:nvPr/>
        </p:nvPicPr>
        <p:blipFill>
          <a:blip r:embed="rId3"/>
          <a:stretch/>
        </p:blipFill>
        <p:spPr>
          <a:xfrm>
            <a:off x="7872480" y="2743200"/>
            <a:ext cx="1423800" cy="2438280"/>
          </a:xfrm>
          <a:prstGeom prst="rect">
            <a:avLst/>
          </a:prstGeom>
          <a:ln w="0">
            <a:noFill/>
          </a:ln>
        </p:spPr>
      </p:pic>
      <p:grpSp>
        <p:nvGrpSpPr>
          <p:cNvPr id="210" name="Text Box 4"/>
          <p:cNvGrpSpPr/>
          <p:nvPr/>
        </p:nvGrpSpPr>
        <p:grpSpPr>
          <a:xfrm>
            <a:off x="1371600" y="4267080"/>
            <a:ext cx="6205680" cy="685440"/>
            <a:chOff x="1371600" y="4267080"/>
            <a:chExt cx="6205680" cy="685440"/>
          </a:xfrm>
        </p:grpSpPr>
        <p:pic>
          <p:nvPicPr>
            <p:cNvPr id="211" name="Text Box 4" descr=""/>
            <p:cNvPicPr/>
            <p:nvPr/>
          </p:nvPicPr>
          <p:blipFill>
            <a:blip r:embed="rId4"/>
            <a:stretch/>
          </p:blipFill>
          <p:spPr>
            <a:xfrm>
              <a:off x="1371600" y="4267080"/>
              <a:ext cx="6205680" cy="68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1381320" y="4275000"/>
              <a:ext cx="6192720" cy="66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ПРИРОДА НАШ Д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Жизнь, планета Земля и т.д.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Text Box 6"/>
          <p:cNvGrpSpPr/>
          <p:nvPr/>
        </p:nvGrpSpPr>
        <p:grpSpPr>
          <a:xfrm>
            <a:off x="1447920" y="3429000"/>
            <a:ext cx="6151320" cy="731880"/>
            <a:chOff x="1447920" y="3429000"/>
            <a:chExt cx="6151320" cy="731880"/>
          </a:xfrm>
        </p:grpSpPr>
        <p:pic>
          <p:nvPicPr>
            <p:cNvPr id="214" name="Text Box 6" descr=""/>
            <p:cNvPicPr/>
            <p:nvPr/>
          </p:nvPicPr>
          <p:blipFill>
            <a:blip r:embed="rId5"/>
            <a:stretch/>
          </p:blipFill>
          <p:spPr>
            <a:xfrm>
              <a:off x="1447920" y="3429000"/>
              <a:ext cx="615132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1457280" y="3436920"/>
              <a:ext cx="613512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ТРУД ДЛЯ СЕБЯ И ДЛЯ ДРУГИХ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Творчество (созидание, творчество) Наука (знание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Text Box 8"/>
          <p:cNvGrpSpPr/>
          <p:nvPr/>
        </p:nvGrpSpPr>
        <p:grpSpPr>
          <a:xfrm>
            <a:off x="1523880" y="2286000"/>
            <a:ext cx="6205680" cy="990720"/>
            <a:chOff x="1523880" y="2286000"/>
            <a:chExt cx="6205680" cy="990720"/>
          </a:xfrm>
        </p:grpSpPr>
        <p:pic>
          <p:nvPicPr>
            <p:cNvPr id="217" name="Text Box 8" descr=""/>
            <p:cNvPicPr/>
            <p:nvPr/>
          </p:nvPicPr>
          <p:blipFill>
            <a:blip r:embed="rId6"/>
            <a:stretch/>
          </p:blipFill>
          <p:spPr>
            <a:xfrm>
              <a:off x="1523880" y="2286000"/>
              <a:ext cx="620568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1533600" y="2292840"/>
              <a:ext cx="6192720" cy="9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СТРАНА ГРАЖДА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Патриотизм (любовь к «своим» и действие в благо их и т.д.), Гражданственность (служение, закон, равенство, многообразие и т.д.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12"/>
          <p:cNvSpPr/>
          <p:nvPr/>
        </p:nvSpPr>
        <p:spPr>
          <a:xfrm>
            <a:off x="1523880" y="1295280"/>
            <a:ext cx="6140520" cy="860400"/>
          </a:xfrm>
          <a:prstGeom prst="rect">
            <a:avLst/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ДОБРЫЕ ЧУВСТВА, МЫСЛИ, ПОСТУП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Человек (жизнь, добро, честь, свобода, дружба, справедливость и т.д.) Семья (любовь, забота и т.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1484280" y="5181480"/>
            <a:ext cx="6120000" cy="685800"/>
          </a:xfrm>
          <a:prstGeom prst="rect">
            <a:avLst/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ЗДОРОВЬЕ ТЕЛА И ДУХА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здоровый образ жизни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1447920" y="5943600"/>
            <a:ext cx="5771880" cy="692280"/>
          </a:xfrm>
          <a:prstGeom prst="rect">
            <a:avLst/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КРАСОТА СПАСЕТ М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Красота природы и искусства, гармо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2" descr=""/>
          <p:cNvPicPr/>
          <p:nvPr/>
        </p:nvPicPr>
        <p:blipFill>
          <a:blip r:embed="rId7"/>
          <a:stretch/>
        </p:blipFill>
        <p:spPr>
          <a:xfrm>
            <a:off x="457200" y="4114800"/>
            <a:ext cx="776160" cy="7952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7" descr=""/>
          <p:cNvPicPr/>
          <p:nvPr/>
        </p:nvPicPr>
        <p:blipFill>
          <a:blip r:embed="rId8"/>
          <a:stretch/>
        </p:blipFill>
        <p:spPr>
          <a:xfrm rot="18552600">
            <a:off x="191160" y="3466080"/>
            <a:ext cx="1035000" cy="350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D:\Мама\анимашки\здоровье\2.gif"/>
          <p:cNvPicPr/>
          <p:nvPr/>
        </p:nvPicPr>
        <p:blipFill>
          <a:blip r:embed="rId9"/>
          <a:stretch/>
        </p:blipFill>
        <p:spPr>
          <a:xfrm>
            <a:off x="457200" y="4952880"/>
            <a:ext cx="760320" cy="990720"/>
          </a:xfrm>
          <a:prstGeom prst="rect">
            <a:avLst/>
          </a:prstGeom>
          <a:ln w="0">
            <a:noFill/>
          </a:ln>
        </p:spPr>
      </p:pic>
      <p:pic>
        <p:nvPicPr>
          <p:cNvPr id="225" name="Rectangle 2" descr=""/>
          <p:cNvPicPr/>
          <p:nvPr/>
        </p:nvPicPr>
        <p:blipFill>
          <a:blip r:embed="rId10"/>
          <a:stretch/>
        </p:blipFill>
        <p:spPr>
          <a:xfrm>
            <a:off x="990720" y="23760"/>
            <a:ext cx="7696080" cy="14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aramond"/>
              </a:rPr>
              <a:t>Перечень планируемых результатов воспитания:</a:t>
            </a: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Формирование ценностных ориентаций, социальных компетенций, моделей поведения, рекомендаций по организации и текущему педагогическому контролю урочной и внеурочной деятельност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Ознакомление с общечеловеческими ценностями мировой культуры, духовными ценностями отечественной культуры, нравственно-эстетическим ценностями народов Росс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Формирование активной жизненной позиции, потребности в самореализац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Развитие коммуникативных навыков, навыков самоорганизац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Расширение опыта позитивного взаимодействия с окружающими миром (правовой, эстетической, физической, экологической культуры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5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450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650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850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726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6633"/>
                </a:solidFill>
                <a:uFillTx/>
                <a:latin typeface="Garamond"/>
              </a:rPr>
              <a:t>2 раздел  </a:t>
            </a: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Основные направления духовно-нравственного развития и воспитания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22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·воспитание гражданственности, патриотизма, уважения к правам, свободам и обязанностям человека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·воспитание нравственных чувств и этического сознания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·воспитание трудолюбия, творческого отношения к учению, труду, жизн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·воспитание ценностного отношения к природе, окружающей среде (экологическое воспитание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·воспитание ценностного отношения к прекрасному, формирование представлений об эстетических идеалах и ценностях (эстетическое воспитание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8692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6633"/>
                </a:solidFill>
                <a:uFillTx/>
                <a:latin typeface="Garamond"/>
              </a:rPr>
              <a:t>3 раздел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53452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пределяется концептуальная основа уклада школьной жизни.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спитание, направленное на духовно-нравственное развитие обучающихся и поддерживаемое всем укладом школьной жизни, включает в себя организацию учебной, внеучебной, общественно значимой деятельности младших школьников. Интеграция содержания различных видов деятельности обучающихся в рамках программы их духовно-нравственного развития и воспитания осуществляется на основе воспитательных идеалов и ценностей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762120"/>
            <a:ext cx="830556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инципы и особенности организации содержания духовно - нравственного развития и воспит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3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3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3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3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3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3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3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3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3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57280" y="277920"/>
            <a:ext cx="7981920" cy="81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Принципы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59720" y="1484280"/>
            <a:ext cx="8158680" cy="4618080"/>
            <a:chOff x="459720" y="1484280"/>
            <a:chExt cx="8158680" cy="4618080"/>
          </a:xfrm>
        </p:grpSpPr>
        <p:cxnSp>
          <p:nvCxnSpPr>
            <p:cNvPr id="235" name="_s185349"/>
            <p:cNvCxnSpPr>
              <a:stCxn id="236" idx="1"/>
              <a:endCxn id="237" idx="2"/>
            </p:cNvCxnSpPr>
            <p:nvPr/>
          </p:nvCxnSpPr>
          <p:spPr>
            <a:xfrm flipH="1" flipV="1" rot="10800000">
              <a:off x="3428280" y="2504520"/>
              <a:ext cx="1911240" cy="2748600"/>
            </a:xfrm>
            <a:prstGeom prst="bentConnector4">
              <a:avLst>
                <a:gd name="adj1" fmla="val -5972"/>
                <a:gd name="adj2" fmla="val 10837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8" name="_s185350"/>
            <p:cNvCxnSpPr>
              <a:stCxn id="239" idx="0"/>
              <a:endCxn id="240" idx="2"/>
            </p:cNvCxnSpPr>
            <p:nvPr/>
          </p:nvCxnSpPr>
          <p:spPr>
            <a:xfrm flipV="1" rot="16200000">
              <a:off x="6959160" y="3846600"/>
              <a:ext cx="874800" cy="3240"/>
            </a:xfrm>
            <a:prstGeom prst="bentConnector3">
              <a:avLst>
                <a:gd name="adj1" fmla="val 1313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1" name="_s185351"/>
            <p:cNvCxnSpPr>
              <a:stCxn id="242" idx="3"/>
            </p:cNvCxnSpPr>
            <p:nvPr/>
          </p:nvCxnSpPr>
          <p:spPr>
            <a:xfrm flipH="1" flipV="1">
              <a:off x="532800" y="4901760"/>
              <a:ext cx="2372760" cy="295560"/>
            </a:xfrm>
            <a:prstGeom prst="bentConnector3">
              <a:avLst>
                <a:gd name="adj1" fmla="val -481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3" name="_s185352"/>
            <p:cNvCxnSpPr>
              <a:stCxn id="244" idx="0"/>
              <a:endCxn id="240" idx="2"/>
            </p:cNvCxnSpPr>
            <p:nvPr/>
          </p:nvCxnSpPr>
          <p:spPr>
            <a:xfrm flipH="1" rot="16200000">
              <a:off x="4971600" y="986760"/>
              <a:ext cx="352800" cy="4496400"/>
            </a:xfrm>
            <a:prstGeom prst="bentConnector5">
              <a:avLst>
                <a:gd name="adj1" fmla="val -32686"/>
                <a:gd name="adj2" fmla="val 49923"/>
                <a:gd name="adj3" fmla="val 16496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5" name="_s185353"/>
            <p:cNvCxnSpPr>
              <a:stCxn id="242" idx="0"/>
              <a:endCxn id="240" idx="2"/>
            </p:cNvCxnSpPr>
            <p:nvPr/>
          </p:nvCxnSpPr>
          <p:spPr>
            <a:xfrm flipH="1" flipV="1" rot="5400000">
              <a:off x="4101480" y="991440"/>
              <a:ext cx="874800" cy="5713560"/>
            </a:xfrm>
            <a:prstGeom prst="bentConnector3">
              <a:avLst>
                <a:gd name="adj1" fmla="val 1313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6" name="_s185354"/>
            <p:cNvCxnSpPr/>
            <p:nvPr/>
          </p:nvCxnSpPr>
          <p:spPr>
            <a:xfrm flipH="1" rot="16200000">
              <a:off x="4925520" y="-276840"/>
              <a:ext cx="1811880" cy="5563440"/>
            </a:xfrm>
            <a:prstGeom prst="bentConnector5">
              <a:avLst>
                <a:gd name="adj1" fmla="val -6339"/>
                <a:gd name="adj2" fmla="val 49970"/>
                <a:gd name="adj3" fmla="val 11269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0" name="_s185355"/>
            <p:cNvSpPr/>
            <p:nvPr/>
          </p:nvSpPr>
          <p:spPr>
            <a:xfrm>
              <a:off x="6172560" y="1600200"/>
              <a:ext cx="2445840" cy="1811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Аксиологический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принцип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185356"/>
            <p:cNvSpPr/>
            <p:nvPr/>
          </p:nvSpPr>
          <p:spPr>
            <a:xfrm>
              <a:off x="459720" y="1600200"/>
              <a:ext cx="2449080" cy="1811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Следования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нравственному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примеру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185357"/>
            <p:cNvSpPr/>
            <p:nvPr/>
          </p:nvSpPr>
          <p:spPr>
            <a:xfrm>
              <a:off x="459720" y="4285440"/>
              <a:ext cx="2445840" cy="181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lin ang="5400000"/>
            </a:gra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Ориентации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на идеал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5358"/>
            <p:cNvSpPr/>
            <p:nvPr/>
          </p:nvSpPr>
          <p:spPr>
            <a:xfrm>
              <a:off x="1676880" y="3058920"/>
              <a:ext cx="2443320" cy="1811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Идентификации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(персонификации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85359"/>
            <p:cNvSpPr/>
            <p:nvPr/>
          </p:nvSpPr>
          <p:spPr>
            <a:xfrm>
              <a:off x="4116960" y="3442680"/>
              <a:ext cx="2445840" cy="1811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Диалогического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общени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85360"/>
            <p:cNvSpPr/>
            <p:nvPr/>
          </p:nvSpPr>
          <p:spPr>
            <a:xfrm>
              <a:off x="6172560" y="4285440"/>
              <a:ext cx="2445840" cy="1803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Полисубъектности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воспитани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85361"/>
            <p:cNvSpPr/>
            <p:nvPr/>
          </p:nvSpPr>
          <p:spPr>
            <a:xfrm>
              <a:off x="3429360" y="1600200"/>
              <a:ext cx="2445840" cy="1811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Системно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деятельностной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организации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воспитания</a:t>
              </a: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1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35336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6633"/>
                </a:solidFill>
                <a:latin typeface="Garamond"/>
              </a:rPr>
              <a:t>Методическое сопровождение</a:t>
            </a: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9" name="Рисунок 3" descr="C:\Documents and Settings\IAntonova\Рабочий стол\Обложки Стандарты\koncep_dux-nrav_razvitiya.jpg"/>
          <p:cNvPicPr/>
          <p:nvPr/>
        </p:nvPicPr>
        <p:blipFill>
          <a:blip r:embed="rId1"/>
          <a:stretch/>
        </p:blipFill>
        <p:spPr>
          <a:xfrm>
            <a:off x="5411880" y="1676520"/>
            <a:ext cx="2665440" cy="411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" name="Рисунок 1" descr="C:\Documents and Settings\IAntonova\Рабочий стол\Обложки Стандарты\federal_gos_obraz_stand.jpg"/>
          <p:cNvPicPr/>
          <p:nvPr/>
        </p:nvPicPr>
        <p:blipFill>
          <a:blip r:embed="rId2"/>
          <a:stretch/>
        </p:blipFill>
        <p:spPr>
          <a:xfrm>
            <a:off x="990720" y="1752480"/>
            <a:ext cx="2590560" cy="4038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666520" y="572760"/>
            <a:ext cx="628668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6633"/>
                </a:solidFill>
                <a:uFillTx/>
                <a:latin typeface="Garamond"/>
              </a:rPr>
              <a:t>4 раздел</a:t>
            </a:r>
            <a:br>
              <a:rPr sz="3400"/>
            </a:b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1532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70c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99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Основное содержание духовно-нравственного развития и воспитания обучающихся по каждому из направлений организации воспитания в начальной школе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Компоненты воспитания, обучения и развития обучающихся, их коммуникативной, информационной, проектной, социальной деятельност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Определение конкретного содержания духовно – нравственного развития и воспитания в каждом ОУ, в каждом классе осуществляется с учетом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 Реальных услови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Индивидуальных особенностей обучающихс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Потребностей обучающихся и  их родителей (законных представителей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3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3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3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3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3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3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3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3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3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3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666520" y="671400"/>
            <a:ext cx="62866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6633"/>
                </a:solidFill>
                <a:uFillTx/>
                <a:latin typeface="Garamond"/>
              </a:rPr>
              <a:t>5 раздел</a:t>
            </a:r>
            <a:br>
              <a:rPr sz="2900"/>
            </a:b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24920" cy="5181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66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иды деятельности и формы занятий с обучающимис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усвоение элементарных представлений о ценностях, о традициях о в культуре народов России, других стран (в ходе изучения инвариантных и вариативных учебных дисциплин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получение первоначального опыта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получение первоначального опыта участия в деятельности и реализации проект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посильное участие в деятельности общественных организаци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усвоение в семье позитивных образцов общения, заботы, участие вместе с родителями (законными представителями) в деятельности по месту жительства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3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3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3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3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3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3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3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6000"/>
                            </p:stCondLst>
                            <p:childTnLst>
                              <p:par>
                                <p:cTn id="67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30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30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30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30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9000"/>
                            </p:stCondLst>
                            <p:childTnLst>
                              <p:par>
                                <p:cTn id="68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30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30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30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30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68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3000" fill="hold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3000" fill="hold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3000" fill="hold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3000" fill="hold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680" y="585720"/>
            <a:ext cx="788688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Формы воспитательной работы в общеобразовательной школе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Урочная деятельно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воспитательные задачи интегрированы в содержание учебных предметов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Внеурочная деятельно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культурные практик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. Внешкольная деятельно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социальные и культурные практик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. Семейное воспитание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теграция воспитательных усилий семьи и школы имеет приоритетное значение на ступени начального общего образования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. Изучение культурологических основ традиционных российских религи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сохранение целостного воспитательного пространства школ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8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000"/>
                            </p:stCondLst>
                            <p:childTnLst>
                              <p:par>
                                <p:cTn id="7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2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2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6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6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6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6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0"/>
                            </p:stCondLst>
                            <p:childTnLst>
                              <p:par>
                                <p:cTn id="7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2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7000"/>
                            </p:stCondLst>
                            <p:childTnLst>
                              <p:par>
                                <p:cTn id="7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6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6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6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6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9000"/>
                            </p:stCondLst>
                            <p:childTnLst>
                              <p:par>
                                <p:cTn id="7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59328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6633"/>
                </a:solidFill>
                <a:uFillTx/>
                <a:latin typeface="Garamond"/>
              </a:rPr>
              <a:t>6 раздел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словия совместной деятельности образовательного учреждения с семьями обучающихся, с общественными институтами по духовно-нравственному развитию и воспитанию обучающихс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4000"/>
                            </p:stCondLst>
                            <p:childTnLst>
                              <p:par>
                                <p:cTn id="7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2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4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360" y="453600"/>
            <a:ext cx="79628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Участники образовательного процесс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122960" cy="43354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914400" y="58672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спитани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процесс принятия человеком цен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важных правил и идей), которые определяют пове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ловека в обще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8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8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8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8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666520" y="671400"/>
            <a:ext cx="62866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Социальные субъекты образовательного процесса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бразовательное учрежд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емь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чреждения доп. образ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чреждения культуры и спор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радиционные религиозные организа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бщественные объединения (детско-юношеские движения и организации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Arial"/>
              </a:rPr>
              <a:t>Ведущая роль принадлежи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Arial"/>
              </a:rPr>
              <a:t>педагогическому коллективу О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2" dur="2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2500"/>
                            </p:stCondLst>
                            <p:childTnLst>
                              <p:par>
                                <p:cTn id="7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6" dur="2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4500"/>
                            </p:stCondLst>
                            <p:childTnLst>
                              <p:par>
                                <p:cTn id="7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0" dur="2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6500"/>
                            </p:stCondLst>
                            <p:childTnLst>
                              <p:par>
                                <p:cTn id="7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4" dur="20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8500"/>
                            </p:stCondLst>
                            <p:childTnLst>
                              <p:par>
                                <p:cTn id="7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8" dur="20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0500"/>
                            </p:stCondLst>
                            <p:childTnLst>
                              <p:par>
                                <p:cTn id="8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2" dur="20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2500"/>
                            </p:stCondLst>
                            <p:childTnLst>
                              <p:par>
                                <p:cTn id="8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6" dur="2000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14500"/>
                            </p:stCondLst>
                            <p:childTnLst>
                              <p:par>
                                <p:cTn id="8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0" dur="2000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aramond"/>
              </a:rPr>
              <a:t>Классный руководитель обеспечивает:</a:t>
            </a: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едагогическую поддержку решения школьниками межпредметных воспитательных задач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дготовку и проведение внеклассных и внешкольных воспитательных мероприятий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частие в добровольных детских разновозрастных организаций различной направленности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оординацию программ семейного и школьного воспитания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одействие в решении индивидуальных проблем духовно-нравственного развития дете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9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3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3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27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3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3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27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3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3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27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30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3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27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30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3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27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666520" y="671400"/>
            <a:ext cx="62866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6633"/>
                </a:solidFill>
                <a:uFillTx/>
                <a:latin typeface="Garamond"/>
              </a:rPr>
              <a:t>7 раздел</a:t>
            </a:r>
            <a:br>
              <a:rPr sz="2900"/>
            </a:b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инципы и основные формы повышения педагогической культуры родителей (законных представителей) обучающихс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8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69440"/>
            <a:ext cx="822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r>
              <a:rPr b="1" lang="en-US" sz="2900" spc="-1" strike="noStrike" u="sng">
                <a:solidFill>
                  <a:srgbClr val="006633"/>
                </a:solidFill>
                <a:uFillTx/>
                <a:latin typeface="Garamond"/>
              </a:rPr>
              <a:t>8 раздел (заключительный)</a:t>
            </a:r>
            <a:br>
              <a:rPr sz="4600"/>
            </a:b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ланируемые воспитательные результаты по каждому из основных направлений духовно-нравственного развития и воспитан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6854760" cy="11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Garamond"/>
              </a:rPr>
              <a:t>Как увидеть результат воспитания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-36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РОЯВЛ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9"/>
          <p:cNvSpPr/>
          <p:nvPr/>
        </p:nvSpPr>
        <p:spPr>
          <a:xfrm>
            <a:off x="6095880" y="1828800"/>
            <a:ext cx="2438640" cy="672840"/>
          </a:xfrm>
          <a:prstGeom prst="rect">
            <a:avLst/>
          </a:prstGeom>
          <a:gradFill rotWithShape="0">
            <a:gsLst>
              <a:gs pos="0">
                <a:srgbClr val="b196d2"/>
              </a:gs>
              <a:gs pos="100000">
                <a:srgbClr val="e7e1f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е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направляемые ценность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8"/>
          <p:cNvSpPr/>
          <p:nvPr/>
        </p:nvSpPr>
        <p:spPr>
          <a:xfrm>
            <a:off x="152280" y="1905120"/>
            <a:ext cx="2362320" cy="672840"/>
          </a:xfrm>
          <a:prstGeom prst="rect">
            <a:avLst/>
          </a:prstGeom>
          <a:gradFill rotWithShape="0">
            <a:gsLst>
              <a:gs pos="0">
                <a:srgbClr val="b196d2"/>
              </a:gs>
              <a:gs pos="100000">
                <a:srgbClr val="e7e1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лов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смысление цен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36400" y="2742840"/>
            <a:ext cx="1943280" cy="1066680"/>
          </a:xfrm>
          <a:prstGeom prst="rect">
            <a:avLst/>
          </a:prstGeom>
          <a:gradFill rotWithShape="0">
            <a:gsLst>
              <a:gs pos="0">
                <a:srgbClr val="b196d2"/>
              </a:gs>
              <a:gs pos="100000">
                <a:srgbClr val="e7e1f0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Осознание, Оценка Заявлени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1"/>
          <p:cNvSpPr/>
          <p:nvPr/>
        </p:nvSpPr>
        <p:spPr>
          <a:xfrm>
            <a:off x="6705720" y="2743200"/>
            <a:ext cx="1828800" cy="703800"/>
          </a:xfrm>
          <a:prstGeom prst="rect">
            <a:avLst/>
          </a:prstGeom>
          <a:gradFill rotWithShape="0">
            <a:gsLst>
              <a:gs pos="0">
                <a:srgbClr val="b196d2"/>
              </a:gs>
              <a:gs pos="100000">
                <a:srgbClr val="e7e1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ействия, поступ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" y="4038480"/>
            <a:ext cx="2362320" cy="9169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Диагностические задания письменных раб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7"/>
          <p:cNvSpPr/>
          <p:nvPr/>
        </p:nvSpPr>
        <p:spPr>
          <a:xfrm>
            <a:off x="304920" y="5410080"/>
            <a:ext cx="2590560" cy="1194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Не подписывать раб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Оценивать аргументацию, а не позиц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3886200"/>
            <a:ext cx="2089080" cy="7855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Педагогичес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наблю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410080" y="5181480"/>
            <a:ext cx="3581640" cy="14655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ценивается не личнос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 конкретные поступ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амооценка и саморефлексия первичны, а внешняя оценк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торич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971800" y="5029200"/>
            <a:ext cx="2209680" cy="1615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АК ОЦЕНИ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РЕЗУЛЬТАТ, НЕ ПРОВОЦИРУ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ЛИЦЕМЕРИЕ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3"/>
          <p:cNvSpPr/>
          <p:nvPr/>
        </p:nvSpPr>
        <p:spPr>
          <a:xfrm>
            <a:off x="2484360" y="2057400"/>
            <a:ext cx="3611520" cy="2362320"/>
          </a:xfrm>
          <a:prstGeom prst="sun">
            <a:avLst>
              <a:gd name="adj" fmla="val 25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38680" y="190512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286000" y="1828800"/>
            <a:ext cx="380880" cy="228600"/>
          </a:xfrm>
          <a:prstGeom prst="leftArrow">
            <a:avLst>
              <a:gd name="adj1" fmla="val 50000"/>
              <a:gd name="adj2" fmla="val 41654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467480" y="350532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295280" y="3809880"/>
            <a:ext cx="38124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3809880" y="274320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в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де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534520" y="2362320"/>
            <a:ext cx="609480" cy="685800"/>
          </a:xfrm>
          <a:custGeom>
            <a:avLst/>
            <a:gdLst>
              <a:gd name="textAreaLeft" fmla="*/ 81360 w 609480"/>
              <a:gd name="textAreaRight" fmla="*/ 528120 w 6094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2133720"/>
            <a:ext cx="457200" cy="761760"/>
          </a:xfrm>
          <a:custGeom>
            <a:avLst/>
            <a:gdLst>
              <a:gd name="textAreaLeft" fmla="*/ 61200 w 457200"/>
              <a:gd name="textAreaRight" fmla="*/ 396000 w 457200"/>
              <a:gd name="textAreaTop" fmla="*/ 133200 h 761760"/>
              <a:gd name="textAreaBottom" fmla="*/ 55224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0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500"/>
                            </p:stCondLst>
                            <p:childTnLst>
                              <p:par>
                                <p:cTn id="9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2500"/>
                            </p:stCondLst>
                            <p:childTnLst>
                              <p:par>
                                <p:cTn id="9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3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4500"/>
                            </p:stCondLst>
                            <p:childTnLst>
                              <p:par>
                                <p:cTn id="9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6500"/>
                            </p:stCondLst>
                            <p:childTnLst>
                              <p:par>
                                <p:cTn id="9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8500"/>
                            </p:stCondLst>
                            <p:childTnLst>
                              <p:par>
                                <p:cTn id="9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10500"/>
                            </p:stCondLst>
                            <p:childTnLst>
                              <p:par>
                                <p:cTn id="9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1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2500"/>
                            </p:stCondLst>
                            <p:childTnLst>
                              <p:par>
                                <p:cTn id="9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5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14500"/>
                            </p:stCondLst>
                            <p:childTnLst>
                              <p:par>
                                <p:cTn id="9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9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17000"/>
                            </p:stCondLst>
                            <p:childTnLst>
                              <p:par>
                                <p:cTn id="9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9000"/>
                            </p:stCondLst>
                            <p:childTnLst>
                              <p:par>
                                <p:cTn id="9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Закон РФ «Об образовании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Федеральный государственный образовательный стандар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Концепция духовно-нравственного развития и воспитания личности гражданина Росс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Rectangle 2" descr=""/>
          <p:cNvPicPr/>
          <p:nvPr/>
        </p:nvPicPr>
        <p:blipFill>
          <a:blip r:embed="rId1"/>
          <a:stretch/>
        </p:blipFill>
        <p:spPr>
          <a:xfrm>
            <a:off x="1120680" y="351000"/>
            <a:ext cx="671220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62863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aramond"/>
              </a:rPr>
              <a:t>Диагностика - оценка личностных достижений школьников осуществляется: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301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 в ходе неперсонифицированных мониторинговых исследований - это основание для принятия управленческих решений, информация об уровне освоения программ и обобщенные данные о моральной атмосфере в школьных коллектива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 с помощью портфолио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ртфолио — это способ фиксирования, накопления и оценивания педагогами, родителями и самим учеником результатов его духовно-нравственного развития. Технология портфолио делает процесс духовно-нравственного развития школьника открытым, объективным и корректируемым со стороны педагогов и родителей. Портфолио предоставляет учащимся широкие возможности для нравственной рефлекси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3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6" dur="3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3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3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2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3" dur="2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8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20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20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20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226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Garamond"/>
              </a:rPr>
              <a:t>Титульный  лист программы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224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лное наименование учредителя и образовательного учреждения в соответствии с уставо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де, когда и кем утверждена рабочая учебная программ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именование учебного предмета (курс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казания на принадлежность рабочей учебной программы к ступени, уровню общего образова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рок реализации данной программ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казание примерной программы и ее авторов, на основе которой разработана данная рабочая учебная програм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.и.о. учителя, составившего данную рабочую учебную програм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3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3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8" dur="3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3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3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4" dur="3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3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3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0" dur="3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9000"/>
                            </p:stCondLst>
                            <p:childTnLst>
                              <p:par>
                                <p:cTn id="10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3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3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6" dur="3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30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30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2" dur="30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30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30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8" dur="3000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3000" fill="hold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3000" fill="hold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4" dur="3000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5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.Рассматривается  на методическом  объединении или на научно-методическом совете (см. Устав). Решение ШМО или НМС оформляется протоколом. Возможно предварительная внешняя экспертиза. (июнь  месяц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. Директором школы издается приказ об утверждении  каждой учебной  программы. На каждой программе должно быть отметка о принятии  программы  ШМО или НМС, результаты экспертизы (если была), отметка  директора школы об утверждении  программы (дата и номер приказа). Утверждение всех программ  до 31 авгус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3. Один экземпляр учебных программ являются  частью ООП и находятся у администрации в соответствии с номенклатурой дел. Второй экземпляр у педагог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" y="38088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уть  утверждения  учебной  программы членов  педагогическ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оллектива (учителя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9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9" dur="3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0" dur="3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27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3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3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30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30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30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6" dur="30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238880" y="277920"/>
            <a:ext cx="144792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Желаем успехов в реализации ФГОС!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2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4" dur="2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2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2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9" dur="20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0" dur="20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20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20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666520" y="572760"/>
            <a:ext cx="628668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Garamond"/>
              </a:rPr>
              <a:t>Агния Барто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Garamond"/>
              </a:rPr>
              <a:t>«Совесть»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982880" y="1599840"/>
            <a:ext cx="4721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Я кошку выставил за дверь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Сказал, что не впущ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есь день ищу ее теперь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езде ее ищ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Из-за не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торую ноч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се повторяется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Точь-в-точь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о сне, как наяву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Я прогоняю кошку прочь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Я прогоняю кошку прочь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отом опять зов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66520" y="553680"/>
            <a:ext cx="62866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224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5f5f5f"/>
                </a:solidFill>
                <a:latin typeface="Arial"/>
              </a:rPr>
              <a:t>Концепция формулирует социальный заказ современной общеобразовательной школе как определённую систему общих педагогических требований, соответствие которым обеспечит эффективное участие образования в решении важнейших общенациональных задач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42004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Garamond"/>
              </a:rPr>
              <a:t>Основная 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Garamond"/>
              </a:rPr>
              <a:t>образовательная программа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78240" y="1820880"/>
            <a:ext cx="7787520" cy="4088520"/>
          </a:xfrm>
          <a:prstGeom prst="rect">
            <a:avLst/>
          </a:prstGeom>
          <a:solidFill>
            <a:srgbClr val="cc9900">
              <a:alpha val="62000"/>
            </a:srgbClr>
          </a:solidFill>
          <a:ln w="19080">
            <a:solidFill>
              <a:srgbClr val="6ecfef"/>
            </a:solidFill>
            <a:miter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SzPct val="65000"/>
              <a:buFont typeface="Arial"/>
              <a:buChar char="u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3"/>
          <p:cNvSpPr/>
          <p:nvPr/>
        </p:nvSpPr>
        <p:spPr>
          <a:xfrm>
            <a:off x="0" y="1268280"/>
            <a:ext cx="9144000" cy="5056200"/>
          </a:xfrm>
          <a:prstGeom prst="roundRect">
            <a:avLst>
              <a:gd name="adj" fmla="val 16667"/>
            </a:avLst>
          </a:prstGeom>
          <a:solidFill>
            <a:srgbClr val="cc9900">
              <a:alpha val="62000"/>
            </a:srgbClr>
          </a:solidFill>
          <a:ln w="19080">
            <a:solidFill>
              <a:srgbClr val="6ec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1"/>
          <p:cNvSpPr/>
          <p:nvPr/>
        </p:nvSpPr>
        <p:spPr>
          <a:xfrm>
            <a:off x="2771640" y="1557360"/>
            <a:ext cx="3429000" cy="1008000"/>
          </a:xfrm>
          <a:prstGeom prst="rect">
            <a:avLst/>
          </a:prstGeom>
          <a:solidFill>
            <a:srgbClr val="bfe2f7"/>
          </a:solidFill>
          <a:ln w="507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ТРУК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Начальная шк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2"/>
          <p:cNvSpPr/>
          <p:nvPr/>
        </p:nvSpPr>
        <p:spPr>
          <a:xfrm>
            <a:off x="4811760" y="3033720"/>
            <a:ext cx="1584360" cy="1285920"/>
          </a:xfrm>
          <a:prstGeom prst="rect">
            <a:avLst/>
          </a:prstGeom>
          <a:solidFill>
            <a:srgbClr val="ccff99"/>
          </a:solidFill>
          <a:ln w="507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Учеб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л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3"/>
          <p:cNvSpPr/>
          <p:nvPr/>
        </p:nvSpPr>
        <p:spPr>
          <a:xfrm>
            <a:off x="6948360" y="3033720"/>
            <a:ext cx="1584360" cy="1285920"/>
          </a:xfrm>
          <a:prstGeom prst="rect">
            <a:avLst/>
          </a:prstGeom>
          <a:solidFill>
            <a:srgbClr val="ffffcc"/>
          </a:solidFill>
          <a:ln w="507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рограм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развит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УУ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4"/>
          <p:cNvSpPr/>
          <p:nvPr/>
        </p:nvSpPr>
        <p:spPr>
          <a:xfrm>
            <a:off x="179280" y="4791240"/>
            <a:ext cx="1584360" cy="1285560"/>
          </a:xfrm>
          <a:prstGeom prst="rect">
            <a:avLst/>
          </a:prstGeom>
          <a:solidFill>
            <a:srgbClr val="ccff99"/>
          </a:solidFill>
          <a:ln w="507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о предмет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5"/>
          <p:cNvSpPr/>
          <p:nvPr/>
        </p:nvSpPr>
        <p:spPr>
          <a:xfrm>
            <a:off x="5634000" y="4791240"/>
            <a:ext cx="1584360" cy="1285560"/>
          </a:xfrm>
          <a:prstGeom prst="rect">
            <a:avLst/>
          </a:prstGeom>
          <a:solidFill>
            <a:srgbClr val="ffffcc"/>
          </a:solidFill>
          <a:ln w="507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рограм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коррекцион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раб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6"/>
          <p:cNvSpPr/>
          <p:nvPr/>
        </p:nvSpPr>
        <p:spPr>
          <a:xfrm>
            <a:off x="2676600" y="3033720"/>
            <a:ext cx="1582560" cy="1285920"/>
          </a:xfrm>
          <a:prstGeom prst="rect">
            <a:avLst/>
          </a:prstGeom>
          <a:solidFill>
            <a:srgbClr val="ffffcc"/>
          </a:solidFill>
          <a:ln w="507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ланируем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результа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9"/>
          <p:cNvSpPr/>
          <p:nvPr/>
        </p:nvSpPr>
        <p:spPr>
          <a:xfrm>
            <a:off x="1996920" y="4791240"/>
            <a:ext cx="1584360" cy="1285560"/>
          </a:xfrm>
          <a:prstGeom prst="rect">
            <a:avLst/>
          </a:prstGeom>
          <a:solidFill>
            <a:srgbClr val="ffffcc"/>
          </a:solidFill>
          <a:ln w="507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ограм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уховно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равствен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4"/>
          <p:cNvSpPr/>
          <p:nvPr/>
        </p:nvSpPr>
        <p:spPr>
          <a:xfrm>
            <a:off x="1008000" y="2781360"/>
            <a:ext cx="0" cy="285840"/>
          </a:xfrm>
          <a:prstGeom prst="line">
            <a:avLst/>
          </a:prstGeom>
          <a:ln w="50760">
            <a:solidFill>
              <a:srgbClr val="0033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0"/>
          <p:cNvSpPr/>
          <p:nvPr/>
        </p:nvSpPr>
        <p:spPr>
          <a:xfrm>
            <a:off x="7451640" y="4791240"/>
            <a:ext cx="1584360" cy="1285560"/>
          </a:xfrm>
          <a:prstGeom prst="rect">
            <a:avLst/>
          </a:prstGeom>
          <a:solidFill>
            <a:srgbClr val="ccff99"/>
          </a:solidFill>
          <a:ln w="507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Систем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оце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22"/>
          <p:cNvSpPr/>
          <p:nvPr/>
        </p:nvSpPr>
        <p:spPr>
          <a:xfrm>
            <a:off x="289080" y="2752560"/>
            <a:ext cx="8459640" cy="0"/>
          </a:xfrm>
          <a:prstGeom prst="line">
            <a:avLst/>
          </a:prstGeom>
          <a:ln w="507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4"/>
          <p:cNvSpPr/>
          <p:nvPr/>
        </p:nvSpPr>
        <p:spPr>
          <a:xfrm>
            <a:off x="3365640" y="2781360"/>
            <a:ext cx="0" cy="285840"/>
          </a:xfrm>
          <a:prstGeom prst="line">
            <a:avLst/>
          </a:prstGeom>
          <a:ln w="50760">
            <a:solidFill>
              <a:srgbClr val="0033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4"/>
          <p:cNvSpPr/>
          <p:nvPr/>
        </p:nvSpPr>
        <p:spPr>
          <a:xfrm>
            <a:off x="5508720" y="2781360"/>
            <a:ext cx="0" cy="285840"/>
          </a:xfrm>
          <a:prstGeom prst="line">
            <a:avLst/>
          </a:prstGeom>
          <a:ln w="50760">
            <a:solidFill>
              <a:srgbClr val="0033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4"/>
          <p:cNvSpPr/>
          <p:nvPr/>
        </p:nvSpPr>
        <p:spPr>
          <a:xfrm>
            <a:off x="7740720" y="2781360"/>
            <a:ext cx="0" cy="287280"/>
          </a:xfrm>
          <a:prstGeom prst="line">
            <a:avLst/>
          </a:prstGeom>
          <a:ln w="50760">
            <a:solidFill>
              <a:srgbClr val="0033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Прямая со стрелкой 20"/>
          <p:cNvCxnSpPr/>
          <p:nvPr/>
        </p:nvCxnSpPr>
        <p:spPr>
          <a:xfrm flipH="1">
            <a:off x="321480" y="2754360"/>
            <a:ext cx="2520" cy="2016720"/>
          </a:xfrm>
          <a:prstGeom prst="straightConnector1">
            <a:avLst/>
          </a:prstGeom>
          <a:ln w="50760">
            <a:solidFill>
              <a:srgbClr val="003d66"/>
            </a:solidFill>
            <a:miter/>
            <a:tailEnd len="med" type="stealth" w="med"/>
          </a:ln>
        </p:spPr>
      </p:cxnSp>
      <p:cxnSp>
        <p:nvCxnSpPr>
          <p:cNvPr id="112" name="Прямая со стрелкой 23"/>
          <p:cNvCxnSpPr/>
          <p:nvPr/>
        </p:nvCxnSpPr>
        <p:spPr>
          <a:xfrm flipH="1">
            <a:off x="8719920" y="2752200"/>
            <a:ext cx="2160" cy="2018160"/>
          </a:xfrm>
          <a:prstGeom prst="straightConnector1">
            <a:avLst/>
          </a:prstGeom>
          <a:ln w="50760">
            <a:solidFill>
              <a:srgbClr val="003d66"/>
            </a:solidFill>
            <a:miter/>
            <a:tailEnd len="med" type="stealth" w="med"/>
          </a:ln>
        </p:spPr>
      </p:cxnSp>
      <p:sp>
        <p:nvSpPr>
          <p:cNvPr id="113" name="Rectangle 25"/>
          <p:cNvSpPr/>
          <p:nvPr/>
        </p:nvSpPr>
        <p:spPr>
          <a:xfrm>
            <a:off x="3816360" y="4791240"/>
            <a:ext cx="1584360" cy="1285560"/>
          </a:xfrm>
          <a:prstGeom prst="rect">
            <a:avLst/>
          </a:prstGeom>
          <a:solidFill>
            <a:srgbClr val="ffffcc"/>
          </a:solidFill>
          <a:ln w="507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рограм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здоров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образа жиз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6"/>
          <p:cNvSpPr/>
          <p:nvPr/>
        </p:nvSpPr>
        <p:spPr>
          <a:xfrm>
            <a:off x="533520" y="3048120"/>
            <a:ext cx="1584360" cy="1285920"/>
          </a:xfrm>
          <a:prstGeom prst="rect">
            <a:avLst/>
          </a:prstGeom>
          <a:solidFill>
            <a:srgbClr val="99ff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ояснитель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запис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Прямая со стрелкой 37"/>
          <p:cNvCxnSpPr/>
          <p:nvPr/>
        </p:nvCxnSpPr>
        <p:spPr>
          <a:xfrm flipH="1">
            <a:off x="2410560" y="2781360"/>
            <a:ext cx="2520" cy="2016720"/>
          </a:xfrm>
          <a:prstGeom prst="straightConnector1">
            <a:avLst/>
          </a:prstGeom>
          <a:ln w="50760">
            <a:solidFill>
              <a:srgbClr val="003d66"/>
            </a:solidFill>
            <a:miter/>
            <a:tailEnd len="med" type="stealth" w="med"/>
          </a:ln>
        </p:spPr>
      </p:cxnSp>
      <p:cxnSp>
        <p:nvCxnSpPr>
          <p:cNvPr id="116" name="Прямая со стрелкой 38"/>
          <p:cNvCxnSpPr/>
          <p:nvPr/>
        </p:nvCxnSpPr>
        <p:spPr>
          <a:xfrm flipH="1">
            <a:off x="4536720" y="2771280"/>
            <a:ext cx="2160" cy="2017080"/>
          </a:xfrm>
          <a:prstGeom prst="straightConnector1">
            <a:avLst/>
          </a:prstGeom>
          <a:ln w="50760">
            <a:solidFill>
              <a:srgbClr val="003d66"/>
            </a:solidFill>
            <a:miter/>
            <a:tailEnd len="med" type="stealth" w="med"/>
          </a:ln>
        </p:spPr>
      </p:cxnSp>
      <p:cxnSp>
        <p:nvCxnSpPr>
          <p:cNvPr id="117" name="Прямая со стрелкой 40"/>
          <p:cNvCxnSpPr/>
          <p:nvPr/>
        </p:nvCxnSpPr>
        <p:spPr>
          <a:xfrm flipH="1">
            <a:off x="6678360" y="2781360"/>
            <a:ext cx="2160" cy="2016720"/>
          </a:xfrm>
          <a:prstGeom prst="straightConnector1">
            <a:avLst/>
          </a:prstGeom>
          <a:ln w="50760">
            <a:solidFill>
              <a:srgbClr val="003d66"/>
            </a:solidFill>
            <a:miter/>
            <a:tailEnd len="med" type="stealth" w="med"/>
          </a:ln>
        </p:spPr>
      </p:cxn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7756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Garamond"/>
              </a:rPr>
              <a:t>Структура образовательной программы ОУ:</a:t>
            </a:r>
            <a:r>
              <a:rPr b="1" lang="en-US" sz="2900" spc="-1" strike="noStrike">
                <a:solidFill>
                  <a:srgbClr val="99ffcc"/>
                </a:solidFill>
                <a:latin typeface="Garamond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83944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450720"/>
                <a:tab algn="l" pos="816120"/>
                <a:tab algn="l" pos="2163600"/>
                <a:tab algn="l" pos="4834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пояснительная записка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(в ней конкретизируются общие цели начального общего образования с учетом специфики учебного предмета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450720"/>
                <a:tab algn="l" pos="816120"/>
                <a:tab algn="l" pos="2163600"/>
                <a:tab algn="l" pos="4834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- планируемые результаты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освоения обучающимися основной образовательной программ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450720"/>
                <a:tab algn="l" pos="816120"/>
                <a:tab algn="l" pos="2163600"/>
                <a:tab algn="l" pos="4834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- базисный учебный план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О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450720"/>
                <a:tab algn="l" pos="816120"/>
                <a:tab algn="l" pos="2163600"/>
                <a:tab algn="l" pos="4834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- программа формирования УУД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у учащихс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450720"/>
                <a:tab algn="l" pos="816120"/>
                <a:tab algn="l" pos="2163600"/>
                <a:tab algn="l" pos="4834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- программы отдельных учебных предметов, курсов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450720"/>
                <a:tab algn="l" pos="816120"/>
                <a:tab algn="l" pos="2163600"/>
                <a:tab algn="l" pos="4834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- ПРОГРАММА ДУХОВНО – НРАВСТВЕННОГО РАЗВИТИЯ , ВОСПИТАНИЯ ОБУЧАЮЩИХСЯ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на ступени начального общего образования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450720"/>
                <a:tab algn="l" pos="816120"/>
                <a:tab algn="l" pos="2163600"/>
                <a:tab algn="l" pos="4834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- программа формирования здорового и безопасного образа жизни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450720"/>
                <a:tab algn="l" pos="816120"/>
                <a:tab algn="l" pos="2163600"/>
                <a:tab algn="l" pos="4834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50720"/>
                <a:tab algn="l" pos="816120"/>
                <a:tab algn="l" pos="2163600"/>
                <a:tab algn="l" pos="4834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К рабочим учебным программам могут прикладываться и другие документы, которые необходимы учителю для полноценного и эффективного осуществления образовательного процесс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2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2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20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476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Программа духовно-нравственного воспитания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олжна быть направлена на обеспечение духовно-нравственного развития обучающихся в единстве урочной, внеурочной и внешкольной деятельности, в совместной педагогической работе ОУ, семьи и других институтов обществ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основу Программы должны быть положены ключевые воспитательные задачи, базовые национальные ценности российского обществ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ограмма должна предусматривать приобщение обучающихся к культурным ценностям своей этнической или социокультурной группы, базовым национальным ценностям российского общества, общечеловеческим ценностям в контексте формирования у них гражданской идентичности и обеспечивать:  создание системы воспитательных мероприятий, позволяющих обучающемуся осваивать и на практике использовать полученные знан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0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Средневековая Русь – православная вера, духовное единство народа. Ценности: честь, верность, соборность, самоотверженность, служение, любовь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Начало 18 в.- «человек государственный, слуга царю и Отечеству». Формирование человека-патриота, высокая нравственность, трудолюбие, любовь к наукам, служение Росси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9 век - идеал полезного государству и Отечеству гражданина. Воспитание благонадежных подданных, преданных и полезных монархии и Отечеству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После 1917 года – вера в коммунизм, беззаветное служение партии и советскому строю. Педагогическая задача: формирование советского человека-строителя коммунизм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0 в.- воспитание всесторонне развитой личности (примеры патриотизма, самопожертвования во имя будущего страны и народа, пренебрежение материальным во имя идеального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90-е гг. 20в. – педагогический идеал свободной в своем самоопределении личности, «освобожденной» от ценностей, национальных традиций, обязательств перед общество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837720" y="228600"/>
            <a:ext cx="8115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aramond"/>
              </a:rPr>
              <a:t>Национальный воспитательный идеал — высшая цель образования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666520" y="671400"/>
            <a:ext cx="62866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Garamond"/>
              </a:rPr>
              <a:t>Современный национальный воспитательный идеал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82267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ысоконравственный, творческий, компетентный гражданин России, принимающий судьбу Отечества как свою личную, осознающий ответственность за настоящее и будущее своей страны, укорененный в духовных и культурных традициях российского народа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4</cp:lastModifiedBy>
  <dcterms:modified xsi:type="dcterms:W3CDTF">2011-02-13T17:01:01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