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E86-DCD3-4565-B12D-F9B8E689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657-A812-4477-A16A-E4B912FC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07A-FF15-4A52-8675-35559E49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7D8-5E53-4E39-9F44-554B46A1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EDAA-6121-4E87-BE00-F7CF5BF1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4A23-C102-435F-B149-4F5AD84D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D23E-9FD4-4917-BCF3-3B8AC85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3C32-280A-4BDC-BF17-502B68D4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804-F5BD-40C5-A9A3-A0CC6DE5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1C63-67E4-4960-86CC-62BDCF34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8065-35A4-4B32-ACEC-CB096572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660-C8FC-4A49-9786-EFECFBA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E760-FFE1-4895-806E-4C250A88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2446-5D06-4BF7-A995-1AF634B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FB3A-66CD-42A7-8DD4-438C6134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A206-7337-45B3-964D-61A1594F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CF80-C7E0-4938-860C-C32EE798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ABD-362A-480D-812F-88589D3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2A6-670F-4110-ABF5-6A712D46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636-AEBD-4D61-A512-146DAF06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615-0303-44C1-9EBA-054EF302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4E8-A914-402C-BBFD-3DA63088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4D3-6AF4-4225-A7BD-E330F8C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FD4-9D87-4E78-AB2D-3F7E1B66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B6CD-2B40-4C36-95AA-820536764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8CDF-E309-4EFF-AE7B-CB85698F0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Дымковская игруш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55344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403056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353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092320" cy="2252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2259000" cy="2814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этапное выполнение работ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241800" cy="4465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3384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2556720"/>
            <a:ext cx="730080" cy="55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3457800" cy="5113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24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-207000"/>
            <a:ext cx="2530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771640" y="620640"/>
            <a:ext cx="3888000" cy="547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стория дымковской игруш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612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Дымковская игруш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оригинальный глиняный промысел, зародившийся и сохранившийся исключительно на территории Вятского края (Кировской области), в слободе Дымково, где издавна селились печники и гончар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5185080" cy="3659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27080"/>
            <a:ext cx="410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тория дымковской игрушки насчитывает около 400 лет. Первыми дымковскими игрушками были свистульки в виде коней, баранов, козлов и уточе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545080" cy="3778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664920"/>
            <a:ext cx="1835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рошлом изготовление дымковской игрушки было семейным промыслом. В летние месяцы заготавливали глину, толкли вручную или растирали в краскотерках комовой мел, в остальное время - лепили, сушили, обжигали изделия, ближе к «Свистунье» белили мелом, разведенным на снятом коровьем молоке, красили яичными красками, украшали ромбиками золотистой потали. А весной на лодках привозили дымковскую игрушку в город на праздник, радуя своим искусством детей и взросл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969080" cy="309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000"/>
            <a:ext cx="244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конце 19 века промысел пришел в упадок. В 30-е годы 20 столетия в рамках возрождения некоторых народных промыслов была оказана поддержка возрождению и промысла дымковской игруш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рушка лепится из местной красной глины по частям (в отличие от других игрушек, которые лепятся из единого куска глины). Перед обжигом игрушки высушивают и только потом обжигают. Раньше игрушки обжигали в настоящей русской печи, теперь обжигаются в муфельных печ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3673800" cy="2736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3672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433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ожженная дымковская игрушка имеет красно-коричневый, обыкновенный для глины цвет. Для побелки используется смесь мела и молока, в которую окунают дымковскую игрушку. При этом поверхность покрывается плотным белым слоем. Для раскрашивания использовали сухие краски, растертые на яйце. Сейчас используется гуашь, разведенная на яй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38472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15000"/>
            <a:ext cx="2890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ымковской игрушке чужды полутона и незаметные переходы. Неразбавленные яркие краски создают ощущение радости жизни. Узоры имеют простые геометрические формы: круги, клетку, волны. В целом в каждой игрушке может быть использовано до 10 цве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3673800" cy="3025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638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-889200"/>
            <a:ext cx="13064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819600" cy="3070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062240" cy="3138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ымковская лошад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чень стройный и красивы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челкой и пушистой гривой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ет плавать и скака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т овес, умеет ржат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ыгнет в воду и в огонь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ный человеку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401976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6:53:56Z</dcterms:created>
  <dc:creator>sv</dc:creator>
  <dc:description/>
  <dc:language>en-US</dc:language>
  <cp:lastModifiedBy>sv</cp:lastModifiedBy>
  <dcterms:modified xsi:type="dcterms:W3CDTF">2012-10-06T19:09:19Z</dcterms:modified>
  <cp:revision>15</cp:revision>
  <dc:subject/>
  <dc:title>Дымковская игрушка</dc:title>
</cp:coreProperties>
</file>