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BE9-6830-4211-9A2F-E2FB2544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BFE-AF1A-4541-BCBF-EC1CD46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E31-05B1-49C3-80F5-EE86C251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E4F-6929-401C-83BB-55D8934E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3B83-FC77-43BA-829C-4F6675D0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1998-5962-44A1-A7D2-41B3552D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4090-8768-42F4-9989-32A08838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9E6E-BC01-43A1-9A5B-0F21CC3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C786-EB29-4596-AD96-3F25D813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0A8F-0CF6-48FE-86D2-79568E23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059D-38C9-4F2F-9481-88524149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1A3-E84A-4F6C-94C8-F0AC64F3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3135-7AFC-410C-AA4C-B859258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2833-7B6F-4615-A2FD-BC36932A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9091-083F-4E14-9108-9A753984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7ABD-75F5-4A2D-A4A9-654BB6AF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656B-B03F-4A1C-9FBC-8BAB7C6D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385-2FAE-4679-B955-B50BA9EA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DE8-6CAA-40D2-9826-D25C5D95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0D5-5A60-4CD7-BC99-57D00646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AF5-863C-4620-B7D1-A000FB5B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18C-792D-4C8C-AF35-D05F79F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1CC-8B20-4F0C-A31C-BC9B9F1A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934-7971-4605-B602-A36746C6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DCCD-75F6-49A2-82FD-0699E1398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11BD-8FDD-4B86-B4E7-D70F69B94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40305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53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092320" cy="2252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2259000" cy="2814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этапное выполнение рабо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241800" cy="4465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38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2556720"/>
            <a:ext cx="730080" cy="55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3457800" cy="5113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24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-207000"/>
            <a:ext cx="2530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888000" cy="547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стория дымковской игруш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612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ымковская игруш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оригинальный глиняный промысел, зародившийся и сохранившийся исключительно на территории Вятского края (Кировской области), в слободе Дымково, где издавна селились печники и гончар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5185080" cy="3659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-127080"/>
            <a:ext cx="410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стория дымковской игрушки насчитывает около 400 лет. Первыми дымковскими игрушками были свистульки в виде коней, баранов, козлов и уточе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77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664920"/>
            <a:ext cx="1835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рошлом изготовление дымковской игрушки было семейным промыслом. В летние месяцы заготавливали глину, толкли вручную или растирали в краскотерках комовой мел, в остальное время - лепили, сушили, обжигали изделия, ближе к «Свистунье» белили мелом, разведенным на снятом коровьем молоке, красили яичными красками, украшали ромбиками золотистой потали. А весной на лодках привозили дымковскую игрушку в город на праздник, радуя своим искусством детей и взросл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69080" cy="309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000"/>
            <a:ext cx="244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онце 19 века промысел пришел в упадок. В 30-е годы 20 столетия в рамках возрождения некоторых народных промыслов была оказана поддержка возрождению и промысла дымковской игруш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ушка лепится из местной красной глины по частям (в отличие от других игрушек, которые лепятся из единого куска глины). Перед обжигом игрушки высушивают и только потом обжигают. Раньше игрушки обжигали в настоящей русской печи, теперь обжигаются в муфельных печ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3673800" cy="2736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367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433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ожженная дымковская игрушка имеет красно-коричневый, обыкновенный для глины цвет. Для побелки используется смесь мела и молока, в которую окунают дымковскую игрушку. При этом поверхность покрывается плотным белым слоем. Для раскрашивания использовали сухие краски, растертые на яйце. Сейчас используется гуашь, разведенная на яй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38472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15000"/>
            <a:ext cx="2890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ымковской игрушке чужды полутона и незаметные переходы. Неразбавленные яркие краски создают ощущение радости жизни. Узоры имеют простые геометрические формы: круги, клетку, волны. В целом в каждой игрушке может быть использовано до 10 цве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673800" cy="302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638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-889200"/>
            <a:ext cx="13064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819600" cy="3070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062240" cy="3138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ымковская лошад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чень стройный и красив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челкой и пушистой гривой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плавать и скака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т овес, умеет ржат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ыгнет в воду и в огонь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ный человеку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401976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6:53:56Z</dcterms:created>
  <dc:creator>sv</dc:creator>
  <dc:description/>
  <dc:language>en-US</dc:language>
  <cp:lastModifiedBy>sv</cp:lastModifiedBy>
  <dcterms:modified xsi:type="dcterms:W3CDTF">2012-10-06T19:09:19Z</dcterms:modified>
  <cp:revision>15</cp:revision>
  <dc:subject/>
  <dc:title>Дымковская игрушка</dc:title>
</cp:coreProperties>
</file>