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BE8-9FE9-4C21-A40E-B956144D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464-BFC1-4612-98FA-74D7BE2F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922-0121-4AFE-8EB1-DDB89F72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AF9-D738-41F8-943F-772757F3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E8D0-C4B2-41A4-B199-499EC072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230A-9398-440D-BE1C-23D76155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02E6-BD10-492D-B1CB-3BC47CB1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A49F-3BC4-422A-A9E0-9DE0E33F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FEFB-54C6-41BC-88F4-1BF5EB8D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3B97-E1A8-46CC-82CE-9B6AC4F2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AF8A-BA47-434B-BB21-E9F5B4D6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D2E-46F6-46B7-ABE3-2B7D4A6D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8488-33AA-428B-BE74-4ADB07A5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905B-ECF6-462C-84EF-B265BD6D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CF6C-A9E5-42CB-A57C-D17C78EB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0867-DE34-483A-9F9D-E3A6F72A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6B07-6C88-4246-A4CC-B974D7F4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314-1888-4613-9AE3-2F78A73A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5DB-DEAA-4B82-8CC2-6E084F67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CA2-9E22-4B1C-8FCD-E78990E2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1EC-094E-4C63-A996-D2511958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171-6D05-4899-84DA-ABC0E2E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824-63AB-4718-9833-834BA8A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8FE-A274-4ABA-88DD-962DE951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42EC-5E98-4E6C-B8AB-50F781102E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AB96-8085-4E8C-BC18-61D469297B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66"/>
                </a:solidFill>
                <a:latin typeface="Arial"/>
              </a:rPr>
              <a:t>Проект по теме «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Оценка экологического состояния леса по асимметрии листьев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66"/>
                </a:solidFill>
                <a:latin typeface="Arial"/>
              </a:rPr>
              <a:t>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        </a:t>
            </a:r>
            <a:r>
              <a:rPr b="1" lang="ru-RU" sz="2400" spc="-1" strike="noStrike">
                <a:solidFill>
                  <a:srgbClr val="ffff66"/>
                </a:solidFill>
                <a:latin typeface="Verdana"/>
              </a:rPr>
              <a:t>Выполнила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: Агибалова Елена Юрьев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               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ученица 8 класс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ffff66"/>
                </a:solidFill>
                <a:latin typeface="Verdana"/>
              </a:rPr>
              <a:t>Руководитель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: Тюленева Елена Александров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Yann Tiersen - 8 mm.mp3" descr=""/>
          <p:cNvPicPr/>
          <p:nvPr/>
        </p:nvPicPr>
        <p:blipFill>
          <a:blip r:embed="rId1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49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змерения лис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Содержимое 3" descr=""/>
          <p:cNvPicPr/>
          <p:nvPr/>
        </p:nvPicPr>
        <p:blipFill>
          <a:blip r:embed="rId1"/>
          <a:stretch/>
        </p:blipFill>
        <p:spPr>
          <a:xfrm>
            <a:off x="3481560" y="2499480"/>
            <a:ext cx="2180880" cy="27306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"/>
          <p:cNvPicPr/>
          <p:nvPr/>
        </p:nvPicPr>
        <p:blipFill>
          <a:blip r:embed="rId2"/>
          <a:stretch/>
        </p:blipFill>
        <p:spPr>
          <a:xfrm>
            <a:off x="3371760" y="1628640"/>
            <a:ext cx="3409920" cy="4848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66"/>
                </a:solidFill>
                <a:latin typeface="Verdana"/>
              </a:rPr>
              <a:t>Таблица измерений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30200"/>
                <a:gridCol w="622440"/>
                <a:gridCol w="695160"/>
                <a:gridCol w="831960"/>
                <a:gridCol w="830160"/>
                <a:gridCol w="976320"/>
                <a:gridCol w="974880"/>
                <a:gridCol w="966600"/>
                <a:gridCol w="933480"/>
                <a:gridCol w="990720"/>
                <a:gridCol w="892080"/>
              </a:tblGrid>
              <a:tr h="378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:22.08.20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ель: Агибалова Ел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сбора: площадка №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 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Ширина половинок листа,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лина 2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жилки,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асстояние между основаниями 1 и 2 жилок,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асстояние между концами 1 и 2 жилок,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гол между центральной и 2 жилкой, граду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Подобные вычисления производят по каждому признаку (от 1 до 5). В результате получается 5 значений</a:t>
            </a:r>
            <a:r>
              <a:rPr b="0" i="1" lang="en-US" sz="4000" spc="-1" strike="noStrike">
                <a:solidFill>
                  <a:srgbClr val="ffff66"/>
                </a:solidFill>
                <a:latin typeface="Arial"/>
              </a:rPr>
              <a:t> Y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для одного листа. Такие же вычисления производят для каждого листа в отдельности, продолжая записывать результаты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аблиц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74720"/>
                <a:gridCol w="1135080"/>
                <a:gridCol w="1216080"/>
                <a:gridCol w="1208160"/>
                <a:gridCol w="1098360"/>
                <a:gridCol w="1230480"/>
                <a:gridCol w="2481120"/>
              </a:tblGrid>
              <a:tr h="630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Относительное различие на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72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=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Y</a:t>
                      </a:r>
                      <a:r>
                        <a:rPr b="0" lang="ru-RU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ru-RU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ru-RU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ru-RU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ru-RU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=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en-US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+ Z</a:t>
                      </a:r>
                      <a:r>
                        <a:rPr b="0" lang="en-US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+... +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,57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0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Для данного показателя разработана пятибалльная шкала отклонения от нормы (Захаров В.М., Крысанов Е.Ю., 1996.), в которой 1 балл - условная норма, а 5 балл - критическое состояни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2057400"/>
          <a:ext cx="8229600" cy="4572000"/>
        </p:xfrm>
        <a:graphic>
          <a:graphicData uri="http://schemas.openxmlformats.org/drawingml/2006/table">
            <a:tbl>
              <a:tblPr/>
              <a:tblGrid>
                <a:gridCol w="1739880"/>
                <a:gridCol w="648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оказателя асимметрич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0,0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-0,0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0-0,0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5-0,0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                  </a:t>
            </a:r>
            <a:r>
              <a:rPr b="0" lang="ru-RU" sz="4800" spc="-1" strike="noStrike" u="sng">
                <a:solidFill>
                  <a:srgbClr val="ffff66"/>
                </a:solidFill>
                <a:uFillTx/>
                <a:latin typeface="Arial"/>
              </a:rPr>
              <a:t>Результаты</a:t>
            </a:r>
            <a:br>
              <a:rPr sz="4800"/>
            </a:br>
            <a:br>
              <a:rPr sz="4800"/>
            </a:b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Для наглядного представления результатов и удобства дальнейшей интерпретации данных используем метод построения столбчатых диаграмм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Диаграмма участка №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228600" y="1447920"/>
          <a:ext cx="868680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Диаграмма участка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457200" y="1447920"/>
          <a:ext cx="8229600" cy="47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Выводы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На площадке №1 все практически деревья имеют показатель – один бал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На площадке №2, ближайшей к поселку, в целом состояние  деревьев хуже, чем на удаленной  на основании показателей изменений  </a:t>
            </a:r>
            <a:r>
              <a:rPr b="1" i="1" lang="ru-RU" sz="2000" spc="-1" strike="noStrike">
                <a:solidFill>
                  <a:srgbClr val="ffff66"/>
                </a:solidFill>
                <a:latin typeface="Verdana"/>
              </a:rPr>
              <a:t>флуктуирующей асимметрии</a:t>
            </a: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  (деревьев с количеством баллов 1-2, с 2 баллами 5, с 3-мя -1, с 4-мя - 2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Учитывая, что на площадке №2 асимметрия листьев выше по баллам, можно сделать вывод о повышенном антропогенном воздействии в ближнем лесном массиве, в сравнении с более удаленной территори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Какой именно из антропогенных факторов имеет здесь первостепенное значение - данным методом определить невозможно. Можно лишь предположить, что первостепенную роль здесь играет чрезмерное уплотнение почв, вследствие вытаптывания, повышенные концентрации в воздухе окислов серы и азота, угарного газа, непосредственно повреждают растения, ухудшая состояние лес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66"/>
                </a:solidFill>
                <a:latin typeface="Verdana"/>
              </a:rPr>
              <a:t>Цель исследования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– выявить зависимость антропогенной нагрузки на жизненное состояние леса по берёзе, предложить систему мер, направленных на снижение этого  уровн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Практическое использование результатов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Verdana"/>
              </a:rPr>
              <a:t>собранные данные занесены в банк информации исследуемой территори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Verdana"/>
              </a:rPr>
              <a:t>выпущены листовки о создании устойчивых ландшафто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Verdana"/>
              </a:rPr>
              <a:t>проведено ряд бесед с детьми на темы: «Человек и лес»,  «Охраняемые растения и животные Курской области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Verdana"/>
              </a:rPr>
              <a:t>продолжается операция «Мой чистый лес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Планета в наших руках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Yann Tiersen - 8 mm.mp3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549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Литерату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1. В.Ф.Протасов. Экология, здоровье и охрана окружающей среды в России. Учебное и справочное пособие. М., «Финансы и статистика», 1999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2. Методическое пособие - А.С. Боголюбов, Ю.А.Буйволов, М.В.Кравченко   «Экосистема», , 2002го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3. Г.А.Шестакова, А.Б. Стрельцова и Е.Л.Константинова «Методика сбора и обработки материала для оценки стабильности развития березы повислой». Калуга, 1997 , «Методика сбора и обработки материала для оценки стабильности развития (по 8 видам растений)» Калуга, 1997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Задачи исследования: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1) Выбор площадок ;                                            2) Техника отбора проб;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3)Проведения измерений листьев на примере  березы и расчета асимметрии.   4) Оценка и интерпретация данных, представление результатов исследова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5) Создать «банк» информации исследуемой территор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6) Оказать посильную помощь в создании устойчивых ландшафтов на исследованной территор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Гипотеза</a:t>
            </a:r>
            <a:r>
              <a:rPr b="0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сли концентрация вредных веществ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повысится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, источником которых являются газы угольной котельной в атмосферном воздухе, степень уплотнения почвы (в результате вытаптывания), наличие свалок увеличится, то жизненно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состояни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леса ухудши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Методика исследовани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ff66"/>
                </a:solidFill>
                <a:latin typeface="Verdana"/>
              </a:rPr>
              <a:t>Методика исследования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 взята  из методического пособия А.С. Боголюбов, Ю.А.Буйволов, М.В.Кравченко   «Экосистема», 2002го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Применяется  методика оценки экологического состояния местности, в частности лесов, по интегральным характеристикам асимметрии листьев деревьев. В основу методики положена теория о том, что различие между левой и правой половинами листа коррелирует со степенью общей нарушенности окружающей сре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циркуль-измеритель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линейка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транспортир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бланки для записей результатов измерений и счетное оборудова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Компьюте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План работ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Verdana"/>
              </a:rPr>
              <a:t>1.Полевая часть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 (сбор полевого материала)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2. </a:t>
            </a:r>
            <a:r>
              <a:rPr b="1" lang="ru-RU" sz="3600" spc="-1" strike="noStrike">
                <a:solidFill>
                  <a:srgbClr val="ffff66"/>
                </a:solidFill>
                <a:latin typeface="Verdana"/>
              </a:rPr>
              <a:t>Лабораторная работа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 - измерения и расчет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Выбор площадки и отбор деревьев для проведения измерени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Площадка для изучения жизненного состояния деревьев должна находиться в достаточно обширном массиве леса, площадью - не менее 1 га (участок 100 на 100 м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Первая площадка располагается в глубине лесного массива и не граничить с опушками, лесными дорогами или тропинками. Вторая располагается на территории воинской части рядом с котельной,  работающей на угле круглый год, в 200 м находится железная дорога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Сбор полевого материала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Объекты исследов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Поскольку  одним из наиболее распространенных видов деревьев урочища Клюква является береза, в качестве основного объекта для изучения в рамках данной работы предлагается использовать один из ее видов:</a:t>
            </a: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 берёзу провислую,</a:t>
            </a: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 или бородавчату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Время сбо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Провожу сбор материала после завершения интенсивного роста листьев до периода опадения листвы- 15 авгус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Выбор растен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Сбор листьев провожу с растений, находящихся в примерно одинаковых экологических условиях по уровню освещенности, влажности, типу биотоп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Для анализа использую только средневозрастные растения, избегая молодые экземпляры и стары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Сбор листье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Сбор листьев произвожу с 10 близко растущих деревьев - по 10 листьев с каждого дерева, всего - 100 листьев с одной площадки. Следует брать несколько больше листьев с площадки, на случай попадания поврежденных листье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3:57:49Z</dcterms:created>
  <dc:creator>я</dc:creator>
  <dc:description/>
  <dc:language>en-US</dc:language>
  <cp:lastModifiedBy>КАБ_Химия</cp:lastModifiedBy>
  <dcterms:modified xsi:type="dcterms:W3CDTF">2012-02-17T09:55:06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