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93E-5799-4D56-9CF2-A735561D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83E-8772-40DA-B24B-13FFF624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55A-B5E5-4F0B-9087-FF86B0E5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8E3-6832-4104-B747-ED59DF7B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2C55-80FB-4862-9E10-2A966540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D863-3343-438E-B244-59858905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CD03-0721-4B8D-B7FD-3C5AE328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E28E-66E4-4923-BB98-6C2DA213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F1FE-20B6-4AC1-9F1D-ABF214A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0F3C-F1E0-418E-9B76-834B1C4F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6A5C-6E73-4CCA-AE39-5CA4ECE1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CC5-A770-4542-AE2A-94EF38C3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AAE2-4871-4A5F-8819-27B527EC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42FD-9553-490F-99F6-ECD32F4A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2B88-9CBD-43B8-9214-6D2709A5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C452-C5C2-42AD-8591-5A94EDD6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6874-415D-453D-A662-02E0C908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418-8A86-431C-8B7C-B3DA9552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EA6-7D66-45F2-8505-85858394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322-5F63-4C51-8F69-FC445140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153-3F0F-4AC1-BB59-2C391CAB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F5C-2838-4BF1-A913-3ACDCB03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046-ED70-4477-8325-69B65649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CD7-67D5-4DEA-AD1E-FBDFC9CB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78B5-69E6-4581-AB0E-1475AABC39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4B3F-1738-4AB3-BF3B-38B0C9406A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66"/>
                </a:solidFill>
                <a:latin typeface="Arial"/>
              </a:rPr>
              <a:t>Проект по теме «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Оценка экологического состояния леса по асимметрии листьев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66"/>
                </a:solidFill>
                <a:latin typeface="Arial"/>
              </a:rPr>
              <a:t>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        </a:t>
            </a:r>
            <a:r>
              <a:rPr b="1" lang="ru-RU" sz="2400" spc="-1" strike="noStrike">
                <a:solidFill>
                  <a:srgbClr val="ffff66"/>
                </a:solidFill>
                <a:latin typeface="Verdana"/>
              </a:rPr>
              <a:t>Выполнила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: Агибалова Елена Юрьев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               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ученица 8 класс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ffff66"/>
                </a:solidFill>
                <a:latin typeface="Verdana"/>
              </a:rPr>
              <a:t>Руководитель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: Тюленева Елена Александровн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Yann Tiersen - 8 mm.mp3" descr=""/>
          <p:cNvPicPr/>
          <p:nvPr/>
        </p:nvPicPr>
        <p:blipFill>
          <a:blip r:embed="rId1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49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змерения лис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Содержимое 3" descr=""/>
          <p:cNvPicPr/>
          <p:nvPr/>
        </p:nvPicPr>
        <p:blipFill>
          <a:blip r:embed="rId1"/>
          <a:stretch/>
        </p:blipFill>
        <p:spPr>
          <a:xfrm>
            <a:off x="3481560" y="2499480"/>
            <a:ext cx="2180880" cy="27306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"/>
          <p:cNvPicPr/>
          <p:nvPr/>
        </p:nvPicPr>
        <p:blipFill>
          <a:blip r:embed="rId2"/>
          <a:stretch/>
        </p:blipFill>
        <p:spPr>
          <a:xfrm>
            <a:off x="3371760" y="1628640"/>
            <a:ext cx="3409920" cy="4848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66"/>
                </a:solidFill>
                <a:latin typeface="Verdana"/>
              </a:rPr>
              <a:t>Таблица измерений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30200"/>
                <a:gridCol w="622440"/>
                <a:gridCol w="695160"/>
                <a:gridCol w="831960"/>
                <a:gridCol w="830160"/>
                <a:gridCol w="976320"/>
                <a:gridCol w="974880"/>
                <a:gridCol w="966600"/>
                <a:gridCol w="933480"/>
                <a:gridCol w="990720"/>
                <a:gridCol w="892080"/>
              </a:tblGrid>
              <a:tr h="378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:22.08.20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ель: Агибалова Ел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сбора: площадка №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 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Ширина половинок листа,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лина 2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жилки,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асстояние между основаниями 1 и 2 жилок,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асстояние между концами 1 и 2 жилок,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гол между центральной и 2 жилкой, граду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Подобные вычисления производят по каждому признаку (от 1 до 5). В результате получается 5 значений</a:t>
            </a:r>
            <a:r>
              <a:rPr b="0" i="1" lang="en-US" sz="4000" spc="-1" strike="noStrike">
                <a:solidFill>
                  <a:srgbClr val="ffff66"/>
                </a:solidFill>
                <a:latin typeface="Arial"/>
              </a:rPr>
              <a:t> Y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для одного листа. Такие же вычисления производят для каждого листа в отдельности, продолжая записывать результаты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аблиц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74720"/>
                <a:gridCol w="1135080"/>
                <a:gridCol w="1216080"/>
                <a:gridCol w="1208160"/>
                <a:gridCol w="1098360"/>
                <a:gridCol w="1230480"/>
                <a:gridCol w="2481120"/>
              </a:tblGrid>
              <a:tr h="630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Относительное различие на 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72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 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=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Y</a:t>
                      </a:r>
                      <a:r>
                        <a:rPr b="0" lang="ru-RU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ru-RU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ru-RU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ru-RU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ru-RU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4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=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en-US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+ Z</a:t>
                      </a:r>
                      <a:r>
                        <a:rPr b="0" lang="en-US" sz="1600" spc="-1" strike="noStrike" u="sng" baseline="-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+... +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,57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0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Для данного показателя разработана пятибалльная шкала отклонения от нормы (Захаров В.М., Крысанов Е.Ю., 1996.), в которой 1 балл - условная норма, а 5 балл - критическое состояни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2057400"/>
          <a:ext cx="8229600" cy="4572000"/>
        </p:xfrm>
        <a:graphic>
          <a:graphicData uri="http://schemas.openxmlformats.org/drawingml/2006/table">
            <a:tbl>
              <a:tblPr/>
              <a:tblGrid>
                <a:gridCol w="1739880"/>
                <a:gridCol w="648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оказателя асимметрич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0,0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-0,0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0-0,0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5-0,0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                  </a:t>
            </a:r>
            <a:r>
              <a:rPr b="0" lang="ru-RU" sz="4800" spc="-1" strike="noStrike" u="sng">
                <a:solidFill>
                  <a:srgbClr val="ffff66"/>
                </a:solidFill>
                <a:uFillTx/>
                <a:latin typeface="Arial"/>
              </a:rPr>
              <a:t>Результаты</a:t>
            </a:r>
            <a:br>
              <a:rPr sz="4800"/>
            </a:br>
            <a:br>
              <a:rPr sz="4800"/>
            </a:b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Для наглядного представления результатов и удобства дальнейшей интерпретации данных используем метод построения столбчатых диаграмм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Диаграмма участка №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228600" y="1447920"/>
          <a:ext cx="868680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Диаграмма участка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457200" y="1447920"/>
          <a:ext cx="8229600" cy="47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Выводы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На площадке №1 все практически деревья имеют показатель – один бал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На площадке №2, ближайшей к поселку, в целом состояние  деревьев хуже, чем на удаленной  на основании показателей изменений  </a:t>
            </a:r>
            <a:r>
              <a:rPr b="1" i="1" lang="ru-RU" sz="2000" spc="-1" strike="noStrike">
                <a:solidFill>
                  <a:srgbClr val="ffff66"/>
                </a:solidFill>
                <a:latin typeface="Verdana"/>
              </a:rPr>
              <a:t>флуктуирующей асимметрии</a:t>
            </a: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  (деревьев с количеством баллов 1-2, с 2 баллами 5, с 3-мя -1, с 4-мя - 2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Учитывая, что на площадке №2 асимметрия листьев выше по баллам, можно сделать вывод о повышенном антропогенном воздействии в ближнем лесном массиве, в сравнении с более удаленной территори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Verdana"/>
              </a:rPr>
              <a:t>Какой именно из антропогенных факторов имеет здесь первостепенное значение - данным методом определить невозможно. Можно лишь предположить, что первостепенную роль здесь играет чрезмерное уплотнение почв, вследствие вытаптывания, повышенные концентрации в воздухе окислов серы и азота, угарного газа, непосредственно повреждают растения, ухудшая состояние лес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66"/>
                </a:solidFill>
                <a:latin typeface="Verdana"/>
              </a:rPr>
              <a:t>Цель исследования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– выявить зависимость антропогенной нагрузки на жизненное состояние леса по берёзе, предложить систему мер, направленных на снижение этого  уровн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Verdana"/>
              </a:rPr>
              <a:t>Практическое использование результатов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Verdana"/>
              </a:rPr>
              <a:t>собранные данные занесены в банк информации исследуемой территори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Verdana"/>
              </a:rPr>
              <a:t>выпущены листовки о создании устойчивых ландшафто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Verdana"/>
              </a:rPr>
              <a:t>проведено ряд бесед с детьми на темы: «Человек и лес»,  «Охраняемые растения и животные Курской области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Verdana"/>
              </a:rPr>
              <a:t>продолжается операция «Мой чистый лес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Планета в наших руках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Yann Tiersen - 8 mm.mp3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549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66"/>
                </a:solidFill>
                <a:latin typeface="Verdana"/>
              </a:rPr>
              <a:t>Литерату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1. В.Ф.Протасов. Экология, здоровье и охрана окружающей среды в России. Учебное и справочное пособие. М., «Финансы и статистика», 1999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2. Методическое пособие - А.С. Боголюбов, Ю.А.Буйволов, М.В.Кравченко   «Экосистема», , 2002го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3. Г.А.Шестакова, А.Б. Стрельцова и Е.Л.Константинова «Методика сбора и обработки материала для оценки стабильности развития березы повислой». Калуга, 1997 , «Методика сбора и обработки материала для оценки стабильности развития (по 8 видам растений)» Калуга, 1997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4400" spc="-1" strike="noStrike">
                <a:solidFill>
                  <a:srgbClr val="ffff66"/>
                </a:solidFill>
                <a:latin typeface="Verdana"/>
              </a:rPr>
              <a:t>Задачи исследования: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1) Выбор площадок ;                                            2) Техника отбора проб;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3)Проведения измерений листьев на примере  березы и расчета асимметрии.   4) Оценка и интерпретация данных, представление результатов исследова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5) Создать «банк» информации исследуемой территори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6) Оказать посильную помощь в создании устойчивых ландшафтов на исследованной территор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Гипотеза</a:t>
            </a:r>
            <a:r>
              <a:rPr b="0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сли концентрация вредных веществ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повысится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, источником которых являются газы угольной котельной в атмосферном воздухе, степень уплотнения почвы (в результате вытаптывания), наличие свалок увеличится, то жизненно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состояни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леса ухудши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Методика исследовани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ff66"/>
                </a:solidFill>
                <a:latin typeface="Verdana"/>
              </a:rPr>
              <a:t>Методика исследования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 взята  из методического пособия А.С. Боголюбов, Ю.А.Буйволов, М.В.Кравченко   «Экосистема», 2002го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Применяется  методика оценки экологического состояния местности, в частности лесов, по интегральным характеристикам асимметрии листьев деревьев. В основу методики положена теория о том, что различие между левой и правой половинами листа коррелирует со степенью общей нарушенности окружающей сре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циркуль-измеритель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линейка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транспортир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бланки для записей результатов измерений и счетное оборудова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Компьюте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План работ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Verdana"/>
              </a:rPr>
              <a:t>1.Полевая часть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 (сбор полевого материала)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2. </a:t>
            </a:r>
            <a:r>
              <a:rPr b="1" lang="ru-RU" sz="3600" spc="-1" strike="noStrike">
                <a:solidFill>
                  <a:srgbClr val="ffff66"/>
                </a:solidFill>
                <a:latin typeface="Verdana"/>
              </a:rPr>
              <a:t>Лабораторная работа</a:t>
            </a:r>
            <a:r>
              <a:rPr b="0" lang="ru-RU" sz="3600" spc="-1" strike="noStrike">
                <a:solidFill>
                  <a:srgbClr val="ffff66"/>
                </a:solidFill>
                <a:latin typeface="Verdana"/>
              </a:rPr>
              <a:t> - измерения и расчет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66"/>
                </a:solidFill>
                <a:uFillTx/>
                <a:latin typeface="Arial"/>
              </a:rPr>
              <a:t>Выбор площадки и отбор деревьев для проведения измерени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Площадка для изучения жизненного состояния деревьев должна находиться в достаточно обширном массиве леса, площадью - не менее 1 га (участок 100 на 100 м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Первая площадка располагается в глубине лесного массива и не граничить с опушками, лесными дорогами или тропинками. Вторая располагается на территории воинской части рядом с котельной,  работающей на угле круглый год, в 200 м находится железная дорога</a:t>
            </a:r>
            <a:r>
              <a:rPr b="0" lang="ru-RU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Сбор полевого материала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Объекты исследов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Поскольку  одним из наиболее распространенных видов деревьев урочища Клюква является береза, в качестве основного объекта для изучения в рамках данной работы предлагается использовать один из ее видов:</a:t>
            </a: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 берёзу провислую,</a:t>
            </a: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 или бородавчату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Время сбо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Провожу сбор материала после завершения интенсивного роста листьев до периода опадения листвы- 15 авгус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Выбор растен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Сбор листьев провожу с растений, находящихся в примерно одинаковых экологических условиях по уровню освещенности, влажности, типу биотоп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Для анализа использую только средневозрастные растения, избегая молодые экземпляры и стары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Сбор листье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Verdana"/>
              </a:rPr>
              <a:t>Сбор листьев произвожу с 10 близко растущих деревьев - по 10 листьев с каждого дерева, всего - 100 листьев с одной площадки. Следует брать несколько больше листьев с площадки, на случай попадания поврежденных листье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3:57:49Z</dcterms:created>
  <dc:creator>я</dc:creator>
  <dc:description/>
  <dc:language>en-US</dc:language>
  <cp:lastModifiedBy>КАБ_Химия</cp:lastModifiedBy>
  <dcterms:modified xsi:type="dcterms:W3CDTF">2012-02-17T09:55:06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