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3AD-9EFA-40FC-ACC7-D86460F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673-A0DE-4E60-A504-9CD02B82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980-D005-4C7C-83EC-1B41A4C0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D67-6279-41FB-8AC1-509E7CA8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21CE-925A-49A8-B844-6ABF3F1C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2AE0-1FC4-4FA6-95E3-18A2980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DC0-200F-4FD2-ABC3-FC62C44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41F8-A500-4408-8D81-ECE3FE1B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E2E-38C2-42D5-811F-CB9B27C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8C44-89C1-4332-B6D6-AC9C6725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8AD5-B2C1-424C-BB06-B2AEA107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765-502B-4445-B010-1F0B190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970-522F-4B63-97A3-FB5596A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0E53-D1D2-4599-B914-F7FA1FC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3DD-D1EE-45A4-BD50-7B8BF49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DB6-318C-49A2-A49D-A44C267F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701A-D089-4A38-A786-CDC8B24A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E02-637D-4D8C-8BEA-2FCB15E9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C90-9561-495B-8B14-51CDEF7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4D9-D892-4105-9A0B-E685B2E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333-E07F-40BD-A7BF-F92CA0B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11D-9BAE-4157-811F-01AF915A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3D8-AE0B-4D49-9E71-1409E2D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12D-3702-470D-9D2C-A597485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A952-5610-4192-8A5C-9C8CE35FCAE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F8EC-298D-424B-BB44-A49F96C6FA1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95640" y="333360"/>
            <a:ext cx="4752720" cy="612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92360" y="765000"/>
            <a:ext cx="2376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114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Зоопарк</a:t>
            </a:r>
            <a:endParaRPr b="1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6560" y="692280"/>
            <a:ext cx="172908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7989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23720" y="2567160"/>
            <a:ext cx="1771920" cy="129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948360" y="2638440"/>
            <a:ext cx="1800360" cy="1222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948360" y="4675320"/>
            <a:ext cx="180036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39640" y="4221000"/>
            <a:ext cx="15145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908000" y="2565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ез труда        отдыха не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627280" y="4083120"/>
            <a:ext cx="3457440" cy="642600"/>
            <a:chOff x="2627280" y="4083120"/>
            <a:chExt cx="3457440" cy="642600"/>
          </a:xfrm>
        </p:grpSpPr>
        <p:sp>
          <p:nvSpPr>
            <p:cNvPr id="257" name=""/>
            <p:cNvSpPr/>
            <p:nvPr/>
          </p:nvSpPr>
          <p:spPr>
            <a:xfrm>
              <a:off x="262728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308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6072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926160" y="2516040"/>
            <a:ext cx="526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3213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213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08000" y="1606680"/>
            <a:ext cx="5112000" cy="4270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340000" y="112536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d60093"/>
                </a:solidFill>
                <a:latin typeface="Impact"/>
              </a:rPr>
              <a:t>Мир учебника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d60093"/>
              </a:solidFill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4603320" y="308628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Стр. 27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Упр. 53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419640" y="3645000"/>
            <a:ext cx="230472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Тес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684600" y="-76320"/>
            <a:ext cx="1725480" cy="2895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313320" y="4282920"/>
            <a:ext cx="2221200" cy="2041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85800" y="4746600"/>
            <a:ext cx="1905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862360" y="685800"/>
            <a:ext cx="34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cc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ЕМА УРОКА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057400"/>
            <a:ext cx="8215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22840" y="4572000"/>
            <a:ext cx="1496880" cy="16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86560" y="3235320"/>
            <a:ext cx="690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ДОПОЛН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838080" y="4572000"/>
            <a:ext cx="7399440" cy="1790640"/>
            <a:chOff x="838080" y="4572000"/>
            <a:chExt cx="7399440" cy="1790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838080" y="4648320"/>
              <a:ext cx="13035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743200" y="4648320"/>
              <a:ext cx="13032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029200" y="4572000"/>
              <a:ext cx="130320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934320" y="4572000"/>
              <a:ext cx="1303200" cy="17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1126800" y="2811600"/>
            <a:ext cx="668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УПРАЖНЕНИЕ № 58, СТРАНИЦА 28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Times New Roman"/>
              </a:rPr>
              <a:t>Выучить правило на стр. 26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0920" y="866880"/>
            <a:ext cx="64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7656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600" y="2122560"/>
            <a:ext cx="7290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В вольерах  л   тали п   пугаи  щеглы 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др   зды   сн   гири и дятлы.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3989520"/>
            <a:ext cx="8086320" cy="736560"/>
            <a:chOff x="539640" y="3989520"/>
            <a:chExt cx="8086320" cy="736560"/>
          </a:xfrm>
        </p:grpSpPr>
        <p:sp>
          <p:nvSpPr>
            <p:cNvPr id="119" name=""/>
            <p:cNvSpPr/>
            <p:nvPr/>
          </p:nvSpPr>
          <p:spPr>
            <a:xfrm>
              <a:off x="539640" y="4381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9640" y="452592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964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9440" y="39895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6560" y="452592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816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492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112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036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6400" y="40705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7856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888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39760" y="215568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472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20606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53080" y="20606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6360" y="316404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6720" y="314172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2960" y="31640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280" y="2708280"/>
            <a:ext cx="1512720" cy="73080"/>
            <a:chOff x="2843280" y="2708280"/>
            <a:chExt cx="1512720" cy="73080"/>
          </a:xfrm>
        </p:grpSpPr>
        <p:sp>
          <p:nvSpPr>
            <p:cNvPr id="139" name=""/>
            <p:cNvSpPr/>
            <p:nvPr/>
          </p:nvSpPr>
          <p:spPr>
            <a:xfrm>
              <a:off x="2843280" y="270828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3280" y="278136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27082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0560" y="270828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7893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789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3789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21463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тицы пели  св    стели  тр   щали  кажды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о – своему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4224240"/>
            <a:ext cx="5974920" cy="719280"/>
            <a:chOff x="1619280" y="4224240"/>
            <a:chExt cx="5974920" cy="719280"/>
          </a:xfrm>
        </p:grpSpPr>
        <p:sp>
          <p:nvSpPr>
            <p:cNvPr id="148" name=""/>
            <p:cNvSpPr/>
            <p:nvPr/>
          </p:nvSpPr>
          <p:spPr>
            <a:xfrm>
              <a:off x="1619280" y="476064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6760" y="42242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9892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892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764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200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200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2760" y="42400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7120" y="42400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22880" y="2133720"/>
            <a:ext cx="526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0160" y="213372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2768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852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2720" y="2779560"/>
            <a:ext cx="863640" cy="73080"/>
            <a:chOff x="2052720" y="2779560"/>
            <a:chExt cx="863640" cy="73080"/>
          </a:xfrm>
        </p:grpSpPr>
        <p:sp>
          <p:nvSpPr>
            <p:cNvPr id="163" name=""/>
            <p:cNvSpPr/>
            <p:nvPr/>
          </p:nvSpPr>
          <p:spPr>
            <a:xfrm>
              <a:off x="2052720" y="277956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52720" y="28526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32000" y="2781360"/>
            <a:ext cx="1799640" cy="73080"/>
            <a:chOff x="3132000" y="2781360"/>
            <a:chExt cx="1799640" cy="73080"/>
          </a:xfrm>
        </p:grpSpPr>
        <p:sp>
          <p:nvSpPr>
            <p:cNvPr id="166" name=""/>
            <p:cNvSpPr/>
            <p:nvPr/>
          </p:nvSpPr>
          <p:spPr>
            <a:xfrm>
              <a:off x="3132000" y="278136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2000" y="285444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48360" y="2781360"/>
            <a:ext cx="1799280" cy="73080"/>
            <a:chOff x="5148360" y="2781360"/>
            <a:chExt cx="1799280" cy="73080"/>
          </a:xfrm>
        </p:grpSpPr>
        <p:sp>
          <p:nvSpPr>
            <p:cNvPr id="169" name=""/>
            <p:cNvSpPr/>
            <p:nvPr/>
          </p:nvSpPr>
          <p:spPr>
            <a:xfrm>
              <a:off x="5148360" y="2781360"/>
              <a:ext cx="179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2854440"/>
              <a:ext cx="179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91780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5000" y="2146320"/>
            <a:ext cx="800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  з      парке мы видели и сл   на  и тигра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  м    двед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9640" y="4005360"/>
            <a:ext cx="8278560" cy="720720"/>
            <a:chOff x="539640" y="4005360"/>
            <a:chExt cx="8278560" cy="720720"/>
          </a:xfrm>
        </p:grpSpPr>
        <p:sp>
          <p:nvSpPr>
            <p:cNvPr id="174" name=""/>
            <p:cNvSpPr/>
            <p:nvPr/>
          </p:nvSpPr>
          <p:spPr>
            <a:xfrm>
              <a:off x="1692360" y="4381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2360" y="452592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640" y="450864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780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9440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416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708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0760" y="40053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8520" y="40766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0872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23000" y="40831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33308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2036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0000" y="215568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8480" y="306864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3416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95640" y="2707920"/>
            <a:ext cx="1223640" cy="73080"/>
            <a:chOff x="3995640" y="2707920"/>
            <a:chExt cx="1223640" cy="73080"/>
          </a:xfrm>
        </p:grpSpPr>
        <p:sp>
          <p:nvSpPr>
            <p:cNvPr id="193" name=""/>
            <p:cNvSpPr/>
            <p:nvPr/>
          </p:nvSpPr>
          <p:spPr>
            <a:xfrm>
              <a:off x="3995640" y="27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95640" y="270792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651640" y="27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27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716280"/>
            <a:ext cx="1729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62360" y="685800"/>
            <a:ext cx="34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cc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ЕМА УРОКА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2057400"/>
            <a:ext cx="8215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22840" y="4572000"/>
            <a:ext cx="1496880" cy="1692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86560" y="3235320"/>
            <a:ext cx="690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ДОПОЛН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6880" y="2612880"/>
            <a:ext cx="859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Дополнения, которые относятся к одному и тому ж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лену предложения и отвечают на один и тот ж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вопрос, называются однородными дополнениям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042920" y="1773360"/>
            <a:ext cx="2930760" cy="1009800"/>
            <a:chOff x="1042920" y="1773360"/>
            <a:chExt cx="2930760" cy="1009800"/>
          </a:xfrm>
        </p:grpSpPr>
        <p:sp>
          <p:nvSpPr>
            <p:cNvPr id="205" name=""/>
            <p:cNvSpPr/>
            <p:nvPr/>
          </p:nvSpPr>
          <p:spPr>
            <a:xfrm>
              <a:off x="1042920" y="177336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440" y="2006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12720" y="2079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59280" y="177336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16000" y="3376440"/>
            <a:ext cx="2808360" cy="991080"/>
            <a:chOff x="1116000" y="3376440"/>
            <a:chExt cx="2808360" cy="991080"/>
          </a:xfrm>
        </p:grpSpPr>
        <p:sp>
          <p:nvSpPr>
            <p:cNvPr id="210" name=""/>
            <p:cNvSpPr/>
            <p:nvPr/>
          </p:nvSpPr>
          <p:spPr>
            <a:xfrm>
              <a:off x="1116000" y="33764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4520" y="36115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9440" y="366408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но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9960" y="33782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2720" y="4964040"/>
            <a:ext cx="3382920" cy="970200"/>
            <a:chOff x="612720" y="4964040"/>
            <a:chExt cx="3382920" cy="970200"/>
          </a:xfrm>
        </p:grpSpPr>
        <p:sp>
          <p:nvSpPr>
            <p:cNvPr id="215" name=""/>
            <p:cNvSpPr/>
            <p:nvPr/>
          </p:nvSpPr>
          <p:spPr>
            <a:xfrm>
              <a:off x="1116000" y="49640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3080" y="51958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2720" y="5230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1240" y="49640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2800" y="522936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500720" y="404640"/>
            <a:ext cx="0" cy="5761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9360" y="6271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ставится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1240" y="6271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не ставится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48360" y="3303720"/>
            <a:ext cx="2859120" cy="919080"/>
            <a:chOff x="5148360" y="3303720"/>
            <a:chExt cx="2859120" cy="919080"/>
          </a:xfrm>
        </p:grpSpPr>
        <p:sp>
          <p:nvSpPr>
            <p:cNvPr id="224" name=""/>
            <p:cNvSpPr/>
            <p:nvPr/>
          </p:nvSpPr>
          <p:spPr>
            <a:xfrm>
              <a:off x="5148360" y="330372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351936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93080" y="330372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76000" y="7365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351400">
            <a:off x="4338360" y="-728640"/>
            <a:ext cx="559080" cy="4267440"/>
          </a:xfrm>
          <a:custGeom>
            <a:avLst/>
            <a:gdLst>
              <a:gd name="textAreaLeft" fmla="*/ 357120 w 559080"/>
              <a:gd name="textAreaRight" fmla="*/ 559440 w 55908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47840" y="1955880"/>
            <a:ext cx="236232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ЛАВНЫ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21440" y="1955880"/>
            <a:ext cx="30956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57080" y="3645000"/>
            <a:ext cx="1295640" cy="576000"/>
            <a:chOff x="757080" y="3645000"/>
            <a:chExt cx="1295640" cy="576000"/>
          </a:xfrm>
        </p:grpSpPr>
        <p:sp>
          <p:nvSpPr>
            <p:cNvPr id="232" name=""/>
            <p:cNvSpPr/>
            <p:nvPr/>
          </p:nvSpPr>
          <p:spPr>
            <a:xfrm>
              <a:off x="757080" y="3645000"/>
              <a:ext cx="1295640" cy="57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3932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57440" y="3645000"/>
            <a:ext cx="1368360" cy="576000"/>
            <a:chOff x="2557440" y="3645000"/>
            <a:chExt cx="1368360" cy="576000"/>
          </a:xfrm>
        </p:grpSpPr>
        <p:sp>
          <p:nvSpPr>
            <p:cNvPr id="235" name=""/>
            <p:cNvSpPr/>
            <p:nvPr/>
          </p:nvSpPr>
          <p:spPr>
            <a:xfrm>
              <a:off x="2557440" y="3645000"/>
              <a:ext cx="1368360" cy="57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01800" y="386064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1800" y="400536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20720" y="3213000"/>
            <a:ext cx="1656000" cy="360360"/>
            <a:chOff x="1620720" y="3213000"/>
            <a:chExt cx="1656000" cy="360360"/>
          </a:xfrm>
        </p:grpSpPr>
        <p:sp>
          <p:nvSpPr>
            <p:cNvPr id="239" name=""/>
            <p:cNvSpPr/>
            <p:nvPr/>
          </p:nvSpPr>
          <p:spPr>
            <a:xfrm flipH="1">
              <a:off x="1620720" y="3213000"/>
              <a:ext cx="432000" cy="360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73440" y="3213000"/>
              <a:ext cx="503280" cy="360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805440" y="3500280"/>
            <a:ext cx="1295640" cy="576360"/>
            <a:chOff x="6805440" y="3500280"/>
            <a:chExt cx="1295640" cy="576360"/>
          </a:xfrm>
        </p:grpSpPr>
        <p:sp>
          <p:nvSpPr>
            <p:cNvPr id="242" name=""/>
            <p:cNvSpPr/>
            <p:nvPr/>
          </p:nvSpPr>
          <p:spPr>
            <a:xfrm>
              <a:off x="6805440" y="3500280"/>
              <a:ext cx="1295640" cy="576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8360" y="378936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77080" y="5516640"/>
            <a:ext cx="1295280" cy="576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05440" y="4437000"/>
            <a:ext cx="1295640" cy="576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797440" y="3139920"/>
            <a:ext cx="720720" cy="2737080"/>
            <a:chOff x="5797440" y="3139920"/>
            <a:chExt cx="720720" cy="2737080"/>
          </a:xfrm>
        </p:grpSpPr>
        <p:sp>
          <p:nvSpPr>
            <p:cNvPr id="247" name=""/>
            <p:cNvSpPr/>
            <p:nvPr/>
          </p:nvSpPr>
          <p:spPr>
            <a:xfrm>
              <a:off x="5797440" y="3139920"/>
              <a:ext cx="0" cy="273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7440" y="386064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7440" y="479592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7440" y="587700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284040"/>
            <a:ext cx="9220320" cy="480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9220320" cy="48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546200" y="2886120"/>
            <a:ext cx="61214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6480">
                  <a:solidFill>
                    <a:srgbClr val="ff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овицы и поговорки</a:t>
            </a:r>
            <a:endParaRPr b="1" i="1" lang="en-US" sz="2400" spc="1" strike="noStrike">
              <a:ln w="6480">
                <a:solidFill>
                  <a:srgbClr val="ff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3:10:41Z</dcterms:created>
  <dc:creator>Computer01</dc:creator>
  <dc:description/>
  <dc:language>en-US</dc:language>
  <cp:lastModifiedBy>abramova</cp:lastModifiedBy>
  <dcterms:modified xsi:type="dcterms:W3CDTF">2006-09-20T04:56:42Z</dcterms:modified>
  <cp:revision>156</cp:revision>
  <dc:subject/>
  <dc:title>Презентация PowerPoint</dc:title>
</cp:coreProperties>
</file>