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9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183-8060-4FF7-A26A-76179933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2AB-2705-4502-B4DC-3E6D834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5EF-2595-45D7-AD04-3A599C68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A2D-621C-4A35-9A27-6CD1558A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9E8F-F8DB-4CF2-A5F6-322C9B80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E9BA-0029-49E8-ABDA-93E98A35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87D-339A-4E40-A361-237A5DC9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3E6-2F71-47DD-B324-5F2F504F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85FE-FBEC-451E-8264-2B300A09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3271-A4AC-4514-AAE9-E6DC92E8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36AE-4794-48A5-B93E-AE579F7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4C0-E93F-4E74-AFAC-F4CF7CF5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5C82-6ACC-4B61-A156-B73E79FA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737F-096B-4CC3-8817-D5CF4471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FE3E-1360-4220-8DDE-8E23E9D0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E4FD-1D24-482A-89C6-04597EF7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0B4A-B4E6-4BE1-B790-592E6BCA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4FD-9C4A-4CCC-90BA-2433902A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CDF-861B-4571-984A-BED2CE66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09F-56C9-431B-815F-57499AF8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1AB-B0BB-4FF7-B626-B59DC143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F5F-2374-4C8B-8994-A1B1180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76B-B882-486C-9AD6-B12F263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6A4-B195-49D0-B07B-AF7A27C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7E4-091E-4B5E-B350-15C199C4CA0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145F-4BC1-4D21-BCAB-B7A99CED4CE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195640" y="333360"/>
            <a:ext cx="4752720" cy="612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492360" y="765000"/>
            <a:ext cx="23767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114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Зоопарк</a:t>
            </a:r>
            <a:endParaRPr b="1" lang="en-US" sz="2400" spc="1" strike="noStrike">
              <a:ln w="9360">
                <a:solidFill>
                  <a:srgbClr val="6699ff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6560" y="692280"/>
            <a:ext cx="172908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48360" y="765000"/>
            <a:ext cx="1798920" cy="1224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23720" y="2567160"/>
            <a:ext cx="1771920" cy="129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948360" y="2638440"/>
            <a:ext cx="1800360" cy="1222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948360" y="4675320"/>
            <a:ext cx="180036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539640" y="4221000"/>
            <a:ext cx="15145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908000" y="2565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Без труда        отдыха не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627280" y="4083120"/>
            <a:ext cx="3457440" cy="642600"/>
            <a:chOff x="2627280" y="4083120"/>
            <a:chExt cx="3457440" cy="642600"/>
          </a:xfrm>
        </p:grpSpPr>
        <p:sp>
          <p:nvSpPr>
            <p:cNvPr id="257" name=""/>
            <p:cNvSpPr/>
            <p:nvPr/>
          </p:nvSpPr>
          <p:spPr>
            <a:xfrm>
              <a:off x="262728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13080" y="408312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6072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926160" y="2516040"/>
            <a:ext cx="526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321300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32130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908000" y="1606680"/>
            <a:ext cx="5112000" cy="4270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2340000" y="112536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d60093"/>
                </a:solidFill>
                <a:latin typeface="Impact"/>
              </a:rPr>
              <a:t>Мир учебника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d60093"/>
              </a:solidFill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>
            <a:off x="4603320" y="3086280"/>
            <a:ext cx="133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Стр. 27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Упр. 53</a:t>
            </a:r>
            <a:endParaRPr b="0" lang="en-US" sz="27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419640" y="3645000"/>
            <a:ext cx="230472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Тес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684600" y="-76320"/>
            <a:ext cx="1725480" cy="2895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313320" y="4282920"/>
            <a:ext cx="2221200" cy="2041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85800" y="4746600"/>
            <a:ext cx="19051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862360" y="685800"/>
            <a:ext cx="34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00cc"/>
                </a:solidFill>
                <a:uFillTx/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ЕМА УРОКА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2057400"/>
            <a:ext cx="8215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00cc"/>
                </a:solidFill>
                <a:latin typeface="Times New Roman"/>
              </a:rPr>
              <a:t>ОДНОРОДНЫЕ ЧЛЕНЫ ПРЕДЛОЖЕНИЯ.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22840" y="4572000"/>
            <a:ext cx="1496880" cy="1692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186560" y="3235320"/>
            <a:ext cx="6904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00cc"/>
                </a:solidFill>
                <a:latin typeface="Times New Roman"/>
              </a:rPr>
              <a:t>ОДНОРОДНЫЕ ДОПОЛНЕНИЯ.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838080" y="4572000"/>
            <a:ext cx="7399440" cy="1790640"/>
            <a:chOff x="838080" y="4572000"/>
            <a:chExt cx="7399440" cy="17906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838080" y="4648320"/>
              <a:ext cx="13035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2743200" y="4648320"/>
              <a:ext cx="13032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029200" y="4572000"/>
              <a:ext cx="130320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934320" y="4572000"/>
              <a:ext cx="1303200" cy="17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1126800" y="2811600"/>
            <a:ext cx="668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УПРАЖНЕНИЕ № 58, СТРАНИЦА 28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9900"/>
                </a:solidFill>
                <a:latin typeface="Times New Roman"/>
              </a:rPr>
              <a:t>Выучить правило на стр. 26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30920" y="866880"/>
            <a:ext cx="64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76560" y="27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600" y="2122560"/>
            <a:ext cx="7290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cc"/>
                </a:solidFill>
                <a:latin typeface="Times New Roman"/>
              </a:rPr>
              <a:t>В вольерах  л   тали п   пугаи  щеглы 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cc"/>
                </a:solidFill>
                <a:latin typeface="Times New Roman"/>
              </a:rPr>
              <a:t>др   зды   сн   гири и дятлы.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3989520"/>
            <a:ext cx="8086320" cy="736560"/>
            <a:chOff x="539640" y="3989520"/>
            <a:chExt cx="8086320" cy="736560"/>
          </a:xfrm>
        </p:grpSpPr>
        <p:sp>
          <p:nvSpPr>
            <p:cNvPr id="119" name=""/>
            <p:cNvSpPr/>
            <p:nvPr/>
          </p:nvSpPr>
          <p:spPr>
            <a:xfrm>
              <a:off x="539640" y="43815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9640" y="452592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9640" y="45259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9440" y="398952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6560" y="4525920"/>
              <a:ext cx="93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8160" y="4022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4920" y="45259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1120" y="4022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0360" y="45259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26400" y="407052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78560" y="45259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8880" y="4022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939760" y="2155680"/>
            <a:ext cx="47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4720" y="213372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6960" y="206064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53080" y="206064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6360" y="316404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36720" y="3141720"/>
            <a:ext cx="47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82960" y="316404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43280" y="2708280"/>
            <a:ext cx="1512720" cy="73080"/>
            <a:chOff x="2843280" y="2708280"/>
            <a:chExt cx="1512720" cy="73080"/>
          </a:xfrm>
        </p:grpSpPr>
        <p:sp>
          <p:nvSpPr>
            <p:cNvPr id="139" name=""/>
            <p:cNvSpPr/>
            <p:nvPr/>
          </p:nvSpPr>
          <p:spPr>
            <a:xfrm>
              <a:off x="2843280" y="270828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43280" y="278136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72000" y="27082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0560" y="270828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7893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3789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37893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21463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тицы пели  св    стели  тр   щали  кажды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о – своему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19280" y="4224240"/>
            <a:ext cx="5974920" cy="719280"/>
            <a:chOff x="1619280" y="4224240"/>
            <a:chExt cx="5974920" cy="719280"/>
          </a:xfrm>
        </p:grpSpPr>
        <p:sp>
          <p:nvSpPr>
            <p:cNvPr id="148" name=""/>
            <p:cNvSpPr/>
            <p:nvPr/>
          </p:nvSpPr>
          <p:spPr>
            <a:xfrm>
              <a:off x="1619280" y="476064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46760" y="42242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98920" y="461628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98920" y="4760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27640" y="461628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4760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2000" y="461628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2000" y="4760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2760" y="424008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87120" y="424008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422880" y="2133720"/>
            <a:ext cx="526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0160" y="2133720"/>
            <a:ext cx="47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27680" y="215568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2852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052720" y="2779560"/>
            <a:ext cx="863640" cy="73080"/>
            <a:chOff x="2052720" y="2779560"/>
            <a:chExt cx="863640" cy="73080"/>
          </a:xfrm>
        </p:grpSpPr>
        <p:sp>
          <p:nvSpPr>
            <p:cNvPr id="163" name=""/>
            <p:cNvSpPr/>
            <p:nvPr/>
          </p:nvSpPr>
          <p:spPr>
            <a:xfrm>
              <a:off x="2052720" y="277956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52720" y="28526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32000" y="2781360"/>
            <a:ext cx="1799640" cy="73080"/>
            <a:chOff x="3132000" y="2781360"/>
            <a:chExt cx="1799640" cy="73080"/>
          </a:xfrm>
        </p:grpSpPr>
        <p:sp>
          <p:nvSpPr>
            <p:cNvPr id="166" name=""/>
            <p:cNvSpPr/>
            <p:nvPr/>
          </p:nvSpPr>
          <p:spPr>
            <a:xfrm>
              <a:off x="3132000" y="278136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32000" y="285444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148360" y="2781360"/>
            <a:ext cx="1799280" cy="73080"/>
            <a:chOff x="5148360" y="2781360"/>
            <a:chExt cx="1799280" cy="73080"/>
          </a:xfrm>
        </p:grpSpPr>
        <p:sp>
          <p:nvSpPr>
            <p:cNvPr id="169" name=""/>
            <p:cNvSpPr/>
            <p:nvPr/>
          </p:nvSpPr>
          <p:spPr>
            <a:xfrm>
              <a:off x="5148360" y="2781360"/>
              <a:ext cx="179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8360" y="2854440"/>
              <a:ext cx="179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917800" y="215568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75000" y="2146320"/>
            <a:ext cx="800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В  з      парке мы видели и сл   на  и тигра 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  м    дведя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39640" y="4005360"/>
            <a:ext cx="8278560" cy="720720"/>
            <a:chOff x="539640" y="4005360"/>
            <a:chExt cx="8278560" cy="720720"/>
          </a:xfrm>
        </p:grpSpPr>
        <p:sp>
          <p:nvSpPr>
            <p:cNvPr id="174" name=""/>
            <p:cNvSpPr/>
            <p:nvPr/>
          </p:nvSpPr>
          <p:spPr>
            <a:xfrm>
              <a:off x="1692360" y="43815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92360" y="452592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640" y="450864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17800" y="408312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94400" y="4022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34160" y="408312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708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0760" y="40053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78520" y="407664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08720" y="45086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23000" y="408312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333080" y="213372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20360" y="213372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0000" y="2155680"/>
            <a:ext cx="502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8480" y="3068640"/>
            <a:ext cx="47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34160" y="215568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1880" y="2155680"/>
            <a:ext cx="29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95640" y="2707920"/>
            <a:ext cx="1223640" cy="73080"/>
            <a:chOff x="3995640" y="2707920"/>
            <a:chExt cx="1223640" cy="73080"/>
          </a:xfrm>
        </p:grpSpPr>
        <p:sp>
          <p:nvSpPr>
            <p:cNvPr id="193" name=""/>
            <p:cNvSpPr/>
            <p:nvPr/>
          </p:nvSpPr>
          <p:spPr>
            <a:xfrm>
              <a:off x="3995640" y="27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95640" y="270792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651640" y="2781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08720" y="2781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3716280"/>
            <a:ext cx="1729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2708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62360" y="685800"/>
            <a:ext cx="34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00cc"/>
                </a:solidFill>
                <a:uFillTx/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ЕМА УРОКА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2057400"/>
            <a:ext cx="8215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00cc"/>
                </a:solidFill>
                <a:latin typeface="Times New Roman"/>
              </a:rPr>
              <a:t>ОДНОРОДНЫЕ ЧЛЕНЫ ПРЕДЛОЖЕНИЯ.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22840" y="4572000"/>
            <a:ext cx="1496880" cy="1692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86560" y="3235320"/>
            <a:ext cx="6904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00cc"/>
                </a:solidFill>
                <a:latin typeface="Times New Roman"/>
              </a:rPr>
              <a:t>ОДНОРОДНЫЕ ДОПОЛНЕНИЯ.</a:t>
            </a:r>
            <a:endParaRPr b="0" lang="en-US" sz="35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6880" y="2612880"/>
            <a:ext cx="859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Дополнения, которые относятся к одному и тому ж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члену предложения и отвечают на один и тот ж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вопрос, называются однородными дополнениями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042920" y="1773360"/>
            <a:ext cx="2930760" cy="1009800"/>
            <a:chOff x="1042920" y="1773360"/>
            <a:chExt cx="2930760" cy="1009800"/>
          </a:xfrm>
        </p:grpSpPr>
        <p:sp>
          <p:nvSpPr>
            <p:cNvPr id="205" name=""/>
            <p:cNvSpPr/>
            <p:nvPr/>
          </p:nvSpPr>
          <p:spPr>
            <a:xfrm>
              <a:off x="1042920" y="177336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440" y="20066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12720" y="2079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59280" y="177336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116000" y="3376440"/>
            <a:ext cx="2808360" cy="991080"/>
            <a:chOff x="1116000" y="3376440"/>
            <a:chExt cx="2808360" cy="991080"/>
          </a:xfrm>
        </p:grpSpPr>
        <p:sp>
          <p:nvSpPr>
            <p:cNvPr id="210" name=""/>
            <p:cNvSpPr/>
            <p:nvPr/>
          </p:nvSpPr>
          <p:spPr>
            <a:xfrm>
              <a:off x="1116000" y="337644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4520" y="361152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69440" y="3664080"/>
              <a:ext cx="72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но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09960" y="337824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12720" y="4964040"/>
            <a:ext cx="3382920" cy="970200"/>
            <a:chOff x="612720" y="4964040"/>
            <a:chExt cx="3382920" cy="970200"/>
          </a:xfrm>
        </p:grpSpPr>
        <p:sp>
          <p:nvSpPr>
            <p:cNvPr id="215" name=""/>
            <p:cNvSpPr/>
            <p:nvPr/>
          </p:nvSpPr>
          <p:spPr>
            <a:xfrm>
              <a:off x="1116000" y="496404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3080" y="519588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2720" y="5230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81240" y="496404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12800" y="522936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500720" y="404640"/>
            <a:ext cx="0" cy="5761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69360" y="6271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 ставится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51240" y="62712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 не ставится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48360" y="3303720"/>
            <a:ext cx="2859120" cy="919080"/>
            <a:chOff x="5148360" y="3303720"/>
            <a:chExt cx="2859120" cy="919080"/>
          </a:xfrm>
        </p:grpSpPr>
        <p:sp>
          <p:nvSpPr>
            <p:cNvPr id="224" name=""/>
            <p:cNvSpPr/>
            <p:nvPr/>
          </p:nvSpPr>
          <p:spPr>
            <a:xfrm>
              <a:off x="5148360" y="330372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9160" y="351936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93080" y="3303720"/>
              <a:ext cx="914400" cy="9144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76000" y="73656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ОДНОРОДНЫЕ ЧЛЕНЫ ПРЕДЛОЖ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351400">
            <a:off x="4338360" y="-728640"/>
            <a:ext cx="559080" cy="4267440"/>
          </a:xfrm>
          <a:custGeom>
            <a:avLst/>
            <a:gdLst>
              <a:gd name="textAreaLeft" fmla="*/ 357120 w 559080"/>
              <a:gd name="textAreaRight" fmla="*/ 559440 w 55908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47840" y="1955880"/>
            <a:ext cx="236232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ЛАВНЫ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21440" y="1955880"/>
            <a:ext cx="30956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ТОРОСТЕПЕННЫ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57080" y="3645000"/>
            <a:ext cx="1295640" cy="576000"/>
            <a:chOff x="757080" y="3645000"/>
            <a:chExt cx="1295640" cy="576000"/>
          </a:xfrm>
        </p:grpSpPr>
        <p:sp>
          <p:nvSpPr>
            <p:cNvPr id="232" name=""/>
            <p:cNvSpPr/>
            <p:nvPr/>
          </p:nvSpPr>
          <p:spPr>
            <a:xfrm>
              <a:off x="757080" y="3645000"/>
              <a:ext cx="1295640" cy="57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393228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57440" y="3645000"/>
            <a:ext cx="1368360" cy="576000"/>
            <a:chOff x="2557440" y="3645000"/>
            <a:chExt cx="1368360" cy="576000"/>
          </a:xfrm>
        </p:grpSpPr>
        <p:sp>
          <p:nvSpPr>
            <p:cNvPr id="235" name=""/>
            <p:cNvSpPr/>
            <p:nvPr/>
          </p:nvSpPr>
          <p:spPr>
            <a:xfrm>
              <a:off x="2557440" y="3645000"/>
              <a:ext cx="1368360" cy="576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01800" y="3860640"/>
              <a:ext cx="10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1800" y="4005360"/>
              <a:ext cx="10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20720" y="3213000"/>
            <a:ext cx="1656000" cy="360360"/>
            <a:chOff x="1620720" y="3213000"/>
            <a:chExt cx="1656000" cy="360360"/>
          </a:xfrm>
        </p:grpSpPr>
        <p:sp>
          <p:nvSpPr>
            <p:cNvPr id="239" name=""/>
            <p:cNvSpPr/>
            <p:nvPr/>
          </p:nvSpPr>
          <p:spPr>
            <a:xfrm flipH="1">
              <a:off x="1620720" y="3213000"/>
              <a:ext cx="432000" cy="360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73440" y="3213000"/>
              <a:ext cx="503280" cy="360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805440" y="3500280"/>
            <a:ext cx="1295640" cy="576360"/>
            <a:chOff x="6805440" y="3500280"/>
            <a:chExt cx="1295640" cy="576360"/>
          </a:xfrm>
        </p:grpSpPr>
        <p:sp>
          <p:nvSpPr>
            <p:cNvPr id="242" name=""/>
            <p:cNvSpPr/>
            <p:nvPr/>
          </p:nvSpPr>
          <p:spPr>
            <a:xfrm>
              <a:off x="6805440" y="3500280"/>
              <a:ext cx="1295640" cy="576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48360" y="3789360"/>
              <a:ext cx="1008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877080" y="5516640"/>
            <a:ext cx="1295280" cy="576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05440" y="4437000"/>
            <a:ext cx="1295640" cy="576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797440" y="3139920"/>
            <a:ext cx="720720" cy="2737080"/>
            <a:chOff x="5797440" y="3139920"/>
            <a:chExt cx="720720" cy="2737080"/>
          </a:xfrm>
        </p:grpSpPr>
        <p:sp>
          <p:nvSpPr>
            <p:cNvPr id="247" name=""/>
            <p:cNvSpPr/>
            <p:nvPr/>
          </p:nvSpPr>
          <p:spPr>
            <a:xfrm>
              <a:off x="5797440" y="3139920"/>
              <a:ext cx="0" cy="2737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7440" y="3860640"/>
              <a:ext cx="720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97440" y="4795920"/>
              <a:ext cx="720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7440" y="5877000"/>
              <a:ext cx="720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284040"/>
            <a:ext cx="9220320" cy="480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6093000"/>
            <a:ext cx="9220320" cy="480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546200" y="2886120"/>
            <a:ext cx="61214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6480">
                  <a:solidFill>
                    <a:srgbClr val="ff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ловицы и поговорки</a:t>
            </a:r>
            <a:endParaRPr b="1" i="1" lang="en-US" sz="2400" spc="1" strike="noStrike">
              <a:ln w="6480">
                <a:solidFill>
                  <a:srgbClr val="ff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3:10:41Z</dcterms:created>
  <dc:creator>Computer01</dc:creator>
  <dc:description/>
  <dc:language>en-US</dc:language>
  <cp:lastModifiedBy>abramova</cp:lastModifiedBy>
  <dcterms:modified xsi:type="dcterms:W3CDTF">2006-09-20T04:56:42Z</dcterms:modified>
  <cp:revision>156</cp:revision>
  <dc:subject/>
  <dc:title>Презентация PowerPoint</dc:title>
</cp:coreProperties>
</file>