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E77B-04C7-4444-9D3C-9AC270B2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C656-6009-4F39-A16F-0A78AB84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2E4E-C99B-480F-8601-31D2BF6D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7988-CF47-47B2-9DDC-131FECC2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2229-30F7-4EA4-A61D-B46196F2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C278-4F2B-4578-8111-CC0E27BB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9C78-B385-4643-9A5C-01D8D95D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94CD-B883-496C-8BA2-57605F04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6F5A-5BE4-44B9-BE0E-79608292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6334-2492-4D23-8BB6-2D1E259A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9234-01F4-4E8B-B19D-35CE427C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D51A-A0C2-41C8-9FDD-3B8D4495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2DBC-0C3D-4B30-BF1E-687D371E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6664-97FF-4398-8E4E-3F3D15BD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3F6F-1894-4B70-86FA-B7F13B1D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C921-66F4-439F-966D-1E17AE94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33EB-BAFC-4D53-A9FF-A6375FF8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C664-E534-4BC6-B15C-A012375E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CD2-0AC5-46C7-B834-DDF096BF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9BA2-9519-49DC-A5AE-D22D06E9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C4D6-F718-4797-A576-959275DC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BAF-C569-4815-8842-35135E4D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D15-CA79-44F6-B349-3EF810AE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8619-5847-4256-AFDE-2263B65B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5246-BEF5-4248-BE12-5150FE9F57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57FC-0ED6-4F06-9B9C-CD8BB64846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8730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ажен ли для школьника режим?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3357360"/>
            <a:ext cx="6400800" cy="14475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ты думаешь на год вперед – посади семя. Если ты думаешь на десятилетия вперед – посади дерево. Если ты думаешь на век вперед, воспитай из себя челове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озраст 11-14 лет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125000"/>
            <a:ext cx="6400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кие гормональные сдвиг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обладание общего возбуждения и психической неуравновеш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нсивный рос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строе развитие внутренних орган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дце растёт быстрее, чем просвет сосуд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ает юношеская гипертенз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Домашнее задание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1 игру на свежем воздух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ся природа живет в точных ритмах …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ащение план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3924360" y="292572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ся природа живет в точных ритмах …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ена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2195640" y="2106720"/>
            <a:ext cx="694836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ся природа живет в точных ритмах …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ь и ноч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2627280" y="2060640"/>
            <a:ext cx="6227640" cy="45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340000" y="1890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тмичность свойственна человеческому организму, отдельным его органам и систем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6156360" y="2924280"/>
            <a:ext cx="2539800" cy="2943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2516040" y="2708280"/>
            <a:ext cx="280224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c0039"/>
                </a:solidFill>
                <a:latin typeface="Arial"/>
              </a:rPr>
              <a:t>Основная проблема школьников в наше время – хроническая усталость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340000" y="23623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чина – неумение  правильно и рационально организовать сво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ыход есть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циональное чередование работы и отдых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651640" y="2581200"/>
            <a:ext cx="2981160" cy="42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троится режим на основе биологического ритма функционирования организма.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ервый подъём работоспособ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мечается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 11 до 13 час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торо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6-18 час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более низкой интенсивности и продолжи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Режим дня школьников включает следующие компоненты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ые занятия в шко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ые занятия дома (выполнение домашних зада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т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ятия физическими упражнен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ятия в свободн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8:15:42Z</dcterms:created>
  <dc:creator>Admin</dc:creator>
  <dc:description/>
  <dc:language>en-US</dc:language>
  <cp:lastModifiedBy>Сергей</cp:lastModifiedBy>
  <dcterms:modified xsi:type="dcterms:W3CDTF">2012-09-18T14:11:51Z</dcterms:modified>
  <cp:revision>35</cp:revision>
  <dc:subject/>
  <dc:title>Если ты думаешь на год вперед – посади семя. Если ты думаешь на десятилетия вперед – посади дерево. Если ты думаешь на век вперед, воспитай человека».</dc:title>
</cp:coreProperties>
</file>