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5AF-C414-41B2-A061-BC643965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E24-5CC6-4C62-90F9-7819126C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2AD-1CB0-445E-A149-0CA08978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896-BD1B-4852-B06E-5B16D5A3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D1BB-6C0B-4CBA-B217-4F1897DE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0C1B-9AF0-42A7-940C-861F9107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B10F-6AC2-4781-A9B0-2C2B1C92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E5A6-C972-4119-B0DC-E92F5408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4FFB-DB13-448A-8D88-D0FACFD1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8998-4C6F-462E-B692-C0B1BD56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C7BC-0405-427D-BC63-7980A24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1CD-1C9C-43B6-B9B8-4565FE6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E355-7097-4B5A-8DF1-D94125F2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A53-7AAD-4A3B-A20D-DB3EE87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5FF-69F4-416C-A22A-C2C92A6E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8CE-6D17-440A-9BE7-1FE42829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7AA4-B05C-4E4A-BA65-AC31424B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F42-1047-4F4A-9508-CBF9576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6C1-71AE-48FD-A5F7-28D2EAD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E92-BD88-490D-8A4B-CA8B8FC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F87-07EF-44ED-B392-F0F6560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B54-9427-4930-94CF-07B01EB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989-3A9C-4CD1-A0E9-27124984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6EE-404C-4A63-8917-1678EAB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DB2-7852-4A49-AB82-C5A2E41ECE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C4A7-4614-47CF-B579-4AAE967B9D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873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ажен ли для школьника режим?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33573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ы думаешь на год вперед – посади семя. Если ты думаешь на десятилетия вперед – посади дерево. Если ты думаешь на век вперед, воспитай из себя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зраст 11-14 лет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кие гормональные сдви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ладание общего возбуждения и психической неуравновеш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ый ро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е развитие внутренних орган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 растёт быстрее, чем просвет сосу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ает юношеская гипертенз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1 игру на свежем возду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щение пл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924360" y="29257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а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2195640" y="2106720"/>
            <a:ext cx="6948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ся природа живет в точных ритмах 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и но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627280" y="2060640"/>
            <a:ext cx="62276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ичность свойственна человеческому организму, отдельным его органам и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539800" cy="2943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516040" y="2708280"/>
            <a:ext cx="28022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Основная проблема школьников в наше время – хроническая усталость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40000" y="2362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а – неумение  правильно и рационально организовать сво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ход есть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чередование работы и отдых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651640" y="2581200"/>
            <a:ext cx="298116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роится режим на основе биологического ритма функционирования организма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рвый подъём работоспособ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мечаетс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 11 до 13 ча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торо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6-18 ча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олее низкой интенсивности и продолж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Режим дня школьников включает следующие компоненты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занятия в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ые занятия дома (выполнение домашних зада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физическими упраж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в свобод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8:15:42Z</dcterms:created>
  <dc:creator>Admin</dc:creator>
  <dc:description/>
  <dc:language>en-US</dc:language>
  <cp:lastModifiedBy>Сергей</cp:lastModifiedBy>
  <dcterms:modified xsi:type="dcterms:W3CDTF">2012-09-18T14:11:51Z</dcterms:modified>
  <cp:revision>35</cp:revision>
  <dc:subject/>
  <dc:title>Если ты думаешь на год вперед – посади семя. Если ты думаешь на десятилетия вперед – посади дерево. Если ты думаешь на век вперед, воспитай человека».</dc:title>
</cp:coreProperties>
</file>