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2BC-A9AA-440D-8B98-A351316B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F18-B9D0-4FD4-A128-83D25809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027-AEE9-45F5-8E9D-423BCE24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472-6534-4E46-831C-657AC7D4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7164D-643B-4B53-BA82-C0790346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2E0D3-5E25-46E0-9F67-A56223D3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D5E80-68FB-4942-A039-ACA0683A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45594-5C28-456A-8CC3-E50627AF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74478-0356-47B4-B408-38F14EC5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07598-3DE3-41C6-B478-170A6677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B188D-EBC3-4C4D-817A-D9BDC989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E39-3BC3-4469-AF4A-23C447C7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717C8-7F8D-4FF8-8853-E1702FDB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7A5C9-760B-4994-8F9A-D1187EEE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588FB-7B84-48A3-9E55-1A569170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0E83F-BF1E-4172-AFB6-1E6818EE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77A17-36F1-4C8F-8E6A-D5218634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2D32-0DF9-4B39-9129-7DDF3BAA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D335-E92D-411C-991A-94DDBCF0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9AB1F-5A4D-48F9-9DA0-0D60D973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63B1-14F2-4FA2-9466-07D71C31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DC83-743C-4EB4-BBB2-8B41EB3E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3D2-352F-4D2A-AF3A-F169B6F7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1B5F-4BA1-425C-9EE9-1D2255DE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711E-686B-4ED8-9943-6CC06AC8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83976-75FB-4059-B2C7-5F5B21BD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713D2-9E78-48DE-8209-17330D8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11FDD-B625-4151-875B-6DAEE4C8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98920-028B-4194-88D6-DC03709D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C0DE-D318-40B0-AF1A-7E8403FA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A28AD3-257C-417A-88CB-9F176B61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FE842-A000-45DD-B2B1-4211BC7B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3C994F-70F9-45D3-830B-04865BAC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42C-F943-4D8F-AEB2-C06C02A3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2BD75-F951-4AE4-A8DD-143A6FEA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B3AED-F00F-4548-B0BD-02A56FF8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38694-E0D7-4BB5-96DA-37CBCC19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117DA9-FC70-4F2D-8BCB-82F4CAFE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2F867C-28A2-4EE3-9C4C-589BF7D7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5C2317-87AE-4765-A5BD-5C476A25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DFF91-F2B2-4943-BF09-99B2031B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EBF1F-D71F-4A6D-B62B-D8DDDD62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93730-1E7B-4D5C-A6EF-E3E1A167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82637-BB26-4DAC-AAAA-A8B0523A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4A3-CE14-4DFB-BA82-DFEA7EDD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E8872-6F5C-4989-814E-0C597182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F3327-FACE-43E6-9EEC-E2E26426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13C45-2424-4773-A0A8-BBD03C46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4A9E3-E041-47F6-AA91-3B0567AF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37744-D6E1-4479-8A37-DDE6EE2E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36956-681B-41DC-8BE7-4BA48325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4B293-EED0-460E-A631-F20EA27D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3DE38-92BB-4EA1-A521-D8288943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33692-CE8D-482C-8648-4BB1B321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A1492-139C-4473-B62A-42357B2B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A53-53F2-447A-8D0B-7D86DE0B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867D-2FD9-4E2F-8393-BE413A51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7BC-F08C-4626-BA08-EC231254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84B-92A4-4A2B-83D9-C940FD0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F4B-D5DB-4623-9C01-66743C34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CA8A-8AF0-4022-9EE1-3C497A647D6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E860-1474-427B-9D12-F88D634CE4D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631C-6EF0-4102-89A1-8E6F75A5B12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50A6-B1C0-4C6E-B8C0-4C155C3357E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F847-57A8-41CA-9657-56F3D9639FB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ow.ru/a-world/1590-1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clow.ru/a-world/1590-2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zech-republic.cc/bd_content/max_foto/old_city_prague_1615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mountian.ru/graph/1110658121_bg.jpg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1071720" y="428760"/>
            <a:ext cx="739116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уситское движение в Чехии</a:t>
            </a:r>
            <a:endParaRPr b="0" lang="en-US" sz="2000" spc="1" strike="noStrike">
              <a:ln w="255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" name="Picture 5" descr="Картинка 88 из 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2133720"/>
            <a:ext cx="3178080" cy="4103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13" name="Picture 6" descr="Картинка 10 из 13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19640" y="2133720"/>
            <a:ext cx="3075120" cy="40003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2"/>
          <a:stretch/>
        </p:blipFill>
        <p:spPr>
          <a:xfrm>
            <a:off x="579600" y="237960"/>
            <a:ext cx="788796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428760" y="996840"/>
          <a:ext cx="8258040" cy="5816880"/>
        </p:xfrm>
        <a:graphic>
          <a:graphicData uri="http://schemas.openxmlformats.org/drawingml/2006/table">
            <a:tbl>
              <a:tblPr/>
              <a:tblGrid>
                <a:gridCol w="1904760"/>
                <a:gridCol w="6353280"/>
              </a:tblGrid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лои нас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ы недоволь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лкие и средние феода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обление земельных влад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нищание, зависимость от па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громные денежные поборы церкв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жане-чех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силье немцев в городском управлен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рогие церковные обря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есть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3a447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сокие налоги и повинности в пользу государ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3a447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величение барщины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3a447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чная зависимость  от па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Картинка 5 из 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357120"/>
            <a:ext cx="2928960" cy="62438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245" name="Rectangle 11"/>
          <p:cNvSpPr/>
          <p:nvPr/>
        </p:nvSpPr>
        <p:spPr>
          <a:xfrm>
            <a:off x="3429000" y="428760"/>
            <a:ext cx="285768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3" descr="Картинка 12 из 2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260280"/>
            <a:ext cx="2514600" cy="62643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pic>
        <p:nvPicPr>
          <p:cNvPr id="247" name="Прямоугольник 6" descr=""/>
          <p:cNvPicPr/>
          <p:nvPr/>
        </p:nvPicPr>
        <p:blipFill>
          <a:blip r:embed="rId6"/>
          <a:stretch/>
        </p:blipFill>
        <p:spPr>
          <a:xfrm>
            <a:off x="3059280" y="260280"/>
            <a:ext cx="3241440" cy="659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Картинка 2 из 204"/>
          <p:cNvPicPr/>
          <p:nvPr/>
        </p:nvPicPr>
        <p:blipFill>
          <a:blip r:embed="rId2"/>
          <a:stretch/>
        </p:blipFill>
        <p:spPr>
          <a:xfrm>
            <a:off x="380880" y="533520"/>
            <a:ext cx="8534520" cy="579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Изображение:Leiner Konstanz Insel.jpg"/>
          <p:cNvPicPr/>
          <p:nvPr/>
        </p:nvPicPr>
        <p:blipFill>
          <a:blip r:embed="rId2"/>
          <a:stretch/>
        </p:blipFill>
        <p:spPr>
          <a:xfrm>
            <a:off x="1857240" y="6480"/>
            <a:ext cx="5429520" cy="684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Hus"/>
          <p:cNvPicPr/>
          <p:nvPr/>
        </p:nvPicPr>
        <p:blipFill>
          <a:blip r:embed="rId2"/>
          <a:stretch/>
        </p:blipFill>
        <p:spPr>
          <a:xfrm>
            <a:off x="1258920" y="1276200"/>
            <a:ext cx="7656480" cy="49752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684360" y="333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6  июля  1415  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Картинка 15 из 204"/>
          <p:cNvPicPr/>
          <p:nvPr/>
        </p:nvPicPr>
        <p:blipFill>
          <a:blip r:embed="rId2"/>
          <a:stretch/>
        </p:blipFill>
        <p:spPr>
          <a:xfrm>
            <a:off x="1447920" y="66600"/>
            <a:ext cx="6705360" cy="655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447920" y="45720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684360" y="260280"/>
            <a:ext cx="8153280" cy="58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419 г. – восстание в Праг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Начало  гуситских   войн.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Гуситское       движ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УМЕРЕННЫЕ                       ТАБОРИ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чашни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6"/>
          <p:cNvSpPr/>
          <p:nvPr/>
        </p:nvSpPr>
        <p:spPr>
          <a:xfrm rot="18820200">
            <a:off x="5639760" y="3008520"/>
            <a:ext cx="501840" cy="1485720"/>
          </a:xfrm>
          <a:prstGeom prst="downArrow">
            <a:avLst>
              <a:gd name="adj1" fmla="val 50000"/>
              <a:gd name="adj2" fmla="val 74014"/>
            </a:avLst>
          </a:prstGeom>
          <a:solidFill>
            <a:srgbClr val="a5b59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8"/>
          <p:cNvSpPr/>
          <p:nvPr/>
        </p:nvSpPr>
        <p:spPr>
          <a:xfrm rot="2809800">
            <a:off x="3181320" y="3019320"/>
            <a:ext cx="486000" cy="1447920"/>
          </a:xfrm>
          <a:prstGeom prst="downArrow">
            <a:avLst>
              <a:gd name="adj1" fmla="val 50000"/>
              <a:gd name="adj2" fmla="val 74481"/>
            </a:avLst>
          </a:prstGeom>
          <a:solidFill>
            <a:srgbClr val="a5b59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447920" y="45720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684360" y="260280"/>
            <a:ext cx="815328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55640" y="620640"/>
          <a:ext cx="7992720" cy="5616360"/>
        </p:xfrm>
        <a:graphic>
          <a:graphicData uri="http://schemas.openxmlformats.org/drawingml/2006/table">
            <a:tbl>
              <a:tblPr/>
              <a:tblGrid>
                <a:gridCol w="2664000"/>
                <a:gridCol w="2664360"/>
                <a:gridCol w="266436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то сравнить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мере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абор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. Какие слои населения входили в эту группу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 Чем были недовольн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а что боролись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447920" y="45720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84360" y="260280"/>
            <a:ext cx="815328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55640" y="620640"/>
          <a:ext cx="7777080" cy="575640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то сравнить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мере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абор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. Какие слои населения входили в эту группу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ажиточные бюргеры, дворя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рестьяне, горожане и бедные рыцар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 Чем были недовольн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робление земельных владений, обнищание, зависимость от панов. Огромные денежные поборы церкв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рогие церковные обряды. Увеличение барщин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а что боролись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празднение привилегий и землевладений церкв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ничтожить частную собственность, все повинности и налог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Картинка 10 из 130"/>
          <p:cNvPicPr/>
          <p:nvPr/>
        </p:nvPicPr>
        <p:blipFill>
          <a:blip r:embed="rId2"/>
          <a:stretch/>
        </p:blipFill>
        <p:spPr>
          <a:xfrm>
            <a:off x="571680" y="1500120"/>
            <a:ext cx="3296880" cy="4897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Картинка 2 из 89"/>
          <p:cNvPicPr/>
          <p:nvPr/>
        </p:nvPicPr>
        <p:blipFill>
          <a:blip r:embed="rId3">
            <a:lum bright="-20000"/>
          </a:blip>
          <a:srcRect l="9249" t="49043" r="1404" b="6485"/>
          <a:stretch/>
        </p:blipFill>
        <p:spPr>
          <a:xfrm>
            <a:off x="4071960" y="1643040"/>
            <a:ext cx="4714920" cy="3571920"/>
          </a:xfrm>
          <a:prstGeom prst="rect">
            <a:avLst/>
          </a:prstGeom>
          <a:ln w="47520">
            <a:solidFill>
              <a:srgbClr val="ff0000"/>
            </a:solidFill>
            <a:miter/>
          </a:ln>
        </p:spPr>
      </p:pic>
      <p:pic>
        <p:nvPicPr>
          <p:cNvPr id="265" name="Rectangle 11" descr=""/>
          <p:cNvPicPr/>
          <p:nvPr/>
        </p:nvPicPr>
        <p:blipFill>
          <a:blip r:embed="rId4"/>
          <a:stretch/>
        </p:blipFill>
        <p:spPr>
          <a:xfrm>
            <a:off x="3657600" y="5619600"/>
            <a:ext cx="3865680" cy="1244880"/>
          </a:xfrm>
          <a:prstGeom prst="rect">
            <a:avLst/>
          </a:prstGeom>
          <a:ln w="0">
            <a:noFill/>
          </a:ln>
        </p:spPr>
      </p:pic>
      <p:pic>
        <p:nvPicPr>
          <p:cNvPr id="266" name="Rectangle 11" descr=""/>
          <p:cNvPicPr/>
          <p:nvPr/>
        </p:nvPicPr>
        <p:blipFill>
          <a:blip r:embed="rId5"/>
          <a:stretch/>
        </p:blipFill>
        <p:spPr>
          <a:xfrm>
            <a:off x="493560" y="244440"/>
            <a:ext cx="7716960" cy="118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708360" y="1921320"/>
            <a:ext cx="489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ерный христианин ищет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авду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слушает правду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изучает правду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говорит правду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защищает правду до смерти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Ян Гус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03640" y="260280"/>
            <a:ext cx="3816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пиграф: </a:t>
            </a:r>
            <a:endParaRPr b="1" lang="en-US" sz="2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6" name="Picture 5" descr="Картинка 88 из 89"/>
          <p:cNvPicPr/>
          <p:nvPr/>
        </p:nvPicPr>
        <p:blipFill>
          <a:blip r:embed="rId2"/>
          <a:stretch/>
        </p:blipFill>
        <p:spPr>
          <a:xfrm>
            <a:off x="324000" y="1844640"/>
            <a:ext cx="3066840" cy="39607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533520" y="609480"/>
            <a:ext cx="838188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Итоги    гуситского   движени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Крестьяне перестали платить десятину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Утвердилась гуситская церков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Королевская власть была ограничена сеймом. Чехия – сословная монарх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Из городов изгнано немецкое насел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Чехия оторвана от общеевропейского разви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Уничтожены сокровища церковного искус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Прямоугольник 1" descr=""/>
          <p:cNvPicPr/>
          <p:nvPr/>
        </p:nvPicPr>
        <p:blipFill>
          <a:blip r:embed="rId2"/>
          <a:stretch/>
        </p:blipFill>
        <p:spPr>
          <a:xfrm>
            <a:off x="2865600" y="-12600"/>
            <a:ext cx="2925720" cy="9936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2"/>
          <p:cNvSpPr/>
          <p:nvPr/>
        </p:nvSpPr>
        <p:spPr>
          <a:xfrm>
            <a:off x="142920" y="1143000"/>
            <a:ext cx="9001080" cy="76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акой город стал столицей священной римской империи в середине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XIV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ека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а) Прага;     б)Рим;      в) Неапо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2.     За что Ян Гус критиковал духовенство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а) за, что торговали церковными должностями и индульгенциями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за то, что брали деньги за обряды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) за то, что богослужение велось не на родном язык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г)верно а), б), в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то такой патриот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а) человек, любящий свою Родину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человек, борющийся с деятельностью церкви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) человек, не отказывающийся от своих ид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4. Когда началось восстание гуситов в Праг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а) в 1414 г.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 в 1400 г.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) в 1419 г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50000"/>
              </a:lnSpc>
              <a:spcBef>
                <a:spcPts val="125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250"/>
              </a:spcBef>
              <a:buClr>
                <a:srgbClr val="00006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357120" y="928800"/>
            <a:ext cx="8501040" cy="76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акой город стал столицей священной римской империи в середине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XIV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ека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f2f2f2"/>
                </a:solidFill>
                <a:latin typeface="Times New Roman"/>
              </a:rPr>
              <a:t>а) Прага;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Рим;      в) Неапо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2.     За что Ян Гус критиковал духовенство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а) за, что торговали церковными должностями и индульгенциями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за то, что брали деньги за обряды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) за то, что богослужение велось не на родном язык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f2f2f2"/>
                </a:solidFill>
                <a:latin typeface="Times New Roman"/>
              </a:rPr>
              <a:t>г)верно а), б), в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то такой патриот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f2f2f2"/>
                </a:solidFill>
                <a:latin typeface="Times New Roman"/>
              </a:rPr>
              <a:t>а) человек, любящий свою Родину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человек, борющийся с деятельностью церкви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) человек, не отказывающийся от своих ид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4. Когда началось восстание гуситов в Праг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а) в 1414 г.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) в 1400 г.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f2f2f2"/>
                </a:solidFill>
                <a:latin typeface="Times New Roman"/>
              </a:rPr>
              <a:t>в) в 1419 г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50000"/>
              </a:lnSpc>
              <a:spcBef>
                <a:spcPts val="125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1250"/>
              </a:spcBef>
              <a:buClr>
                <a:srgbClr val="00006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Прямоугольник 2" descr=""/>
          <p:cNvPicPr/>
          <p:nvPr/>
        </p:nvPicPr>
        <p:blipFill>
          <a:blip r:embed="rId2"/>
          <a:stretch/>
        </p:blipFill>
        <p:spPr>
          <a:xfrm>
            <a:off x="2554200" y="128520"/>
            <a:ext cx="4310280" cy="676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11" descr=""/>
          <p:cNvPicPr/>
          <p:nvPr/>
        </p:nvPicPr>
        <p:blipFill>
          <a:blip r:embed="rId2"/>
          <a:stretch/>
        </p:blipFill>
        <p:spPr>
          <a:xfrm>
            <a:off x="993600" y="231840"/>
            <a:ext cx="7016760" cy="599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Прямоугольник 2" descr=""/>
          <p:cNvPicPr/>
          <p:nvPr/>
        </p:nvPicPr>
        <p:blipFill>
          <a:blip r:embed="rId2"/>
          <a:stretch/>
        </p:blipFill>
        <p:spPr>
          <a:xfrm>
            <a:off x="1395360" y="30240"/>
            <a:ext cx="4944960" cy="12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0" y="923400"/>
            <a:ext cx="8893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Обучающая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крыть идеологические основы религиозных и общественных         взглядов Яна Гуса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ь причины победы таборитов в ходе гуситских вой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крыть причины, цели, итоги и значение гуситского движ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азвивающая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овершенствовать навыки работы учащихся с текстом учебника, исторических документов, алгоритмами, картой, тес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вивать умения анализировать текст, выделять главно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Воспитательная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знакомить учащихся с деятельностью чешских патриотов Яна Гус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 Яна Жижк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 примере чешских героев воспитывать чувство патриотизма, любви к Родине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ь величие гражданского мужества Я. Гуса, готового пойти на смерть ради правды, своих взгляд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11" descr=""/>
          <p:cNvPicPr/>
          <p:nvPr/>
        </p:nvPicPr>
        <p:blipFill>
          <a:blip r:embed="rId2"/>
          <a:stretch/>
        </p:blipFill>
        <p:spPr>
          <a:xfrm>
            <a:off x="993600" y="208080"/>
            <a:ext cx="7023240" cy="12967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42960" y="1928520"/>
            <a:ext cx="83390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e1d3"/>
                </a:solidFill>
                <a:latin typeface="Constantia"/>
              </a:rPr>
              <a:t>Гуситы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e1d3"/>
                </a:solidFill>
                <a:latin typeface="Constantia"/>
              </a:rPr>
              <a:t>Табориты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e1d3"/>
                </a:solidFill>
                <a:latin typeface="Constantia"/>
              </a:rPr>
              <a:t>Умеренные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e1d3"/>
                </a:solidFill>
                <a:latin typeface="Constantia"/>
              </a:rPr>
              <a:t>Церковный собор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e1d3"/>
                </a:solidFill>
                <a:latin typeface="Constantia"/>
              </a:rPr>
              <a:t>Сейм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8"/>
          <p:cNvGrpSpPr/>
          <p:nvPr/>
        </p:nvGrpSpPr>
        <p:grpSpPr>
          <a:xfrm>
            <a:off x="3968640" y="2668680"/>
            <a:ext cx="343080" cy="360"/>
            <a:chOff x="3968640" y="2668680"/>
            <a:chExt cx="343080" cy="360"/>
          </a:xfrm>
        </p:grpSpPr>
        <p:sp>
          <p:nvSpPr>
            <p:cNvPr id="222" name="Rectangle 7"/>
            <p:cNvSpPr/>
            <p:nvPr/>
          </p:nvSpPr>
          <p:spPr>
            <a:xfrm>
              <a:off x="3968640" y="2668680"/>
              <a:ext cx="34308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3" name="Group 6"/>
            <p:cNvGrpSpPr/>
            <p:nvPr/>
          </p:nvGrpSpPr>
          <p:grpSpPr>
            <a:xfrm>
              <a:off x="3968640" y="2668680"/>
              <a:ext cx="343080" cy="360"/>
              <a:chOff x="3968640" y="2668680"/>
              <a:chExt cx="343080" cy="360"/>
            </a:xfrm>
          </p:grpSpPr>
          <p:sp>
            <p:nvSpPr>
              <p:cNvPr id="224" name="Rectangle 2"/>
              <p:cNvSpPr/>
              <p:nvPr/>
            </p:nvSpPr>
            <p:spPr>
              <a:xfrm>
                <a:off x="3968640" y="2668680"/>
                <a:ext cx="34308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5"/>
              <p:cNvSpPr/>
              <p:nvPr/>
            </p:nvSpPr>
            <p:spPr>
              <a:xfrm>
                <a:off x="3968640" y="2668680"/>
                <a:ext cx="34308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6" name="Rectangle 11" descr=""/>
          <p:cNvPicPr/>
          <p:nvPr/>
        </p:nvPicPr>
        <p:blipFill>
          <a:blip r:embed="rId2"/>
          <a:stretch/>
        </p:blipFill>
        <p:spPr>
          <a:xfrm>
            <a:off x="2066760" y="285840"/>
            <a:ext cx="3999240" cy="14763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00040" y="1928520"/>
            <a:ext cx="8339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Чехия в XIV веке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Жизнь и смерть Яна Гуса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Начало вооруженной борьбы. Гуситы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Крестовые походы против гуситов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Народное войско. Ян Жижка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743040" indent="-743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Конец гуситских войн. Значение. Итоги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8"/>
          <p:cNvGrpSpPr/>
          <p:nvPr/>
        </p:nvGrpSpPr>
        <p:grpSpPr>
          <a:xfrm>
            <a:off x="3968640" y="2668680"/>
            <a:ext cx="343080" cy="360"/>
            <a:chOff x="3968640" y="2668680"/>
            <a:chExt cx="343080" cy="360"/>
          </a:xfrm>
        </p:grpSpPr>
        <p:sp>
          <p:nvSpPr>
            <p:cNvPr id="229" name="Rectangle 7"/>
            <p:cNvSpPr/>
            <p:nvPr/>
          </p:nvSpPr>
          <p:spPr>
            <a:xfrm>
              <a:off x="3968640" y="2668680"/>
              <a:ext cx="34308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Group 6"/>
            <p:cNvGrpSpPr/>
            <p:nvPr/>
          </p:nvGrpSpPr>
          <p:grpSpPr>
            <a:xfrm>
              <a:off x="3968640" y="2668680"/>
              <a:ext cx="343080" cy="360"/>
              <a:chOff x="3968640" y="2668680"/>
              <a:chExt cx="343080" cy="360"/>
            </a:xfrm>
          </p:grpSpPr>
          <p:sp>
            <p:nvSpPr>
              <p:cNvPr id="231" name="Rectangle 2"/>
              <p:cNvSpPr/>
              <p:nvPr/>
            </p:nvSpPr>
            <p:spPr>
              <a:xfrm>
                <a:off x="3968640" y="2668680"/>
                <a:ext cx="34308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5"/>
              <p:cNvSpPr/>
              <p:nvPr/>
            </p:nvSpPr>
            <p:spPr>
              <a:xfrm>
                <a:off x="3968640" y="2668680"/>
                <a:ext cx="34308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2920" y="4214520"/>
            <a:ext cx="85010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а создана специальная географическая карта, изображавшая Европу в виде знатной женщины, голова которой образовывала Пиренейский полуостров, длинная юбка доходила до Уральских гор, правая рука была Италией, а сердце Дамы Европы представляла собой Чехия. Так что Чехия в представлении самих ее жителей становится центром мира. Недаром, наверное, чехи сами называли свою страну “Богемия”, т.е. избранная богом, а себя – “богемцами”.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4" descr="C:\Documents and Settings\Admin\Рабочий стол\карта чехии.jpg"/>
          <p:cNvPicPr/>
          <p:nvPr/>
        </p:nvPicPr>
        <p:blipFill>
          <a:blip r:embed="rId2"/>
          <a:stretch/>
        </p:blipFill>
        <p:spPr>
          <a:xfrm>
            <a:off x="611280" y="692280"/>
            <a:ext cx="4356000" cy="32144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235" name="Прямоугольник 16"/>
          <p:cNvSpPr/>
          <p:nvPr/>
        </p:nvSpPr>
        <p:spPr>
          <a:xfrm>
            <a:off x="5219640" y="189000"/>
            <a:ext cx="352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 концу Средневековья в Чехии возникло определенное представление о месте своей страны в том огромном мире, в котором оказался средневековый человек Европы. Согласно этому представлению центром планеты является, конечно же, Европа, центром Европы – Германская империя, центром империи – Чехия, а центром Чехии – ее столица Праг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http://im6-tub.yandex.net/i?id=70546835&amp;tov=6"/>
          <p:cNvPicPr/>
          <p:nvPr/>
        </p:nvPicPr>
        <p:blipFill>
          <a:blip r:embed="rId2"/>
          <a:stretch/>
        </p:blipFill>
        <p:spPr>
          <a:xfrm>
            <a:off x="571680" y="857160"/>
            <a:ext cx="3012840" cy="400068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  <p:sp>
        <p:nvSpPr>
          <p:cNvPr id="237" name="Rectangle 13"/>
          <p:cNvSpPr/>
          <p:nvPr/>
        </p:nvSpPr>
        <p:spPr>
          <a:xfrm>
            <a:off x="3714840" y="428760"/>
            <a:ext cx="5267160" cy="56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Карл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IV</a:t>
            </a: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dbe1d3"/>
                </a:solidFill>
                <a:latin typeface="Constantia"/>
              </a:rPr>
              <a:t>-  талантливый писатель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e1d3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dbe1d3"/>
                </a:solidFill>
                <a:latin typeface="Constantia"/>
              </a:rPr>
              <a:t>богатый коллекционер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e1d3"/>
                </a:solidFill>
                <a:latin typeface="Constantia"/>
              </a:rPr>
              <a:t>основатель Пражского университета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e1d3"/>
                </a:solidFill>
                <a:latin typeface="Constantia"/>
              </a:rPr>
              <a:t>Покровитель искус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3"/>
          <p:cNvSpPr/>
          <p:nvPr/>
        </p:nvSpPr>
        <p:spPr>
          <a:xfrm>
            <a:off x="428760" y="1000080"/>
            <a:ext cx="833904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613"/>
                </a:solidFill>
                <a:latin typeface="Constantia"/>
              </a:rPr>
              <a:t>Мелкие дворяне </a:t>
            </a:r>
            <a:r>
              <a:rPr b="0" lang="ru-RU" sz="3200" spc="-1" strike="noStrike">
                <a:solidFill>
                  <a:srgbClr val="dbe1d3"/>
                </a:solidFill>
                <a:latin typeface="Constantia"/>
              </a:rPr>
              <a:t>– число увеличилось за счёт раздробления владений- обнищания, попадали в зависимость к крупным дворянам – панам.Основное занятие – война, служба как наёмни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613"/>
                </a:solidFill>
                <a:latin typeface="Constantia"/>
              </a:rPr>
              <a:t>Горожане </a:t>
            </a:r>
            <a:r>
              <a:rPr b="0" lang="ru-RU" sz="3200" spc="-1" strike="noStrike">
                <a:solidFill>
                  <a:srgbClr val="dbe1d3"/>
                </a:solidFill>
                <a:latin typeface="Constantia"/>
              </a:rPr>
              <a:t>– стремились участвовать в городском самоуправлении, оттеснить немцев на задний пл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613"/>
                </a:solidFill>
                <a:latin typeface="Constantia"/>
              </a:rPr>
              <a:t>Крестьяне </a:t>
            </a:r>
            <a:r>
              <a:rPr b="0" lang="ru-RU" sz="3200" spc="-1" strike="noStrike">
                <a:solidFill>
                  <a:srgbClr val="dbe1d3"/>
                </a:solidFill>
                <a:latin typeface="Constantia"/>
              </a:rPr>
              <a:t>– кроме феодальных повинностей платили королевский налог и несли повинности в пользу  государ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Rectangle 11" descr=""/>
          <p:cNvPicPr/>
          <p:nvPr/>
        </p:nvPicPr>
        <p:blipFill>
          <a:blip r:embed="rId2"/>
          <a:stretch/>
        </p:blipFill>
        <p:spPr>
          <a:xfrm>
            <a:off x="676440" y="347760"/>
            <a:ext cx="8040600" cy="579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2"/>
          <a:stretch/>
        </p:blipFill>
        <p:spPr>
          <a:xfrm>
            <a:off x="579600" y="237960"/>
            <a:ext cx="788796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57120" y="1000080"/>
          <a:ext cx="8329680" cy="5553000"/>
        </p:xfrm>
        <a:graphic>
          <a:graphicData uri="http://schemas.openxmlformats.org/drawingml/2006/table">
            <a:tbl>
              <a:tblPr/>
              <a:tblGrid>
                <a:gridCol w="1922400"/>
                <a:gridCol w="640728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лои нас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ы недоволь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лкие и средние феода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жане-чех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естья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6:58:02Z</dcterms:created>
  <dc:creator>Home Computer</dc:creator>
  <dc:description/>
  <dc:language>en-US</dc:language>
  <cp:lastModifiedBy>АСХАТ</cp:lastModifiedBy>
  <dcterms:modified xsi:type="dcterms:W3CDTF">2009-12-25T00:28:10Z</dcterms:modified>
  <cp:revision>49</cp:revision>
  <dc:subject/>
  <dc:title>Презентация PowerPoint</dc:title>
</cp:coreProperties>
</file>