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8.jpeg" ContentType="image/jpeg"/>
  <Override PartName="/ppt/media/image5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B65C-C873-4B73-8E6D-810CB949E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B9E4-B006-4DAF-9C29-BB578D7F6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701A-E845-4684-B120-EF05147CF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7AB0-6960-4AF3-AFE7-091F5B1EB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5D4261-C54E-4215-A6CE-65F8A43B8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411520-0400-4C3F-8330-87EA29A90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25A111-2D5F-4EBA-AA8C-E379F8D04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5BD94E-C35D-40CB-AEB4-D8B754FEC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8A9916-D798-4D2A-A6FB-9CFF14938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907622-AE8C-4B41-9C43-D70802434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E35F75-78C8-48CE-9358-A450EF022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A4F8-B480-404F-8C7B-4F0A2BF84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B9AB2A-040F-43FA-ABA8-20B34B680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28CD78-D495-4087-BCA6-3884DD916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C3447E-DCED-48FC-BCD3-4C38EA130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A122AB-1A84-4280-A87D-2F2158F69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6F5813-61D9-4C27-AE11-6C4485701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1A535-F0EE-4CF3-BF07-F231F7B46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E4689-1CDC-4BBC-9B1C-1C22AE7C4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8F6AF-99F0-4903-9101-40C62D2C6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D62CC-0403-4CFF-B76F-9E4A16276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59294-0006-4CE4-9F3A-B2C126F3F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AB79-2ACF-4248-B8DD-F2BCC47A7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243B7-5908-4BA1-BA01-919420DFB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B4535-2118-4B52-9E80-6C2A2454B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B6D9A-2BAD-4E42-9454-7AC567944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07BFA-24D4-4CD2-A54C-73089152A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6C5C8-4563-4B62-AC00-89D593586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6EF34-39ED-4154-905B-0B50764D9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24176-B660-4153-AD02-ED015541C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EC8559-72E2-4EE2-A92D-BD5B0ED15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B5E771-EF0C-45E0-8B91-4F3EF2803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BBF1FB-4333-44F0-8E69-7D366ABFE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9E93-B10B-4BD8-8488-02D4341CB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8C169E-568B-46F0-9DBA-064808A7B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3A0A38-E78D-4523-9E7D-F9E64B469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7C07B7-C2DB-4BE1-B624-F4655F222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9B0357-1C15-4DE8-B63E-99E461A2A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F21095-FF7B-4327-B3A8-E8A35FCC4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BC5EF6-5B6C-4CF2-B1AC-C5FA0BC33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BB325C-66F0-4A7F-8607-99D214895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C07644-CAC1-4066-87F8-0B0D68CFC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A89BC0-70C6-4982-903D-C561C8867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FA5680-CDD8-4D45-9454-F7F0D61EC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ABEE-E1C3-44BF-B806-2EAE4E290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F04F5A-D6D3-467C-BEE5-E9A398F49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51F167-5A55-411E-B53D-5B1FBFC7E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20E27F-BEF8-478B-8C81-C135A8864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7317CA-988A-4B6C-8912-8A475C64B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B7147E-49D5-4715-8289-2E595AC19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C7F10-8ED9-4A8B-83D5-3260AE23A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7492CA-D5A3-4AB1-8980-B80556C3F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2A1DF1-A845-4B6F-BA73-10DF0770A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6D0BFC-DD10-43D3-B3FD-E087E486C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06C25F-6FFB-44B8-AD33-605AD13A0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9F97-2779-4DB5-B8C6-15081F4BB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8888A8-5E5D-4EB6-965A-B7FC45B41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194F-8D92-4998-AA43-8AD2431EB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7F62-8110-4775-A839-46BBCD648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73BC-C388-4039-B09A-B4CC01BF9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E8BF1-80B8-49FD-AB43-CFCBC9FB975C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DE2B2-5BB8-46AF-A5C1-710B6DD0B5D0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E07A3-3097-46D1-99A2-4A435F6F2C20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4CBCA-41AF-4AC7-B68C-4EC3B215C22A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57D59-E371-4661-8796-518040707037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low.ru/a-world/1590-1.jpg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www.clow.ru/a-world/1590-2.jpg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czech-republic.cc/bd_content/max_foto/old_city_prague_1615.jpg" TargetMode="External"/><Relationship Id="rId3" Type="http://schemas.openxmlformats.org/officeDocument/2006/relationships/image" Target="../media/image11.jpeg"/><Relationship Id="rId4" Type="http://schemas.openxmlformats.org/officeDocument/2006/relationships/hyperlink" Target="http://www.mountian.ru/graph/1110658121_bg.jpg" TargetMode="External"/><Relationship Id="rId5" Type="http://schemas.openxmlformats.org/officeDocument/2006/relationships/image" Target="../media/image12.jpe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WordArt 4"/>
          <p:cNvSpPr txBox="1"/>
          <p:nvPr/>
        </p:nvSpPr>
        <p:spPr>
          <a:xfrm>
            <a:off x="1071720" y="428760"/>
            <a:ext cx="7391160" cy="14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2556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уситское движение в Чехии</a:t>
            </a:r>
            <a:endParaRPr b="0" lang="en-US" sz="2000" spc="1" strike="noStrike">
              <a:ln w="25560">
                <a:solidFill>
                  <a:srgbClr val="ff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2" name="Picture 5" descr="Картинка 88 из 8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42920" y="2133720"/>
            <a:ext cx="3178080" cy="41036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pic>
        <p:nvPicPr>
          <p:cNvPr id="213" name="Picture 6" descr="Картинка 10 из 130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219640" y="2133720"/>
            <a:ext cx="3075120" cy="400032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Rectangle 2" descr=""/>
          <p:cNvPicPr/>
          <p:nvPr/>
        </p:nvPicPr>
        <p:blipFill>
          <a:blip r:embed="rId2"/>
          <a:stretch/>
        </p:blipFill>
        <p:spPr>
          <a:xfrm>
            <a:off x="579600" y="237960"/>
            <a:ext cx="7887960" cy="914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3" name=""/>
          <p:cNvGraphicFramePr/>
          <p:nvPr/>
        </p:nvGraphicFramePr>
        <p:xfrm>
          <a:off x="428760" y="996840"/>
          <a:ext cx="8258040" cy="5816880"/>
        </p:xfrm>
        <a:graphic>
          <a:graphicData uri="http://schemas.openxmlformats.org/drawingml/2006/table">
            <a:tbl>
              <a:tblPr/>
              <a:tblGrid>
                <a:gridCol w="1904760"/>
                <a:gridCol w="6353280"/>
              </a:tblGrid>
              <a:tr h="82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лои населе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ичины недовольств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елкие и средние феодал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SzPct val="85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робление земельных владен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SzPct val="85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нищание, зависимость от пан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SzPct val="85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громные денежные поборы церкв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орожане-чех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SzPct val="85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асилье немцев в городском управлен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SzPct val="85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орогие церковные обряд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6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рестьян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3a447"/>
                        </a:buClr>
                        <a:buSzPct val="85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ысокие налоги и повинности в пользу государств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3a447"/>
                        </a:buClr>
                        <a:buSzPct val="85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Увеличение барщины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3a447"/>
                        </a:buClr>
                        <a:buSzPct val="85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Личная зависимость  от пан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3" descr="Картинка 5 из 1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57120" y="357120"/>
            <a:ext cx="2928960" cy="6243840"/>
          </a:xfrm>
          <a:prstGeom prst="rect">
            <a:avLst/>
          </a:prstGeom>
          <a:ln w="76320">
            <a:solidFill>
              <a:srgbClr val="993300"/>
            </a:solidFill>
            <a:miter/>
          </a:ln>
        </p:spPr>
      </p:pic>
      <p:sp>
        <p:nvSpPr>
          <p:cNvPr id="245" name="Rectangle 11"/>
          <p:cNvSpPr/>
          <p:nvPr/>
        </p:nvSpPr>
        <p:spPr>
          <a:xfrm>
            <a:off x="3429000" y="428760"/>
            <a:ext cx="2857680" cy="60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Picture 3" descr="Картинка 12 из 20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286680" y="260280"/>
            <a:ext cx="2514600" cy="6264360"/>
          </a:xfrm>
          <a:prstGeom prst="rect">
            <a:avLst/>
          </a:prstGeom>
          <a:ln w="76320">
            <a:solidFill>
              <a:srgbClr val="3366ff"/>
            </a:solidFill>
            <a:miter/>
          </a:ln>
        </p:spPr>
      </p:pic>
      <p:pic>
        <p:nvPicPr>
          <p:cNvPr id="247" name="Прямоугольник 6" descr=""/>
          <p:cNvPicPr/>
          <p:nvPr/>
        </p:nvPicPr>
        <p:blipFill>
          <a:blip r:embed="rId6"/>
          <a:stretch/>
        </p:blipFill>
        <p:spPr>
          <a:xfrm>
            <a:off x="3059280" y="260280"/>
            <a:ext cx="3241440" cy="6597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3" descr="Картинка 2 из 204"/>
          <p:cNvPicPr/>
          <p:nvPr/>
        </p:nvPicPr>
        <p:blipFill>
          <a:blip r:embed="rId2"/>
          <a:stretch/>
        </p:blipFill>
        <p:spPr>
          <a:xfrm>
            <a:off x="380880" y="533520"/>
            <a:ext cx="8534520" cy="5790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3" descr="Изображение:Leiner Konstanz Insel.jpg"/>
          <p:cNvPicPr/>
          <p:nvPr/>
        </p:nvPicPr>
        <p:blipFill>
          <a:blip r:embed="rId2"/>
          <a:stretch/>
        </p:blipFill>
        <p:spPr>
          <a:xfrm>
            <a:off x="1857240" y="6480"/>
            <a:ext cx="5429520" cy="6846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3" descr="Hus"/>
          <p:cNvPicPr/>
          <p:nvPr/>
        </p:nvPicPr>
        <p:blipFill>
          <a:blip r:embed="rId2"/>
          <a:stretch/>
        </p:blipFill>
        <p:spPr>
          <a:xfrm>
            <a:off x="1258920" y="1276200"/>
            <a:ext cx="7656480" cy="497520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4"/>
          <p:cNvSpPr/>
          <p:nvPr/>
        </p:nvSpPr>
        <p:spPr>
          <a:xfrm>
            <a:off x="684360" y="333360"/>
            <a:ext cx="68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                   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6  июля  1415   год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3" descr="Картинка 15 из 204"/>
          <p:cNvPicPr/>
          <p:nvPr/>
        </p:nvPicPr>
        <p:blipFill>
          <a:blip r:embed="rId2"/>
          <a:stretch/>
        </p:blipFill>
        <p:spPr>
          <a:xfrm>
            <a:off x="1447920" y="66600"/>
            <a:ext cx="6705360" cy="6558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1447920" y="457200"/>
            <a:ext cx="6705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684360" y="260280"/>
            <a:ext cx="8153280" cy="58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419 г. – восстание в Праге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       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Начало  гуситских   войн.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            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Гуситское       движени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УМЕРЕННЫЕ                       ТАБОРИТ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(чашники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AutoShape 6"/>
          <p:cNvSpPr/>
          <p:nvPr/>
        </p:nvSpPr>
        <p:spPr>
          <a:xfrm rot="18820200">
            <a:off x="5639760" y="3008520"/>
            <a:ext cx="501840" cy="1485720"/>
          </a:xfrm>
          <a:prstGeom prst="downArrow">
            <a:avLst>
              <a:gd name="adj1" fmla="val 50000"/>
              <a:gd name="adj2" fmla="val 74014"/>
            </a:avLst>
          </a:prstGeom>
          <a:solidFill>
            <a:srgbClr val="a5b592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AutoShape 8"/>
          <p:cNvSpPr/>
          <p:nvPr/>
        </p:nvSpPr>
        <p:spPr>
          <a:xfrm rot="2809800">
            <a:off x="3181320" y="3019320"/>
            <a:ext cx="486000" cy="1447920"/>
          </a:xfrm>
          <a:prstGeom prst="downArrow">
            <a:avLst>
              <a:gd name="adj1" fmla="val 50000"/>
              <a:gd name="adj2" fmla="val 74481"/>
            </a:avLst>
          </a:prstGeom>
          <a:solidFill>
            <a:srgbClr val="a5b592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1447920" y="457200"/>
            <a:ext cx="6705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684360" y="260280"/>
            <a:ext cx="8153280" cy="51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755640" y="620640"/>
          <a:ext cx="7992720" cy="5616360"/>
        </p:xfrm>
        <a:graphic>
          <a:graphicData uri="http://schemas.openxmlformats.org/drawingml/2006/table">
            <a:tbl>
              <a:tblPr/>
              <a:tblGrid>
                <a:gridCol w="2664000"/>
                <a:gridCol w="2664360"/>
                <a:gridCol w="2664360"/>
              </a:tblGrid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Что сравнить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Умеренны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Табори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2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1. Какие слои населения входили в эту группу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2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2 Чем были недовольны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2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За что боролись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2"/>
          <p:cNvSpPr/>
          <p:nvPr/>
        </p:nvSpPr>
        <p:spPr>
          <a:xfrm>
            <a:off x="1447920" y="457200"/>
            <a:ext cx="6705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684360" y="260280"/>
            <a:ext cx="8153280" cy="51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755640" y="620640"/>
          <a:ext cx="7777080" cy="5756400"/>
        </p:xfrm>
        <a:graphic>
          <a:graphicData uri="http://schemas.openxmlformats.org/drawingml/2006/table">
            <a:tbl>
              <a:tblPr/>
              <a:tblGrid>
                <a:gridCol w="2592360"/>
                <a:gridCol w="2592360"/>
                <a:gridCol w="2592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Что сравнить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Умеренны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Табори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1. Какие слои населения входили в эту группу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Зажиточные бюргеры, дворян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Крестьяне, горожане и бедные рыцар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2 Чем были недовольны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Дробление земельных владений, обнищание, зависимость от панов. Огромные денежные поборы церкви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Дорогие церковные обряды. Увеличение барщины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За что боролись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Упразднение привилегий и землевладений церкви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Уничтожить частную собственность, все повинности и налоги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4" descr="Картинка 10 из 130"/>
          <p:cNvPicPr/>
          <p:nvPr/>
        </p:nvPicPr>
        <p:blipFill>
          <a:blip r:embed="rId2"/>
          <a:stretch/>
        </p:blipFill>
        <p:spPr>
          <a:xfrm>
            <a:off x="571680" y="1500120"/>
            <a:ext cx="3296880" cy="48974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6" descr="Картинка 2 из 89"/>
          <p:cNvPicPr/>
          <p:nvPr/>
        </p:nvPicPr>
        <p:blipFill>
          <a:blip r:embed="rId3">
            <a:lum bright="-20000"/>
          </a:blip>
          <a:srcRect l="9249" t="49043" r="1404" b="6485"/>
          <a:stretch/>
        </p:blipFill>
        <p:spPr>
          <a:xfrm>
            <a:off x="4071960" y="1643040"/>
            <a:ext cx="4714920" cy="3571920"/>
          </a:xfrm>
          <a:prstGeom prst="rect">
            <a:avLst/>
          </a:prstGeom>
          <a:ln w="47520">
            <a:solidFill>
              <a:srgbClr val="ff0000"/>
            </a:solidFill>
            <a:miter/>
          </a:ln>
        </p:spPr>
      </p:pic>
      <p:pic>
        <p:nvPicPr>
          <p:cNvPr id="265" name="Rectangle 11" descr=""/>
          <p:cNvPicPr/>
          <p:nvPr/>
        </p:nvPicPr>
        <p:blipFill>
          <a:blip r:embed="rId4"/>
          <a:stretch/>
        </p:blipFill>
        <p:spPr>
          <a:xfrm>
            <a:off x="3657600" y="5619600"/>
            <a:ext cx="3865680" cy="1244880"/>
          </a:xfrm>
          <a:prstGeom prst="rect">
            <a:avLst/>
          </a:prstGeom>
          <a:ln w="0">
            <a:noFill/>
          </a:ln>
        </p:spPr>
      </p:pic>
      <p:pic>
        <p:nvPicPr>
          <p:cNvPr id="266" name="Rectangle 11" descr=""/>
          <p:cNvPicPr/>
          <p:nvPr/>
        </p:nvPicPr>
        <p:blipFill>
          <a:blip r:embed="rId5"/>
          <a:stretch/>
        </p:blipFill>
        <p:spPr>
          <a:xfrm>
            <a:off x="493560" y="244440"/>
            <a:ext cx="7716960" cy="1187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708360" y="1921320"/>
            <a:ext cx="4897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Верный христианин ищет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                       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правду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слушает правду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изучает правду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говорит правду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защищает правду до смерти”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           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(Ян Гус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203640" y="260280"/>
            <a:ext cx="381636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Эпиграф: </a:t>
            </a:r>
            <a:endParaRPr b="1" lang="en-US" sz="2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16" name="Picture 5" descr="Картинка 88 из 89"/>
          <p:cNvPicPr/>
          <p:nvPr/>
        </p:nvPicPr>
        <p:blipFill>
          <a:blip r:embed="rId2"/>
          <a:stretch/>
        </p:blipFill>
        <p:spPr>
          <a:xfrm>
            <a:off x="324000" y="1844640"/>
            <a:ext cx="3066840" cy="3960720"/>
          </a:xfrm>
          <a:prstGeom prst="rect">
            <a:avLst/>
          </a:prstGeom>
          <a:ln w="76320">
            <a:solidFill>
              <a:srgbClr val="ff6600"/>
            </a:solidFill>
            <a:miter/>
          </a:ln>
        </p:spPr>
      </p:pic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533520" y="609480"/>
            <a:ext cx="8381880" cy="68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Итоги    гуситского   движения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spcBef>
                <a:spcPts val="2001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Крестьяне перестали платить десятину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spcBef>
                <a:spcPts val="2001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Утвердилась гуситская церковь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spcBef>
                <a:spcPts val="2001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Королевская власть была ограничена сеймом. Чехия – сословная монархи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spcBef>
                <a:spcPts val="2001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Из городов изгнано немецкое населени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spcBef>
                <a:spcPts val="2001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Чехия оторвана от общеевропейского развити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spcBef>
                <a:spcPts val="2001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Уничтожены сокровища церковного искусств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spcBef>
                <a:spcPts val="2001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spcBef>
                <a:spcPts val="2001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Прямоугольник 1" descr=""/>
          <p:cNvPicPr/>
          <p:nvPr/>
        </p:nvPicPr>
        <p:blipFill>
          <a:blip r:embed="rId2"/>
          <a:stretch/>
        </p:blipFill>
        <p:spPr>
          <a:xfrm>
            <a:off x="2865600" y="-12600"/>
            <a:ext cx="2925720" cy="99360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2"/>
          <p:cNvSpPr/>
          <p:nvPr/>
        </p:nvSpPr>
        <p:spPr>
          <a:xfrm>
            <a:off x="142920" y="1143000"/>
            <a:ext cx="9001080" cy="76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spcBef>
                <a:spcPts val="1001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Какой город стал столицей священной римской империи в середине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XIV </a:t>
            </a: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века?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                           </a:t>
            </a: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а) Прага;     б)Рим;      в) Неаполь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2.     За что Ян Гус критиковал духовенство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                            </a:t>
            </a: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а) за, что торговали церковными должностями и индульгенциями;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                           </a:t>
            </a: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б)за то, что брали деньги за обряды;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                           </a:t>
            </a: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в) за то, что богослужение велось не на родном языке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                           </a:t>
            </a: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г)верно а), б), в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1001"/>
              </a:spcBef>
              <a:buClr>
                <a:srgbClr val="000066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Кто такой патриот?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                          </a:t>
            </a: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а) человек, любящий свою Родину;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                           </a:t>
            </a: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б)человек, борющийся с деятельностью церкви;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                           </a:t>
            </a: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в) человек, не отказывающийся от своих идей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4. Когда началось восстание гуситов в Праге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                          </a:t>
            </a: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а) в 1414 г.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                          </a:t>
            </a: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б) в 1400 г.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                          </a:t>
            </a: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в) в 1419 г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                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lnSpc>
                <a:spcPct val="50000"/>
              </a:lnSpc>
              <a:spcBef>
                <a:spcPts val="125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1250"/>
              </a:spcBef>
              <a:buClr>
                <a:srgbClr val="000066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357120" y="928800"/>
            <a:ext cx="8501040" cy="76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spcBef>
                <a:spcPts val="1001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Какой город стал столицей священной римской империи в середине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XIV </a:t>
            </a: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века?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                           </a:t>
            </a:r>
            <a:r>
              <a:rPr b="1" lang="ru-RU" sz="1600" spc="-1" strike="noStrike">
                <a:solidFill>
                  <a:srgbClr val="f2f2f2"/>
                </a:solidFill>
                <a:latin typeface="Times New Roman"/>
              </a:rPr>
              <a:t>а) Прага;     </a:t>
            </a: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б)Рим;      в) Неаполь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2.     За что Ян Гус критиковал духовенство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                            </a:t>
            </a: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а) за, что торговали церковными должностями и индульгенциями;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                           </a:t>
            </a: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б)за то, что брали деньги за обряды;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                           </a:t>
            </a: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в) за то, что богослужение велось не на родном языке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                           </a:t>
            </a:r>
            <a:r>
              <a:rPr b="1" lang="ru-RU" sz="1600" spc="-1" strike="noStrike">
                <a:solidFill>
                  <a:srgbClr val="f2f2f2"/>
                </a:solidFill>
                <a:latin typeface="Times New Roman"/>
              </a:rPr>
              <a:t>г)верно а), б), в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1001"/>
              </a:spcBef>
              <a:buClr>
                <a:srgbClr val="000066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Кто такой патриот?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                          </a:t>
            </a:r>
            <a:r>
              <a:rPr b="1" lang="ru-RU" sz="1600" spc="-1" strike="noStrike">
                <a:solidFill>
                  <a:srgbClr val="f2f2f2"/>
                </a:solidFill>
                <a:latin typeface="Times New Roman"/>
              </a:rPr>
              <a:t>а) человек, любящий свою Родину;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                           </a:t>
            </a: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б)человек, борющийся с деятельностью церкви;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                           </a:t>
            </a: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в) человек, не отказывающийся от своих идей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4. Когда началось восстание гуситов в Праге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                          </a:t>
            </a: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а) в 1414 г.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                          </a:t>
            </a: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б) в 1400 г.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                          </a:t>
            </a:r>
            <a:r>
              <a:rPr b="1" lang="ru-RU" sz="1600" spc="-1" strike="noStrike">
                <a:solidFill>
                  <a:srgbClr val="f2f2f2"/>
                </a:solidFill>
                <a:latin typeface="Times New Roman"/>
              </a:rPr>
              <a:t>в) в 1419 г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                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lnSpc>
                <a:spcPct val="50000"/>
              </a:lnSpc>
              <a:spcBef>
                <a:spcPts val="125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1250"/>
              </a:spcBef>
              <a:buClr>
                <a:srgbClr val="000066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2" name="Прямоугольник 2" descr=""/>
          <p:cNvPicPr/>
          <p:nvPr/>
        </p:nvPicPr>
        <p:blipFill>
          <a:blip r:embed="rId2"/>
          <a:stretch/>
        </p:blipFill>
        <p:spPr>
          <a:xfrm>
            <a:off x="2554200" y="128520"/>
            <a:ext cx="4310280" cy="676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Rectangle 11" descr=""/>
          <p:cNvPicPr/>
          <p:nvPr/>
        </p:nvPicPr>
        <p:blipFill>
          <a:blip r:embed="rId2"/>
          <a:stretch/>
        </p:blipFill>
        <p:spPr>
          <a:xfrm>
            <a:off x="993600" y="231840"/>
            <a:ext cx="7016760" cy="5992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Прямоугольник 2" descr=""/>
          <p:cNvPicPr/>
          <p:nvPr/>
        </p:nvPicPr>
        <p:blipFill>
          <a:blip r:embed="rId2"/>
          <a:stretch/>
        </p:blipFill>
        <p:spPr>
          <a:xfrm>
            <a:off x="1395360" y="30240"/>
            <a:ext cx="4944960" cy="120816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1"/>
          <p:cNvSpPr/>
          <p:nvPr/>
        </p:nvSpPr>
        <p:spPr>
          <a:xfrm>
            <a:off x="0" y="923400"/>
            <a:ext cx="889308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Обучающая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07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раскрыть идеологические основы религиозных и общественных         взглядов Яна Гуса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07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показать причины победы таборитов в ходе гуситских войн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07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раскрыть причины, цели, итоги и значение гуситского движения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Развивающая 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07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совершенствовать навыки работы учащихся с текстом учебника, исторических документов, алгоритмами, картой, тестами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07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развивать умения анализировать текст, выделять главное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Воспитательная 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07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познакомить учащихся с деятельностью чешских патриотов Яна Гуса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и Яна Жижки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07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на примере чешских героев воспитывать чувство патриотизма, любви к Родине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07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показать величие гражданского мужества Я. Гуса, готового пойти на смерть ради правды, своих взглядов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Rectangle 11" descr=""/>
          <p:cNvPicPr/>
          <p:nvPr/>
        </p:nvPicPr>
        <p:blipFill>
          <a:blip r:embed="rId2"/>
          <a:stretch/>
        </p:blipFill>
        <p:spPr>
          <a:xfrm>
            <a:off x="993600" y="208080"/>
            <a:ext cx="7023240" cy="129672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642960" y="1928520"/>
            <a:ext cx="8339040" cy="41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e1d3"/>
                </a:solidFill>
                <a:latin typeface="Constantia"/>
              </a:rPr>
              <a:t>Гуситы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e1d3"/>
                </a:solidFill>
                <a:latin typeface="Constantia"/>
              </a:rPr>
              <a:t>Табориты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e1d3"/>
                </a:solidFill>
                <a:latin typeface="Constantia"/>
              </a:rPr>
              <a:t>Умеренные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e1d3"/>
                </a:solidFill>
                <a:latin typeface="Constantia"/>
              </a:rPr>
              <a:t>Церковный собор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e1d3"/>
                </a:solidFill>
                <a:latin typeface="Constantia"/>
              </a:rPr>
              <a:t>Сейм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Group 8"/>
          <p:cNvGrpSpPr/>
          <p:nvPr/>
        </p:nvGrpSpPr>
        <p:grpSpPr>
          <a:xfrm>
            <a:off x="3968640" y="2668680"/>
            <a:ext cx="343080" cy="360"/>
            <a:chOff x="3968640" y="2668680"/>
            <a:chExt cx="343080" cy="360"/>
          </a:xfrm>
        </p:grpSpPr>
        <p:sp>
          <p:nvSpPr>
            <p:cNvPr id="222" name="Rectangle 7"/>
            <p:cNvSpPr/>
            <p:nvPr/>
          </p:nvSpPr>
          <p:spPr>
            <a:xfrm>
              <a:off x="3968640" y="2668680"/>
              <a:ext cx="343080" cy="3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3" name="Group 6"/>
            <p:cNvGrpSpPr/>
            <p:nvPr/>
          </p:nvGrpSpPr>
          <p:grpSpPr>
            <a:xfrm>
              <a:off x="3968640" y="2668680"/>
              <a:ext cx="343080" cy="360"/>
              <a:chOff x="3968640" y="2668680"/>
              <a:chExt cx="343080" cy="360"/>
            </a:xfrm>
          </p:grpSpPr>
          <p:sp>
            <p:nvSpPr>
              <p:cNvPr id="224" name="Rectangle 2"/>
              <p:cNvSpPr/>
              <p:nvPr/>
            </p:nvSpPr>
            <p:spPr>
              <a:xfrm>
                <a:off x="3968640" y="2668680"/>
                <a:ext cx="343080" cy="36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Rectangle 5"/>
              <p:cNvSpPr/>
              <p:nvPr/>
            </p:nvSpPr>
            <p:spPr>
              <a:xfrm>
                <a:off x="3968640" y="2668680"/>
                <a:ext cx="34308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226" name="Rectangle 11" descr=""/>
          <p:cNvPicPr/>
          <p:nvPr/>
        </p:nvPicPr>
        <p:blipFill>
          <a:blip r:embed="rId2"/>
          <a:stretch/>
        </p:blipFill>
        <p:spPr>
          <a:xfrm>
            <a:off x="2066760" y="285840"/>
            <a:ext cx="3999240" cy="147636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500040" y="1928520"/>
            <a:ext cx="833904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Чехия в XIV веке.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743040" indent="-74304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Жизнь и смерть Яна Гуса.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743040" indent="-74304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Начало вооруженной борьбы. Гуситы.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743040" indent="-74304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Крестовые походы против гуситов.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743040" indent="-74304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Народное войско. Ян Жижка.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743040" indent="-74304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Конец гуситских войн. Значение. Итоги.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8"/>
          <p:cNvGrpSpPr/>
          <p:nvPr/>
        </p:nvGrpSpPr>
        <p:grpSpPr>
          <a:xfrm>
            <a:off x="3968640" y="2668680"/>
            <a:ext cx="343080" cy="360"/>
            <a:chOff x="3968640" y="2668680"/>
            <a:chExt cx="343080" cy="360"/>
          </a:xfrm>
        </p:grpSpPr>
        <p:sp>
          <p:nvSpPr>
            <p:cNvPr id="229" name="Rectangle 7"/>
            <p:cNvSpPr/>
            <p:nvPr/>
          </p:nvSpPr>
          <p:spPr>
            <a:xfrm>
              <a:off x="3968640" y="2668680"/>
              <a:ext cx="343080" cy="3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0" name="Group 6"/>
            <p:cNvGrpSpPr/>
            <p:nvPr/>
          </p:nvGrpSpPr>
          <p:grpSpPr>
            <a:xfrm>
              <a:off x="3968640" y="2668680"/>
              <a:ext cx="343080" cy="360"/>
              <a:chOff x="3968640" y="2668680"/>
              <a:chExt cx="343080" cy="360"/>
            </a:xfrm>
          </p:grpSpPr>
          <p:sp>
            <p:nvSpPr>
              <p:cNvPr id="231" name="Rectangle 2"/>
              <p:cNvSpPr/>
              <p:nvPr/>
            </p:nvSpPr>
            <p:spPr>
              <a:xfrm>
                <a:off x="3968640" y="2668680"/>
                <a:ext cx="343080" cy="36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Rectangle 5"/>
              <p:cNvSpPr/>
              <p:nvPr/>
            </p:nvSpPr>
            <p:spPr>
              <a:xfrm>
                <a:off x="3968640" y="2668680"/>
                <a:ext cx="34308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42920" y="4214520"/>
            <a:ext cx="850104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ыла создана специальная географическая карта, изображавшая Европу в виде знатной женщины, голова которой образовывала Пиренейский полуостров, длинная юбка доходила до Уральских гор, правая рука была Италией, а сердце Дамы Европы представляла собой Чехия. Так что Чехия в представлении самих ее жителей становится центром мира. Недаром, наверное, чехи сами называли свою страну “Богемия”, т.е. избранная богом, а себя – “богемцами”. </a:t>
            </a:r>
            <a:endParaRPr b="0" lang="en-US" sz="23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4" name="Picture 4" descr="C:\Documents and Settings\Admin\Рабочий стол\карта чехии.jpg"/>
          <p:cNvPicPr/>
          <p:nvPr/>
        </p:nvPicPr>
        <p:blipFill>
          <a:blip r:embed="rId2"/>
          <a:stretch/>
        </p:blipFill>
        <p:spPr>
          <a:xfrm>
            <a:off x="611280" y="692280"/>
            <a:ext cx="4356000" cy="321444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  <p:sp>
        <p:nvSpPr>
          <p:cNvPr id="235" name="Прямоугольник 16"/>
          <p:cNvSpPr/>
          <p:nvPr/>
        </p:nvSpPr>
        <p:spPr>
          <a:xfrm>
            <a:off x="5219640" y="189000"/>
            <a:ext cx="35290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  концу Средневековья в Чехии возникло определенное представление о месте своей страны в том огромном мире, в котором оказался средневековый человек Европы. Согласно этому представлению центром планеты является, конечно же, Европа, центром Европы – Германская империя, центром империи – Чехия, а центром Чехии – ее столица Праг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6" descr="http://im6-tub.yandex.net/i?id=70546835&amp;tov=6"/>
          <p:cNvPicPr/>
          <p:nvPr/>
        </p:nvPicPr>
        <p:blipFill>
          <a:blip r:embed="rId2"/>
          <a:stretch/>
        </p:blipFill>
        <p:spPr>
          <a:xfrm>
            <a:off x="571680" y="857160"/>
            <a:ext cx="3012840" cy="4000680"/>
          </a:xfrm>
          <a:prstGeom prst="rect">
            <a:avLst/>
          </a:prstGeom>
          <a:ln w="63360">
            <a:solidFill>
              <a:srgbClr val="ff0000"/>
            </a:solidFill>
            <a:miter/>
          </a:ln>
        </p:spPr>
      </p:pic>
      <p:sp>
        <p:nvSpPr>
          <p:cNvPr id="237" name="Rectangle 13"/>
          <p:cNvSpPr/>
          <p:nvPr/>
        </p:nvSpPr>
        <p:spPr>
          <a:xfrm>
            <a:off x="3714840" y="428760"/>
            <a:ext cx="5267160" cy="56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nstantia"/>
              </a:rPr>
              <a:t>Карл </a:t>
            </a:r>
            <a:r>
              <a:rPr b="0" lang="en-US" sz="3600" spc="-1" strike="noStrike">
                <a:solidFill>
                  <a:srgbClr val="ff0000"/>
                </a:solidFill>
                <a:latin typeface="Constantia"/>
              </a:rPr>
              <a:t>IV</a:t>
            </a:r>
            <a:r>
              <a:rPr b="0" lang="ru-RU" sz="3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ru-RU" sz="3600" spc="-1" strike="noStrike">
                <a:solidFill>
                  <a:srgbClr val="dbe1d3"/>
                </a:solidFill>
                <a:latin typeface="Constantia"/>
              </a:rPr>
              <a:t>-  талантливый писатель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be1d3"/>
                </a:solidFill>
                <a:latin typeface="Constantia"/>
              </a:rPr>
              <a:t> </a:t>
            </a:r>
            <a:r>
              <a:rPr b="0" lang="ru-RU" sz="3600" spc="-1" strike="noStrike">
                <a:solidFill>
                  <a:srgbClr val="dbe1d3"/>
                </a:solidFill>
                <a:latin typeface="Constantia"/>
              </a:rPr>
              <a:t>богатый коллекционер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be1d3"/>
                </a:solidFill>
                <a:latin typeface="Constantia"/>
              </a:rPr>
              <a:t>основатель Пражского университета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be1d3"/>
                </a:solidFill>
                <a:latin typeface="Constantia"/>
              </a:rPr>
              <a:t>Покровитель искусств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13"/>
          <p:cNvSpPr/>
          <p:nvPr/>
        </p:nvSpPr>
        <p:spPr>
          <a:xfrm>
            <a:off x="428760" y="1000080"/>
            <a:ext cx="8339040" cy="52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2613"/>
                </a:solidFill>
                <a:latin typeface="Constantia"/>
              </a:rPr>
              <a:t>Мелкие дворяне </a:t>
            </a:r>
            <a:r>
              <a:rPr b="0" lang="ru-RU" sz="3200" spc="-1" strike="noStrike">
                <a:solidFill>
                  <a:srgbClr val="dbe1d3"/>
                </a:solidFill>
                <a:latin typeface="Constantia"/>
              </a:rPr>
              <a:t>– число увеличилось за счёт раздробления владений- обнищания, попадали в зависимость к крупным дворянам – панам.Основное занятие – война, служба как наёмников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2613"/>
                </a:solidFill>
                <a:latin typeface="Constantia"/>
              </a:rPr>
              <a:t>Горожане </a:t>
            </a:r>
            <a:r>
              <a:rPr b="0" lang="ru-RU" sz="3200" spc="-1" strike="noStrike">
                <a:solidFill>
                  <a:srgbClr val="dbe1d3"/>
                </a:solidFill>
                <a:latin typeface="Constantia"/>
              </a:rPr>
              <a:t>– стремились участвовать в городском самоуправлении, оттеснить немцев на задний план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2613"/>
                </a:solidFill>
                <a:latin typeface="Constantia"/>
              </a:rPr>
              <a:t>Крестьяне </a:t>
            </a:r>
            <a:r>
              <a:rPr b="0" lang="ru-RU" sz="3200" spc="-1" strike="noStrike">
                <a:solidFill>
                  <a:srgbClr val="dbe1d3"/>
                </a:solidFill>
                <a:latin typeface="Constantia"/>
              </a:rPr>
              <a:t>– кроме феодальных повинностей платили королевский налог и несли повинности в пользу  государств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Rectangle 11" descr=""/>
          <p:cNvPicPr/>
          <p:nvPr/>
        </p:nvPicPr>
        <p:blipFill>
          <a:blip r:embed="rId2"/>
          <a:stretch/>
        </p:blipFill>
        <p:spPr>
          <a:xfrm>
            <a:off x="676440" y="347760"/>
            <a:ext cx="8040600" cy="579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Rectangle 2" descr=""/>
          <p:cNvPicPr/>
          <p:nvPr/>
        </p:nvPicPr>
        <p:blipFill>
          <a:blip r:embed="rId2"/>
          <a:stretch/>
        </p:blipFill>
        <p:spPr>
          <a:xfrm>
            <a:off x="579600" y="237960"/>
            <a:ext cx="7887960" cy="914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1" name=""/>
          <p:cNvGraphicFramePr/>
          <p:nvPr/>
        </p:nvGraphicFramePr>
        <p:xfrm>
          <a:off x="357120" y="1000080"/>
          <a:ext cx="8329680" cy="5553000"/>
        </p:xfrm>
        <a:graphic>
          <a:graphicData uri="http://schemas.openxmlformats.org/drawingml/2006/table">
            <a:tbl>
              <a:tblPr/>
              <a:tblGrid>
                <a:gridCol w="1922400"/>
                <a:gridCol w="6407280"/>
              </a:tblGrid>
              <a:tr h="83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лои населе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ичины недовольств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4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елкие и средние феодал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орожане-чех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0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рестьян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4T16:58:02Z</dcterms:created>
  <dc:creator>Home Computer</dc:creator>
  <dc:description/>
  <dc:language>en-US</dc:language>
  <cp:lastModifiedBy>АСХАТ</cp:lastModifiedBy>
  <dcterms:modified xsi:type="dcterms:W3CDTF">2009-12-25T00:28:10Z</dcterms:modified>
  <cp:revision>49</cp:revision>
  <dc:subject/>
  <dc:title>Презентация PowerPoint</dc:title>
</cp:coreProperties>
</file>