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click.wav" ContentType="audio/x-wav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0.jpeg" ContentType="image/jpeg"/>
  <Override PartName="/ppt/media/image14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7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D6397-E5DD-4957-BD3B-E9E84480F32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F6E-1076-462E-B165-39295CA9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EBC-7989-42C2-9ABF-35AC0AD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EDA-1D71-4D80-B299-41B367BE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63E-9EBA-493F-9A5F-3873B3A4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C139-A2E1-4D49-9EC6-B94626F6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CC0-8EE7-4768-9941-28D257E3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71ED-F516-432A-A53A-E3DBBAE0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5758-60F1-4081-A1D6-525EDB9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303-5F9F-4F11-9845-9BC77264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96F1-C42F-4587-921E-21705D17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1545-9467-4E71-884E-16A40AB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A52-5CDB-441A-BBE4-DF089AA2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CC0-D07D-4699-ADF7-48E2789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73A5-702B-417E-8107-D8610E3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E60-49C2-458D-A4E6-5D0973B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A16-9315-4791-BF31-5AE4D97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CB35-BFAC-4110-A8E0-4527F4A6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72FF-41AD-4F3E-9545-10F31EC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7F84-AF66-4E79-A202-DF5B55AA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C829-D61B-4AD9-9300-D4DDD39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2A9E-994B-434A-8F83-35759B7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A944-F447-4589-BC68-A70F62D9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61A-37B8-423E-B56C-0DD2F41D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209B-5A6F-4FEC-B03D-076D439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1A4E-B535-4852-8BC5-138CE15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F804-A038-4163-8C83-BDFDC31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D1F3-6DDA-4F71-A23E-76DCCF6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F44D-7581-4748-AA92-1E974D8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BB3A-0394-4025-8A69-A161387B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9005-C930-4BFD-AD61-56BB1D3E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DB84-3061-4313-8BA8-75FB3C43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A69C-6235-4F17-B278-01DB8A33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6965-3B07-4FFD-8F84-068520C6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2DE-9FAF-4E83-95BF-EA8591A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06FA-223B-49D2-A4EE-D721D8E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69A5-10C6-425E-B2D4-B27D6F3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6142-9ADD-4ADF-A7B0-811B0F4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CCAD8-E5F1-48A4-95DA-90D072F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4DCB-2D48-4A09-8155-418A2EF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4968-8339-40DB-B858-1BC8E99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B772-95B2-4A64-B3B0-FC669D5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85C0-C65E-435D-B4BB-62F0A9B2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8012-CD75-4A9E-A72A-5B9D8A94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C828-9AAC-40B6-AB03-3D3E5E50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5AC-39DE-4213-B186-7CC29637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07FC-F44D-439E-ACFB-543574C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14E9-5255-4358-AF8F-D5880981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DF25-257F-4E6C-A062-405E56F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EB7F-747C-4878-AD04-C4980DF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32BF-DDAA-464A-BD08-78D9AE6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1BBE-B9C3-4D1F-A33E-5FC9EAD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F062-BF86-4F19-B2B9-36ABC6D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28D7-2F2D-479C-A605-940D430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91C4-8637-4BF2-9960-5B09788D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7CA5-60C7-4686-8989-079F2040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92E-451C-40DD-A2E8-39D2B685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C2966-55C2-4D9F-9CD2-B2092554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A6C-6089-4D70-8930-FA8283D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814-D278-475E-BA65-82CFE23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364-37E1-4D7D-8A1D-E208137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6FE1-F540-47DA-B76E-104DEC70C6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5BD0D6-923B-4CF6-BC70-7775FC852EB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9E01EB-D7A5-4CEC-B9C6-3509EAE68BF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6934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76C368-8B44-4C01-B6FE-F499AE8F4E57}" type="slidenum"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5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9AEBC7-2505-4D49-AB0D-50A73A5582D1}" type="slidenum"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5440" cy="205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ld-hohloma.narod.ru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ebartplus.ru/hl6.html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webartplus.ru/hl30.html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webartplus.ru/hl24.html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webartplus.ru/hl17.html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www.webartplus.ru/hl31.html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www.webartplus.ru/hl28.html" TargetMode="External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4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artplus.ru/hl35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301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bat"/>
              </a:rPr>
              <a:t>                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bat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ла учитель ИЗО  Белоконева Л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 ООШ №13  х. Михайлова, Шовгеновского района, Республики Адыге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76200" y="549360"/>
            <a:ext cx="2689200" cy="2808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 rot="240000">
            <a:off x="2630520" y="245880"/>
            <a:ext cx="5680080" cy="489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одные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удожественные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мысл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-179280"/>
            <a:ext cx="889308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любуйтесь хохломской посудой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ннее пробуждение природы, буйство летнего разноцветья, щедрость русской осени с горящими на солнце багряными и золотыми листьями - всё это питает вечно живыми соками народное искусство Хохломы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2030" r="0" b="0"/>
          <a:stretch/>
        </p:blipFill>
        <p:spPr>
          <a:xfrm>
            <a:off x="1835280" y="2641680"/>
            <a:ext cx="5905440" cy="38383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0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1"/>
          </p:cNvPr>
          <p:cNvPicPr/>
          <p:nvPr/>
        </p:nvPicPr>
        <p:blipFill>
          <a:blip r:embed="rId2"/>
          <a:srcRect l="0" t="1581" r="0" b="0"/>
          <a:stretch/>
        </p:blipFill>
        <p:spPr>
          <a:xfrm>
            <a:off x="900000" y="90792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099640" cy="5580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0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89800" cy="5257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0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504360"/>
            <a:ext cx="77724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contrast="12000"/>
          </a:blip>
          <a:srcRect l="0" t="472" r="0" b="0"/>
          <a:stretch/>
        </p:blipFill>
        <p:spPr>
          <a:xfrm>
            <a:off x="826920" y="981000"/>
            <a:ext cx="7596360" cy="530712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0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3200400" cy="3352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5791320" y="3651120"/>
            <a:ext cx="3352680" cy="3206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3124080" y="0"/>
            <a:ext cx="3043440" cy="350532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2819520" cy="28735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260280"/>
            <a:ext cx="2741760" cy="286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573360"/>
            <a:ext cx="2881080" cy="2792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357336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3573360"/>
            <a:ext cx="3198960" cy="2808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24360" y="209520"/>
            <a:ext cx="3419640" cy="2898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356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 rot="20700000">
            <a:off x="2701800" y="1611360"/>
            <a:ext cx="6175440" cy="174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24000" y="5516280"/>
            <a:ext cx="30877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Главное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Хохлом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br>
              <a:rPr sz="4400"/>
            </a:b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35640" y="1260360"/>
            <a:ext cx="4464000" cy="34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lick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01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наиболее древних промыслов на территории нижегородской области явля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охломская роспись по дере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он в селах, расположенных по берегам реки Узолы в конце 17 века. В Заволжье эта технология получила широкое распространение благодаря мастерам-старообрядцам, бежавшим сюда от преследования властей.  Хохлома - название большого торгового села, куда мастера привозили свои изделия на продажу. Позднее и весь промысел получил название хохломской роспис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50160" y="1890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Главное 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04360"/>
            <a:ext cx="77724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-171360"/>
            <a:ext cx="9144000" cy="1368360"/>
          </a:xfrm>
          <a:prstGeom prst="rect">
            <a:avLst/>
          </a:prstGeom>
          <a:gradFill rotWithShape="0">
            <a:gsLst>
              <a:gs pos="0">
                <a:srgbClr val="666633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bat"/>
              </a:rPr>
              <a:t>Этапы хохломской роспис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готовка издел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нтовка полуфабрик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п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рытие ла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алка в п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716280"/>
            <a:ext cx="5257800" cy="295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Виды роспис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990720"/>
            <a:ext cx="5707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  </a:t>
            </a:r>
            <a:r>
              <a:rPr b="0" lang="ru-RU" sz="4000" spc="-1" strike="noStrike">
                <a:solidFill>
                  <a:srgbClr val="3333cc"/>
                </a:solidFill>
                <a:latin typeface="Arbat"/>
              </a:rPr>
              <a:t>«Верхов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«верховой»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писи принято относить «травку»или «под листок» - роспись, включающую изображения травинок, веточек, написанных красной и черной краской на золотом ф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3333cc"/>
                </a:solidFill>
                <a:latin typeface="Arbat"/>
              </a:rPr>
              <a:t>«Под фон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роспис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«под фон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силуэтный золотистый рисунок на черном и красном фон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952720" cy="2360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952720" cy="259236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давна в хохломской росписи использовались три цвета: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черный 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олот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которые сохранились и поны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743280" cy="381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3929040" cy="37576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gradFill rotWithShape="0">
            <a:gsLst>
              <a:gs pos="0">
                <a:srgbClr val="666633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Типы орнамен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3379" r="0" b="0"/>
          <a:stretch/>
        </p:blipFill>
        <p:spPr>
          <a:xfrm>
            <a:off x="539640" y="1916280"/>
            <a:ext cx="5029200" cy="588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rcRect l="0" t="5620" r="0" b="9367"/>
          <a:stretch/>
        </p:blipFill>
        <p:spPr>
          <a:xfrm>
            <a:off x="468360" y="4292640"/>
            <a:ext cx="5257800" cy="647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257440" y="19807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осоч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завито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капель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кустики»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5029200" cy="6858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rcRect l="0" t="5011" r="0" b="10946"/>
          <a:stretch/>
        </p:blipFill>
        <p:spPr>
          <a:xfrm>
            <a:off x="539640" y="5589720"/>
            <a:ext cx="5181840" cy="720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Травный орнамент – стебель «криуль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9568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5094360" cy="1522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013360"/>
            <a:ext cx="5414760" cy="14936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0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Орнамент с «ягодками» и «листочкам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171880" y="5013360"/>
          <a:ext cx="697212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5013360"/>
                    <a:ext cx="697212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1536840"/>
          <a:ext cx="655308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36840"/>
                    <a:ext cx="65530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403280" y="3213000"/>
          <a:ext cx="6519960" cy="14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213000"/>
                    <a:ext cx="65199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0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6:28:58Z</dcterms:created>
  <dc:creator>Слушатель Центра Интернет-образование</dc:creator>
  <dc:description/>
  <dc:language>en-US</dc:language>
  <cp:lastModifiedBy>Admin</cp:lastModifiedBy>
  <dcterms:modified xsi:type="dcterms:W3CDTF">2010-06-16T19:06:08Z</dcterms:modified>
  <cp:revision>69</cp:revision>
  <dc:subject/>
  <dc:title>Хохломская роспись</dc:title>
</cp:coreProperties>
</file>