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click.wav" ContentType="audio/x-wav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0.jpeg" ContentType="image/jpeg"/>
  <Override PartName="/ppt/media/image14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6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17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A720F-F3C4-48F8-A161-14122A251F6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FE4-1E74-473F-8E46-C4DA0B00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B31-8F85-4675-94C4-E44BA941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8FC-B5C2-44FF-AC82-0C771EDA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296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792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296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95E-BA88-4CDF-B9F4-875DC517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BA59-24D9-4635-ABEC-ABCEB67A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610B-5A91-4264-8841-BE7FE685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05BF-8665-4B48-AA04-4AE9DBD9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2A32-6D4B-4535-8CFB-5E7F6032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D390-6741-4F37-86C2-576D960C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39612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8BEE-76BC-4DF6-AB02-B92F2235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1974-BBD6-4775-9696-DA5C130E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2A2-43E4-4338-B8AE-8CB50844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0FA6-C360-4686-9B4B-A4A732AD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3FEA-BAEA-42E9-AF14-76FC83B2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7BCB-F36C-4C28-8942-BF12B4E4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98D7-5FD9-4710-B2A3-89203D5B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0044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6296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43792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60044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76296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8ACA-C609-46C5-9F17-75A63705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D87A-3835-430E-9BAD-FEAF0E2B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306B3-0995-4F93-BB7F-7C6BA162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B31D2-E70E-48B8-B6BE-00A9E649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7E7FD-0BCC-4EEE-8179-1425C437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3702-DFB7-42FD-9735-26622874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718-44EE-460B-97AC-A19836FF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39612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A68F1-DA57-460D-B9F4-9AB4A112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3A0AA-AD3C-487F-84F6-CD13AD0E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2CD4-FD3A-4640-93BB-6882357A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422B2-8C1D-4F32-A816-FC66EAEA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4CF99-C822-4956-961A-6EAB424E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34644-3495-426E-A490-DE2AB743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0044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76296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243792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460044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76296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10875-CE30-4997-9F95-A497287D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0B56E-534A-4BA2-9C70-9D56D094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B85E8-3E94-44CC-A178-6D9AFADC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2A233-BE86-4732-9F4D-C9AD852C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CAB-89A1-46FD-BF0E-12278CD7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51882-F4FD-476A-AB3F-2F52C623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3C4E3-488D-4B35-AE5E-6CFBF633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39612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DDE81-403C-46B2-B5C1-80CD0CFA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DC3C4-25F6-427A-8D5B-C88E12E2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9905A-87C6-4959-9E2B-D9F71941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A7288-9725-45B8-9B62-5EDCBA15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365C5-A027-470F-AD36-E34370ED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631F3-E0FB-4033-908A-98551748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0044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76296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43792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60044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76296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1AC3E-A410-41BB-8CF1-3205E84D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EA1D0-6F8C-4A49-867F-A8261B2B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CFD-8F77-4CE4-B5CB-52E68203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95269-01FA-4602-8682-586A8D30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7421A-7D64-47F4-AA48-1219766F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2103A-7430-42C8-8228-FD83B03E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21A33-C76A-40D9-A5F0-81363F42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39612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15FF1-2A3D-45E9-AE5B-7E4613E4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07751-4E13-445A-AA2D-EEF3AD6D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A028F-B58D-422E-AD1C-778B3809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F0631-44B4-43B3-9ED4-2E6F6834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AAA69-20CC-404C-8500-562E9D92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A42DA-7089-4123-838D-D0B91AD2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39612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08F-AA75-4B2F-BE82-55195934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0044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762960" y="159984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3792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60044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762960" y="4766760"/>
            <a:ext cx="2059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C7EA5-6FB8-4DB5-9321-4297394C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750-6BBC-4B35-819A-CCE4CB00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5720" y="476676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7AA-6753-41CC-AEDE-CBE28D53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5720" y="1599840"/>
            <a:ext cx="3121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7920" y="4766760"/>
            <a:ext cx="63961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57A-2D3A-4A1A-8382-65C1C30A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726FD-ABB6-4629-B10B-889200CC4F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686A6A0-5B23-48CC-B5F8-114583FEAE0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8E0DC0-2A70-4905-9EF1-E8191EA12FA3}" type="slidenum">
              <a:rPr b="0" lang="ru-RU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5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37920" y="1599840"/>
            <a:ext cx="63961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152280" y="6248520"/>
            <a:ext cx="18972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69343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C5C790-8BDD-49FB-B0BA-4AC1EA29C071}" type="slidenum">
              <a: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15"/>
          </p:nvPr>
        </p:nvSpPr>
        <p:spPr>
          <a:xfrm>
            <a:off x="70099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EE8AFCC-F007-45C3-836C-07FDCEBB4F9C}" type="slidenum">
              <a:rPr b="0" lang="ru-RU" sz="10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615440" cy="2052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ld-hohloma.narod.ru/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ebartplus.ru/hl6.html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webartplus.ru/hl30.html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www.webartplus.ru/hl24.html" TargetMode="External"/><Relationship Id="rId6" Type="http://schemas.openxmlformats.org/officeDocument/2006/relationships/image" Target="../media/image31.jpeg"/><Relationship Id="rId7" Type="http://schemas.openxmlformats.org/officeDocument/2006/relationships/hyperlink" Target="http://www.webartplus.ru/hl17.html" TargetMode="External"/><Relationship Id="rId8" Type="http://schemas.openxmlformats.org/officeDocument/2006/relationships/image" Target="../media/image32.jpeg"/><Relationship Id="rId9" Type="http://schemas.openxmlformats.org/officeDocument/2006/relationships/hyperlink" Target="http://www.webartplus.ru/hl31.html" TargetMode="External"/><Relationship Id="rId10" Type="http://schemas.openxmlformats.org/officeDocument/2006/relationships/image" Target="../media/image33.jpeg"/><Relationship Id="rId11" Type="http://schemas.openxmlformats.org/officeDocument/2006/relationships/hyperlink" Target="http://www.webartplus.ru/hl28.html" TargetMode="External"/><Relationship Id="rId12" Type="http://schemas.openxmlformats.org/officeDocument/2006/relationships/image" Target="../media/image34.jpeg"/><Relationship Id="rId13" Type="http://schemas.openxmlformats.org/officeDocument/2006/relationships/slideLayout" Target="../slideLayouts/slideLayout4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artplus.ru/hl35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301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bat"/>
              </a:rPr>
              <a:t>                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bat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ила учитель ИЗО  Белоконева Л.П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БОУ  ООШ №13  х. Михайлова, Шовгеновского района, Республики Адыге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376200" y="549360"/>
            <a:ext cx="2689200" cy="28083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 rot="240000">
            <a:off x="2630520" y="245880"/>
            <a:ext cx="5680080" cy="489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родные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удожественные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мысл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>
                  <a:alpha val="50196"/>
                </a:srgbClr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-179280"/>
            <a:ext cx="8893080" cy="26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любуйтесь хохломской посудой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еннее пробуждение природы, буйство летнего разноцветья, щедрость русской осени с горящими на солнце багряными и золотыми листьями - всё это питает вечно живыми соками народное искусство Хохломы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rcRect l="0" t="2030" r="0" b="0"/>
          <a:stretch/>
        </p:blipFill>
        <p:spPr>
          <a:xfrm>
            <a:off x="1835280" y="2641680"/>
            <a:ext cx="5905440" cy="38383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0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 fill="hold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1"/>
          </p:cNvPr>
          <p:cNvPicPr/>
          <p:nvPr/>
        </p:nvPicPr>
        <p:blipFill>
          <a:blip r:embed="rId2"/>
          <a:srcRect l="0" t="1581" r="0" b="0"/>
          <a:stretch/>
        </p:blipFill>
        <p:spPr>
          <a:xfrm>
            <a:off x="900000" y="90792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0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099640" cy="55800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0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89800" cy="52578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0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504360"/>
            <a:ext cx="777240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>
            <a:lum contrast="12000"/>
          </a:blip>
          <a:srcRect l="0" t="472" r="0" b="0"/>
          <a:stretch/>
        </p:blipFill>
        <p:spPr>
          <a:xfrm>
            <a:off x="826920" y="981000"/>
            <a:ext cx="7596360" cy="530712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0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35053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3048120" y="3505320"/>
            <a:ext cx="3200400" cy="33526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5486400" y="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>
            <a:off x="5791320" y="3651120"/>
            <a:ext cx="3352680" cy="32068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6"/>
          <a:stretch/>
        </p:blipFill>
        <p:spPr>
          <a:xfrm>
            <a:off x="3124080" y="0"/>
            <a:ext cx="3043440" cy="350532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>
                  <a:alpha val="50196"/>
                </a:srgbClr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260280"/>
            <a:ext cx="2819520" cy="28735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260280"/>
            <a:ext cx="2741760" cy="2865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3573360"/>
            <a:ext cx="2881080" cy="27925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87640" y="3573360"/>
            <a:ext cx="2736720" cy="2808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24360" y="3573360"/>
            <a:ext cx="3198960" cy="28083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724360" y="209520"/>
            <a:ext cx="3419640" cy="289872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438280" y="223560"/>
            <a:ext cx="640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 rot="20700000">
            <a:off x="2701800" y="1611360"/>
            <a:ext cx="6175440" cy="1747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724000" y="5516280"/>
            <a:ext cx="308772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</a:rPr>
              <a:t>Главное ме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325080" cy="7029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Хохлом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br>
              <a:rPr sz="4400"/>
            </a:br>
            <a:br>
              <a:rPr sz="44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535640" y="1260360"/>
            <a:ext cx="4464000" cy="3419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lick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301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им из наиболее древних промыслов на территории нижегородской области являе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хохломская роспись по дере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ник он в селах, расположенных по берегам реки Узолы в конце 17 века. В Заволжье эта технология получила широкое распространение благодаря мастерам-старообрядцам, бежавшим сюда от преследования властей.  Хохлома - название большого торгового села, куда мастера привозили свои изделия на продажу. Позднее и весь промысел получил название хохломской роспис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50160" y="18900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</a:rPr>
              <a:t>Главное мен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504360"/>
            <a:ext cx="777240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-171360"/>
            <a:ext cx="9144000" cy="1368360"/>
          </a:xfrm>
          <a:prstGeom prst="rect">
            <a:avLst/>
          </a:prstGeom>
          <a:gradFill rotWithShape="0">
            <a:gsLst>
              <a:gs pos="0">
                <a:srgbClr val="666633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bat"/>
              </a:rPr>
              <a:t>Этапы хохломской роспис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готовка издел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нтовка полуфабрика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пи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рытие лак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алка в печ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3716280"/>
            <a:ext cx="5257800" cy="295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>
                  <a:alpha val="50196"/>
                </a:srgbClr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bat"/>
              </a:rPr>
              <a:t>Виды роспис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bat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560" y="990720"/>
            <a:ext cx="5707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bat"/>
              </a:rPr>
              <a:t>  </a:t>
            </a:r>
            <a:r>
              <a:rPr b="0" lang="ru-RU" sz="4000" spc="-1" strike="noStrike">
                <a:solidFill>
                  <a:srgbClr val="3333cc"/>
                </a:solidFill>
                <a:latin typeface="Arbat"/>
              </a:rPr>
              <a:t>«Верхов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bat"/>
              </a:rPr>
              <a:t>«верховой»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писи принято относить «травку»или «под листок» - роспись, включающую изображения травинок, веточек, написанных красной и черной краской на золотом фо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3333cc"/>
                </a:solidFill>
                <a:latin typeface="Arbat"/>
              </a:rPr>
              <a:t>«Под фон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енностью росписи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bat"/>
              </a:rPr>
              <a:t>«под фон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силуэтный золотистый рисунок на черном и красном фон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867280" y="1557360"/>
            <a:ext cx="2952720" cy="23605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5867280" y="4076640"/>
            <a:ext cx="2952720" cy="2592360"/>
          </a:xfrm>
          <a:prstGeom prst="rect">
            <a:avLst/>
          </a:prstGeom>
          <a:ln w="0">
            <a:noFill/>
          </a:ln>
        </p:spPr>
      </p:pic>
    </p:spTree>
  </p:cSld>
  <p:transition advTm="9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давна в хохломской росписи использовались три цвета: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расны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черный и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золото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которые сохранились и понын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3743280" cy="38145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3929040" cy="37576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828800"/>
          </a:xfrm>
          <a:prstGeom prst="rect">
            <a:avLst/>
          </a:prstGeom>
          <a:gradFill rotWithShape="0">
            <a:gsLst>
              <a:gs pos="0">
                <a:srgbClr val="666633"/>
              </a:gs>
              <a:gs pos="100000">
                <a:srgbClr val="ffff99">
                  <a:alpha val="50196"/>
                </a:srgbClr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bat"/>
              </a:rPr>
              <a:t>Типы орнамент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rcRect l="0" t="3379" r="0" b="0"/>
          <a:stretch/>
        </p:blipFill>
        <p:spPr>
          <a:xfrm>
            <a:off x="539640" y="1916280"/>
            <a:ext cx="5029200" cy="5889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rcRect l="0" t="5620" r="0" b="9367"/>
          <a:stretch/>
        </p:blipFill>
        <p:spPr>
          <a:xfrm>
            <a:off x="468360" y="4292640"/>
            <a:ext cx="5257800" cy="6476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257440" y="19807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"/>
              </a:rPr>
              <a:t>«осочки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"/>
              </a:rPr>
              <a:t>«завиток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"/>
              </a:rPr>
              <a:t>«капельки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"/>
              </a:rPr>
              <a:t>«кустики»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395280" y="2997360"/>
            <a:ext cx="5029200" cy="6858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rcRect l="0" t="5011" r="0" b="10946"/>
          <a:stretch/>
        </p:blipFill>
        <p:spPr>
          <a:xfrm>
            <a:off x="539640" y="5589720"/>
            <a:ext cx="5181840" cy="72072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6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>
                  <a:alpha val="50196"/>
                </a:srgbClr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"/>
              </a:rPr>
              <a:t>Травный орнамент – стебель «криуль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495680" cy="14320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476360" y="3357720"/>
            <a:ext cx="5094360" cy="15220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276720" y="5013360"/>
            <a:ext cx="5414760" cy="1493640"/>
          </a:xfrm>
          <a:prstGeom prst="rect">
            <a:avLst/>
          </a:prstGeom>
          <a:ln w="0">
            <a:noFill/>
          </a:ln>
        </p:spPr>
      </p:pic>
    </p:spTree>
  </p:cSld>
  <p:transition advTm="8000">
    <p:wheel spokes="8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0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ffff99">
                  <a:alpha val="50196"/>
                </a:srgbClr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"/>
              </a:rPr>
              <a:t>Орнамент с «ягодками» и «листочками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171880" y="5013360"/>
          <a:ext cx="6972120" cy="15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5013360"/>
                    <a:ext cx="697212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0" y="1536840"/>
          <a:ext cx="6553080" cy="13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36840"/>
                    <a:ext cx="655308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1403280" y="3213000"/>
          <a:ext cx="6519960" cy="145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213000"/>
                    <a:ext cx="651996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wheel spokes="8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dur="indefinite" fill="hold">
                      <p:stCondLst>
                        <p:cond delay="0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06:28:58Z</dcterms:created>
  <dc:creator>Слушатель Центра Интернет-образование</dc:creator>
  <dc:description/>
  <dc:language>en-US</dc:language>
  <cp:lastModifiedBy>Admin</cp:lastModifiedBy>
  <dcterms:modified xsi:type="dcterms:W3CDTF">2010-06-16T19:06:08Z</dcterms:modified>
  <cp:revision>69</cp:revision>
  <dc:subject/>
  <dc:title>Хохломская роспись</dc:title>
</cp:coreProperties>
</file>