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4BA-A7E8-4380-9E60-EAC211F9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39D-9D1E-48EB-8CC9-7BD1C1B5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7BA-084D-4EA6-944C-C9CC59AF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B1D-0413-40FC-9FF4-B1FC0FCB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A97-0D44-49E7-A8F3-79EE6F27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82D-BEEB-4533-BC13-89535EB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7F4-505C-4D40-8294-3BE193A2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7B0-7FAD-4C8E-8146-48B85405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C2C-958E-4150-A3C7-A0E09368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8FC-6EB1-4633-AA79-EDC6569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537-BA2D-4EF5-B6BC-B749799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775-7D3D-4C4D-BDB4-761D6161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15AC-96CE-4FA9-B9E0-58BD27BFE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content.foto.mail.ru/mail/agent2l/_blogs/i-46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4214880" y="371484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МАСТЕР  ИЗОБРАЖЕНИЯ  УЧИТ  ВИДЕ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00160" y="928800"/>
            <a:ext cx="66009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учки рогатые,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Плоды крылатые,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А лист - ладошкой,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 длинной ножкой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14840" y="4214880"/>
            <a:ext cx="50004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5700"/>
                </a:solidFill>
                <a:latin typeface="Arial"/>
              </a:rPr>
              <a:t>КЛЕНОВЫЙ ЛИ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rcRect l="3994" t="5619" r="3994" b="4512"/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 rot="11944200">
            <a:off x="4570200" y="1520640"/>
            <a:ext cx="4330440" cy="421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7280" y="214200"/>
            <a:ext cx="28576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0" y="192852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КРАСИТЬ КЛЕНОВЫЙ ЛИС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НАНЕСТИ НА НЕГО ПРОЖИ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476440" y="324000"/>
            <a:ext cx="6667560" cy="653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0" t="0" r="2150" b="0"/>
          <a:stretch/>
        </p:blipFill>
        <p:spPr>
          <a:xfrm>
            <a:off x="2498760" y="285840"/>
            <a:ext cx="6645240" cy="657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Елена</cp:lastModifiedBy>
  <dcterms:modified xsi:type="dcterms:W3CDTF">2012-11-09T21:02:45Z</dcterms:modified>
  <cp:revision>23</cp:revision>
  <dc:subject/>
  <dc:title>Слайд 1</dc:title>
</cp:coreProperties>
</file>