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F49-E1CA-4240-B657-0914FDC0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47C-17AC-4060-A1FF-185706B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8D3-5ED7-4E79-9550-F38E57D0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08A-D1F0-48D6-AC4A-F9D8F512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D1C-5623-4E15-812C-F6926E5B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439-4CE0-40B9-AE23-306FEB2A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9E6-5B2E-4A6B-B7AD-9B02F63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7EA-FB8F-4912-B9DA-B0B898CB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635-E6D5-40ED-940F-28019BC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7F9-11C8-41D1-8018-ADB7265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9B2-779C-40E6-9CB5-2BEAF8FC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D63-E53F-4832-9B63-64ED93D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00D-C0FB-4336-BBDA-F2F96575C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content.foto.mail.ru/mail/agent2l/_blogs/i-46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4214880" y="37148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МАСТЕР  ИЗОБРАЖЕНИЯ  УЧИТ  ВИДЕ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00160" y="928800"/>
            <a:ext cx="66009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учки рогатые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лоды крылатые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А лист - ладошкой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 длинной ножкой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14840" y="4214880"/>
            <a:ext cx="50004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5700"/>
                </a:solidFill>
                <a:latin typeface="Arial"/>
              </a:rPr>
              <a:t>КЛЕНОВЫЙ ЛИ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rcRect l="3994" t="5619" r="3994" b="4512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 rot="11944200">
            <a:off x="4570200" y="1520640"/>
            <a:ext cx="4330440" cy="421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7280" y="214200"/>
            <a:ext cx="28576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0" y="192852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КРАСИТЬ КЛЕНОВЫЙ ЛИ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АНЕСТИ НА НЕГО ПРОЖИ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476440" y="324000"/>
            <a:ext cx="6667560" cy="653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0" r="2150" b="0"/>
          <a:stretch/>
        </p:blipFill>
        <p:spPr>
          <a:xfrm>
            <a:off x="2498760" y="285840"/>
            <a:ext cx="6645240" cy="657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Елена</cp:lastModifiedBy>
  <dcterms:modified xsi:type="dcterms:W3CDTF">2012-11-09T21:02:45Z</dcterms:modified>
  <cp:revision>23</cp:revision>
  <dc:subject/>
  <dc:title>Слайд 1</dc:title>
</cp:coreProperties>
</file>