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1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1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13C-C3ED-495B-AC19-13FB2BDC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962-D91D-45AC-9BEB-F19DC54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252-277A-41FA-8791-9469ECC5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24A-7494-4490-BA67-F76E9BA2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F06-B81C-4B03-A9DE-22B24D7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662-1120-43F8-B4C4-DA32F86E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DFC-A6E7-4B25-8BD8-C6367E36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328-9166-4E19-80EC-0412FF2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00D7-99E3-4205-B83D-C2791230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815A-18A3-4EAD-9798-58E7378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8711-0984-4961-956F-98A6C9D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2DD-2E0E-47A5-A159-B4F10FC8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498-1E16-4ED1-B82E-3A4B4D5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A79-899D-42EA-A33F-7E999FD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0E84-7AF9-452A-8B80-DEE095F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304-D7F9-4089-93EF-F14E9313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8CAB-F458-4E2A-8B6C-9C5A636C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CFF-2931-4E9B-AA96-7E2E87CC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873-52B8-44D5-B778-4170812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8E0-EE9C-4BAC-A46A-8BD20D5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8D3-19DB-4504-8F49-B713857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0AB-182F-4B2B-989C-BFAE475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6F9-6C04-4EAF-842A-222445E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AFF-311C-492A-9463-03B7250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CD21-0B6D-40AB-A385-43C40093FB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20B0-0ED8-463B-AE70-D30A6EA9CA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Лабораторная работа</a:t>
            </a:r>
            <a:br>
              <a:rPr sz="2000"/>
            </a:br>
            <a:br>
              <a:rPr sz="16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растений и животных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5113080" cy="38545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5940360" y="5516640"/>
            <a:ext cx="3075120" cy="11318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итенко О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3780000"/>
            <a:ext cx="4516200" cy="307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4421160" cy="2959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468520" cy="29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79640" y="31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ff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моржей и тюленей – ла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230328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75280" y="4221000"/>
            <a:ext cx="3168720" cy="2505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08000" y="414972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771640" y="4221000"/>
            <a:ext cx="3024360" cy="2333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03280" y="292428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бобров, выдр, водоплавающих птиц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ягушек – перепонки между пальцам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2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1484280"/>
            <a:ext cx="4562640" cy="54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всех медведей земного шара только белый медведь ведет полуводный образ жизни. Об этом свидетельствует его строение: узкое обтекаемой формы туловище, широкие лапы-«весла», узкая голова со спрямленным профилем, приподнятыми глазницами и высоко расположенными глазами, удлиненная подвижная шея. Все это характеризует его как хорошего пловца и ныряльщика. Мореплаватели, путешествуя по северным морям, неоднократно встречали белых медведей плавающими в открытом море за сотню миль от ближайшей суши или льдин. Под водой медведь держит глаза открытыми, а ноздри и ушные раковины сжим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ff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87280"/>
            <a:ext cx="36972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310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Kunstler Script"/>
              </a:rPr>
              <a:t>Приспособительные особенности животных к наземно-воздушной среде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вотные в наземно-воздушной среде имеют разнообразное строение и пове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вязи с этим, у животных появились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легкие и трах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30652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305080" cy="2225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2195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Сильное развитие получили скелетные органы, обеспечивающие автономность передвижения по суше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9690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ги одних приспособлены к бегу (страус, гепард, зебр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пард – самый быстроногий из зверей. Он развивает скорость до 110 км/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4394160"/>
            <a:ext cx="3854160" cy="246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3456000" cy="242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45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Почвенная сре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547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Таблица </a:t>
            </a:r>
            <a:br>
              <a:rPr sz="24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 растений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916280"/>
          <a:ext cx="8748720" cy="419076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2160720"/>
                <a:gridCol w="2411280"/>
              </a:tblGrid>
              <a:tr h="13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тическое по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оморфо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о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72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72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 работы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читься определять важнейшие ароморфозы и идиоадаптации у различных классов животных и отдел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34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29000" y="0"/>
            <a:ext cx="394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03320"/>
            <a:ext cx="82072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0920" y="0"/>
            <a:ext cx="63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Таблица </a:t>
            </a:r>
            <a:br>
              <a:rPr sz="2400"/>
            </a:br>
            <a:r>
              <a:rPr b="1" i="1" lang="en-US" sz="2400" spc="-1" strike="noStrike" u="sng">
                <a:solidFill>
                  <a:srgbClr val="ffffb7"/>
                </a:solidFill>
                <a:uFillTx/>
                <a:latin typeface="Arial Black"/>
              </a:rPr>
              <a:t>«Выявление ароморфозов и идиоадаптаций у  животных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916280"/>
          <a:ext cx="8521560" cy="4179600"/>
        </p:xfrm>
        <a:graphic>
          <a:graphicData uri="http://schemas.openxmlformats.org/drawingml/2006/table">
            <a:tbl>
              <a:tblPr/>
              <a:tblGrid>
                <a:gridCol w="1800000"/>
                <a:gridCol w="2087640"/>
                <a:gridCol w="1944720"/>
                <a:gridCol w="2689200"/>
              </a:tblGrid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тическое поло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оморфо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оадап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нутреннее строение аскариды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0_05040101"/>
          <p:cNvPicPr/>
          <p:nvPr/>
        </p:nvPicPr>
        <p:blipFill>
          <a:blip r:embed="rId1"/>
          <a:stretch/>
        </p:blipFill>
        <p:spPr>
          <a:xfrm>
            <a:off x="395280" y="1714680"/>
            <a:ext cx="83534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50040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270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Жизненный цикл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цикл аскариды"/>
          <p:cNvPicPr/>
          <p:nvPr/>
        </p:nvPicPr>
        <p:blipFill>
          <a:blip r:embed="rId1"/>
          <a:srcRect l="0" t="0" r="0" b="12203"/>
          <a:stretch/>
        </p:blipFill>
        <p:spPr>
          <a:xfrm>
            <a:off x="3903840" y="189000"/>
            <a:ext cx="5240160" cy="666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скарида"/>
          <p:cNvPicPr/>
          <p:nvPr/>
        </p:nvPicPr>
        <p:blipFill>
          <a:blip r:embed="rId2"/>
          <a:stretch/>
        </p:blipFill>
        <p:spPr>
          <a:xfrm>
            <a:off x="285840" y="25718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4"/>
          <p:cNvGraphicFramePr/>
          <p:nvPr/>
        </p:nvGraphicFramePr>
        <p:xfrm>
          <a:off x="250920" y="333360"/>
          <a:ext cx="921708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921708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12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6" descr="green2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Схема внутреннего строения земноводных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589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нутреннее строение связано с водно-наземной средой обитания. Земноводные по сравнению с рыбами имеют более сложное внутреннее строение. Усложнение касается дыхательной и кровеносной систем в связи с появлением легких и двух кругов кровообращения. Более сложное строение, чем у рыб, имеют нервная система и органы чув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7" descr="н"/>
          <p:cNvPicPr/>
          <p:nvPr/>
        </p:nvPicPr>
        <p:blipFill>
          <a:blip r:embed="rId2"/>
          <a:stretch/>
        </p:blipFill>
        <p:spPr>
          <a:xfrm>
            <a:off x="250920" y="620640"/>
            <a:ext cx="8599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28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1:29Z</dcterms:created>
  <dc:creator>Admin</dc:creator>
  <dc:description/>
  <dc:language>en-US</dc:language>
  <cp:lastModifiedBy>сергей</cp:lastModifiedBy>
  <dcterms:modified xsi:type="dcterms:W3CDTF">2012-02-15T13:37:00Z</dcterms:modified>
  <cp:revision>15</cp:revision>
  <dc:subject/>
  <dc:title>   Лабораторная работа   «Выявление ароморфозов и идиоадаптаций у растений и животных».</dc:title>
</cp:coreProperties>
</file>