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4.jpeg" ContentType="image/jpeg"/>
  <Override PartName="/ppt/media/image23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31.jpeg" ContentType="image/jpeg"/>
  <Override PartName="/ppt/media/image28.jpeg" ContentType="image/jpeg"/>
  <Override PartName="/ppt/media/image7.jpeg" ContentType="image/jpeg"/>
  <Override PartName="/ppt/media/image6.png" ContentType="image/png"/>
  <Override PartName="/ppt/media/image12.jpeg" ContentType="image/jpeg"/>
  <Override PartName="/ppt/media/image8.jpeg" ContentType="image/jpeg"/>
  <Override PartName="/ppt/media/image30.png" ContentType="image/png"/>
  <Override PartName="/ppt/media/image13.jpeg" ContentType="image/jpeg"/>
  <Override PartName="/ppt/media/image11.jpeg" ContentType="image/jpeg"/>
  <Override PartName="/ppt/media/image32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5.jpeg" ContentType="image/jpeg"/>
  <Override PartName="/ppt/media/image5.wmf" ContentType="image/x-wmf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9.png" ContentType="image/png"/>
  <Override PartName="/ppt/media/image21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8B8E-7988-479C-BA45-3D4C2E44F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D420-EB0B-4974-AF6E-22A6FA6D5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2FAB-2FCA-4742-961A-E7426C3A9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AACD-3766-4237-8715-63E796EBC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2C835-7D07-4F38-8EDB-E5DCC240F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ECEDC-7872-4A20-AC83-F63CC3591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96933-5EB5-403B-AE84-964AD5C18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9AEC8-7CB4-40F2-B438-B8627824A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D854C-C66C-47D7-BF98-C77235647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0D1D7-5AF4-4E46-B546-96C8EEEB5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AEC6B-49A1-4A13-AC2E-ABC8D2E93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6A72-62B0-45F4-BCFC-404637BA9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1C2E8-1499-4D4C-A5CA-1843C8430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31EBB-34C3-4572-9C2A-EF6A6D760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AA90E-AD7B-4530-8D63-7E6C77192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CA67D-5B05-4A38-9C3E-54D86505A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99F0C-F6C8-489F-BEEB-5E28AA066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A8C8-7749-481D-AFAE-F012324EE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F656-951F-4C21-BF8E-09EE063CA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5E5C-ECD7-4B5F-A990-464CD1B8A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8C34-57E5-4101-BEA4-442A13347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8550-708B-45A0-9F84-FA76733C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E22B-FD17-476F-9890-A2A3427DE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5874-845C-4507-BA50-864CFFF91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2827A-D4F9-4DC3-B44D-D1DAD0D09DC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A22B2-A7F1-454C-B3B6-5D16C7A783E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Лабораторная работа</a:t>
            </a:r>
            <a:br>
              <a:rPr sz="2000"/>
            </a:br>
            <a:br>
              <a:rPr sz="1600"/>
            </a:br>
            <a:r>
              <a:rPr b="1" i="1" lang="en-US" sz="2400" spc="-1" strike="noStrike" u="sng">
                <a:solidFill>
                  <a:srgbClr val="ffffb7"/>
                </a:solidFill>
                <a:uFillTx/>
                <a:latin typeface="Arial Black"/>
              </a:rPr>
              <a:t>«Выявление ароморфозов и идиоадаптаций у растений и животных»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5113080" cy="385452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sp>
        <p:nvSpPr>
          <p:cNvPr id="99" name=""/>
          <p:cNvSpPr/>
          <p:nvPr/>
        </p:nvSpPr>
        <p:spPr>
          <a:xfrm>
            <a:off x="5940360" y="5516640"/>
            <a:ext cx="3075120" cy="1131840"/>
          </a:xfrm>
          <a:prstGeom prst="rect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икитенко О.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читель биолог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 катего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908000" y="620640"/>
            <a:ext cx="554364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500720" y="3780000"/>
            <a:ext cx="4516200" cy="3078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979640" y="0"/>
            <a:ext cx="4421160" cy="2959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468360" y="3789360"/>
            <a:ext cx="2468520" cy="29242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979640" y="314172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99ff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 моржей и тюленей – лас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564000" y="333360"/>
            <a:ext cx="2303280" cy="2376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227640" y="333360"/>
            <a:ext cx="2665440" cy="23036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179280" y="260280"/>
            <a:ext cx="3095640" cy="2519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5975280" y="4221000"/>
            <a:ext cx="3168720" cy="25052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108000" y="4149720"/>
            <a:ext cx="2376360" cy="2592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2771640" y="4221000"/>
            <a:ext cx="3024360" cy="23338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403280" y="2924280"/>
            <a:ext cx="74898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 бобров, выдр, водоплавающих птиц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лягушек – перепонки между пальцами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52927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56000" y="1484280"/>
            <a:ext cx="4562640" cy="54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з всех медведей земного шара только белый медведь ведет полуводный образ жизни. Об этом свидетельствует его строение: узкое обтекаемой формы туловище, широкие лапы-«весла», узкая голова со спрямленным профилем, приподнятыми глазницами и высоко расположенными глазами, удлиненная подвижная шея. Все это характеризует его как хорошего пловца и ныряльщика. Мореплаватели, путешествуя по северным морям, неоднократно встречали белых медведей плавающими в открытом море за сотню миль от ближайшей суши или льдин. Под водой медведь держит глаза открытыми, а ноздри и ушные раковины сжимает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ff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50920" y="287280"/>
            <a:ext cx="369720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8231040" cy="9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Kunstler Script"/>
              </a:rPr>
              <a:t>Приспособительные особенности животных к наземно-воздушной среде:</a:t>
            </a:r>
            <a:br>
              <a:rPr sz="3600"/>
            </a:b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9647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Животные в наземно-воздушной среде имеют разнообразное строение и поведе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связи с этим, у животных появились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легкие и трахе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516720" y="4076640"/>
            <a:ext cx="2306520" cy="2448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250920" y="4365720"/>
            <a:ext cx="2305080" cy="22255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3419640" y="4437000"/>
            <a:ext cx="219528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lackadder ITC"/>
              </a:rPr>
              <a:t>Сильное развитие получили скелетные органы, обеспечивающие автономность передвижения по суше: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78920" y="1483920"/>
            <a:ext cx="4969080" cy="26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оги одних приспособлены к бегу (страус, гепард, зебра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епард – самый быстроногий из зверей. Он развивает скорость до 110 км/ч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24000" y="4394160"/>
            <a:ext cx="3854160" cy="24638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508720" y="4292640"/>
            <a:ext cx="3456000" cy="24242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5508720" y="1413000"/>
            <a:ext cx="3456000" cy="24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 Black"/>
              </a:rPr>
              <a:t>Почвенная сред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5400720"/>
          </a:xfrm>
          <a:prstGeom prst="rect">
            <a:avLst/>
          </a:prstGeom>
          <a:solidFill>
            <a:srgbClr val="ffffb7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00"/>
                </a:solidFill>
                <a:latin typeface="Arial"/>
              </a:rPr>
              <a:t>Для почвенных организмов характерны специфические органы и типы движения (роющие конечности у млекопитающи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00"/>
                </a:solidFill>
                <a:latin typeface="Arial"/>
              </a:rPr>
              <a:t>Способность к изменению толщины тела; наличие специализированных головных капсул у некоторых видов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00"/>
                </a:solidFill>
                <a:latin typeface="Arial"/>
              </a:rPr>
              <a:t>Формы тела (оклуглая, вольковатая, червеобразная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00"/>
                </a:solidFill>
                <a:latin typeface="Arial"/>
              </a:rPr>
              <a:t>Редукция глаз и исчезновение пигмент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00"/>
                </a:solidFill>
                <a:latin typeface="Arial"/>
              </a:rPr>
              <a:t>Среди почвенных обитателей широко развита сапрофагия – поедание трупов других животных, гниющих остатко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380360" y="0"/>
            <a:ext cx="1547640" cy="12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b7"/>
                </a:solidFill>
                <a:uFillTx/>
                <a:latin typeface="Arial Black"/>
              </a:rPr>
              <a:t>Таблица </a:t>
            </a:r>
            <a:br>
              <a:rPr sz="2400"/>
            </a:br>
            <a:r>
              <a:rPr b="1" i="1" lang="en-US" sz="2400" spc="-1" strike="noStrike" u="sng">
                <a:solidFill>
                  <a:srgbClr val="ffffb7"/>
                </a:solidFill>
                <a:uFillTx/>
                <a:latin typeface="Arial Black"/>
              </a:rPr>
              <a:t>«Выявление ароморфозов и идиоадаптаций у  растений»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79280" y="1916280"/>
          <a:ext cx="8748720" cy="4190760"/>
        </p:xfrm>
        <a:graphic>
          <a:graphicData uri="http://schemas.openxmlformats.org/drawingml/2006/table">
            <a:tbl>
              <a:tblPr/>
              <a:tblGrid>
                <a:gridCol w="1513080"/>
                <a:gridCol w="2663640"/>
                <a:gridCol w="2160720"/>
                <a:gridCol w="2411280"/>
              </a:tblGrid>
              <a:tr h="138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зв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ст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истематическое полож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роморфоз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диоадапт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14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14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672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523880" y="0"/>
            <a:ext cx="6177240" cy="67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Цель работы-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учиться определять важнейшие ароморфозы и идиоадаптации у различных классов животных и отделов растен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63342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529000" y="0"/>
            <a:ext cx="3949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68360" y="103320"/>
            <a:ext cx="8207280" cy="66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420920" y="0"/>
            <a:ext cx="6303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b7"/>
                </a:solidFill>
                <a:uFillTx/>
                <a:latin typeface="Arial Black"/>
              </a:rPr>
              <a:t>Таблица </a:t>
            </a:r>
            <a:br>
              <a:rPr sz="2400"/>
            </a:br>
            <a:r>
              <a:rPr b="1" i="1" lang="en-US" sz="2400" spc="-1" strike="noStrike" u="sng">
                <a:solidFill>
                  <a:srgbClr val="ffffb7"/>
                </a:solidFill>
                <a:uFillTx/>
                <a:latin typeface="Arial Black"/>
              </a:rPr>
              <a:t>«Выявление ароморфозов и идиоадаптаций у  животных»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324000" y="1916280"/>
          <a:ext cx="8521560" cy="4179600"/>
        </p:xfrm>
        <a:graphic>
          <a:graphicData uri="http://schemas.openxmlformats.org/drawingml/2006/table">
            <a:tbl>
              <a:tblPr/>
              <a:tblGrid>
                <a:gridCol w="1800000"/>
                <a:gridCol w="2087640"/>
                <a:gridCol w="1944720"/>
                <a:gridCol w="2689200"/>
              </a:tblGrid>
              <a:tr h="138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зв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ивотног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истематическое полож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роморфоз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диоадапт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13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13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68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Внутреннее строение аскариды</a:t>
            </a:r>
            <a:endParaRPr b="1" lang="en-US" sz="35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5" name="Picture 4" descr="0_05040101"/>
          <p:cNvPicPr/>
          <p:nvPr/>
        </p:nvPicPr>
        <p:blipFill>
          <a:blip r:embed="rId1"/>
          <a:stretch/>
        </p:blipFill>
        <p:spPr>
          <a:xfrm>
            <a:off x="395280" y="1714680"/>
            <a:ext cx="8353440" cy="47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4200" y="213840"/>
            <a:ext cx="500400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270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Жизненный цикл</a:t>
            </a:r>
            <a:endParaRPr b="1" lang="en-US" sz="4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7" name="Picture 4" descr="цикл аскариды"/>
          <p:cNvPicPr/>
          <p:nvPr/>
        </p:nvPicPr>
        <p:blipFill>
          <a:blip r:embed="rId1"/>
          <a:srcRect l="0" t="0" r="0" b="12203"/>
          <a:stretch/>
        </p:blipFill>
        <p:spPr>
          <a:xfrm>
            <a:off x="3903840" y="189000"/>
            <a:ext cx="5240160" cy="6669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аскарида"/>
          <p:cNvPicPr/>
          <p:nvPr/>
        </p:nvPicPr>
        <p:blipFill>
          <a:blip r:embed="rId2"/>
          <a:stretch/>
        </p:blipFill>
        <p:spPr>
          <a:xfrm>
            <a:off x="285840" y="25718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Object 4"/>
          <p:cNvGraphicFramePr/>
          <p:nvPr/>
        </p:nvGraphicFramePr>
        <p:xfrm>
          <a:off x="250920" y="333360"/>
          <a:ext cx="9217080" cy="5975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333360"/>
                    <a:ext cx="9217080" cy="597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836640"/>
            <a:ext cx="691200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Рисунок 6" descr="green29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entury Gothic"/>
              </a:rPr>
              <a:t>Схема внутреннего строения земноводных.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5589360"/>
            <a:ext cx="91440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Внутреннее строение связано с водно-наземной средой обитания. Земноводные по сравнению с рыбами имеют более сложное внутреннее строение. Усложнение касается дыхательной и кровеносной систем в связи с появлением легких и двух кругов кровообращения. Более сложное строение, чем у рыб, имеют нервная система и органы чувст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Рисунок 7" descr="н"/>
          <p:cNvPicPr/>
          <p:nvPr/>
        </p:nvPicPr>
        <p:blipFill>
          <a:blip r:embed="rId2"/>
          <a:stretch/>
        </p:blipFill>
        <p:spPr>
          <a:xfrm>
            <a:off x="250920" y="620640"/>
            <a:ext cx="859932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712880" y="0"/>
            <a:ext cx="5486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14:11:29Z</dcterms:created>
  <dc:creator>Admin</dc:creator>
  <dc:description/>
  <dc:language>en-US</dc:language>
  <cp:lastModifiedBy>сергей</cp:lastModifiedBy>
  <dcterms:modified xsi:type="dcterms:W3CDTF">2012-02-15T13:37:00Z</dcterms:modified>
  <cp:revision>15</cp:revision>
  <dc:subject/>
  <dc:title>   Лабораторная работа   «Выявление ароморфозов и идиоадаптаций у растений и животных».</dc:title>
</cp:coreProperties>
</file>