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C0C6-3196-4717-9C3E-295E5032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F4AE-3856-4075-B3F1-B28ECC5B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B1F-D66B-4EBC-AA0E-BE4088F2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D27-A94D-4F4E-8CF5-39C50BEC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C8DA-CFAD-45A9-A387-32951D6B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7F04-D098-4934-8333-5C1B5408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346-DD9C-4BC9-BEBD-49875F96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B0D6-7E63-4F8F-9351-A48CD925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F3D-F367-40FE-AD55-B2CF7965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F109-B231-4C8E-BE6C-76454E46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FFD0-C9BB-4ECE-9032-BB7D1D9C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EB7-0DDE-4887-8975-6A34F2E6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2BFD-4E94-4B30-9F8E-67070531A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cultinfo.ru/fulltext/1/001/010/001/262996440.jpg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cultinfo.ru/fulltext/1/001/010/001/262996440.jpg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cultinfo.ru/fulltext/1/001/010/001/262996440.jpg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cultinfo.ru/fulltext/1/001/010/001/272429874.jpg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cultinfo.ru/fulltext/1/001/010/001/279965807.jpg" TargetMode="External"/><Relationship Id="rId4" Type="http://schemas.openxmlformats.org/officeDocument/2006/relationships/image" Target="../media/image16.png"/><Relationship Id="rId5" Type="http://schemas.openxmlformats.org/officeDocument/2006/relationships/hyperlink" Target="http://www.cultinfo.ru/fulltext/1/001/009/001/240850775.jpg" TargetMode="External"/><Relationship Id="rId6" Type="http://schemas.openxmlformats.org/officeDocument/2006/relationships/image" Target="../media/image17.png"/><Relationship Id="rId7" Type="http://schemas.openxmlformats.org/officeDocument/2006/relationships/hyperlink" Target="http://www.cultinfo.ru/fulltext/1/001/010/001/262996440.jpg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www.cultinfo.ru/fulltext/1/001/009/001/226213771.jpg" TargetMode="External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65040" y="1989000"/>
            <a:ext cx="698688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Исследователь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66"/>
                </a:solidFill>
                <a:latin typeface="Arial"/>
              </a:rPr>
              <a:t>Тема: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 Невидимая 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66"/>
                </a:solidFill>
                <a:latin typeface="Arial"/>
              </a:rPr>
              <a:t>Исполнитель: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 ученик 4«б» 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Львов Ив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66"/>
                </a:solidFill>
                <a:latin typeface="Arial"/>
              </a:rPr>
              <a:t>Руководитель: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 учитель Абрамова Е.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учитель биологии Максимова Н. 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000" y="1341360"/>
            <a:ext cx="79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ГОУ Центр образования «Школа здоровья» №2000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52720" y="189000"/>
            <a:ext cx="1295640" cy="1247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38520" y="59500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2007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598920" y="333360"/>
            <a:ext cx="1944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К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35640" y="3429000"/>
            <a:ext cx="3162240" cy="2664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Бактерия"/>
          <p:cNvPicPr/>
          <p:nvPr/>
        </p:nvPicPr>
        <p:blipFill>
          <a:blip r:embed="rId3"/>
          <a:stretch/>
        </p:blipFill>
        <p:spPr>
          <a:xfrm>
            <a:off x="971640" y="1125360"/>
            <a:ext cx="287964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3167280" cy="2811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787480" y="331920"/>
            <a:ext cx="3513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ЕПТОКОК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148360" y="3284640"/>
            <a:ext cx="3109680" cy="3097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4572000" cy="331632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3600360" cy="349740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026720" y="462132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осле 7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392720" cy="275580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261800" y="445788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После 7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00720" y="3500280"/>
            <a:ext cx="4141800" cy="290700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249440" cy="290016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32360" y="3429000"/>
            <a:ext cx="3889440" cy="320184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26720" y="447660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После 7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8520" y="16765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мо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11600" y="60660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071800"/>
            <a:ext cx="91360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c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Чем  выше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температура  окружающий  среды, тем  быстрее  происходит   размножение  микробов  и  следовательно  быстрее  портятся  проду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2. Чем  выше  влажности  воздуха,  тем  сильнее  образование  плесени  и гриб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3. При  низкой  температуре (желательно минусовой)  образование  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размножение  микробов  практически  не  возм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96000" y="652320"/>
            <a:ext cx="2711520" cy="1944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95280" y="4581360"/>
            <a:ext cx="3540240" cy="19256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0" y="1916280"/>
            <a:ext cx="9144000" cy="2299320"/>
            <a:chOff x="0" y="1916280"/>
            <a:chExt cx="9144000" cy="2299320"/>
          </a:xfrm>
        </p:grpSpPr>
        <p:sp>
          <p:nvSpPr>
            <p:cNvPr id="48" name=""/>
            <p:cNvSpPr/>
            <p:nvPr/>
          </p:nvSpPr>
          <p:spPr>
            <a:xfrm>
              <a:off x="0" y="30243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66"/>
                  </a:solidFill>
                  <a:latin typeface="Monotype Corsiva"/>
                </a:rPr>
                <a:t>изучить действие микробов на продукты  питания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9080" y="1916280"/>
              <a:ext cx="14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50021"/>
                  </a:solidFill>
                  <a:latin typeface="Arial"/>
                </a:rPr>
                <a:t>Цель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59280" y="4522680"/>
            <a:ext cx="3816360" cy="1774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195640" y="620640"/>
            <a:ext cx="3168360" cy="1774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1626120" y="2421000"/>
            <a:ext cx="1207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Гипотез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Monotype Corsiva"/>
              </a:rPr>
              <a:t>под  действием микробов  продукты питания порт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96000" y="652320"/>
            <a:ext cx="2711520" cy="1944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95280" y="4581360"/>
            <a:ext cx="3540240" cy="192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59280" y="4522680"/>
            <a:ext cx="3816360" cy="1774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2195640" y="620640"/>
            <a:ext cx="3168360" cy="1774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742040" y="1312920"/>
            <a:ext cx="12433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Monotype Corsiva"/>
              </a:rPr>
              <a:t>Изучить различные виды бакте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Monotype Corsiva"/>
              </a:rPr>
              <a:t>Провести опыты подтверждающие действие бакте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Monotype Corsiva"/>
              </a:rPr>
              <a:t>Провести наблю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Monotype Corsiva"/>
              </a:rPr>
              <a:t>Сделать 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Monotype Corsiva"/>
              </a:rPr>
              <a:t>Подготовить компьютерную презент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2711520" cy="1944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132000" y="4941720"/>
            <a:ext cx="2963880" cy="1613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53080" y="54936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4589640"/>
            <a:ext cx="2664000" cy="1707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200" y="2421000"/>
            <a:ext cx="747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Метод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cc0066"/>
                </a:solidFill>
                <a:latin typeface="Monotype Corsiva"/>
              </a:rPr>
              <a:t>эксперимент, наблюдение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56360" y="189000"/>
            <a:ext cx="2711520" cy="194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95280" y="4941720"/>
            <a:ext cx="2963880" cy="1613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076720" y="5013360"/>
            <a:ext cx="3745080" cy="156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39640" y="476280"/>
            <a:ext cx="3745080" cy="1565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224000" y="476280"/>
            <a:ext cx="6661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ЛОЧКОВИДНЫЕ  БАКТЕРИИ</a:t>
            </a:r>
            <a:endParaRPr b="0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93080" y="1197000"/>
            <a:ext cx="1873080" cy="1692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Рис. 7. Гриб белый. Плодовое тело."/>
          <p:cNvPicPr/>
          <p:nvPr/>
        </p:nvPicPr>
        <p:blipFill>
          <a:blip r:embed="rId3"/>
          <a:stretch/>
        </p:blipFill>
        <p:spPr>
          <a:xfrm>
            <a:off x="7236000" y="4869000"/>
            <a:ext cx="1666800" cy="1800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Таблица 2. Мхи и печёночник. Вверху - маршанция; внизу - мхи (слева напрово) - плевроциум, сфагнум, политрихум"/>
          <p:cNvPicPr/>
          <p:nvPr/>
        </p:nvPicPr>
        <p:blipFill>
          <a:blip r:embed="rId4"/>
          <a:stretch/>
        </p:blipFill>
        <p:spPr>
          <a:xfrm>
            <a:off x="5003640" y="2924280"/>
            <a:ext cx="2097360" cy="215892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250920" y="1341360"/>
            <a:ext cx="2268360" cy="5324400"/>
            <a:chOff x="250920" y="1341360"/>
            <a:chExt cx="2268360" cy="5324400"/>
          </a:xfrm>
        </p:grpSpPr>
        <p:pic>
          <p:nvPicPr>
            <p:cNvPr id="72" name="" descr=""/>
            <p:cNvPicPr/>
            <p:nvPr/>
          </p:nvPicPr>
          <p:blipFill>
            <a:blip r:embed="rId5"/>
            <a:stretch/>
          </p:blipFill>
          <p:spPr>
            <a:xfrm>
              <a:off x="250920" y="1341360"/>
              <a:ext cx="158436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6"/>
            <a:stretch/>
          </p:blipFill>
          <p:spPr>
            <a:xfrm>
              <a:off x="430200" y="3213000"/>
              <a:ext cx="1513080" cy="12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1060;1054;1058;1054;_19.jpg"/>
            <p:cNvPicPr/>
            <p:nvPr/>
          </p:nvPicPr>
          <p:blipFill>
            <a:blip r:embed="rId7"/>
            <a:stretch/>
          </p:blipFill>
          <p:spPr>
            <a:xfrm>
              <a:off x="501840" y="5013360"/>
              <a:ext cx="2017440" cy="16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2556000" y="1197000"/>
            <a:ext cx="2376360" cy="5492880"/>
            <a:chOff x="2556000" y="1197000"/>
            <a:chExt cx="2376360" cy="5492880"/>
          </a:xfrm>
        </p:grpSpPr>
        <p:pic>
          <p:nvPicPr>
            <p:cNvPr id="76" name="" descr="1060;1054;1058;1054;21.jpg"/>
            <p:cNvPicPr/>
            <p:nvPr/>
          </p:nvPicPr>
          <p:blipFill>
            <a:blip r:embed="rId8"/>
            <a:stretch/>
          </p:blipFill>
          <p:spPr>
            <a:xfrm>
              <a:off x="2843280" y="5084640"/>
              <a:ext cx="1944720" cy="16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9"/>
            <a:stretch/>
          </p:blipFill>
          <p:spPr>
            <a:xfrm>
              <a:off x="2556000" y="1197000"/>
              <a:ext cx="2376360" cy="1893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116000" y="3552840"/>
            <a:ext cx="3095640" cy="2892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3238560" y="620640"/>
            <a:ext cx="262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ирилл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557360"/>
            <a:ext cx="240336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714384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2746080" cy="1493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059280" y="765000"/>
            <a:ext cx="3079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БРИОН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93080" y="1916280"/>
            <a:ext cx="1533240" cy="1944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708360" y="2852640"/>
            <a:ext cx="2016000" cy="19432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50000">
                <a:srgbClr val="ffffcc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95640" y="3068640"/>
            <a:ext cx="1586160" cy="1566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8360" y="5229360"/>
            <a:ext cx="2592360" cy="1206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093080" y="4653000"/>
            <a:ext cx="168588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3:12:40Z</dcterms:created>
  <dc:creator>media</dc:creator>
  <dc:description/>
  <dc:language>en-US</dc:language>
  <cp:lastModifiedBy>media</cp:lastModifiedBy>
  <dcterms:modified xsi:type="dcterms:W3CDTF">2007-01-23T13:34:19Z</dcterms:modified>
  <cp:revision>44</cp:revision>
  <dc:subject/>
  <dc:title>Слайд 1</dc:title>
</cp:coreProperties>
</file>