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D54-E162-4CF5-833A-97E3DBC1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CB7-9A42-40CE-BB8E-2F0978B0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F0C-8FEA-4513-8628-3ED2A709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14C-D609-4484-8BAF-0E5348CE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B824-BE90-4F37-94AB-73BD9F07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A759-5C6A-4035-A344-8A960314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98FB-D257-4C7F-89FD-8E37E84C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4740-428C-4CEC-BEF6-233A4E4B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82BD-81C7-48D6-8FFD-5640715B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086F-DB5F-420E-92B5-0217A2C2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573E-3C74-4EA1-8FCB-FD1CBD9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14F-7FF2-43D0-B5BF-64CCAEBD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0273-DBBF-4B4C-A707-3C57814A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50AA-4833-4D89-A542-5FF1FCC1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97F9-605C-49A5-84B8-27DE3D5E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6E70-9009-4A2E-BCBB-804133E8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E48D-AB2E-42EA-9323-B3896FDC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EC9-5884-430D-80E3-48C8C8D0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B1B-B76B-4080-83CF-84E6DD18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26C-8B2C-4C1E-9D3D-1DFD68FC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8F2-FE2B-4791-A747-99A19090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8C7-F3C1-432F-89A7-1D635C2C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413-1D2D-4F47-A20F-3EDC6737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419-D359-4172-BD95-508A9E3E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DE04-6168-4795-8707-E829F2589AC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AA86-1558-4690-AED5-E3E43BAD28F5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on.gov.ru/dok/fz/obr/3987/" TargetMode="External"/><Relationship Id="rId2" Type="http://schemas.openxmlformats.org/officeDocument/2006/relationships/hyperlink" Target="http://mon.gov.ru/dok/fz/obr/3988/" TargetMode="External"/><Relationship Id="rId3" Type="http://schemas.openxmlformats.org/officeDocument/2006/relationships/hyperlink" Target="http://mon.gov.ru/dok/fz/obr/3989/" TargetMode="External"/><Relationship Id="rId4" Type="http://schemas.openxmlformats.org/officeDocument/2006/relationships/hyperlink" Target="http://mon.gov.ru/dok/fz/obr/3990/" TargetMode="External"/><Relationship Id="rId5" Type="http://schemas.openxmlformats.org/officeDocument/2006/relationships/hyperlink" Target="http://mon.gov.ru/dok/fz/obr/3991/" TargetMode="External"/><Relationship Id="rId6" Type="http://schemas.openxmlformats.org/officeDocument/2006/relationships/hyperlink" Target="http://mon.gov.ru/dok/fz/obr/3991/" TargetMode="External"/><Relationship Id="rId7" Type="http://schemas.openxmlformats.org/officeDocument/2006/relationships/hyperlink" Target="http://mon.gov.ru/dok/fz/obr/3992/" TargetMode="External"/><Relationship Id="rId8" Type="http://schemas.openxmlformats.org/officeDocument/2006/relationships/hyperlink" Target="http://mon.gov.ru/dok/fz/obr/3992/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Нормативно-правовая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 основа организации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 физического воспитания в О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4920" y="54860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унникова О.С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9, ВК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исьмо Департамента государственной политики                          в образовании Минобрнауки России от 07.07.2005 г. №03-1263                           «О примерных программах по учебным предметам федерального базисного учебного плана»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99960"/>
            <a:ext cx="761976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каз Минобрнауки Росси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от 23.12.2009 №822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«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,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на 2010-2011 учебный год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инобразования России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т 31.10.2003 № 13-51-263/13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б оценивании и аттестации учащихся, отнесенных по состоянию здоровья к специальной медицинской группе для занятий физической культурой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инобразования России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от 28.04.2003. № 13-51-86/13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б увеличении двигательной активности обучающихся общеобразовательных учреждений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645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О РФ от 20.04.2001 № 408/13-13 «Рекомендации по организации обучения в 1-х классах в адаптационный период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607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каз Минобразования России, Минздрава России, Госкомспорта России и РАО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т 16.07.2002 № 2715/227/166/19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О совершенствовании процесса физического воспитания в образовательных учреждениях Российской Федерации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каз Минобрнауки РФ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от 03.06.2008. № 164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 внесении измененений в ФКГОС РФ от 05.03.2004 № 1089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О РФ «О введении третьего дополнительного часа физической культуры в образовательных учреждениях Российской Федерации от 12.08.2002 № 13-51-99/14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99600"/>
            <a:ext cx="7696080" cy="607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Приказ Министерства образования и науки РФ от 30.08.2010 г. № 889 «О внесении изменений в федеральный базисный учебный план и примерные учебные планы для образовательных учреждений РФ, реализующих программы общего образования, утверждённые приказом министерства образования РФ от 09.03.2004г. № 1312 ««Об утверждении Федерального базисного учебного плана и примерных учебных планов для образовательных учреждений РФ, реализующих программы общего образования»                         и методические рекомендации о введении третьего часа физической культуры в недельный объём учебной нагрузки обучающихся общеобразовательных учреждений РФ»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инистерства образования Хабаровского края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т 11.06.2010 № 04.1-17-4138 «Рекомендации по проведению третьего часа физической культуры                          в общеобразовательных учреждениях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риоритетные направления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 в организации работы по физическому воспитанию:</a:t>
            </a: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условий, содействующих формированию навыков здорового образа жизни, сохранению и укреплению физического и психического здоровья обучающихся средствами физической культуры и спорта; оснащение учебно-тренировочных занятий физкультурно-спортивным оборудованием и инвентарё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тесного взаимодействия учебного и внеучебного процессов физического воспитания для освоения ценностей физической культуры; удовлетворение потребностей учащихся в занятиях физическими упражнениями, спортом и туризм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физической культуры личности школьников с учётом их индивидуальных способностей, состояние здоровья и мотивации; совершенствование врачебно-педагогического контроля за организацией физического воспитания, периодический анализ и самооценка деятельности педагогического коллектива по реализации современных требований, обеспечивающих развитие физической культуры и спорта в учебном заведе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илактика асоциального поведения обучающихся средствами физической культуры и спор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инистерства образования Хабаровского кра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от 11.06.2010г. № 04.1-16.4131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Об использовании в работе инструкции по обеспечению безопасности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 профилактике травматизма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при занятиях на открытых спортивных площадках и стадионах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О РФ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 введении безотметочного обучения по физической культуре, изобразительному искусству, музыке» № 13-51-237/13 от 03.10.2003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399960"/>
            <a:ext cx="769608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инобрнауки РФ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т 29.03.2010  № 06-499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 проведении мониторинга физического развития обучающихся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645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О РФ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 введении зачетов по физической культуре для учащихся выпускных классов (9-11)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общеобразовательной школы»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№142/11  от 3.02.1995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каз Минздрава РФ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Распределение школьников на медицинские группы»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№ 495, декабрь 1986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тодические рекомендации для учителей физической культуры по организации здоровьесберегающей деятельности в образовательных учреждениях / Под общ. ред. Е.Б. Евладовой. – М., 2009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99960"/>
            <a:ext cx="769608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Гигиенические требования к условиям обучения в общеобразовательных учреждениях и Санитарно-эпидемиологические правила и нормы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(СанПиН 2.4.2.1178-02 от 28.11.2002г.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607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ТРЕБОВАНИЯ К ОСНАЩЕНИЮ 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 ОБРАЗОВАТЕЛЬНОГО ПРОЦЕССА                                     В СООТВЕТСТВИИ С СОДЕРЖАТЕЛЬНЫМ НАПОЛНЕНИЕМ ФЕДЕРАЛЬНОГО КОМПОНЕНТА ГОСУДАРСТВЕННОГО СТАНДАРТА ОБЩЕГО ОБРАЗОВАНИЯ                          ПО ФИЗИЧЕСКОЙ КУЛЬТУРЕ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ЗАКОН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"Об образовании"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от 10 июля 1992 г. N 3266-1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1430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 ред. Федеральных законов от 13.01.1996 N 12-ФЗ, от 16.11.1997 N 144-ФЗ, от 20.07.2000 N 102-ФЗ, от 07.08.2000 N 122-ФЗ, от 13.02.2002 N 20-ФЗ, от 21.03.2002 N 31-ФЗ, от 25.06.2002 N 71-ФЗ, от 25.07.2002 N 112-ФЗ, от 10.01.2003 N 11-ФЗ, от 07.07.2003 N 123-ФЗ, от 08.12.2003 N 169-ФЗ, от 05.03.2004 N 9-ФЗ, от 30.06.2004 N 61-ФЗ, от 20.07.2004 N 68-ФЗ, от 22.08.2004 N 122-ФЗ (ред. 29.12.2004), от 29.12.2004 N 199-ФЗ, от 09.05.2005 N 45-ФЗ, от 18.07.2005 N 92-ФЗ, от 21.07.2005 N 100-ФЗ, от 31.12.2005 N 199-ФЗ, от 16.03.2006 N 42-ФЗ, от 06.07.2006 N 104-ФЗ, от 03.11.2006 N 175-ФЗ, от 05.12.2006 N 207-ФЗ, от 28.12.2006 N 242-ФЗ, от 29.12.2006 N 258-ФЗ (ред. 01.12.2007), от 06.01.2007 N 1-ФЗ, от 05.02.2007 N 13-ФЗ, от 09.02.2007 N 17-ФЗ, от 20.04.2007 N 56-ФЗ, от 26.06.2007 N 118-ФЗ, от 30.06.2007 N 120-ФЗ, от 21.07.2007 N 194-ФЗ, от 18.10.2007 N 230-ФЗ, от 24.10.2007 N 232-ФЗ, от 01.12.2007 N 307-ФЗ, от 01.12.2007 N 308-ФЗ, от 01.12.2007 N 309-ФЗ, от 01.12.2007 N 313-ФЗ, от 28.02.2008 N 14-ФЗ, от 24.04.2008 N 50-ФЗ, от 23.07.2008 N 160-ФЗ, от 27.10.2008 N 180-ФЗ, от 25.12.2008 N 281-ФЗ, от 25.12.2008 N 286-ФЗ, от 10.02.2009 N 18-ФЗ, от 13.02.2009 N 19-ФЗ, от 17.07.2009 N 148-ФЗ, от 10.11.2009 N 260-ФЗ, от 17.12.2009 N 321-ФЗ, от 21.12.2009 N 329-ФЗ, от 27.12.2009 N 365-ФЗ, от 27.12.2009 N 374-ФЗ, с изм., внесенными Постановлением Конституционного Суда РФ от 24.10.2000 N 13-П, Федеральными законами от 27.12.2000 N 150-ФЗ, от 30.12.2001 N 194-ФЗ, от 24.12.2002 N 176-ФЗ, от 23.12.2003 N 186-ФЗ, от 17.12.2009 N 313-ФЗ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ЗАКОН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"Об образовании"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от 10 июля 1992 г. N 3266-1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1"/>
              </a:rPr>
              <a:t>Глава I. Общие по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тьи 1-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2"/>
              </a:rPr>
              <a:t>Глава II. Система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тьи 8-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3"/>
              </a:rPr>
              <a:t>Глава III. Управление системой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тьи 28-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4"/>
              </a:rPr>
              <a:t>Глава IV. Экономика системы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тьи 39-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5"/>
              </a:rPr>
              <a:t>Глава V. Социальные гарантии реализации прав гражд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6"/>
              </a:rPr>
              <a:t>на 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тьи 50-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7"/>
              </a:rPr>
              <a:t>Глава VI. Международная деятельность в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8"/>
              </a:rPr>
              <a:t>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татьи 57-58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95280" y="609120"/>
            <a:ext cx="74678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цепция модернизации российского образо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период до 2010 год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оряжение правительства Р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30.08.2002 № 1507-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Федеральный закон Российской Федерации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 4 декабря 2007 г. N 329-ФЗ "О физической культуре                   и спорте в Российской Федерации"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19720" y="540972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ят Государственной Думой </a:t>
            </a:r>
            <a:br>
              <a:rPr sz="1800"/>
            </a:b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16 ноября 2007 года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добрен Советом Федераци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3 ноября 2007 год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21304"/>
                </a:solidFill>
                <a:uFillTx/>
                <a:latin typeface="Times New Roman"/>
              </a:rPr>
              <a:t>Глава 3.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Физическая культура и спорт в системе образования, в системе федеральных органов исполнительной власти, по месту работы и месту жительства граждан.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Адаптивная физическая культур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43000" y="2895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ья 28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изическая культура и спорт                       в системе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ья 29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витие военно-прикладных                      и служебно-прикладных видов спорта. Подготовка граждан к защите Оте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каз Минобразования России                       от 05.03.2004г. , № 1089                                          «Об утверждении федерального компонента государственных образовательных стандартов начального общего, основного общего                 и среднего (полного) общего образования»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каз Минобразования России                       от 09.03.2004г. , № 13122                                          «Об утверждении Федерального базисного учебного плана и примерных учебных программ для общеобразовательных учреждений РФ, реализующих программы общего образования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ля</cp:lastModifiedBy>
  <dcterms:modified xsi:type="dcterms:W3CDTF">2012-11-10T10:01:3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