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96D-956D-452E-A6BD-8542747A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273-CF56-4F49-8AC4-C4A61165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755-2AA8-40DD-8789-C3A3354F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707-8001-46F4-A4B7-BDDD4E1A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69D6-099A-48E7-B539-54C7C749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A4CA-3B3D-485F-AED2-1503FF2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8D1C-F098-4484-90D9-4DE8EB0D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EA7E-1255-4932-8EA7-112048D7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0F0D-3481-4FB9-8684-6DE736FD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08DA-9978-429C-9770-F0CC4E5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9CB9-D6AB-4477-8CAD-F4437845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A5D-4AE1-44FC-9093-C8422A1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CC5-8FB9-48AD-987F-5D4D15C4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4A7-5D22-48B0-B629-3BD09B2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3F5-AA99-4743-A4DA-8424A3A6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EADD-ACDD-4F0D-BA5C-F5379A2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03A2-B6E3-498F-BD38-95A164A3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A41-55F5-4216-97E2-6D1E8FF6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5DB-E683-43D4-B1E2-3CEA9BD2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19E-4793-4F5A-AEF9-26104B7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681-AF47-46EE-A96E-AB3227F4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E13-C8D0-47D7-95CF-E1CAB2B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C48-DE17-4C3D-A8B0-DDFCF09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ED9-3E6E-4D16-BFF9-FD4A40F8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73A5-4E5B-4312-B9C8-F71B1C978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945F-C25C-4CAA-B2B4-D8D248D36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ahuka.narod.ru/gallery/art/dali/14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«ТЕХНОЛОГИЯ РАЗВИТИЯ КРИТИЧЕСКОГО МЫШЛЕНИ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7" descr="Картинка 4 из 17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997360"/>
            <a:ext cx="3246480" cy="3671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ity_photo_08[1]"/>
          <p:cNvPicPr/>
          <p:nvPr/>
        </p:nvPicPr>
        <p:blipFill>
          <a:blip r:embed="rId3"/>
          <a:stretch/>
        </p:blipFill>
        <p:spPr>
          <a:xfrm>
            <a:off x="5219640" y="292428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3780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"Есть три типа людей: первые умеют что-то делать, вторые - умеют научить что-то делать, а третьи только и делают, что "учат жить" и первых, и вторых… 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Я приветствую тех: кто умеет - поделитесь, кто может -         научите…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7" descr="385px-Mona_Lisa[1]"/>
          <p:cNvPicPr/>
          <p:nvPr/>
        </p:nvPicPr>
        <p:blipFill>
          <a:blip r:embed="rId1"/>
          <a:stretch/>
        </p:blipFill>
        <p:spPr>
          <a:xfrm>
            <a:off x="3851280" y="260280"/>
            <a:ext cx="2625840" cy="4071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i?id=8110673&amp;tov=3"/>
          <p:cNvPicPr/>
          <p:nvPr/>
        </p:nvPicPr>
        <p:blipFill>
          <a:blip r:embed="rId2"/>
          <a:stretch/>
        </p:blipFill>
        <p:spPr>
          <a:xfrm>
            <a:off x="6405480" y="260280"/>
            <a:ext cx="2781360" cy="381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i?id=100206977&amp;tov=0"/>
          <p:cNvPicPr/>
          <p:nvPr/>
        </p:nvPicPr>
        <p:blipFill>
          <a:blip r:embed="rId3"/>
          <a:stretch/>
        </p:blipFill>
        <p:spPr>
          <a:xfrm>
            <a:off x="5076720" y="3284640"/>
            <a:ext cx="2976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технологии РКМ - обеспечить развитие критического мышления посредством интерактивного включения учащихся в образовательный процесс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b1d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е качества образовательного процесс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е учебной мотиваци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я интереса к процессу обучения и активного восприятия учебного материала по предмет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Формирование информационной грамотности: развития способности к самостоятельной аналитической и оценочной работе с информацией любого вида и разного типа сложност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Повышение социальной компетентност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1b1d"/>
                </a:solidFill>
                <a:latin typeface="Arial"/>
              </a:rPr>
              <a:t>Формирование навыков анализа и синтеза предметных текстов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Три стад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Выз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Осмыс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7" descr="img1078[1]"/>
          <p:cNvPicPr/>
          <p:nvPr/>
        </p:nvPicPr>
        <p:blipFill>
          <a:blip r:embed="rId1"/>
          <a:stretch/>
        </p:blipFill>
        <p:spPr>
          <a:xfrm>
            <a:off x="914400" y="3657600"/>
            <a:ext cx="3776760" cy="282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starry_night[1]"/>
          <p:cNvPicPr/>
          <p:nvPr/>
        </p:nvPicPr>
        <p:blipFill>
          <a:blip r:embed="rId2"/>
          <a:stretch/>
        </p:blipFill>
        <p:spPr>
          <a:xfrm>
            <a:off x="3886200" y="1676520"/>
            <a:ext cx="3433680" cy="27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24-874[1]"/>
          <p:cNvPicPr/>
          <p:nvPr/>
        </p:nvPicPr>
        <p:blipFill>
          <a:blip r:embed="rId3"/>
          <a:stretch/>
        </p:blipFill>
        <p:spPr>
          <a:xfrm>
            <a:off x="5638680" y="3733920"/>
            <a:ext cx="30481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ВЫЗ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349"/>
                </a:solidFill>
                <a:latin typeface="Arial"/>
              </a:rPr>
              <a:t>Мотивационная</a:t>
            </a:r>
            <a:r>
              <a:rPr b="0" lang="en-US" sz="3200" spc="-1" strike="noStrike">
                <a:solidFill>
                  <a:srgbClr val="294349"/>
                </a:solidFill>
                <a:latin typeface="Arial"/>
              </a:rPr>
              <a:t> (побуждение к работе с новой информацией, пробуждение интереса к т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349"/>
                </a:solidFill>
                <a:latin typeface="Arial"/>
              </a:rPr>
              <a:t>Информационная </a:t>
            </a:r>
            <a:r>
              <a:rPr b="0" lang="en-US" sz="3200" spc="-1" strike="noStrike">
                <a:solidFill>
                  <a:srgbClr val="294349"/>
                </a:solidFill>
                <a:latin typeface="Arial"/>
              </a:rPr>
              <a:t>(вызов «на поверхность» имеющихся знаний по т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349"/>
                </a:solidFill>
                <a:latin typeface="Arial"/>
              </a:rPr>
              <a:t>Коммуникационная</a:t>
            </a:r>
            <a:br>
              <a:rPr sz="3200"/>
            </a:br>
            <a:r>
              <a:rPr b="0" lang="en-US" sz="3200" spc="-1" strike="noStrike">
                <a:solidFill>
                  <a:srgbClr val="294349"/>
                </a:solidFill>
                <a:latin typeface="Arial"/>
              </a:rPr>
              <a:t>(бесконфликтный обмен мнени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СМЫС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ционн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лучение новой информации по тем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атизационн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лассификация полученной информац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РЕФЛЕК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Коммуникацион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обмен мнениями о новой информ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нформацион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приобретение нового зн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Мотивацион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побуждение к дальнейшему расширению информационного пол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Оценочна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(соотнесение новой информации и имеющихся знаний, оценка процесс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Шесть шляп мыш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826920" y="1174680"/>
            <a:ext cx="7417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gallery_2_54_3508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54936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Мысль в подарок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5157720"/>
            <a:ext cx="44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Умеющие мыслить - умеют  задавать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8ae"/>
                </a:solidFill>
                <a:latin typeface="Arial"/>
              </a:rPr>
              <a:t>Э. К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0:53:20Z</dcterms:created>
  <dc:creator>Admin</dc:creator>
  <dc:description/>
  <dc:language>en-US</dc:language>
  <cp:lastModifiedBy>Admin</cp:lastModifiedBy>
  <dcterms:modified xsi:type="dcterms:W3CDTF">2012-10-30T10:57:27Z</dcterms:modified>
  <cp:revision>2</cp:revision>
  <dc:subject/>
  <dc:title>«ТЕХНОЛОГИЯ РАЗВИТИЯ КРИТИЧЕСКОГО МЫШЛЕНИЯ»</dc:title>
</cp:coreProperties>
</file>