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49E-4CE5-4E85-8556-89400064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848-D437-4254-803E-48DEFCC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BE9-4AD5-40A0-80A6-CFA764A4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C2A-E8E8-41E2-8D8C-1FAE4840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FB6B-A95B-4485-A95F-86FA282C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528-53FC-4BC7-A235-069F95C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846A-97D9-43CF-A282-8B261315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E29-9AEC-4556-9968-A0A2C69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1C9-D423-40C1-A69E-CE08D29B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FA1-FDAD-4CC9-8969-E933885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FA94-D742-4439-8BB3-65B6FBA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E8A-C2DC-47C1-A3EC-E201BB96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44A0-36E9-440B-9AA8-BBCD025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8F1C-7164-46A6-995F-094DED1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D5C0-0557-4516-8461-17E41158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BF25-E558-4515-B2EC-4B282BCB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F7DC-8409-4EB7-8716-3E69663A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B81-890F-4DB7-B196-BFAA44F1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1D1-8F20-40BA-BCB6-285A1E7D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9A2-25D0-4A3E-96ED-60238D03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C38-FE30-4E2C-9BC8-B459CDB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440-9406-4550-94AE-0A13353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304-D5C2-4245-B3DB-C04F5FA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1DF-9D1D-4FD2-A7C6-A827226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ED7-A90C-4E23-A291-D9B75C246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4F1F-AF5A-41EA-B37A-B843C029D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ahuka.narod.ru/gallery/art/dali/14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«ТЕХНОЛОГИЯ РАЗВИТИЯ КРИТИЧЕСКОГО МЫШЛЕНИ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7" descr="Картинка 4 из 17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997360"/>
            <a:ext cx="3246480" cy="3671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ity_photo_08[1]"/>
          <p:cNvPicPr/>
          <p:nvPr/>
        </p:nvPicPr>
        <p:blipFill>
          <a:blip r:embed="rId3"/>
          <a:stretch/>
        </p:blipFill>
        <p:spPr>
          <a:xfrm>
            <a:off x="5219640" y="292428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780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"Есть три типа людей: первые умеют что-то делать, вторые - умеют научить что-то делать, а третьи только и делают, что "учат жить" и первых, и вторых… 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Я приветствую тех: кто умеет - поделитесь, кто может -         научите…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7" descr="385px-Mona_Lisa[1]"/>
          <p:cNvPicPr/>
          <p:nvPr/>
        </p:nvPicPr>
        <p:blipFill>
          <a:blip r:embed="rId1"/>
          <a:stretch/>
        </p:blipFill>
        <p:spPr>
          <a:xfrm>
            <a:off x="3851280" y="260280"/>
            <a:ext cx="2625840" cy="4071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i?id=8110673&amp;tov=3"/>
          <p:cNvPicPr/>
          <p:nvPr/>
        </p:nvPicPr>
        <p:blipFill>
          <a:blip r:embed="rId2"/>
          <a:stretch/>
        </p:blipFill>
        <p:spPr>
          <a:xfrm>
            <a:off x="6405480" y="260280"/>
            <a:ext cx="2781360" cy="381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i?id=100206977&amp;tov=0"/>
          <p:cNvPicPr/>
          <p:nvPr/>
        </p:nvPicPr>
        <p:blipFill>
          <a:blip r:embed="rId3"/>
          <a:stretch/>
        </p:blipFill>
        <p:spPr>
          <a:xfrm>
            <a:off x="5076720" y="3284640"/>
            <a:ext cx="2976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технологии РКМ - обеспечить развитие критического мышления посредством интерактивного включения учащихся в образовательный процесс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b1d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е качества образовательного процесс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е учебной мотиваци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я интереса к процессу обучения и активного восприятия учебного материала по предмет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Формирование информационной грамотности: развития способности к самостоятельной аналитической и оценочной работе с информацией любого вида и разного типа сложност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е социальной компетентност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Формирование навыков анализа и синтеза предметных текстов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Три стад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Выз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Осмыс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7" descr="img1078[1]"/>
          <p:cNvPicPr/>
          <p:nvPr/>
        </p:nvPicPr>
        <p:blipFill>
          <a:blip r:embed="rId1"/>
          <a:stretch/>
        </p:blipFill>
        <p:spPr>
          <a:xfrm>
            <a:off x="914400" y="3657600"/>
            <a:ext cx="3776760" cy="282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starry_night[1]"/>
          <p:cNvPicPr/>
          <p:nvPr/>
        </p:nvPicPr>
        <p:blipFill>
          <a:blip r:embed="rId2"/>
          <a:stretch/>
        </p:blipFill>
        <p:spPr>
          <a:xfrm>
            <a:off x="3886200" y="1676520"/>
            <a:ext cx="3433680" cy="27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24-874[1]"/>
          <p:cNvPicPr/>
          <p:nvPr/>
        </p:nvPicPr>
        <p:blipFill>
          <a:blip r:embed="rId3"/>
          <a:stretch/>
        </p:blipFill>
        <p:spPr>
          <a:xfrm>
            <a:off x="5638680" y="3733920"/>
            <a:ext cx="30481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ВЫЗ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349"/>
                </a:solidFill>
                <a:latin typeface="Arial"/>
              </a:rPr>
              <a:t>Мотивационная</a:t>
            </a: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 (побуждение к работе с новой информацией, пробуждение интереса к т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349"/>
                </a:solidFill>
                <a:latin typeface="Arial"/>
              </a:rPr>
              <a:t>Информационная </a:t>
            </a: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(вызов «на поверхность» имеющихся знаний по т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349"/>
                </a:solidFill>
                <a:latin typeface="Arial"/>
              </a:rPr>
              <a:t>Коммуникационная</a:t>
            </a:r>
            <a:br>
              <a:rPr sz="3200"/>
            </a:b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(бесконфликтный обмен мнени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СМЫС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лучение новой информации по т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тизационн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лассификация полученной информа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ЕФЛЕК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Коммуникацион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обмен мнениями о новой информ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нформацион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приобретение нового зн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Мотивацион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побуждение к дальнейшему расширению информационного пол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Оценоч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соотнесение новой информации и имеющихся знаний, оценка процесс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Шесть шляп мыш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826920" y="1174680"/>
            <a:ext cx="7417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gallery_2_54_3508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54936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Мысль в подаро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5157720"/>
            <a:ext cx="44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Умеющие мыслить - умеют  задавать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Э. К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0:53:20Z</dcterms:created>
  <dc:creator>Admin</dc:creator>
  <dc:description/>
  <dc:language>en-US</dc:language>
  <cp:lastModifiedBy>Admin</cp:lastModifiedBy>
  <dcterms:modified xsi:type="dcterms:W3CDTF">2012-10-30T10:57:27Z</dcterms:modified>
  <cp:revision>2</cp:revision>
  <dc:subject/>
  <dc:title>«ТЕХНОЛОГИЯ РАЗВИТИЯ КРИТИЧЕСКОГО МЫШЛЕНИЯ»</dc:title>
</cp:coreProperties>
</file>