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6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01f"/>
                </a:solidFill>
                <a:latin typeface="Corbel"/>
              </a:rPr>
              <a:t>Click to move the slide</a:t>
            </a: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6BA7-38D3-4CC8-8026-EC91B1B530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5DB2-4BFF-405B-9E5A-B38B203252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51E3-DD38-4E9F-900C-24155F94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43F7-2F16-41F3-995F-661134ED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A5B3-31BF-450A-B40C-EF301D89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D5C0-69D6-4451-9BD2-AA1B2305D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BF15-3043-4568-B2F1-501718A4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A37F-01B9-482A-BE5F-4C93D5D6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D48A-0EB3-4C6D-ABA8-F37FFE91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77A6-FDC8-4FCE-B97B-31CCB60E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D1B4-7EB9-4195-B51F-936118C6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0815-16A0-4423-85A2-F5444C2F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9303-0ABE-4F36-837D-55E94F44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929C-AA2C-404F-8A5F-6B686882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6929-746C-4A25-AD5C-25A90448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5271-14D0-4511-94DD-CAA2CC31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8483-2B1A-453E-94D6-4B7E2C78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8E85-A791-45E4-B897-83FCC275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B464-2C41-455E-9966-7757C6F2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3CE3-F58A-4008-A280-3B56B50B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54FE-9D5A-4770-8649-D5C4FDA0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0CD9-3EAF-46F6-B8B8-1ADE144C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2AB-BC1C-42FF-B9C5-404900F5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542-2855-415D-85E3-D2B72E79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0680-2AC0-45D9-B44C-B5CFC897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9E63-6F85-40FD-ACEC-30F8EFC1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01f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201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201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201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BDAF-1147-474C-8163-534C38B0301A}" type="slidenum">
              <a:rPr b="0" lang="en-US" sz="1200" spc="-1" strike="noStrike">
                <a:solidFill>
                  <a:srgbClr val="57201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01f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201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201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201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A48D-EF41-4552-9EB1-6E47AAA734C7}" type="slidenum">
              <a:rPr b="0" lang="en-US" sz="1200" spc="-1" strike="noStrike">
                <a:solidFill>
                  <a:srgbClr val="57201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3.pn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golovolom.com/puzzles/053_ico.gif" TargetMode="External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podrastayka.com/up/photos/album/5.jpg" TargetMode="External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0066"/>
                </a:solidFill>
                <a:uFillTx/>
                <a:latin typeface="Times New Roman"/>
              </a:rPr>
              <a:t>Логические игры и упражнения в обучении ребенка математике</a:t>
            </a:r>
            <a:endParaRPr b="1" lang="en-US" sz="40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90" name=""/>
          <p:cNvSpPr/>
          <p:nvPr/>
        </p:nvSpPr>
        <p:spPr>
          <a:xfrm>
            <a:off x="3348000" y="5950080"/>
            <a:ext cx="3382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езентация для педсовет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04000" y="4437000"/>
            <a:ext cx="1600200" cy="2087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 rot="20962200">
            <a:off x="971640" y="2276280"/>
            <a:ext cx="3529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211280" y="333000"/>
            <a:ext cx="447516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Игры на пространственные преобразования, воссоздание фигур-силуэтов, образных изображений из определенных частей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 - очень увлекательны для детей.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Решение осуществляется путем практических действий в составлении, подборе, раскладывании по правилам и условиям. Это игры, в которых из специально подобранного набора фигур надо составить фигуру-силуэт, используя весь предложенный набор фигур, например: в играх «Колумбово яйцо», «Вьетнамская игра», «Волшебный круг», «Чудо-крестики» - надо составить плоские фигуры, а в игре «Кубики для всех» - объемную.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1898640" cy="2674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2036880" cy="3095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2195640" y="333360"/>
            <a:ext cx="1584360" cy="1152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908000" y="4986360"/>
            <a:ext cx="2303640" cy="1871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2124000" y="1844640"/>
            <a:ext cx="205272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Дидактические игры и упражнения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</a:rPr>
              <a:t>направлены на развитие у детей логического мышления, пространственных представлений, дают возможность</a:t>
            </a:r>
            <a:br>
              <a:rPr sz="2000"/>
            </a:br>
            <a:r>
              <a:rPr b="0" lang="en-US" sz="2000" spc="-1" strike="noStrike">
                <a:solidFill>
                  <a:srgbClr val="0d0d0d"/>
                </a:solidFill>
                <a:latin typeface="Times New Roman"/>
              </a:rPr>
              <a:t>упражнять ребят в счете, вычислениях.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Times New Roman"/>
              </a:rPr>
              <a:t>Например, </a:t>
            </a:r>
            <a:r>
              <a:rPr b="0" lang="en-US" sz="2000" spc="-1" strike="noStrike" u="sng">
                <a:solidFill>
                  <a:srgbClr val="0d0d0d"/>
                </a:solidFill>
                <a:uFillTx/>
                <a:latin typeface="Times New Roman"/>
              </a:rPr>
              <a:t>игра </a:t>
            </a:r>
            <a:r>
              <a:rPr b="0" lang="en-US" sz="2400" spc="-1" strike="noStrike" u="sng">
                <a:solidFill>
                  <a:srgbClr val="0d0d0d"/>
                </a:solidFill>
                <a:uFillTx/>
                <a:latin typeface="Times New Roman"/>
              </a:rPr>
              <a:t>«Числовой ряд».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Times New Roman"/>
              </a:rPr>
              <a:t>Цель: закрепление знаний последовательности чисел в натуральном ряду.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Times New Roman"/>
              </a:rPr>
              <a:t>Ход: играют двое, перед ними карточки с цифрами от 1 до 10 лицевой стороной вниз. У каждого карточки с цифрами до 13. Каждый по очереди берет карточку, открывает ее и кладет перед собой. Если число меньше числа открытой, то кладет левее. Если больше, то правее. Выиграет тот, кто первым выложит свой ряд.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95280" y="4724280"/>
            <a:ext cx="331308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orbel"/>
              </a:rPr>
              <a:t>Логические игры, задачи и упражнения</a:t>
            </a:r>
            <a:r>
              <a:rPr b="0" lang="ru-RU" sz="2400" spc="-1" strike="noStrike">
                <a:solidFill>
                  <a:srgbClr val="0d0d0d"/>
                </a:solidFill>
                <a:latin typeface="Corbel"/>
              </a:rPr>
              <a:t> - направлены на тренировку</a:t>
            </a:r>
            <a:br>
              <a:rPr sz="2400"/>
            </a:br>
            <a:r>
              <a:rPr b="0" lang="ru-RU" sz="2400" spc="-1" strike="noStrike">
                <a:solidFill>
                  <a:srgbClr val="0d0d0d"/>
                </a:solidFill>
                <a:latin typeface="Corbel"/>
              </a:rPr>
              <a:t>мышления при выполнении логических операций и действий, например: 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d0d0d"/>
                </a:solidFill>
                <a:uFillTx/>
                <a:latin typeface="Corbel"/>
              </a:rPr>
              <a:t>«Найди недостающую фигуру»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d0d0d"/>
                </a:solidFill>
                <a:uFillTx/>
                <a:latin typeface="Corbel"/>
              </a:rPr>
              <a:t>«Чем отличаются»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d0d0d"/>
                </a:solidFill>
                <a:uFillTx/>
                <a:latin typeface="Corbel"/>
              </a:rPr>
              <a:t>«Что лишнее»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rbel"/>
              </a:rPr>
              <a:t>      </a:t>
            </a: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Играть в </a:t>
            </a: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логические игры</a:t>
            </a: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 полезно в любом возрасте. Поэтому не стоит ставить какие – то конкретные возрастные рамки для участников игры.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</p:txBody>
      </p:sp>
      <p:pic>
        <p:nvPicPr>
          <p:cNvPr id="134" name="Рисунок 3" descr="развитие мышления у детей "/>
          <p:cNvPicPr/>
          <p:nvPr/>
        </p:nvPicPr>
        <p:blipFill>
          <a:blip r:embed="rId6"/>
          <a:stretch/>
        </p:blipFill>
        <p:spPr>
          <a:xfrm>
            <a:off x="1258920" y="4221000"/>
            <a:ext cx="6072120" cy="2428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://i049.radikal.ru/0906/79/8d4667cc2df4.jpg"/>
          <p:cNvPicPr/>
          <p:nvPr/>
        </p:nvPicPr>
        <p:blipFill>
          <a:blip r:embed="rId7"/>
          <a:stretch/>
        </p:blipFill>
        <p:spPr>
          <a:xfrm>
            <a:off x="5940360" y="4365720"/>
            <a:ext cx="2808360" cy="2082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www.dou11.bel31.ru/images/ds7.jpg"/>
          <p:cNvPicPr/>
          <p:nvPr/>
        </p:nvPicPr>
        <p:blipFill>
          <a:blip r:embed="rId8"/>
          <a:stretch/>
        </p:blipFill>
        <p:spPr>
          <a:xfrm>
            <a:off x="324000" y="4365720"/>
            <a:ext cx="2447640" cy="20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жно выделить еще игры и задачи на смекалку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«Назови число»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Цель: упражнять детей в умении производить устные вычисления. 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Ход: Взрослый говорит: «Я могу отгадать число, которое ты задумал». Задумай число, прибавь к нему шесть, от суммы вычти два, затем еще отними задуманное число, к результату прибавь один. У тебя получилось число пять».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дачи на смекалк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различны по степени сложности, характеру преобразования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Задачи на составление заданной фигуры и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определенного количест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палочек:  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составить два равных квадрата из семи палочек.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Задачи на изменение фигур, для решения которых                   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на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убра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указанное количество палочек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-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Задачи на смекалку, решение которых состоит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перекладыван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палочек с целью видоизменения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преобразования заданной фигуры.</a:t>
            </a:r>
            <a:br>
              <a:rPr sz="1800"/>
            </a:b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</p:txBody>
      </p:sp>
      <p:pic>
        <p:nvPicPr>
          <p:cNvPr id="139" name="Picture 2" descr="Картинка 2 из 3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8360" y="3645000"/>
            <a:ext cx="2259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Игры на интуицию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: «Дорисовки» - дорисовать фигуру; «Рифмы» - закончить стихотворение, используя произведения Корнея Чуковского, Самуила Маршака, Агнии Барто. 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На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понимание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: «Следопыт» - рисуются следы животных и людей, угадать, чьи следы. 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На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развитие художественно – образного мышления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: «Облака» На что похожи облака, плывущие по небу? 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«Тень»- по тени определить, от какого она предмета. 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Дети очень активны в восприятии задач-шуток, головоломок, логических упражнений. Они настойчиво ищут ход решения, который ведет к результату. 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В том случае, когда занимательная задача доступна ребенку, у него складывается положительное эмоциональное отношение к ней, что и стимулируют мыслительную активность. 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</a:rPr>
              <a:t>                                             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Ребенку интересна конечная цель: 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</a:rPr>
              <a:t>                                             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сложить, найти нужную фигуру, 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</a:rPr>
              <a:t>                                             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преобразовать, - которая увлекает 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</a:rPr>
              <a:t>                                             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его.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</p:txBody>
      </p:sp>
      <p:pic>
        <p:nvPicPr>
          <p:cNvPr id="143" name="Picture 4" descr="Картинка 3 из 11608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4360" y="37162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a1f28"/>
                </a:solidFill>
                <a:latin typeface="Corbel"/>
              </a:rPr>
              <a:t>     </a:t>
            </a:r>
            <a:r>
              <a:rPr b="1" lang="en-US" sz="2800" spc="-1" strike="noStrike">
                <a:solidFill>
                  <a:srgbClr val="da1f28"/>
                </a:solidFill>
                <a:latin typeface="Corbel"/>
              </a:rPr>
              <a:t>Для успешной подготовки детей к обучению в школе необходимы не только </a:t>
            </a:r>
            <a:r>
              <a:rPr b="1" i="1" lang="en-US" sz="2800" spc="-1" strike="noStrike">
                <a:solidFill>
                  <a:srgbClr val="da1f28"/>
                </a:solidFill>
                <a:latin typeface="Corbel"/>
              </a:rPr>
              <a:t>определенные </a:t>
            </a:r>
            <a:r>
              <a:rPr b="1" lang="en-US" sz="2800" spc="-1" strike="noStrike">
                <a:solidFill>
                  <a:srgbClr val="da1f28"/>
                </a:solidFill>
                <a:latin typeface="Corbel"/>
              </a:rPr>
              <a:t>знания, но и умение последовательно и логически мыслить, догадываться, умственно напрягаться. 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1f28"/>
                </a:solidFill>
                <a:latin typeface="Corbel"/>
              </a:rPr>
              <a:t>     </a:t>
            </a:r>
            <a:r>
              <a:rPr b="1" lang="en-US" sz="2800" spc="-1" strike="noStrike">
                <a:solidFill>
                  <a:srgbClr val="da1f28"/>
                </a:solidFill>
                <a:latin typeface="Corbel"/>
              </a:rPr>
              <a:t>И именно задачи на смекалку, головоломки, логические игры учат детей планировать свои действия, обдумывать их, искать ответ, догадываться о результате, проявляя при этом творчество. 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1f28"/>
                </a:solidFill>
                <a:latin typeface="Corbel"/>
              </a:rPr>
              <a:t>     </a:t>
            </a:r>
            <a:r>
              <a:rPr b="1" lang="en-US" sz="2800" spc="-1" strike="noStrike">
                <a:solidFill>
                  <a:srgbClr val="da1f28"/>
                </a:solidFill>
                <a:latin typeface="Corbel"/>
              </a:rPr>
              <a:t>Такая работа активизирует мыслительную деятельность ребенка, развивает у него качества, необходимые для профессионального мастерства, в какой бы сфере потом он не трудился.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01f"/>
                </a:solidFill>
                <a:latin typeface="Times New Roman"/>
              </a:rPr>
              <a:t>Литература</a:t>
            </a:r>
            <a:br>
              <a:rPr sz="2800"/>
            </a:br>
            <a:endParaRPr b="1" lang="en-US" sz="28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orbel"/>
              </a:rPr>
              <a:t>Формирование элементарных математических представлений у дошкольников: Учеб. пособие для студентов пед. ин-тов. Р.Я.Березина, З.А,Михайлова, Р.А. Непомнящая и др.; Под ред. А.А.Столяра. – М.: Просвещение, 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1988. – 303с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orbel"/>
              </a:rPr>
              <a:t>Логика и математика для дошкольников: Методическое пособие /Авт.-сост, Е. А. носова, Р. Л. Непомнящая – Спб: «Акцидент», 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1997 – 79 с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0124600">
            <a:off x="1491840" y="4298760"/>
            <a:ext cx="1523880" cy="2269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2843280" y="4221000"/>
            <a:ext cx="15955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a1f28"/>
                </a:solidFill>
                <a:latin typeface="Times New Roman"/>
              </a:rPr>
              <a:t>Что такое «логика» и нужна ли она нашим детям?</a:t>
            </a:r>
            <a:endParaRPr b="1" lang="en-US" sz="2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771280" y="1052280"/>
            <a:ext cx="591516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orbel"/>
              </a:rPr>
              <a:t>Одна из важнейших задач воспитания маленького ребенка – развитие его ума, формирование таких мыслительных умений и способностей, которые позволяют легко осваивать новое. На решение этой задачи должны быть направлены содержание и методы подготовки мышления детей к школьному обучению, в частности предматематической подготовки.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orbel"/>
              </a:rPr>
              <a:t>В современных программах дошкольного образования уделяется большое внимание логической подготовке детей. Речь идет о развитии мышления ребенка.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39640" y="4365720"/>
            <a:ext cx="202752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11280" y="404280"/>
            <a:ext cx="80755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1f28"/>
                </a:solidFill>
                <a:latin typeface="Arial"/>
              </a:rPr>
              <a:t>Логическое мышление</a:t>
            </a: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 - это умение оперировать абстрактными понятиями, это управляемое мышление, это умение проводить простейшие логические операции: определение понятий, сравнение, обобщение, классификацию, суждение, умозаключение, доказательство.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1f28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da1f28"/>
                </a:solidFill>
                <a:latin typeface="Arial"/>
              </a:rPr>
              <a:t>Чем хорошо логическое мышление?</a:t>
            </a: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 Тем, что оно приводит к правильному решению без помощи интуиции и опыта! Делая ошибки и учась на них мы овладеваем правилами логического мышления и пользуемся ими каждый день.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47640" y="549000"/>
            <a:ext cx="55450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Овладение </a:t>
            </a:r>
            <a:r>
              <a:rPr b="0" lang="en-US" sz="2000" spc="-1" strike="noStrike">
                <a:solidFill>
                  <a:srgbClr val="da1f28"/>
                </a:solidFill>
                <a:latin typeface="Arial"/>
              </a:rPr>
              <a:t>логическими формами</a:t>
            </a: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 мышления в дошкольном возрасте способствует развитию умственных способностей и необходимо для успешного перехода детей к школьному обучению.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Именно благодаря </a:t>
            </a:r>
            <a:r>
              <a:rPr b="0" lang="en-US" sz="2000" spc="-1" strike="noStrike">
                <a:solidFill>
                  <a:srgbClr val="da1f28"/>
                </a:solidFill>
                <a:latin typeface="Arial"/>
              </a:rPr>
              <a:t>логике </a:t>
            </a: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можно обосновать многие жизненные явления, объяснить абстрактные понятия, научить ребенка отстаивать свою точку зрения. 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Посредством </a:t>
            </a:r>
            <a:r>
              <a:rPr b="0" lang="en-US" sz="2000" spc="-1" strike="noStrike">
                <a:solidFill>
                  <a:srgbClr val="da1f28"/>
                </a:solidFill>
                <a:latin typeface="Arial"/>
              </a:rPr>
              <a:t>логики</a:t>
            </a: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 строятся сложные математические теоремы простейшие житейские суждения. Она помогает здраво оценивать мир и окружающих, понимать весь сложный процесс течения времени под названием «жизнь». 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Всем известно, как дети любят рассуждать, стараясь казаться взрослыми. Но любой взрослый человек с легкостью отметит погрешности в рассуждениях ребенка, и прежде всего эти недочеты будут связаны с неточностью </a:t>
            </a:r>
            <a:r>
              <a:rPr b="0" lang="en-US" sz="2000" spc="-1" strike="noStrike">
                <a:solidFill>
                  <a:srgbClr val="da1f28"/>
                </a:solidFill>
                <a:latin typeface="Arial"/>
              </a:rPr>
              <a:t>логического </a:t>
            </a: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строя мысли. 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29512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92000" y="549000"/>
            <a:ext cx="519444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Преодолеть эту слабую сторону можно, используя </a:t>
            </a:r>
            <a:r>
              <a:rPr b="1" lang="en-US" sz="2400" spc="-1" strike="noStrike">
                <a:solidFill>
                  <a:srgbClr val="da1f28"/>
                </a:solidFill>
                <a:latin typeface="Arial"/>
              </a:rPr>
              <a:t>логические игры</a:t>
            </a: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. Начав тренировать свое мышление с самого раннего детства, ребенок к началу своего обучения в школе будет значительно опережать в развитии своих сверстников.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Эффективность развития логического мышления дошкольников возрастает, если в качестве средств обучения выступают наглядные модели, знакомство с которыми следует начинать уже в младшей и средней группах.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95280" y="2565360"/>
            <a:ext cx="29462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58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7201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33300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Общая способность к наглядному моделированию развивается с помощью моделирования сериационных и классификационных отношений с использованием моделей в форме 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                                                                                  </a:t>
            </a:r>
            <a:r>
              <a:rPr b="1" i="1" lang="ru-RU" sz="2800" spc="-1" strike="noStrike">
                <a:solidFill>
                  <a:srgbClr val="0d0d0d"/>
                </a:solidFill>
                <a:latin typeface="Arial"/>
              </a:rPr>
              <a:t>кругов Эйлера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</p:txBody>
      </p:sp>
      <p:pic>
        <p:nvPicPr>
          <p:cNvPr id="105" name="Text Placeholder 2" descr=""/>
          <p:cNvPicPr/>
          <p:nvPr/>
        </p:nvPicPr>
        <p:blipFill>
          <a:blip r:embed="rId3"/>
          <a:stretch/>
        </p:blipFill>
        <p:spPr>
          <a:xfrm>
            <a:off x="250920" y="4005360"/>
            <a:ext cx="3456000" cy="2628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2916360" y="1773360"/>
            <a:ext cx="2881080" cy="2705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5292720" y="4300560"/>
            <a:ext cx="36720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7201f"/>
                </a:solidFill>
                <a:latin typeface="Times New Roman"/>
              </a:rPr>
              <a:t>логических блоков Дьенеша</a:t>
            </a:r>
            <a:endParaRPr b="1" lang="en-US" sz="3600" spc="-1" strike="noStrike">
              <a:solidFill>
                <a:srgbClr val="57201f"/>
              </a:solidFill>
              <a:latin typeface="Corbe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867280" y="4149720"/>
            <a:ext cx="2952720" cy="2473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826920" y="4076640"/>
            <a:ext cx="3168720" cy="2508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211640" y="1557360"/>
            <a:ext cx="3313080" cy="2481120"/>
          </a:xfrm>
          <a:prstGeom prst="rect">
            <a:avLst/>
          </a:prstGeom>
          <a:ln w="0">
            <a:noFill/>
          </a:ln>
        </p:spPr>
      </p:pic>
      <p:pic>
        <p:nvPicPr>
          <p:cNvPr id="112" name="Text Placeholder 2" descr=""/>
          <p:cNvPicPr/>
          <p:nvPr/>
        </p:nvPicPr>
        <p:blipFill>
          <a:blip r:embed="rId5"/>
          <a:stretch/>
        </p:blipFill>
        <p:spPr>
          <a:xfrm>
            <a:off x="468360" y="1197000"/>
            <a:ext cx="266364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7201f"/>
                </a:solidFill>
                <a:latin typeface="Times New Roman"/>
              </a:rPr>
              <a:t>палочек Кюизенера</a:t>
            </a:r>
            <a:endParaRPr b="1" lang="en-US" sz="36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                           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1832040" cy="2592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95280" y="386064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932360" y="4292640"/>
            <a:ext cx="3168720" cy="2565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5292720" y="1484280"/>
            <a:ext cx="3457440" cy="2594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2916360" y="1989000"/>
            <a:ext cx="187164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564000" y="188640"/>
            <a:ext cx="5122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Кроме этого существует много дидактических игр, направленных на формирование логического мышления детей дошкольного возраста. 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orbel"/>
              </a:rPr>
              <a:t>Для развития логики ваших детей  предлагаем использовать </a:t>
            </a:r>
            <a:r>
              <a:rPr b="1" lang="ru-RU" sz="2000" spc="-1" strike="noStrike">
                <a:solidFill>
                  <a:srgbClr val="0d0d0d"/>
                </a:solidFill>
                <a:latin typeface="Corbel"/>
              </a:rPr>
              <a:t>занимательный математический</a:t>
            </a:r>
            <a:r>
              <a:rPr b="0" lang="ru-RU" sz="2000" spc="-1" strike="noStrike">
                <a:solidFill>
                  <a:srgbClr val="0d0d0d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Corbel"/>
              </a:rPr>
              <a:t>материал</a:t>
            </a:r>
            <a:r>
              <a:rPr b="0" lang="ru-RU" sz="2000" spc="-1" strike="noStrike">
                <a:solidFill>
                  <a:srgbClr val="0d0d0d"/>
                </a:solidFill>
                <a:latin typeface="Corbel"/>
              </a:rPr>
              <a:t> как для самостоятельной деятельности детей, так и в совместных играх.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orbel"/>
              </a:rPr>
              <a:t>      </a:t>
            </a:r>
            <a:r>
              <a:rPr b="0" lang="ru-RU" sz="2000" spc="-1" strike="noStrike">
                <a:solidFill>
                  <a:srgbClr val="0d0d0d"/>
                </a:solidFill>
                <a:latin typeface="Corbel"/>
              </a:rPr>
              <a:t>Занимательный математический материал является одним из дидактических средств, способствующих формированию математических представлений детей. 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orbel"/>
              </a:rPr>
              <a:t>Существует большое многообразие занимательного материала. Рассмотрим их.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332000" y="189000"/>
            <a:ext cx="2009520" cy="2381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250920" y="4221000"/>
            <a:ext cx="2952720" cy="250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http://www.ru-toys.ru/files/12040.jpg"/>
          <p:cNvPicPr/>
          <p:nvPr/>
        </p:nvPicPr>
        <p:blipFill>
          <a:blip r:embed="rId7"/>
          <a:stretch/>
        </p:blipFill>
        <p:spPr>
          <a:xfrm>
            <a:off x="250920" y="2349360"/>
            <a:ext cx="266364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20:17:53Z</dcterms:created>
  <dc:creator/>
  <dc:description/>
  <cp:keywords/>
  <dc:language>en-US</dc:language>
  <cp:lastModifiedBy/>
  <dcterms:modified xsi:type="dcterms:W3CDTF">2011-01-18T08:24:39Z</dcterms:modified>
  <cp:revision>4</cp:revision>
  <dc:subject/>
  <dc:title>Логические игры и упражнения в обучении ребенка математи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559990</vt:lpwstr>
  </property>
</Properties>
</file>