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680-F2A1-435D-B71F-567EC310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E539-0F04-4F91-9380-6D627E8A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B3B-4CBB-4EE3-A115-0FDC303B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725-C3EF-4361-9A83-548DA5CF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9515-0216-49F0-BF1E-60A9684C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3A40-52A4-45B1-BD0E-FD5C8C8A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4AE7-76F1-4BC4-8540-12A3DB8F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11AE-A18D-429E-A4A9-FFD30B40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409D-1C77-43FF-AEC0-4402CA46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F961-45CB-4F86-A96E-2B1183B9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FB43-56C4-4CD2-B12D-6A5AAF9E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03A9-4D65-4518-AE60-B07EB854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A40B-0F30-40CD-B2E8-F1C1556C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DE2E-36C9-4624-BB90-D2F3FB60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197F-F4B8-420E-976B-91543E55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0DD5-745A-4378-B137-A75F7B4A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CFBC-EE16-4409-A6CD-7770CC71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6CA-5133-47C3-AC48-886B6320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36A-1A6D-40FD-AC8A-B6C16414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DCA2-F5CA-4DEA-8839-62DF1FA4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BBEA-ABE7-4F90-A7A8-DB038CF0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CF84-F430-4770-8171-53C16387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E5C2-A453-428C-8CB2-81154311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FD7-80E8-43B2-B672-2F2E99CE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DFDD-7B7E-433C-BA75-3282EDCEEC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6 Imagen" descr="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0F29-BAED-4DBC-9B2C-FC3BD450C1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езентация к уроку в 8 классе по теме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“We`re the part of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Universe”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МК М.З.Биболетовой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Enjoy English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51280" y="3716280"/>
            <a:ext cx="483552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ыполнила уч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БОУ СОШ № 25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дмиралтейск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.И.Смирн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0" y="1125000"/>
            <a:ext cx="4392720" cy="53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It`s the third planet from the Su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colour of  Earth comes from the oceans which cover 70 per cent of the plane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земля"/>
          <p:cNvPicPr/>
          <p:nvPr/>
        </p:nvPicPr>
        <p:blipFill>
          <a:blip r:embed="rId1"/>
          <a:stretch/>
        </p:blipFill>
        <p:spPr>
          <a:xfrm>
            <a:off x="179280" y="1484280"/>
            <a:ext cx="4248360" cy="4095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HE SOLAR SYSTEM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solar.avi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56144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 choose a planet to visit and try to sa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the planet is lik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one can see and do the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2160" y="-360"/>
            <a:ext cx="7772400" cy="494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How many main planets a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re in the Solar System?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an you name them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MA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- The fourth planet is named after a Roman god of w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- Mars has two natural satellites - Phobos and Deim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mars"/>
          <p:cNvPicPr/>
          <p:nvPr/>
        </p:nvPicPr>
        <p:blipFill>
          <a:blip r:embed="rId1"/>
          <a:stretch/>
        </p:blipFill>
        <p:spPr>
          <a:xfrm>
            <a:off x="395280" y="1413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NEPTUN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- It`s the eighth and farthest planet in the Solar Syste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- It has the strongest winds in the Solar System – up to 2,400 kp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8" descr="Neptune"/>
          <p:cNvPicPr/>
          <p:nvPr/>
        </p:nvPicPr>
        <p:blipFill>
          <a:blip r:embed="rId1"/>
          <a:stretch/>
        </p:blipFill>
        <p:spPr>
          <a:xfrm>
            <a:off x="395280" y="1484280"/>
            <a:ext cx="396072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t`s the sixth plane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t`s 100 times the size of Earth, but it`s lighter than wat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6" descr="C:\Users\Оксана\Desktop\сатурн.jpg"/>
          <p:cNvPicPr/>
          <p:nvPr/>
        </p:nvPicPr>
        <p:blipFill>
          <a:blip r:embed="rId1"/>
          <a:stretch/>
        </p:blipFill>
        <p:spPr>
          <a:xfrm>
            <a:off x="179280" y="2492280"/>
            <a:ext cx="4038840" cy="3233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JUPI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t`s the fifth planet from the Sun, the largest in the solar syste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t`s a very stormy planet because it spins so fas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-_----jghgf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Upiter"/>
          <p:cNvPicPr/>
          <p:nvPr/>
        </p:nvPicPr>
        <p:blipFill>
          <a:blip r:embed="rId1"/>
          <a:stretch/>
        </p:blipFill>
        <p:spPr>
          <a:xfrm>
            <a:off x="179280" y="1557360"/>
            <a:ext cx="403236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URA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355640" y="1341000"/>
            <a:ext cx="4537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t`s the seventh planet from the Su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t spins at an ang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ach pole of the planet, north and south,  has 42 years of sunlight, then 42 years of darknes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7" descr="http://im4-tub-ru.yandex.net/i?id=516341491-36-72"/>
          <p:cNvPicPr/>
          <p:nvPr/>
        </p:nvPicPr>
        <p:blipFill>
          <a:blip r:embed="rId1"/>
          <a:stretch/>
        </p:blipFill>
        <p:spPr>
          <a:xfrm>
            <a:off x="179280" y="2060640"/>
            <a:ext cx="396108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VE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t`s named after Venus, goddess of love in Roman panthe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t`s the hottest planet in the Solar Syste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Venus"/>
          <p:cNvPicPr/>
          <p:nvPr/>
        </p:nvPicPr>
        <p:blipFill>
          <a:blip r:embed="rId1"/>
          <a:stretch/>
        </p:blipFill>
        <p:spPr>
          <a:xfrm>
            <a:off x="395280" y="1557360"/>
            <a:ext cx="381636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7280" y="1557000"/>
            <a:ext cx="44272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- It`s the smallest and the fastest planet in the Solar System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- It`s very hot during the day and very cold at nigh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http://im8-tub-ru.yandex.net/i?id=200143138-48-72"/>
          <p:cNvPicPr/>
          <p:nvPr/>
        </p:nvPicPr>
        <p:blipFill>
          <a:blip r:embed="rId1"/>
          <a:stretch/>
        </p:blipFill>
        <p:spPr>
          <a:xfrm>
            <a:off x="250920" y="2421000"/>
            <a:ext cx="360036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07:57:58Z</dcterms:created>
  <dc:creator>фыгы</dc:creator>
  <dc:description/>
  <dc:language>en-US</dc:language>
  <cp:lastModifiedBy>Оксана</cp:lastModifiedBy>
  <dcterms:modified xsi:type="dcterms:W3CDTF">2012-11-10T19:14:59Z</dcterms:modified>
  <cp:revision>5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4987199991</vt:lpwstr>
  </property>
</Properties>
</file>