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8A7C-E1A9-4BAD-B145-1D0F457A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26C7-E67E-4948-9C57-37A31E60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7119-97A7-494C-AC64-178D6A49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890C-257E-4E39-82F9-7026E2C1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45C3-07E2-434F-8094-329BB0DE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2B95-345B-4A35-BE3E-6D882D16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6D3D-9C2E-408B-A30A-684906A3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B1DD-4540-425F-8A5C-69FA0CCC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1B2D-8A07-4249-8969-4B47CEE8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8E8F-EAE4-41FF-B346-318AEC00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2D03-F95E-4219-B9DF-BBBEEA82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8FAA-EB5F-46DA-85D9-4F504A6B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EAE5-4004-44FC-B844-08C24528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9321-0F51-4E55-BB25-5295423C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FA32-FCF9-4D05-B728-8FA62C66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5811-682B-40EA-9A93-72C5D464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9CB6-6481-4191-AA55-D0B4EFD9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30BC-0C11-4606-9561-5AD35BD1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856F-5FC8-40CD-8B08-D83B1659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81D-C4D4-4F6E-BB3B-AF495DD0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EB39-AD7A-492C-9996-1F70A46F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560D-5D66-45D8-B1CD-7A8C77CE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0481-5705-43A2-95D8-C7ACB3AF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9372-7EA6-4D0B-A146-6BD4E536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CDA1-1DF3-4417-AA6C-D6A3A29F81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6 Imagen" descr="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C030-6F90-4311-970F-28C365BBDB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езентация к уроку в 8 классе по теме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“We`re the part of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Universe”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МК М.З.Биболетовой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Enjoy English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51280" y="3716280"/>
            <a:ext cx="483552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ыполнила уч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БОУ СОШ № 25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дмиралтейского 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.И.Смирн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AR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0" y="1125000"/>
            <a:ext cx="4392720" cy="53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It`s the third planet from the Su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he colour of  Earth comes from the oceans which cover 70 per cent of the plane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земля"/>
          <p:cNvPicPr/>
          <p:nvPr/>
        </p:nvPicPr>
        <p:blipFill>
          <a:blip r:embed="rId1"/>
          <a:stretch/>
        </p:blipFill>
        <p:spPr>
          <a:xfrm>
            <a:off x="179280" y="1484280"/>
            <a:ext cx="4248360" cy="4095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HE SOLAR SYSTEM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solar.avi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561440" cy="5111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 choose a planet to visit and try to say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the planet is lik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one can see and do the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2160" y="-360"/>
            <a:ext cx="7772400" cy="494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How many main planets a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ere in the Solar System?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an you name them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MAR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- The fourth planet is named after a Roman god of w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- Mars has two natural satellites - Phobos and Deimo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mars"/>
          <p:cNvPicPr/>
          <p:nvPr/>
        </p:nvPicPr>
        <p:blipFill>
          <a:blip r:embed="rId1"/>
          <a:stretch/>
        </p:blipFill>
        <p:spPr>
          <a:xfrm>
            <a:off x="395280" y="1413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NEPTUN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- It`s the eighth and farthest planet in the Solar Syste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- It has the strongest winds in the Solar System – up to 2,400 kp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8" descr="Neptune"/>
          <p:cNvPicPr/>
          <p:nvPr/>
        </p:nvPicPr>
        <p:blipFill>
          <a:blip r:embed="rId1"/>
          <a:stretch/>
        </p:blipFill>
        <p:spPr>
          <a:xfrm>
            <a:off x="395280" y="1484280"/>
            <a:ext cx="396072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ATU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t`s the sixth plane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t`s 100 times the size of Earth, but it`s lighter than wate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6" descr="C:\Users\Оксана\Desktop\сатурн.jpg"/>
          <p:cNvPicPr/>
          <p:nvPr/>
        </p:nvPicPr>
        <p:blipFill>
          <a:blip r:embed="rId1"/>
          <a:stretch/>
        </p:blipFill>
        <p:spPr>
          <a:xfrm>
            <a:off x="179280" y="2492280"/>
            <a:ext cx="4038840" cy="3233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JUPIT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t`s the fifth planet from the Sun, the largest in the solar syste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9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t`s a very stormy planet because it spins so fas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-_----jghgf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7" descr="Upiter"/>
          <p:cNvPicPr/>
          <p:nvPr/>
        </p:nvPicPr>
        <p:blipFill>
          <a:blip r:embed="rId1"/>
          <a:stretch/>
        </p:blipFill>
        <p:spPr>
          <a:xfrm>
            <a:off x="179280" y="1557360"/>
            <a:ext cx="403236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URAN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355640" y="1341000"/>
            <a:ext cx="4537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t`s the seventh planet from the Su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9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t spins at an angl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9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ach pole of the planet, north and south,  has 42 years of sunlight, then 42 years of darknes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7" descr="http://im4-tub-ru.yandex.net/i?id=516341491-36-72"/>
          <p:cNvPicPr/>
          <p:nvPr/>
        </p:nvPicPr>
        <p:blipFill>
          <a:blip r:embed="rId1"/>
          <a:stretch/>
        </p:blipFill>
        <p:spPr>
          <a:xfrm>
            <a:off x="179280" y="2060640"/>
            <a:ext cx="396108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VEN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t`s named after Venus, goddess of love in Roman panthe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t`s the hottest planet in the Solar Syste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Venus"/>
          <p:cNvPicPr/>
          <p:nvPr/>
        </p:nvPicPr>
        <p:blipFill>
          <a:blip r:embed="rId1"/>
          <a:stretch/>
        </p:blipFill>
        <p:spPr>
          <a:xfrm>
            <a:off x="395280" y="1557360"/>
            <a:ext cx="3816360" cy="3959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7280" y="1557000"/>
            <a:ext cx="44272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- It`s the smallest and the fastest planet in the Solar System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- It`s very hot during the day and very cold at nigh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216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6" descr="http://im8-tub-ru.yandex.net/i?id=200143138-48-72"/>
          <p:cNvPicPr/>
          <p:nvPr/>
        </p:nvPicPr>
        <p:blipFill>
          <a:blip r:embed="rId1"/>
          <a:stretch/>
        </p:blipFill>
        <p:spPr>
          <a:xfrm>
            <a:off x="250920" y="2421000"/>
            <a:ext cx="360036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07:57:58Z</dcterms:created>
  <dc:creator>фыгы</dc:creator>
  <dc:description/>
  <dc:language>en-US</dc:language>
  <cp:lastModifiedBy>Оксана</cp:lastModifiedBy>
  <dcterms:modified xsi:type="dcterms:W3CDTF">2012-11-10T19:14:59Z</dcterms:modified>
  <cp:revision>5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4987199991</vt:lpwstr>
  </property>
</Properties>
</file>