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613-8F4D-40D0-8B55-6B735BE7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749-5D03-45A5-B8D2-FA8703F8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B26-FB03-4B91-9794-9AFF7BEB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E0E-ECF4-4452-A7BC-8A7D170D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808-5066-4728-ACF2-371AAF40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7977-8741-4E28-B090-17788AA2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B801-FF92-43A9-9C0B-4CB1F63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D8B-AA6D-4CBF-975E-2CE3C6B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3DF-5851-4AB5-89A6-7BCEACCB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579F-EFE2-4537-A9AC-3C8A0F9E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F921-F623-4DAB-B058-FA79568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B2B-5FDE-43FB-BC32-DDB77F0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FD2C-AD69-4DC9-B3DE-7DD055E2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F2D6-224D-47CF-9FAE-7F41EA0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54A-D02B-4165-90BF-9DC2114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EC2F-F22F-4DE9-ACC8-B52E9A41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3480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3960" y="160020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760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3480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3960" y="3964320"/>
            <a:ext cx="234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466-B128-45D4-95BA-6485B42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1F8-92F4-4923-80BA-8D0AF943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100-13F2-43F7-A864-5B38B84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D7B-6433-4E5B-A093-02475E4C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76000" y="27432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F8B-74CC-4D21-905A-82C59D1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9B0-6832-4613-9A75-B09CA00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720" y="396432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FB2-0341-470A-B7E3-5FB7DC1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720" y="1600200"/>
            <a:ext cx="354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3964320"/>
            <a:ext cx="72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3EE-26B3-436E-9036-7650528C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1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2585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63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659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9FE-218C-45B0-96ED-CC5909540798}" type="slidenum">
              <a:rPr b="1" lang="en-US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720" y="0"/>
            <a:ext cx="2556360" cy="6857640"/>
            <a:chOff x="-720" y="0"/>
            <a:chExt cx="2556360" cy="6857640"/>
          </a:xfrm>
        </p:grpSpPr>
        <p:pic>
          <p:nvPicPr>
            <p:cNvPr id="46" name="Picture 3" descr="02d773ea546a"/>
            <p:cNvPicPr/>
            <p:nvPr/>
          </p:nvPicPr>
          <p:blipFill>
            <a:blip r:embed="rId2"/>
            <a:stretch/>
          </p:blipFill>
          <p:spPr>
            <a:xfrm rot="16200000">
              <a:off x="-471960" y="3829680"/>
              <a:ext cx="3500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02d773ea546a"/>
            <p:cNvPicPr/>
            <p:nvPr/>
          </p:nvPicPr>
          <p:blipFill>
            <a:blip r:embed="rId3"/>
            <a:stretch/>
          </p:blipFill>
          <p:spPr>
            <a:xfrm flipH="1" rot="16200000">
              <a:off x="-401400" y="401040"/>
              <a:ext cx="3357720" cy="25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5"/>
          <p:cNvSpPr/>
          <p:nvPr/>
        </p:nvSpPr>
        <p:spPr>
          <a:xfrm>
            <a:off x="1187280" y="0"/>
            <a:ext cx="795672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7600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86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19280" y="6381360"/>
            <a:ext cx="339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164000" y="6381360"/>
            <a:ext cx="165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5BE8-747C-4DFE-AFB2-4E2866386D34}" type="slidenum">
              <a:rPr b="1" lang="en-US" sz="1400" spc="-1" strike="noStrike">
                <a:solidFill>
                  <a:srgbClr val="0000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94172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БДОУ № 180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Детский сад общеразвивающего вида с приоритетным осуществлением деятельности по художественно-эстетическому направлению развития детей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3318120" cy="4674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32360" y="620640"/>
            <a:ext cx="37083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оц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тья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даг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полнительно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хор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Образ природы в детском хореографическом творчест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20800" y="2075040"/>
            <a:ext cx="6024600" cy="4519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7280" y="1018800"/>
            <a:ext cx="40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рода танца – в танцах от природы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д ветром ива – будто балерин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 человек под ветром несвободы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датлив, как танцующая глин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Но танец, растворимый, словно кофе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У глины проявляет твердь гранита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огда любовь тождественна Голгофе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 память пляской ветра не сокр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744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7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08:05Z</dcterms:created>
  <dc:creator>User</dc:creator>
  <dc:description/>
  <dc:language>en-US</dc:language>
  <cp:lastModifiedBy>yaros</cp:lastModifiedBy>
  <dcterms:modified xsi:type="dcterms:W3CDTF">2012-11-10T05:34:02Z</dcterms:modified>
  <cp:revision>301</cp:revision>
  <dc:subject/>
  <dc:title>Слайд 1</dc:title>
</cp:coreProperties>
</file>