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F59-F333-44C7-8F58-E3854B57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877-BF40-4C37-AE79-750EC3D3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EFC-C2AB-4622-985A-BB3A0375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348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396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348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396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D9E-A3D0-4E95-9AAF-527D0A5B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6C6B-F512-47CE-89D5-D3C13E6A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AAC8-1EBE-4673-A0CD-7252E428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FAA9-5BC5-42FC-B2AE-E2BA3AEF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AF09-3243-4595-8804-2EF72E46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1020-245A-42F5-A8C6-BDCD7F0A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300B-5DF1-49AC-91D6-CD851081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2560-28F9-4AD2-A9F9-AB9AC656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5C0-E835-4D5A-A1E5-47AFB28C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40A0-737F-4AC0-A2A3-F29297A7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3035-F628-41D6-8703-A2155AE5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3894-2EC7-40AE-8DD4-E4B2502F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7A59-6805-4821-878C-99D57A61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348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9396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760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348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9396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E30E-29EF-4DC1-B7EA-903135EB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519-5435-4C9E-AD7D-F041CF2C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E1C-61A8-4FAE-A7CE-CCB8A229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7D4-88CE-4AAD-8996-57836488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97D-CB10-4216-8E9D-2941CE3A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82B-B417-40FB-9267-200B91DC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105-90F4-4BF3-81A5-8E0E273F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11A-0D9B-41DB-A9E6-2F14FCC0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0"/>
            <a:ext cx="2556360" cy="6857640"/>
            <a:chOff x="-720" y="0"/>
            <a:chExt cx="2556360" cy="6857640"/>
          </a:xfrm>
        </p:grpSpPr>
        <p:pic>
          <p:nvPicPr>
            <p:cNvPr id="1" name="Picture 3" descr="02d773ea546a"/>
            <p:cNvPicPr/>
            <p:nvPr/>
          </p:nvPicPr>
          <p:blipFill>
            <a:blip r:embed="rId2"/>
            <a:stretch/>
          </p:blipFill>
          <p:spPr>
            <a:xfrm rot="16200000">
              <a:off x="-471960" y="3829680"/>
              <a:ext cx="350028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02d773ea546a"/>
            <p:cNvPicPr/>
            <p:nvPr/>
          </p:nvPicPr>
          <p:blipFill>
            <a:blip r:embed="rId3"/>
            <a:stretch/>
          </p:blipFill>
          <p:spPr>
            <a:xfrm flipH="1" rot="16200000">
              <a:off x="-401400" y="401040"/>
              <a:ext cx="3357720" cy="25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Rectangle 5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2585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636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659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867B-AF09-4BD7-8A3D-8F579ECA8160}" type="slidenum">
              <a:rPr b="1" lang="en-US" sz="1400" spc="-1" strike="noStrike">
                <a:solidFill>
                  <a:srgbClr val="000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720" y="0"/>
            <a:ext cx="2556360" cy="6857640"/>
            <a:chOff x="-720" y="0"/>
            <a:chExt cx="2556360" cy="6857640"/>
          </a:xfrm>
        </p:grpSpPr>
        <p:pic>
          <p:nvPicPr>
            <p:cNvPr id="46" name="Picture 3" descr="02d773ea546a"/>
            <p:cNvPicPr/>
            <p:nvPr/>
          </p:nvPicPr>
          <p:blipFill>
            <a:blip r:embed="rId2"/>
            <a:stretch/>
          </p:blipFill>
          <p:spPr>
            <a:xfrm rot="16200000">
              <a:off x="-471960" y="3829680"/>
              <a:ext cx="350028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02d773ea546a"/>
            <p:cNvPicPr/>
            <p:nvPr/>
          </p:nvPicPr>
          <p:blipFill>
            <a:blip r:embed="rId3"/>
            <a:stretch/>
          </p:blipFill>
          <p:spPr>
            <a:xfrm flipH="1" rot="16200000">
              <a:off x="-401400" y="401040"/>
              <a:ext cx="3357720" cy="25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5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86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19280" y="6381360"/>
            <a:ext cx="3392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164000" y="6381360"/>
            <a:ext cx="165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F2D6-0910-4447-A0DA-CF33BD6FFC5D}" type="slidenum">
              <a:rPr b="1" lang="en-US" sz="1400" spc="-1" strike="noStrike">
                <a:solidFill>
                  <a:srgbClr val="000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4941720"/>
            <a:ext cx="86407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БДОУ № 180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Детский сад общеразвивающего вида с приоритетным осуществлением деятельности по художественно-эстетическому направлению развития детей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3318120" cy="4674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932360" y="620640"/>
            <a:ext cx="370836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оцм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атья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Борис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даг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полнительно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хор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Образ природы в детском хореографическом творчеств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20800" y="2075040"/>
            <a:ext cx="6024600" cy="4519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87280" y="1018800"/>
            <a:ext cx="4032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рирода танца – в танцах от природы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од ветром ива – будто балерин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И человек под ветром несвободы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одатлив, как танцующая глин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Но танец, растворимый, словно кофе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У глины проявляет твердь гранита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Когда любовь тождественна Голгофе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И память пляской ветра не сокр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744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7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08:05Z</dcterms:created>
  <dc:creator>User</dc:creator>
  <dc:description/>
  <dc:language>en-US</dc:language>
  <cp:lastModifiedBy>yaros</cp:lastModifiedBy>
  <dcterms:modified xsi:type="dcterms:W3CDTF">2012-11-10T05:34:02Z</dcterms:modified>
  <cp:revision>301</cp:revision>
  <dc:subject/>
  <dc:title>Слайд 1</dc:title>
</cp:coreProperties>
</file>