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3FD-E646-43B7-AA30-5481A5C6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E56-C2F4-4BFB-973F-55786B5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18E-CADA-4EC9-AA5C-2EF30418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19C-CDDE-4A76-85CA-6AA6E819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64F-8E3D-43C5-97C2-416CA251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9B33-5B05-4BED-ABF6-E7CEB5DC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80B8-3E58-4F0C-9F3F-3A6E1F99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BB8-C5D3-410D-A2C0-A7AE9CFF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7DE-F08C-4734-A18C-1F760EE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3D9F-DFA8-4F4B-8969-38D0FF6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A7BC-D767-49A0-A800-8239C5B8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F75-1158-415E-B9B5-F0A36AEA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167-C328-4F68-9CF0-2A045B1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F0F4-C883-4002-B8D7-93F690D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C19-F420-48F2-8DD8-532D3E5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9C09-E8E5-41C3-8F27-E87F7A69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9FB4-8AA5-4111-87C7-0A86CC9D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57A-3C7F-4DA7-B9DD-72FEFDD1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62C-49A5-4E24-B2CB-8F2F442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523-E636-4005-9F2D-0AC6205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F2B-009A-4E76-B02F-4691AE0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AB3-9F40-46E3-B3E2-4768415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089-D643-4D6E-82BE-E2C208BB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13F-FACB-4331-998F-CFEF298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4B9B-0782-4708-A009-C1D92E56D0E1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777-23FD-46AE-9F75-DEFA9E5D249E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Цель: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раскрытие творческих хореографических способностей детей через образ природ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476520"/>
            <a:ext cx="4140360" cy="338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5345280"/>
            <a:ext cx="396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позици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«Кленовые ли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40000" cy="3105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889440" cy="3095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31687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дтанцовка к джазовой песне  «Дождик идет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492280"/>
            <a:ext cx="410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«На цветочной полян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2360" y="2421000"/>
            <a:ext cx="3168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хоровод «Калин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670280" cy="3503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96000" y="476280"/>
            <a:ext cx="4248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мпровизаци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Озорные лягуш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26920" y="907920"/>
            <a:ext cx="1912680" cy="5328720"/>
            <a:chOff x="826920" y="907920"/>
            <a:chExt cx="1912680" cy="5328720"/>
          </a:xfrm>
        </p:grpSpPr>
        <p:sp>
          <p:nvSpPr>
            <p:cNvPr id="94" name=""/>
            <p:cNvSpPr/>
            <p:nvPr/>
          </p:nvSpPr>
          <p:spPr>
            <a:xfrm flipV="1">
              <a:off x="1119960" y="3463200"/>
              <a:ext cx="1608840" cy="277344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1430280" y="2543040"/>
              <a:ext cx="70596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09520" y="907920"/>
              <a:ext cx="1609200" cy="277344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86040" y="2421000"/>
            <a:ext cx="5457960" cy="2303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65e00">
                  <a:alpha val="0"/>
                </a:srgbClr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0960" y="4869000"/>
            <a:ext cx="5423040" cy="1989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71746">
                  <a:alpha val="0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86040" y="0"/>
            <a:ext cx="5457960" cy="2349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4646">
                  <a:alpha val="0"/>
                </a:srgbClr>
              </a:gs>
              <a:gs pos="100000">
                <a:srgbClr val="009999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92280"/>
            <a:ext cx="1873080" cy="100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a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692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2cccc"/>
              </a:gs>
              <a:gs pos="50000">
                <a:srgbClr val="009999">
                  <a:alpha val="0"/>
                </a:srgbClr>
              </a:gs>
              <a:gs pos="100000">
                <a:srgbClr val="82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3068640"/>
            <a:ext cx="2087640" cy="792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cc00"/>
              </a:gs>
              <a:gs pos="100000">
                <a:srgbClr val="6a8d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06864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ce582"/>
              </a:gs>
              <a:gs pos="50000">
                <a:srgbClr val="99cc00">
                  <a:alpha val="0"/>
                </a:srgbClr>
              </a:gs>
              <a:gs pos="100000">
                <a:srgbClr val="cce5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445000"/>
            <a:ext cx="2303280" cy="7923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3399"/>
              </a:gs>
              <a:gs pos="100000">
                <a:srgbClr val="2323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5445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b9bcc"/>
              </a:gs>
              <a:gs pos="50000">
                <a:srgbClr val="333399">
                  <a:alpha val="0"/>
                </a:srgbClr>
              </a:gs>
              <a:gs pos="100000">
                <a:srgbClr val="9b9b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16360" y="0"/>
            <a:ext cx="428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действовать развит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ворческих способнос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требности ребенк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амовыражении под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Содействовать обогащ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ностороннего зап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удожественных впечат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тавлений детей в созд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ореографических образов природы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492280"/>
            <a:ext cx="3932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Содействовать формированию пластичности, выразительности, точности, координации движ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 Формировать  исполнительские  умения и навыки, осваивая      «язык   танца» через   пластические   упражнения  и  этю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013360"/>
            <a:ext cx="3492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Воспитывать  интерес к занятиям  хореограф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Формировать чувства такта и культурных привычек в процессе группового общения с детьми и взрослы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7880" y="33480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907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21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пла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558972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63640" y="3213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37162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84320" y="5334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8000" y="981000"/>
            <a:ext cx="271440" cy="215640"/>
            <a:chOff x="1908000" y="981000"/>
            <a:chExt cx="271440" cy="215640"/>
          </a:xfrm>
        </p:grpSpPr>
        <p:sp>
          <p:nvSpPr>
            <p:cNvPr id="118" name=""/>
            <p:cNvSpPr/>
            <p:nvPr/>
          </p:nvSpPr>
          <p:spPr>
            <a:xfrm>
              <a:off x="1908000" y="981000"/>
              <a:ext cx="27144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90440" y="1009800"/>
              <a:ext cx="145440" cy="1558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340000" y="907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43280" y="2708280"/>
            <a:ext cx="286920" cy="215640"/>
            <a:chOff x="2843280" y="2708280"/>
            <a:chExt cx="286920" cy="215640"/>
          </a:xfrm>
        </p:grpSpPr>
        <p:sp>
          <p:nvSpPr>
            <p:cNvPr id="122" name=""/>
            <p:cNvSpPr/>
            <p:nvPr/>
          </p:nvSpPr>
          <p:spPr>
            <a:xfrm>
              <a:off x="2843280" y="2708280"/>
              <a:ext cx="28692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0400" y="2737080"/>
              <a:ext cx="153720" cy="155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76720" y="2565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педаг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7280" y="4365720"/>
            <a:ext cx="288360" cy="215280"/>
            <a:chOff x="4067280" y="4365720"/>
            <a:chExt cx="288360" cy="215280"/>
          </a:xfrm>
        </p:grpSpPr>
        <p:sp>
          <p:nvSpPr>
            <p:cNvPr id="126" name=""/>
            <p:cNvSpPr/>
            <p:nvPr/>
          </p:nvSpPr>
          <p:spPr>
            <a:xfrm>
              <a:off x="4067280" y="4365720"/>
              <a:ext cx="288360" cy="21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54760" y="4394520"/>
              <a:ext cx="154440" cy="1555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27640" y="4149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637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63025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94200">
            <a:off x="3850920" y="551664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9194d"/>
              </a:gs>
            </a:gsLst>
            <a:lin ang="320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48428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33000">
            <a:off x="3348000" y="3933720"/>
            <a:ext cx="604800" cy="60480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4800"/>
              <a:gd name="textAreaBottom" fmla="*/ 379440 h 604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3541320" y="3882960"/>
            <a:ext cx="7082640" cy="594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4920" y="2852640"/>
            <a:ext cx="214200" cy="1081080"/>
          </a:xfrm>
          <a:prstGeom prst="line">
            <a:avLst/>
          </a:prstGeom>
          <a:ln w="936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71640" y="2133720"/>
            <a:ext cx="792000" cy="1871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34920" y="3645000"/>
            <a:ext cx="433080" cy="647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76000" y="3429000"/>
            <a:ext cx="358920" cy="72072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40000" y="3933720"/>
            <a:ext cx="574560" cy="647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42920" y="4508640"/>
            <a:ext cx="647640" cy="50472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869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6165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6381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59500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623736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4842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373200">
            <a:off x="7020000" y="616572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94200">
            <a:off x="323640" y="475920"/>
            <a:ext cx="514080" cy="514440"/>
          </a:xfrm>
          <a:custGeom>
            <a:avLst/>
            <a:gdLst>
              <a:gd name="textAreaLeft" fmla="*/ 120600 w 514080"/>
              <a:gd name="textAreaRight" fmla="*/ 393120 w 51408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13360"/>
            <a:ext cx="29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340000" y="1773360"/>
            <a:ext cx="4343400" cy="2057400"/>
          </a:xfrm>
          <a:prstGeom prst="ellipse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еографи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711600">
            <a:off x="2713680" y="1543680"/>
            <a:ext cx="471600" cy="498600"/>
          </a:xfrm>
          <a:prstGeom prst="upArrow">
            <a:avLst>
              <a:gd name="adj1" fmla="val 32213"/>
              <a:gd name="adj2" fmla="val 37591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8286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746200">
            <a:off x="5725440" y="1555560"/>
            <a:ext cx="473040" cy="476280"/>
          </a:xfrm>
          <a:prstGeom prst="upArrow">
            <a:avLst>
              <a:gd name="adj1" fmla="val 32093"/>
              <a:gd name="adj2" fmla="val 30219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2652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3933720"/>
            <a:ext cx="3888000" cy="230364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Ж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 – 2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 – 3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789360"/>
            <a:ext cx="3240000" cy="1574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Й АНАЛИЗ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раза в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3216800">
            <a:off x="2514240" y="3412800"/>
            <a:ext cx="431640" cy="576360"/>
          </a:xfrm>
          <a:prstGeom prst="upArrow">
            <a:avLst>
              <a:gd name="adj1" fmla="val 32694"/>
              <a:gd name="adj2" fmla="val 49448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3782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8635200">
            <a:off x="6371640" y="3213000"/>
            <a:ext cx="485640" cy="571680"/>
          </a:xfrm>
          <a:prstGeom prst="upArrow">
            <a:avLst>
              <a:gd name="adj1" fmla="val 34380"/>
              <a:gd name="adj2" fmla="val 39631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8366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5734080"/>
            <a:ext cx="1600200" cy="863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Й  итог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5734080"/>
            <a:ext cx="1800360" cy="863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 в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157720"/>
            <a:ext cx="1143000" cy="692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0720" y="5084640"/>
            <a:ext cx="1084320" cy="692280"/>
          </a:xfrm>
          <a:custGeom>
            <a:avLst/>
            <a:gdLst>
              <a:gd name="textAreaLeft" fmla="*/ 145080 w 1084320"/>
              <a:gd name="textAreaRight" fmla="*/ 939240 w 108432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541440" y="123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89000"/>
            <a:ext cx="3024360" cy="1366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ЕРИОДИЧНОСТЬ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раза в нед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60280"/>
            <a:ext cx="2675160" cy="129708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724360" y="333360"/>
            <a:ext cx="3209760" cy="1223280"/>
            <a:chOff x="5724360" y="333360"/>
            <a:chExt cx="3209760" cy="1223280"/>
          </a:xfrm>
        </p:grpSpPr>
        <p:sp>
          <p:nvSpPr>
            <p:cNvPr id="166" name=""/>
            <p:cNvSpPr/>
            <p:nvPr/>
          </p:nvSpPr>
          <p:spPr>
            <a:xfrm>
              <a:off x="5724360" y="333360"/>
              <a:ext cx="3209760" cy="1223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4040" y="407160"/>
              <a:ext cx="309708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796000" y="4869000"/>
            <a:ext cx="3096720" cy="1080360"/>
            <a:chOff x="5796000" y="4869000"/>
            <a:chExt cx="3096720" cy="1080360"/>
          </a:xfrm>
        </p:grpSpPr>
        <p:sp>
          <p:nvSpPr>
            <p:cNvPr id="169" name=""/>
            <p:cNvSpPr/>
            <p:nvPr/>
          </p:nvSpPr>
          <p:spPr>
            <a:xfrm>
              <a:off x="5796000" y="4869000"/>
              <a:ext cx="3096720" cy="1080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4240" y="4934160"/>
              <a:ext cx="2988000" cy="4388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00" y="4869000"/>
            <a:ext cx="2920320" cy="1007640"/>
            <a:chOff x="324000" y="4869000"/>
            <a:chExt cx="2920320" cy="1007640"/>
          </a:xfrm>
        </p:grpSpPr>
        <p:sp>
          <p:nvSpPr>
            <p:cNvPr id="172" name=""/>
            <p:cNvSpPr/>
            <p:nvPr/>
          </p:nvSpPr>
          <p:spPr>
            <a:xfrm>
              <a:off x="324000" y="4869000"/>
              <a:ext cx="2920320" cy="1007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9360" y="4929840"/>
              <a:ext cx="2817720" cy="4089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79280" y="333360"/>
            <a:ext cx="3384360" cy="1256760"/>
            <a:chOff x="179280" y="333360"/>
            <a:chExt cx="3384360" cy="1256760"/>
          </a:xfrm>
        </p:grpSpPr>
        <p:sp>
          <p:nvSpPr>
            <p:cNvPr id="175" name=""/>
            <p:cNvSpPr/>
            <p:nvPr/>
          </p:nvSpPr>
          <p:spPr>
            <a:xfrm>
              <a:off x="179280" y="333360"/>
              <a:ext cx="3384360" cy="1256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1840" y="409320"/>
              <a:ext cx="3265560" cy="5104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18385800">
            <a:off x="6463800" y="1918800"/>
            <a:ext cx="874800" cy="433440"/>
          </a:xfrm>
          <a:prstGeom prst="rightArrow">
            <a:avLst>
              <a:gd name="adj1" fmla="val 35167"/>
              <a:gd name="adj2" fmla="val 81731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140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053400">
            <a:off x="6481440" y="4122360"/>
            <a:ext cx="936720" cy="504720"/>
          </a:xfrm>
          <a:prstGeom prst="rightArrow">
            <a:avLst>
              <a:gd name="adj1" fmla="val 35167"/>
              <a:gd name="adj2" fmla="val 75156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77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4082600">
            <a:off x="1977840" y="1827000"/>
            <a:ext cx="871560" cy="480960"/>
          </a:xfrm>
          <a:prstGeom prst="rightArrow">
            <a:avLst>
              <a:gd name="adj1" fmla="val 35167"/>
              <a:gd name="adj2" fmla="val 73382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183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8061600">
            <a:off x="1969920" y="4162320"/>
            <a:ext cx="792360" cy="480960"/>
          </a:xfrm>
          <a:prstGeom prst="rightArrow">
            <a:avLst>
              <a:gd name="adj1" fmla="val 35167"/>
              <a:gd name="adj2" fmla="val 66714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2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413000"/>
            <a:ext cx="3960720" cy="374472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59280" y="1773360"/>
            <a:ext cx="3126960" cy="3023640"/>
            <a:chOff x="3059280" y="1773360"/>
            <a:chExt cx="3126960" cy="3023640"/>
          </a:xfrm>
        </p:grpSpPr>
        <p:sp>
          <p:nvSpPr>
            <p:cNvPr id="183" name=""/>
            <p:cNvSpPr/>
            <p:nvPr/>
          </p:nvSpPr>
          <p:spPr>
            <a:xfrm>
              <a:off x="3059280" y="1773360"/>
              <a:ext cx="3126960" cy="302364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3400" y="1970640"/>
              <a:ext cx="2718000" cy="26287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5920" y="1975320"/>
              <a:ext cx="2718000" cy="26287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10640" y="2101680"/>
              <a:ext cx="2446560" cy="236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454200" y="2128320"/>
              <a:ext cx="2368440" cy="2290680"/>
              <a:chOff x="3454200" y="2128320"/>
              <a:chExt cx="2368440" cy="229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454200" y="2128320"/>
                <a:ext cx="2368440" cy="22906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84080" y="2140920"/>
                <a:ext cx="2311920" cy="223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8920" y="2162880"/>
                <a:ext cx="2198160" cy="2087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37800" y="2221560"/>
                <a:ext cx="1954080" cy="1694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805560" y="2975040"/>
              <a:ext cx="17071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50920" y="404640"/>
            <a:ext cx="331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ая хореограф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333360"/>
            <a:ext cx="3241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ая хореограф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869000"/>
            <a:ext cx="2735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здники и 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869000"/>
            <a:ext cx="3240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стивали,  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2708280"/>
            <a:ext cx="205740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96040" y="2060640"/>
            <a:ext cx="194796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0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зделы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еографической деятель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843280" cy="3521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ческие этюд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лементы пантомимы, жест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цевальные элемен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69228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743640" cy="2636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211640" cy="2776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67280" y="5373720"/>
            <a:ext cx="4248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Солнечные зайч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2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дача игрового образ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риентировка в пространств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ореографические навы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69228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4105440" cy="258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80000" cy="2833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48360" y="4653000"/>
            <a:ext cx="42148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Пляска лесных зве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997360"/>
            <a:ext cx="41054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«Сказоч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явление самостоятельности и творческой инициатив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отношения в коллекти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200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05440" cy="280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88000" y="4797360"/>
            <a:ext cx="3960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Бел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349360"/>
            <a:ext cx="3240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рагмент сказки «Необычный ле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98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32:56Z</dcterms:modified>
  <cp:revision>300</cp:revision>
  <dc:subject/>
  <dc:title>Слайд 1</dc:title>
</cp:coreProperties>
</file>