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537-CF10-4AA9-B0F0-00D13D57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076-5EA9-4BBF-88BA-DD1DCBAF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E2F-E1E6-45E9-8B87-364C2FA3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0AA-748E-40DE-9AB1-4F973B16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594E-F8C8-480C-BBC0-1663206B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A953-6D02-4979-B9D5-3CB54650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6B83-B02C-4CAB-8776-FF027FF9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B45C-996D-45C5-B990-2FCDD245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2955-42AE-4F96-A7A5-08481232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1B4D-0D89-4929-BE1A-0EBBA4A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F9BA-612B-4F7E-A586-0ACED3D4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E74-E947-4280-BC96-0402ED13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86CC-C694-4ED6-AB5D-F1BFA468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15BB-F22D-45EB-977C-D758515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2252-4D16-4993-9D4F-E583342C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7252-32DF-4300-A617-35D745E6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92AC-5C09-4640-AA98-9F879DC5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6DD-3446-42B9-9C16-4D9DAC67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024-7D5A-4820-9EAA-8C6645C8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4DB-D895-4460-A5D0-F6872863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C4C-EBFA-4E7C-9E31-31B81A5B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C30-2B49-4E2C-A7E5-62BE33D2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980-A01D-4A35-9AEC-64B9135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DAF-B698-4C30-A2B6-78CD6EE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1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2585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636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659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56BE-9CCF-4B0E-9877-D8080E0B7097}" type="slidenum">
              <a:rPr b="1" lang="ru-RU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46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86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19280" y="6381360"/>
            <a:ext cx="339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164000" y="6381360"/>
            <a:ext cx="165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53E2-F041-434A-A9BB-B82E69BA1339}" type="slidenum">
              <a:rPr b="1" lang="ru-RU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Цель: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 раскрытие творческих хореографических способностей детей через образ природы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476520"/>
            <a:ext cx="4140360" cy="3381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27640" y="5345280"/>
            <a:ext cx="396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Композиция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«Кленовые лист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4140000" cy="3105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3889440" cy="3095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316872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дтанцовка к джазовой песне  «Дождик идет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2492280"/>
            <a:ext cx="4105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танец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«На цветочной полян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252360" y="2421000"/>
            <a:ext cx="3168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хоровод «Калин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80000" cy="3241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211640" y="3068640"/>
            <a:ext cx="4670280" cy="3503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896000" y="476280"/>
            <a:ext cx="4248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мпровизация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Озорные лягуша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26920" y="907920"/>
            <a:ext cx="1912680" cy="5328720"/>
            <a:chOff x="826920" y="907920"/>
            <a:chExt cx="1912680" cy="5328720"/>
          </a:xfrm>
        </p:grpSpPr>
        <p:sp>
          <p:nvSpPr>
            <p:cNvPr id="94" name=""/>
            <p:cNvSpPr/>
            <p:nvPr/>
          </p:nvSpPr>
          <p:spPr>
            <a:xfrm flipV="1">
              <a:off x="1119960" y="3463200"/>
              <a:ext cx="1608840" cy="277344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1430280" y="2543040"/>
              <a:ext cx="705960" cy="191268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09520" y="907920"/>
              <a:ext cx="1609200" cy="277344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686040" y="2421000"/>
            <a:ext cx="5457960" cy="2303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65e00">
                  <a:alpha val="0"/>
                </a:srgbClr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0960" y="4869000"/>
            <a:ext cx="5423040" cy="1989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71746">
                  <a:alpha val="0"/>
                </a:srgbClr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86040" y="0"/>
            <a:ext cx="5457960" cy="2349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4646">
                  <a:alpha val="0"/>
                </a:srgbClr>
              </a:gs>
              <a:gs pos="100000">
                <a:srgbClr val="009999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692280"/>
            <a:ext cx="1873080" cy="10080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a6a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69228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2cccc"/>
              </a:gs>
              <a:gs pos="50000">
                <a:srgbClr val="009999">
                  <a:alpha val="0"/>
                </a:srgbClr>
              </a:gs>
              <a:gs pos="100000">
                <a:srgbClr val="82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3068640"/>
            <a:ext cx="2087640" cy="7920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9cc00"/>
              </a:gs>
              <a:gs pos="100000">
                <a:srgbClr val="6a8d00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06864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ce582"/>
              </a:gs>
              <a:gs pos="50000">
                <a:srgbClr val="99cc00">
                  <a:alpha val="0"/>
                </a:srgbClr>
              </a:gs>
              <a:gs pos="100000">
                <a:srgbClr val="cce5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5445000"/>
            <a:ext cx="2303280" cy="7923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3399"/>
              </a:gs>
              <a:gs pos="100000">
                <a:srgbClr val="23236a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544500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9b9bcc"/>
              </a:gs>
              <a:gs pos="50000">
                <a:srgbClr val="333399">
                  <a:alpha val="0"/>
                </a:srgbClr>
              </a:gs>
              <a:gs pos="100000">
                <a:srgbClr val="9b9b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000" y="2695680"/>
            <a:ext cx="1882800" cy="1879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16360" y="0"/>
            <a:ext cx="428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одействовать развит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ворческих способност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требности ребенк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амовыражении под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. Содействовать обогащ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зностороннего зап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художественных впечат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ставлений детей в созд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хореографических образов природы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2492280"/>
            <a:ext cx="39322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.  Содействовать формированию пластичности, выразительности, точности, координации движ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2.  Формировать  исполнительские  умения и навыки, осваивая      «язык   танца» через   пластические   упражнения  и  этю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5013360"/>
            <a:ext cx="34927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.  Воспитывать  интерес к занятиям  хореографи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2. Формировать чувства такта и культурных привычек в процессе группового общения с детьми и взрослы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7880" y="334800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9079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fff"/>
                </a:solidFill>
                <a:latin typeface="Times New Roman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21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fff"/>
                </a:solidFill>
                <a:latin typeface="Times New Roman"/>
              </a:rPr>
              <a:t>плас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558972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fff"/>
                </a:solidFill>
                <a:latin typeface="Times New Roman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63640" y="3213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37162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84320" y="53341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8000" y="981000"/>
            <a:ext cx="271440" cy="215640"/>
            <a:chOff x="1908000" y="981000"/>
            <a:chExt cx="271440" cy="215640"/>
          </a:xfrm>
        </p:grpSpPr>
        <p:sp>
          <p:nvSpPr>
            <p:cNvPr id="118" name=""/>
            <p:cNvSpPr/>
            <p:nvPr/>
          </p:nvSpPr>
          <p:spPr>
            <a:xfrm>
              <a:off x="1908000" y="981000"/>
              <a:ext cx="271440" cy="215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90440" y="1009800"/>
              <a:ext cx="145440" cy="1558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340000" y="9079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843280" y="2708280"/>
            <a:ext cx="286920" cy="215640"/>
            <a:chOff x="2843280" y="2708280"/>
            <a:chExt cx="286920" cy="215640"/>
          </a:xfrm>
        </p:grpSpPr>
        <p:sp>
          <p:nvSpPr>
            <p:cNvPr id="122" name=""/>
            <p:cNvSpPr/>
            <p:nvPr/>
          </p:nvSpPr>
          <p:spPr>
            <a:xfrm>
              <a:off x="2843280" y="2708280"/>
              <a:ext cx="286920" cy="215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30400" y="2737080"/>
              <a:ext cx="153720" cy="155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76720" y="2565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с педаго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67280" y="4365720"/>
            <a:ext cx="288360" cy="215280"/>
            <a:chOff x="4067280" y="4365720"/>
            <a:chExt cx="288360" cy="215280"/>
          </a:xfrm>
        </p:grpSpPr>
        <p:sp>
          <p:nvSpPr>
            <p:cNvPr id="126" name=""/>
            <p:cNvSpPr/>
            <p:nvPr/>
          </p:nvSpPr>
          <p:spPr>
            <a:xfrm>
              <a:off x="4067280" y="4365720"/>
              <a:ext cx="288360" cy="21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54760" y="4394520"/>
              <a:ext cx="154440" cy="1555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427640" y="41497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637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63025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94200">
            <a:off x="3850920" y="5516640"/>
            <a:ext cx="514440" cy="514440"/>
          </a:xfrm>
          <a:custGeom>
            <a:avLst/>
            <a:gdLst>
              <a:gd name="textAreaLeft" fmla="*/ 120960 w 514440"/>
              <a:gd name="textAreaRight" fmla="*/ 393120 w 51444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9194d"/>
              </a:gs>
            </a:gsLst>
            <a:lin ang="3204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48428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833000">
            <a:off x="3348000" y="3933720"/>
            <a:ext cx="604800" cy="604800"/>
          </a:xfrm>
          <a:custGeom>
            <a:avLst/>
            <a:gdLst>
              <a:gd name="textAreaLeft" fmla="*/ 142200 w 604800"/>
              <a:gd name="textAreaRight" fmla="*/ 462240 w 604800"/>
              <a:gd name="textAreaTop" fmla="*/ 70920 h 604800"/>
              <a:gd name="textAreaBottom" fmla="*/ 379440 h 604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3541320" y="3882960"/>
            <a:ext cx="7082640" cy="594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4920" y="2852640"/>
            <a:ext cx="214200" cy="1081080"/>
          </a:xfrm>
          <a:prstGeom prst="line">
            <a:avLst/>
          </a:prstGeom>
          <a:ln w="936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71640" y="2133720"/>
            <a:ext cx="792000" cy="187164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34920" y="3645000"/>
            <a:ext cx="433080" cy="64764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76000" y="3429000"/>
            <a:ext cx="358920" cy="72072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40000" y="3933720"/>
            <a:ext cx="574560" cy="64764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42920" y="4508640"/>
            <a:ext cx="647640" cy="504720"/>
          </a:xfrm>
          <a:prstGeom prst="line">
            <a:avLst/>
          </a:prstGeom>
          <a:ln w="1908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86900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61657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63817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59500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56720" y="623736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4842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373200">
            <a:off x="7020000" y="6165720"/>
            <a:ext cx="514440" cy="514440"/>
          </a:xfrm>
          <a:custGeom>
            <a:avLst/>
            <a:gdLst>
              <a:gd name="textAreaLeft" fmla="*/ 120960 w 514440"/>
              <a:gd name="textAreaRight" fmla="*/ 393120 w 51444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94200">
            <a:off x="323640" y="475920"/>
            <a:ext cx="514080" cy="514440"/>
          </a:xfrm>
          <a:custGeom>
            <a:avLst/>
            <a:gdLst>
              <a:gd name="textAreaLeft" fmla="*/ 120600 w 514080"/>
              <a:gd name="textAreaRight" fmla="*/ 393120 w 51408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013360"/>
            <a:ext cx="29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авления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340000" y="1773360"/>
            <a:ext cx="4343400" cy="2057400"/>
          </a:xfrm>
          <a:prstGeom prst="ellipse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реографи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711600">
            <a:off x="2713680" y="1543680"/>
            <a:ext cx="471600" cy="498600"/>
          </a:xfrm>
          <a:prstGeom prst="upArrow">
            <a:avLst>
              <a:gd name="adj1" fmla="val 32213"/>
              <a:gd name="adj2" fmla="val 37591"/>
            </a:avLst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8286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746200">
            <a:off x="5725440" y="1555560"/>
            <a:ext cx="473040" cy="476280"/>
          </a:xfrm>
          <a:prstGeom prst="upArrow">
            <a:avLst>
              <a:gd name="adj1" fmla="val 32093"/>
              <a:gd name="adj2" fmla="val 30219"/>
            </a:avLst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2652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3933720"/>
            <a:ext cx="3888000" cy="2303640"/>
          </a:xfrm>
          <a:prstGeom prst="ellipse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ОЛЖ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группа – 2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ая группа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ельная группа – 3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3789360"/>
            <a:ext cx="3240000" cy="1574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Й АНАЛИЗ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 раза в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3216800">
            <a:off x="2514240" y="3412800"/>
            <a:ext cx="431640" cy="576360"/>
          </a:xfrm>
          <a:prstGeom prst="upArrow">
            <a:avLst>
              <a:gd name="adj1" fmla="val 32694"/>
              <a:gd name="adj2" fmla="val 49448"/>
            </a:avLst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13782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8635200">
            <a:off x="6371640" y="3213000"/>
            <a:ext cx="485640" cy="571680"/>
          </a:xfrm>
          <a:prstGeom prst="upArrow">
            <a:avLst>
              <a:gd name="adj1" fmla="val 34380"/>
              <a:gd name="adj2" fmla="val 39631"/>
            </a:avLst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18366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04000" y="5734080"/>
            <a:ext cx="1600200" cy="863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Й  итог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5734080"/>
            <a:ext cx="1800360" cy="863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ЕНТЯБРЬ  вво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157720"/>
            <a:ext cx="1143000" cy="69228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20960 h 692280"/>
              <a:gd name="textAreaBottom" fmla="*/ 501840 h 69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40720" y="5084640"/>
            <a:ext cx="1084320" cy="692280"/>
          </a:xfrm>
          <a:custGeom>
            <a:avLst/>
            <a:gdLst>
              <a:gd name="textAreaLeft" fmla="*/ 145080 w 1084320"/>
              <a:gd name="textAreaRight" fmla="*/ 939240 w 1084320"/>
              <a:gd name="textAreaTop" fmla="*/ 120960 h 692280"/>
              <a:gd name="textAreaBottom" fmla="*/ 5018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541440" y="1230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189000"/>
            <a:ext cx="3024360" cy="1366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ЕРИОДИЧНОСТЬ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раза в неде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60280"/>
            <a:ext cx="2675160" cy="1297080"/>
          </a:xfrm>
          <a:prstGeom prst="ellipse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– 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5724360" y="333360"/>
            <a:ext cx="3209760" cy="1223280"/>
            <a:chOff x="5724360" y="333360"/>
            <a:chExt cx="3209760" cy="1223280"/>
          </a:xfrm>
        </p:grpSpPr>
        <p:sp>
          <p:nvSpPr>
            <p:cNvPr id="166" name=""/>
            <p:cNvSpPr/>
            <p:nvPr/>
          </p:nvSpPr>
          <p:spPr>
            <a:xfrm>
              <a:off x="5724360" y="333360"/>
              <a:ext cx="3209760" cy="12232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74040" y="407160"/>
              <a:ext cx="309708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796000" y="4869000"/>
            <a:ext cx="3096720" cy="1080360"/>
            <a:chOff x="5796000" y="4869000"/>
            <a:chExt cx="3096720" cy="1080360"/>
          </a:xfrm>
        </p:grpSpPr>
        <p:sp>
          <p:nvSpPr>
            <p:cNvPr id="169" name=""/>
            <p:cNvSpPr/>
            <p:nvPr/>
          </p:nvSpPr>
          <p:spPr>
            <a:xfrm>
              <a:off x="5796000" y="4869000"/>
              <a:ext cx="3096720" cy="10803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44240" y="4934160"/>
              <a:ext cx="2988000" cy="4388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4000" y="4869000"/>
            <a:ext cx="2920320" cy="1007640"/>
            <a:chOff x="324000" y="4869000"/>
            <a:chExt cx="2920320" cy="1007640"/>
          </a:xfrm>
        </p:grpSpPr>
        <p:sp>
          <p:nvSpPr>
            <p:cNvPr id="172" name=""/>
            <p:cNvSpPr/>
            <p:nvPr/>
          </p:nvSpPr>
          <p:spPr>
            <a:xfrm>
              <a:off x="324000" y="4869000"/>
              <a:ext cx="2920320" cy="10076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9360" y="4929840"/>
              <a:ext cx="2817720" cy="4089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79280" y="333360"/>
            <a:ext cx="3384360" cy="1256760"/>
            <a:chOff x="179280" y="333360"/>
            <a:chExt cx="3384360" cy="1256760"/>
          </a:xfrm>
        </p:grpSpPr>
        <p:sp>
          <p:nvSpPr>
            <p:cNvPr id="175" name=""/>
            <p:cNvSpPr/>
            <p:nvPr/>
          </p:nvSpPr>
          <p:spPr>
            <a:xfrm>
              <a:off x="179280" y="333360"/>
              <a:ext cx="3384360" cy="12567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1840" y="409320"/>
              <a:ext cx="3265560" cy="5104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99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 rot="18385800">
            <a:off x="6463800" y="1918800"/>
            <a:ext cx="874800" cy="433440"/>
          </a:xfrm>
          <a:prstGeom prst="rightArrow">
            <a:avLst>
              <a:gd name="adj1" fmla="val 35167"/>
              <a:gd name="adj2" fmla="val 81731"/>
            </a:avLst>
          </a:prstGeom>
          <a:gradFill rotWithShape="0">
            <a:gsLst>
              <a:gs pos="0">
                <a:srgbClr val="5f5f5f"/>
              </a:gs>
              <a:gs pos="100000">
                <a:srgbClr val="545454">
                  <a:alpha val="0"/>
                </a:srgbClr>
              </a:gs>
            </a:gsLst>
            <a:lin ang="140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3053400">
            <a:off x="6481440" y="4122360"/>
            <a:ext cx="936720" cy="504720"/>
          </a:xfrm>
          <a:prstGeom prst="rightArrow">
            <a:avLst>
              <a:gd name="adj1" fmla="val 35167"/>
              <a:gd name="adj2" fmla="val 75156"/>
            </a:avLst>
          </a:prstGeom>
          <a:gradFill rotWithShape="0">
            <a:gsLst>
              <a:gs pos="0">
                <a:srgbClr val="5f5f5f"/>
              </a:gs>
              <a:gs pos="100000">
                <a:srgbClr val="545454">
                  <a:alpha val="0"/>
                </a:srgbClr>
              </a:gs>
            </a:gsLst>
            <a:lin ang="77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4082600">
            <a:off x="1977840" y="1827000"/>
            <a:ext cx="871560" cy="480960"/>
          </a:xfrm>
          <a:prstGeom prst="rightArrow">
            <a:avLst>
              <a:gd name="adj1" fmla="val 35167"/>
              <a:gd name="adj2" fmla="val 73382"/>
            </a:avLst>
          </a:prstGeom>
          <a:gradFill rotWithShape="0">
            <a:gsLst>
              <a:gs pos="0">
                <a:srgbClr val="5f5f5f"/>
              </a:gs>
              <a:gs pos="100000">
                <a:srgbClr val="545454">
                  <a:alpha val="0"/>
                </a:srgbClr>
              </a:gs>
            </a:gsLst>
            <a:lin ang="183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8061600">
            <a:off x="1969920" y="4162320"/>
            <a:ext cx="792360" cy="480960"/>
          </a:xfrm>
          <a:prstGeom prst="rightArrow">
            <a:avLst>
              <a:gd name="adj1" fmla="val 35167"/>
              <a:gd name="adj2" fmla="val 66714"/>
            </a:avLst>
          </a:prstGeom>
          <a:gradFill rotWithShape="0">
            <a:gsLst>
              <a:gs pos="0">
                <a:srgbClr val="5f5f5f"/>
              </a:gs>
              <a:gs pos="100000">
                <a:srgbClr val="545454">
                  <a:alpha val="0"/>
                </a:srgbClr>
              </a:gs>
            </a:gsLst>
            <a:lin ang="27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1413000"/>
            <a:ext cx="3960720" cy="374472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59280" y="1773360"/>
            <a:ext cx="3126960" cy="3023640"/>
            <a:chOff x="3059280" y="1773360"/>
            <a:chExt cx="3126960" cy="3023640"/>
          </a:xfrm>
        </p:grpSpPr>
        <p:sp>
          <p:nvSpPr>
            <p:cNvPr id="183" name=""/>
            <p:cNvSpPr/>
            <p:nvPr/>
          </p:nvSpPr>
          <p:spPr>
            <a:xfrm>
              <a:off x="3059280" y="1773360"/>
              <a:ext cx="3126960" cy="302364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63400" y="1970640"/>
              <a:ext cx="2718000" cy="262872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5920" y="1975320"/>
              <a:ext cx="2718000" cy="262872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10640" y="2101680"/>
              <a:ext cx="2446560" cy="236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454200" y="2128320"/>
              <a:ext cx="2368440" cy="2290680"/>
              <a:chOff x="3454200" y="2128320"/>
              <a:chExt cx="2368440" cy="2290680"/>
            </a:xfrm>
          </p:grpSpPr>
          <p:sp>
            <p:nvSpPr>
              <p:cNvPr id="188" name=""/>
              <p:cNvSpPr/>
              <p:nvPr/>
            </p:nvSpPr>
            <p:spPr>
              <a:xfrm>
                <a:off x="3454200" y="2128320"/>
                <a:ext cx="2368440" cy="22906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84080" y="2140920"/>
                <a:ext cx="2311920" cy="2233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08920" y="2162880"/>
                <a:ext cx="2198160" cy="2087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37800" y="2221560"/>
                <a:ext cx="1954080" cy="1694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3805560" y="2975040"/>
              <a:ext cx="17071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50920" y="404640"/>
            <a:ext cx="331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местная хореограф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333360"/>
            <a:ext cx="3241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стоятельная хореограф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869000"/>
            <a:ext cx="2735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здники и разв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4869000"/>
            <a:ext cx="3240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стивали,  кон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2708280"/>
            <a:ext cx="205740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96040" y="2060640"/>
            <a:ext cx="194796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08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зделы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хореографической деятель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2843280" cy="3521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ластические этюды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лементы пантомимы, жесты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цевальные элемен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333360"/>
            <a:ext cx="360360" cy="270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69228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105264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743640" cy="2636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211640" cy="2776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067280" y="5373720"/>
            <a:ext cx="4248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Солнечные зайч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72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дача игрового образа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риентировка в пространстве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ореографические навы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333360"/>
            <a:ext cx="360360" cy="270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69228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105264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4105440" cy="258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780000" cy="2833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148360" y="4653000"/>
            <a:ext cx="42148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Пляска лесных звер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2997360"/>
            <a:ext cx="41054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«Сказочн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900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явление самостоятельности и творческой инициативы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отношения в коллектив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360360" cy="270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2000" y="1052640"/>
            <a:ext cx="360360" cy="269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3995640" cy="299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105440" cy="280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788000" y="4797360"/>
            <a:ext cx="3960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нец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Белы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2349360"/>
            <a:ext cx="3240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рагмент сказки «Необычный ле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98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08:05Z</dcterms:created>
  <dc:creator>User</dc:creator>
  <dc:description/>
  <dc:language>en-US</dc:language>
  <cp:lastModifiedBy>yaros</cp:lastModifiedBy>
  <dcterms:modified xsi:type="dcterms:W3CDTF">2012-11-10T05:32:56Z</dcterms:modified>
  <cp:revision>300</cp:revision>
  <dc:subject/>
  <dc:title>Слайд 1</dc:title>
</cp:coreProperties>
</file>