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6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38.jpeg" ContentType="image/jpeg"/>
  <Override PartName="/ppt/media/image40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C40-6306-4A05-9990-D57E179F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D9C-D33E-413A-A6EB-FF3B279D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AE1-9766-4206-9E21-2B96E999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348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396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348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396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7AA-0B94-430C-9DDB-21198F4F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8C33-57A7-42C4-BA36-052D35D8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CAF7-B61B-4B7E-BF75-EFE826D9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5490-F4FF-4839-9EC9-3AE92880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A13A-6FB7-4ACF-A022-E00A34DB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BB6F-BB78-4DE6-BAC1-C885D0E6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A38E-3AC6-4390-B319-0F0CDD9C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AFF1-D4E8-4B61-887A-A47B3F1A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1F6-E2A3-4FC7-8836-73B306EC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250B-0F00-48FD-9F1D-E56E0B6F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73B6-C7BF-4FF3-889A-9F726E2E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E90F-6DCA-4F37-A22B-FC294E2F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597D-FFDE-4A5B-98CF-5789F4FD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348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9396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760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348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9396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5EDE-4FC7-4D3C-9C90-7FB4E6F7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15A-7825-419C-8345-1427A73C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A13-3222-4979-97D3-313904DE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A0A-4D3A-45AE-A67B-60618EF4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C9F-125F-46F2-A323-755C4096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43D-A809-4735-BEE0-5BC2A674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FDD-B276-4769-8BD1-75999218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DBA-0458-4FCA-B709-096BB8BB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0"/>
            <a:ext cx="2556360" cy="6857640"/>
            <a:chOff x="-720" y="0"/>
            <a:chExt cx="2556360" cy="6857640"/>
          </a:xfrm>
        </p:grpSpPr>
        <p:pic>
          <p:nvPicPr>
            <p:cNvPr id="1" name="Picture 3" descr="02d773ea546a"/>
            <p:cNvPicPr/>
            <p:nvPr/>
          </p:nvPicPr>
          <p:blipFill>
            <a:blip r:embed="rId2"/>
            <a:stretch/>
          </p:blipFill>
          <p:spPr>
            <a:xfrm rot="16200000">
              <a:off x="-471960" y="3829680"/>
              <a:ext cx="3500280" cy="25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02d773ea546a"/>
            <p:cNvPicPr/>
            <p:nvPr/>
          </p:nvPicPr>
          <p:blipFill>
            <a:blip r:embed="rId3"/>
            <a:stretch/>
          </p:blipFill>
          <p:spPr>
            <a:xfrm flipH="1" rot="16200000">
              <a:off x="-401400" y="401040"/>
              <a:ext cx="3357720" cy="25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Rectangle 5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2585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636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659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4E13-1077-48D2-8D02-5CB49A447BBD}" type="slidenum">
              <a:rPr b="1" lang="ru-RU" sz="1400" spc="-1" strike="noStrike">
                <a:solidFill>
                  <a:srgbClr val="000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720" y="0"/>
            <a:ext cx="2556360" cy="6857640"/>
            <a:chOff x="-720" y="0"/>
            <a:chExt cx="2556360" cy="6857640"/>
          </a:xfrm>
        </p:grpSpPr>
        <p:pic>
          <p:nvPicPr>
            <p:cNvPr id="46" name="Picture 3" descr="02d773ea546a"/>
            <p:cNvPicPr/>
            <p:nvPr/>
          </p:nvPicPr>
          <p:blipFill>
            <a:blip r:embed="rId2"/>
            <a:stretch/>
          </p:blipFill>
          <p:spPr>
            <a:xfrm rot="16200000">
              <a:off x="-471960" y="3829680"/>
              <a:ext cx="3500280" cy="25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02d773ea546a"/>
            <p:cNvPicPr/>
            <p:nvPr/>
          </p:nvPicPr>
          <p:blipFill>
            <a:blip r:embed="rId3"/>
            <a:stretch/>
          </p:blipFill>
          <p:spPr>
            <a:xfrm flipH="1" rot="16200000">
              <a:off x="-401400" y="401040"/>
              <a:ext cx="3357720" cy="25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5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86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19280" y="6381360"/>
            <a:ext cx="3392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164000" y="6381360"/>
            <a:ext cx="165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E90D-17B5-423B-9D04-A83E5B33E972}" type="slidenum">
              <a:rPr b="1" lang="ru-RU" sz="1400" spc="-1" strike="noStrike">
                <a:solidFill>
                  <a:srgbClr val="000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Метод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808200"/>
            <a:ext cx="501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Нагля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Практ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Словес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20960" y="2198520"/>
            <a:ext cx="5879880" cy="4408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54007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Семейное кафе «Счастливые минутки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4174920" cy="313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rcRect l="12126" t="6174" r="9088" b="5263"/>
          <a:stretch/>
        </p:blipFill>
        <p:spPr>
          <a:xfrm>
            <a:off x="179280" y="1158840"/>
            <a:ext cx="3888000" cy="3278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411280" y="3772080"/>
            <a:ext cx="3873600" cy="2904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24360" y="188640"/>
            <a:ext cx="6696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Фестиваль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«Поколение таланов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25612" t="0" r="6706" b="0"/>
          <a:stretch/>
        </p:blipFill>
        <p:spPr>
          <a:xfrm>
            <a:off x="5003640" y="1125360"/>
            <a:ext cx="3929400" cy="3270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457344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rcRect l="2724" t="2109" r="3682" b="0"/>
          <a:stretch/>
        </p:blipFill>
        <p:spPr>
          <a:xfrm>
            <a:off x="3708360" y="185760"/>
            <a:ext cx="5184720" cy="3541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rcRect l="4383" t="0" r="0" b="2835"/>
          <a:stretch/>
        </p:blipFill>
        <p:spPr>
          <a:xfrm>
            <a:off x="179280" y="3789360"/>
            <a:ext cx="5135760" cy="2940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58920" y="260280"/>
            <a:ext cx="223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анец детей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Инд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5734080"/>
            <a:ext cx="338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гровая компо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Жили у бабус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5280" y="5589720"/>
            <a:ext cx="237636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981000"/>
            <a:ext cx="2952720" cy="175572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равнительный анализ результатов диагностик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11280" y="2276640"/>
            <a:ext cx="218880" cy="218520"/>
            <a:chOff x="611280" y="2276640"/>
            <a:chExt cx="218880" cy="218520"/>
          </a:xfrm>
        </p:grpSpPr>
        <p:sp>
          <p:nvSpPr>
            <p:cNvPr id="208" name=""/>
            <p:cNvSpPr/>
            <p:nvPr/>
          </p:nvSpPr>
          <p:spPr>
            <a:xfrm>
              <a:off x="611280" y="2277360"/>
              <a:ext cx="218880" cy="21780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629640" y="2276640"/>
              <a:ext cx="18108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"/>
          <p:cNvGrpSpPr/>
          <p:nvPr/>
        </p:nvGrpSpPr>
        <p:grpSpPr>
          <a:xfrm>
            <a:off x="611280" y="1700280"/>
            <a:ext cx="218880" cy="218520"/>
            <a:chOff x="611280" y="1700280"/>
            <a:chExt cx="218880" cy="218520"/>
          </a:xfrm>
        </p:grpSpPr>
        <p:sp>
          <p:nvSpPr>
            <p:cNvPr id="211" name=""/>
            <p:cNvSpPr/>
            <p:nvPr/>
          </p:nvSpPr>
          <p:spPr>
            <a:xfrm>
              <a:off x="611280" y="1701000"/>
              <a:ext cx="218880" cy="217800"/>
            </a:xfrm>
            <a:prstGeom prst="ellipse">
              <a:avLst/>
            </a:prstGeom>
            <a:solidFill>
              <a:srgbClr val="99cc00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629640" y="1700280"/>
              <a:ext cx="181080" cy="1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"/>
          <p:cNvSpPr/>
          <p:nvPr/>
        </p:nvSpPr>
        <p:spPr>
          <a:xfrm>
            <a:off x="1042920" y="1125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1628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21337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з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16200000">
            <a:off x="1496520" y="4919400"/>
            <a:ext cx="1409760" cy="444600"/>
          </a:xfrm>
          <a:prstGeom prst="cube">
            <a:avLst>
              <a:gd name="adj" fmla="val 2379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 rot="16200000">
            <a:off x="775080" y="4776840"/>
            <a:ext cx="1700280" cy="444600"/>
          </a:xfrm>
          <a:prstGeom prst="cube">
            <a:avLst>
              <a:gd name="adj" fmla="val 23791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58658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08-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5589720"/>
            <a:ext cx="24462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 rot="16200000">
            <a:off x="4700160" y="5172840"/>
            <a:ext cx="908280" cy="444600"/>
          </a:xfrm>
          <a:prstGeom prst="cube">
            <a:avLst>
              <a:gd name="adj" fmla="val 2379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 rot="16200000">
            <a:off x="3288960" y="4423680"/>
            <a:ext cx="2435400" cy="444600"/>
          </a:xfrm>
          <a:prstGeom prst="cube">
            <a:avLst>
              <a:gd name="adj" fmla="val 23791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27640" y="5589720"/>
            <a:ext cx="238932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 rot="16200000">
            <a:off x="7936200" y="5536080"/>
            <a:ext cx="195120" cy="444600"/>
          </a:xfrm>
          <a:prstGeom prst="cube">
            <a:avLst>
              <a:gd name="adj" fmla="val 2379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 rot="16200000">
            <a:off x="6386400" y="4638600"/>
            <a:ext cx="1998720" cy="442800"/>
          </a:xfrm>
          <a:prstGeom prst="cube">
            <a:avLst>
              <a:gd name="adj" fmla="val 23791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5877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09-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43640" y="5877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10-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 rot="16200000">
            <a:off x="704520" y="5350680"/>
            <a:ext cx="546120" cy="444600"/>
          </a:xfrm>
          <a:prstGeom prst="cube">
            <a:avLst>
              <a:gd name="adj" fmla="val 237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 rot="16200000">
            <a:off x="3440520" y="5207040"/>
            <a:ext cx="833400" cy="444600"/>
          </a:xfrm>
          <a:prstGeom prst="cube">
            <a:avLst>
              <a:gd name="adj" fmla="val 237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 rot="16200000">
            <a:off x="5997960" y="4883760"/>
            <a:ext cx="1481040" cy="444600"/>
          </a:xfrm>
          <a:prstGeom prst="cube">
            <a:avLst>
              <a:gd name="adj" fmla="val 237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11280" y="1197000"/>
            <a:ext cx="218880" cy="218520"/>
            <a:chOff x="611280" y="1197000"/>
            <a:chExt cx="218880" cy="218520"/>
          </a:xfrm>
        </p:grpSpPr>
        <p:sp>
          <p:nvSpPr>
            <p:cNvPr id="231" name=""/>
            <p:cNvSpPr/>
            <p:nvPr/>
          </p:nvSpPr>
          <p:spPr>
            <a:xfrm>
              <a:off x="611280" y="1197720"/>
              <a:ext cx="218880" cy="217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629640" y="1197000"/>
              <a:ext cx="181080" cy="1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6372360" y="3933720"/>
            <a:ext cx="14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9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20000" y="342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fefefe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740720" y="51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fe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08000" y="407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fe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8728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fe"/>
                </a:solidFill>
                <a:latin typeface="Arial"/>
              </a:rPr>
              <a:t>52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486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fe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458136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fe"/>
                </a:solidFill>
                <a:latin typeface="Arial"/>
              </a:rPr>
              <a:t>29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6728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fe"/>
                </a:solidFill>
                <a:latin typeface="Arial"/>
              </a:rPr>
              <a:t>67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88000" y="450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fe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272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Наши успех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788000" y="1125360"/>
            <a:ext cx="4165560" cy="3124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56000" y="371628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4365720"/>
            <a:ext cx="2232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ляг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59640" y="5373720"/>
            <a:ext cx="2232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артер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имна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2920" y="6138720"/>
            <a:ext cx="223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берез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88000" y="4221000"/>
            <a:ext cx="223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мост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000"/>
                            </p:stCondLst>
                            <p:childTnLst>
                              <p:par>
                                <p:cTn id="6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186000" cy="4248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556000" y="1890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4427640" y="3213000"/>
            <a:ext cx="4527360" cy="3395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79280" y="544500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природе танцуют вс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rcRect l="4708" t="12371" r="0" b="6101"/>
          <a:stretch/>
        </p:blipFill>
        <p:spPr>
          <a:xfrm>
            <a:off x="4140360" y="3648240"/>
            <a:ext cx="5003640" cy="3209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560840" cy="34210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195640" y="260280"/>
            <a:ext cx="489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анцевать – это здоров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6145" t="12319" r="7609" b="11682"/>
          <a:stretch/>
        </p:blipFill>
        <p:spPr>
          <a:xfrm>
            <a:off x="4716360" y="3645000"/>
            <a:ext cx="4284720" cy="2832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3407" t="11287" r="6551" b="9397"/>
          <a:stretch/>
        </p:blipFill>
        <p:spPr>
          <a:xfrm>
            <a:off x="250920" y="3645000"/>
            <a:ext cx="4248000" cy="2806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643280" y="404640"/>
            <a:ext cx="4105440" cy="3078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424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Фестивали, конкурс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00"/>
                            </p:stCondLst>
                            <p:childTnLst>
                              <p:par>
                                <p:cTn id="6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rcRect l="7905" t="0" r="0" b="13911"/>
          <a:stretch/>
        </p:blipFill>
        <p:spPr>
          <a:xfrm>
            <a:off x="4716360" y="765000"/>
            <a:ext cx="3961080" cy="2778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rcRect l="811" t="0" r="0" b="5003"/>
          <a:stretch/>
        </p:blipFill>
        <p:spPr>
          <a:xfrm>
            <a:off x="250920" y="4005360"/>
            <a:ext cx="3960720" cy="2647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rcRect l="4905" t="0" r="13125" b="11461"/>
          <a:stretch/>
        </p:blipFill>
        <p:spPr>
          <a:xfrm>
            <a:off x="4716360" y="3789360"/>
            <a:ext cx="403236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«Возможно, самое лучшее, самое совершенное и радостное, что есть в жизни – это свободное движение под музыку.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И научиться этому можно у ребенка»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А.И.Бурен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1683" t="0" r="25286" b="0"/>
          <a:stretch/>
        </p:blipFill>
        <p:spPr>
          <a:xfrm>
            <a:off x="1187280" y="2565360"/>
            <a:ext cx="4007160" cy="4116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292720" y="4554360"/>
            <a:ext cx="3851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пасибо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Наглядные мет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302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Метод показа</a:t>
            </a:r>
            <a:endParaRPr b="0" lang="en-US" sz="2800" spc="-1" strike="noStrike">
              <a:solidFill>
                <a:srgbClr val="00006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3315" t="11144" r="0" b="0"/>
          <a:stretch/>
        </p:blipFill>
        <p:spPr>
          <a:xfrm>
            <a:off x="250920" y="2276640"/>
            <a:ext cx="4032000" cy="2779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8794" t="18748" r="0" b="0"/>
          <a:stretch/>
        </p:blipFill>
        <p:spPr>
          <a:xfrm>
            <a:off x="4500720" y="3789360"/>
            <a:ext cx="4319280" cy="2886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6297" t="15485" r="10421" b="15529"/>
          <a:stretch/>
        </p:blipFill>
        <p:spPr>
          <a:xfrm>
            <a:off x="4500720" y="1197000"/>
            <a:ext cx="4390920" cy="244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6920" y="5516640"/>
            <a:ext cx="30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раг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ми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4365720"/>
            <a:ext cx="2232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ыгаем как зайч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88000" y="6138720"/>
            <a:ext cx="223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кользим по в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3284640"/>
            <a:ext cx="3025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остик через реч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258920" y="-2160"/>
            <a:ext cx="521640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Метод иллюстратив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нагля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7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7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2320920" cy="309420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7" descr=""/>
          <p:cNvPicPr/>
          <p:nvPr/>
        </p:nvPicPr>
        <p:blipFill>
          <a:blip r:embed="rId3"/>
          <a:stretch/>
        </p:blipFill>
        <p:spPr>
          <a:xfrm>
            <a:off x="6659640" y="981000"/>
            <a:ext cx="2182680" cy="2919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912000" y="3933720"/>
            <a:ext cx="223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ля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5950080"/>
            <a:ext cx="2232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ес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а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5013360"/>
            <a:ext cx="223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але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Практические мет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907560"/>
            <a:ext cx="72723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Игровой</a:t>
            </a:r>
            <a:endParaRPr b="0" lang="en-US" sz="2800" spc="-1" strike="noStrike">
              <a:solidFill>
                <a:srgbClr val="00006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Импровизационный</a:t>
            </a:r>
            <a:endParaRPr b="0" lang="en-US" sz="2800" spc="-1" strike="noStrike">
              <a:solidFill>
                <a:srgbClr val="00006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Концентрический</a:t>
            </a:r>
            <a:endParaRPr b="0" lang="en-US" sz="2800" spc="-1" strike="noStrike">
              <a:solidFill>
                <a:srgbClr val="00006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6395" t="0" r="0" b="0"/>
          <a:stretch/>
        </p:blipFill>
        <p:spPr>
          <a:xfrm>
            <a:off x="2700360" y="2565360"/>
            <a:ext cx="5113440" cy="4098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10320" t="0" r="0" b="5795"/>
          <a:stretch/>
        </p:blipFill>
        <p:spPr>
          <a:xfrm>
            <a:off x="250920" y="907920"/>
            <a:ext cx="4176720" cy="3291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82920" cy="3213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16360" y="1989000"/>
            <a:ext cx="4427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узыкально-ритмическая иг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еселая каруселька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4437000"/>
            <a:ext cx="417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узыкально-ритм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Цапля и лягушк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2723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Словесные мет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6920" y="764640"/>
            <a:ext cx="741708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Объяснения, разъяснения, пояснения</a:t>
            </a:r>
            <a:endParaRPr b="0" lang="en-US" sz="3200" spc="-1" strike="noStrike">
              <a:solidFill>
                <a:srgbClr val="00006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Беседы, рассказы</a:t>
            </a:r>
            <a:endParaRPr b="0" lang="en-US" sz="3200" spc="-1" strike="noStrike">
              <a:solidFill>
                <a:srgbClr val="00006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Художественное слово </a:t>
            </a:r>
            <a:endParaRPr b="0" lang="en-US" sz="32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3573360"/>
            <a:ext cx="51829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море штиль и тишин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на лишь лодочка видн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друг появляется волн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лна прозрачна, зелен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чает лодочку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645000"/>
            <a:ext cx="396072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23484" r="0" b="20267"/>
          <a:stretch/>
        </p:blipFill>
        <p:spPr>
          <a:xfrm>
            <a:off x="179280" y="4221000"/>
            <a:ext cx="485928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211640" y="69228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99b7ba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2421000"/>
            <a:ext cx="370224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9297d"/>
              </a:gs>
              <a:gs pos="100000">
                <a:srgbClr val="333399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80000" y="414972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7da700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84720" y="765000"/>
            <a:ext cx="792000" cy="67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067280" y="2492280"/>
            <a:ext cx="793800" cy="673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851280" y="4221000"/>
            <a:ext cx="792000" cy="6732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395280" y="1989000"/>
            <a:ext cx="2231640" cy="2467080"/>
            <a:chOff x="395280" y="1989000"/>
            <a:chExt cx="2231640" cy="2467080"/>
          </a:xfrm>
        </p:grpSpPr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395280" y="1989000"/>
              <a:ext cx="2231640" cy="23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95280" y="1989000"/>
              <a:ext cx="2216520" cy="237636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2037240"/>
              <a:ext cx="1741320" cy="8240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45760" y="3663000"/>
              <a:ext cx="1973160" cy="793080"/>
              <a:chOff x="545760" y="3663000"/>
              <a:chExt cx="1973160" cy="7930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894600" y="3667680"/>
                <a:ext cx="1624320" cy="756360"/>
                <a:chOff x="894600" y="3667680"/>
                <a:chExt cx="1624320" cy="756360"/>
              </a:xfrm>
            </p:grpSpPr>
            <p:sp>
              <p:nvSpPr>
                <p:cNvPr id="134" name=""/>
                <p:cNvSpPr/>
                <p:nvPr/>
              </p:nvSpPr>
              <p:spPr>
                <a:xfrm flipH="1" flipV="1" rot="3964800">
                  <a:off x="1766160" y="3458520"/>
                  <a:ext cx="307440" cy="1173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 rot="4780200">
                  <a:off x="1583640" y="3529800"/>
                  <a:ext cx="307440" cy="117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 rot="5076000">
                  <a:off x="1471320" y="3543120"/>
                  <a:ext cx="307440" cy="1173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 rot="5608200">
                  <a:off x="1336320" y="3552840"/>
                  <a:ext cx="307440" cy="117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45760" y="3663000"/>
                <a:ext cx="1618920" cy="793080"/>
                <a:chOff x="545760" y="3663000"/>
                <a:chExt cx="1618920" cy="793080"/>
              </a:xfrm>
            </p:grpSpPr>
            <p:sp>
              <p:nvSpPr>
                <p:cNvPr id="139" name=""/>
                <p:cNvSpPr/>
                <p:nvPr/>
              </p:nvSpPr>
              <p:spPr>
                <a:xfrm flipH="1" flipV="1" rot="5317800">
                  <a:off x="1418400" y="3548880"/>
                  <a:ext cx="309240" cy="1174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flipV="1" rot="6133800">
                  <a:off x="1224000" y="3545640"/>
                  <a:ext cx="309240" cy="1173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flipV="1" rot="6429000">
                  <a:off x="1114560" y="3514680"/>
                  <a:ext cx="309240" cy="1173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 rot="6961200">
                  <a:off x="985680" y="3471840"/>
                  <a:ext cx="309240" cy="1173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"/>
          <p:cNvSpPr/>
          <p:nvPr/>
        </p:nvSpPr>
        <p:spPr>
          <a:xfrm>
            <a:off x="4140360" y="2565360"/>
            <a:ext cx="342576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ин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836640"/>
            <a:ext cx="342576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4292640"/>
            <a:ext cx="342576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стер-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708280"/>
            <a:ext cx="2232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трудниче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2372400" y="13798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3162960" y="246096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2372400" y="37566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0" r="0" b="14121"/>
          <a:stretch/>
        </p:blipFill>
        <p:spPr>
          <a:xfrm>
            <a:off x="395280" y="1528920"/>
            <a:ext cx="4262400" cy="274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8360" y="26028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Мастер -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0" t="3455" r="0" b="17184"/>
          <a:stretch/>
        </p:blipFill>
        <p:spPr>
          <a:xfrm>
            <a:off x="5083200" y="2421000"/>
            <a:ext cx="3673440" cy="3887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03280" y="4365720"/>
            <a:ext cx="331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елаем снежинки для та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rot="5400000">
            <a:off x="2349000" y="2554200"/>
            <a:ext cx="4176720" cy="1173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95280" y="189000"/>
            <a:ext cx="3657600" cy="1007640"/>
            <a:chOff x="395280" y="189000"/>
            <a:chExt cx="3657600" cy="1007640"/>
          </a:xfrm>
        </p:grpSpPr>
        <p:sp>
          <p:nvSpPr>
            <p:cNvPr id="156" name=""/>
            <p:cNvSpPr/>
            <p:nvPr/>
          </p:nvSpPr>
          <p:spPr>
            <a:xfrm>
              <a:off x="395280" y="189000"/>
              <a:ext cx="3657600" cy="1007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2e2e8c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03920" y="220320"/>
              <a:ext cx="3643920" cy="931680"/>
              <a:chOff x="403920" y="220320"/>
              <a:chExt cx="3643920" cy="931680"/>
            </a:xfrm>
          </p:grpSpPr>
          <p:sp>
            <p:nvSpPr>
              <p:cNvPr id="158" name=""/>
              <p:cNvSpPr/>
              <p:nvPr/>
            </p:nvSpPr>
            <p:spPr>
              <a:xfrm>
                <a:off x="403920" y="910800"/>
                <a:ext cx="3643920" cy="24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99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03920" y="220320"/>
                <a:ext cx="3643920" cy="24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edeee"/>
                  </a:gs>
                  <a:gs pos="100000">
                    <a:srgbClr val="3333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395280" y="1341360"/>
            <a:ext cx="3657600" cy="1295280"/>
            <a:chOff x="395280" y="1341360"/>
            <a:chExt cx="3657600" cy="1295280"/>
          </a:xfrm>
        </p:grpSpPr>
        <p:sp>
          <p:nvSpPr>
            <p:cNvPr id="161" name=""/>
            <p:cNvSpPr/>
            <p:nvPr/>
          </p:nvSpPr>
          <p:spPr>
            <a:xfrm>
              <a:off x="395280" y="1341360"/>
              <a:ext cx="3657600" cy="12952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c8c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03920" y="1381680"/>
              <a:ext cx="3643920" cy="1197360"/>
              <a:chOff x="403920" y="1381680"/>
              <a:chExt cx="3643920" cy="1197360"/>
            </a:xfrm>
          </p:grpSpPr>
          <p:sp>
            <p:nvSpPr>
              <p:cNvPr id="163" name=""/>
              <p:cNvSpPr/>
              <p:nvPr/>
            </p:nvSpPr>
            <p:spPr>
              <a:xfrm>
                <a:off x="403920" y="2269080"/>
                <a:ext cx="3643920" cy="309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03920" y="1381680"/>
                <a:ext cx="3643920" cy="31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de4e4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468360" y="2781360"/>
            <a:ext cx="3657600" cy="863280"/>
            <a:chOff x="468360" y="2781360"/>
            <a:chExt cx="3657600" cy="863280"/>
          </a:xfrm>
        </p:grpSpPr>
        <p:sp>
          <p:nvSpPr>
            <p:cNvPr id="166" name=""/>
            <p:cNvSpPr/>
            <p:nvPr/>
          </p:nvSpPr>
          <p:spPr>
            <a:xfrm>
              <a:off x="468360" y="2781360"/>
              <a:ext cx="3657600" cy="8632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cbb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477000" y="2808000"/>
              <a:ext cx="3643920" cy="798120"/>
              <a:chOff x="477000" y="2808000"/>
              <a:chExt cx="3643920" cy="798120"/>
            </a:xfrm>
          </p:grpSpPr>
          <p:sp>
            <p:nvSpPr>
              <p:cNvPr id="168" name=""/>
              <p:cNvSpPr/>
              <p:nvPr/>
            </p:nvSpPr>
            <p:spPr>
              <a:xfrm>
                <a:off x="477000" y="3399480"/>
                <a:ext cx="3643920" cy="20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7000" y="2808000"/>
                <a:ext cx="3643920" cy="20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7f2c5"/>
                  </a:gs>
                  <a:gs pos="100000">
                    <a:srgbClr val="99cc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468360" y="26028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 сте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341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дивидуальные беседы, консуль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292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ке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1916280"/>
            <a:ext cx="3395880" cy="2616120"/>
          </a:xfrm>
          <a:prstGeom prst="flowChartAlternateProcess">
            <a:avLst/>
          </a:prstGeom>
          <a:gradFill rotWithShape="0">
            <a:gsLst>
              <a:gs pos="0">
                <a:srgbClr val="e2e2e2"/>
              </a:gs>
              <a:gs pos="5000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2565360"/>
            <a:ext cx="32306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заимодействие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395280" y="21337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504720" y="4038480"/>
            <a:ext cx="576360" cy="69084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395280" y="3860640"/>
            <a:ext cx="3657600" cy="1296720"/>
            <a:chOff x="395280" y="3860640"/>
            <a:chExt cx="3657600" cy="1296720"/>
          </a:xfrm>
        </p:grpSpPr>
        <p:sp>
          <p:nvSpPr>
            <p:cNvPr id="178" name=""/>
            <p:cNvSpPr/>
            <p:nvPr/>
          </p:nvSpPr>
          <p:spPr>
            <a:xfrm>
              <a:off x="395280" y="3860640"/>
              <a:ext cx="3657600" cy="1296720"/>
            </a:xfrm>
            <a:prstGeom prst="roundRect">
              <a:avLst>
                <a:gd name="adj" fmla="val 17509"/>
              </a:avLst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03920" y="3900960"/>
              <a:ext cx="3643920" cy="1198440"/>
              <a:chOff x="403920" y="3900960"/>
              <a:chExt cx="3643920" cy="119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403920" y="4789080"/>
                <a:ext cx="3643920" cy="310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3920" y="3900960"/>
                <a:ext cx="3643920" cy="311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7f2c5"/>
                  </a:gs>
                  <a:gs pos="100000">
                    <a:srgbClr val="99cc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468360" y="5373720"/>
            <a:ext cx="3657600" cy="934560"/>
            <a:chOff x="468360" y="5373720"/>
            <a:chExt cx="3657600" cy="934560"/>
          </a:xfrm>
        </p:grpSpPr>
        <p:sp>
          <p:nvSpPr>
            <p:cNvPr id="183" name=""/>
            <p:cNvSpPr/>
            <p:nvPr/>
          </p:nvSpPr>
          <p:spPr>
            <a:xfrm>
              <a:off x="468360" y="5373720"/>
              <a:ext cx="3657600" cy="934560"/>
            </a:xfrm>
            <a:prstGeom prst="roundRect">
              <a:avLst>
                <a:gd name="adj" fmla="val 17509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77000" y="5402520"/>
              <a:ext cx="3643920" cy="864000"/>
              <a:chOff x="477000" y="5402520"/>
              <a:chExt cx="3643920" cy="864000"/>
            </a:xfrm>
          </p:grpSpPr>
          <p:sp>
            <p:nvSpPr>
              <p:cNvPr id="185" name=""/>
              <p:cNvSpPr/>
              <p:nvPr/>
            </p:nvSpPr>
            <p:spPr>
              <a:xfrm>
                <a:off x="477000" y="6042960"/>
                <a:ext cx="3643920" cy="223560"/>
              </a:xfrm>
              <a:prstGeom prst="roundRect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7000" y="5402520"/>
                <a:ext cx="3643920" cy="223920"/>
              </a:xfrm>
              <a:prstGeom prst="roundRect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468360" y="386064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астие в педагогическ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5373720"/>
            <a:ext cx="35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уск газет, букл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rcRect l="0" t="0" r="0" b="1298"/>
          <a:stretch/>
        </p:blipFill>
        <p:spPr>
          <a:xfrm>
            <a:off x="7596360" y="3687840"/>
            <a:ext cx="1330200" cy="3170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3564000" y="573408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rcRect l="42620" t="64489" r="19467" b="0"/>
          <a:stretch/>
        </p:blipFill>
        <p:spPr>
          <a:xfrm>
            <a:off x="3419640" y="549360"/>
            <a:ext cx="576000" cy="690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324000" y="3860640"/>
            <a:ext cx="576000" cy="690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08:05Z</dcterms:created>
  <dc:creator>User</dc:creator>
  <dc:description/>
  <dc:language>en-US</dc:language>
  <cp:lastModifiedBy>yaros</cp:lastModifiedBy>
  <dcterms:modified xsi:type="dcterms:W3CDTF">2012-11-10T05:28:24Z</dcterms:modified>
  <cp:revision>289</cp:revision>
  <dc:subject/>
  <dc:title>Слайд 1</dc:title>
</cp:coreProperties>
</file>