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13.wmf" ContentType="image/x-wmf"/>
  <Override PartName="/ppt/media/image26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28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29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8.png" ContentType="image/png"/>
  <Override PartName="/ppt/media/image39.jpeg" ContentType="image/jpeg"/>
  <Override PartName="/ppt/media/image41.jpeg" ContentType="image/jpeg"/>
  <Override PartName="/ppt/media/image33.jpeg" ContentType="image/jpeg"/>
  <Override PartName="/ppt/media/image38.jpeg" ContentType="image/jpeg"/>
  <Override PartName="/ppt/media/image40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6.png" ContentType="image/png"/>
  <Override PartName="/ppt/media/image5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1.jpeg" ContentType="image/jpeg"/>
  <Override PartName="/ppt/media/image1.gif" ContentType="image/gif"/>
  <Override PartName="/ppt/media/image10.jpeg" ContentType="image/jpe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2875-ED1D-4F6A-A835-F6B59E6CE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76000" y="1600200"/>
            <a:ext cx="72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476000" y="3964320"/>
            <a:ext cx="72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B80A-DB1B-4844-8424-2A75C9256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76000" y="1600200"/>
            <a:ext cx="354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720" y="1600200"/>
            <a:ext cx="354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76000" y="3964320"/>
            <a:ext cx="354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720" y="3964320"/>
            <a:ext cx="354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6E10-02BD-4D82-A995-3B0175397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76000" y="1600200"/>
            <a:ext cx="234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934800" y="1600200"/>
            <a:ext cx="234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93960" y="1600200"/>
            <a:ext cx="234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476000" y="3964320"/>
            <a:ext cx="234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934800" y="3964320"/>
            <a:ext cx="234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93960" y="3964320"/>
            <a:ext cx="234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E31F-8B9B-4F98-9A1B-C3DCEFE79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9FE66-75A3-48B4-B879-8D1B3BD62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476000" y="1600200"/>
            <a:ext cx="7272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48040-EE0B-4AEC-BB80-0204BD1B6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76000" y="1600200"/>
            <a:ext cx="727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1FE50-765F-4962-A26D-3EF04569F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76000" y="1600200"/>
            <a:ext cx="354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720" y="1600200"/>
            <a:ext cx="354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323EE-CE04-4AC1-9519-67F08B068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09B91-F052-4346-BAA8-9E510EC5E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476000" y="274320"/>
            <a:ext cx="7272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C14BC-728D-484A-B0D7-801F71EA1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76000" y="1600200"/>
            <a:ext cx="354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720" y="1600200"/>
            <a:ext cx="354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76000" y="3964320"/>
            <a:ext cx="354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43062-748A-4A70-8D4E-659E30C62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476000" y="1600200"/>
            <a:ext cx="7272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0369-EB78-470B-B79E-0CD2C37BB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76000" y="1600200"/>
            <a:ext cx="354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720" y="1600200"/>
            <a:ext cx="354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720" y="3964320"/>
            <a:ext cx="354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64EBA-3A73-462F-9803-1FEFB96B8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76000" y="1600200"/>
            <a:ext cx="354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720" y="1600200"/>
            <a:ext cx="354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476000" y="3964320"/>
            <a:ext cx="72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7779D-D305-4F1C-9038-7C7BC9542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76000" y="1600200"/>
            <a:ext cx="72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476000" y="3964320"/>
            <a:ext cx="72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E4DB1-E359-4673-8819-CDCEBEB27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76000" y="1600200"/>
            <a:ext cx="354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720" y="1600200"/>
            <a:ext cx="354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476000" y="3964320"/>
            <a:ext cx="354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720" y="3964320"/>
            <a:ext cx="354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DC792-648B-4652-A810-9388C503B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76000" y="1600200"/>
            <a:ext cx="234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934800" y="1600200"/>
            <a:ext cx="234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93960" y="1600200"/>
            <a:ext cx="234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476000" y="3964320"/>
            <a:ext cx="234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934800" y="3964320"/>
            <a:ext cx="234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93960" y="3964320"/>
            <a:ext cx="234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BEEF4-A483-4355-94F4-6B641DD1A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76000" y="1600200"/>
            <a:ext cx="727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ED79-3500-47BF-9C16-C29D89F7A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76000" y="1600200"/>
            <a:ext cx="354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720" y="1600200"/>
            <a:ext cx="354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FA84-AE1D-4557-B008-6676C681E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EFD4-C11F-4CC3-9B65-FC918E36D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76000" y="274320"/>
            <a:ext cx="7272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9706-C07A-4D48-A40A-C826BAF66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76000" y="1600200"/>
            <a:ext cx="354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720" y="1600200"/>
            <a:ext cx="354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76000" y="3964320"/>
            <a:ext cx="354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0B01-5EDE-453D-9B8E-7FA84925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76000" y="1600200"/>
            <a:ext cx="354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720" y="1600200"/>
            <a:ext cx="354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720" y="3964320"/>
            <a:ext cx="354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F055-3E94-42D9-BDFB-BEF834689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76000" y="1600200"/>
            <a:ext cx="354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720" y="1600200"/>
            <a:ext cx="354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76000" y="3964320"/>
            <a:ext cx="72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0F94-F062-452E-87C9-7BF7A172B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0"/>
            <a:ext cx="2556360" cy="6857640"/>
            <a:chOff x="-720" y="0"/>
            <a:chExt cx="2556360" cy="6857640"/>
          </a:xfrm>
        </p:grpSpPr>
        <p:pic>
          <p:nvPicPr>
            <p:cNvPr id="1" name="Picture 3" descr="02d773ea546a"/>
            <p:cNvPicPr/>
            <p:nvPr/>
          </p:nvPicPr>
          <p:blipFill>
            <a:blip r:embed="rId2"/>
            <a:stretch/>
          </p:blipFill>
          <p:spPr>
            <a:xfrm rot="16200000">
              <a:off x="-471960" y="3829680"/>
              <a:ext cx="3500280" cy="255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4" descr="02d773ea546a"/>
            <p:cNvPicPr/>
            <p:nvPr/>
          </p:nvPicPr>
          <p:blipFill>
            <a:blip r:embed="rId3"/>
            <a:stretch/>
          </p:blipFill>
          <p:spPr>
            <a:xfrm flipH="1" rot="16200000">
              <a:off x="-401400" y="401040"/>
              <a:ext cx="3357720" cy="2555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Rectangle 5"/>
          <p:cNvSpPr/>
          <p:nvPr/>
        </p:nvSpPr>
        <p:spPr>
          <a:xfrm>
            <a:off x="1187280" y="0"/>
            <a:ext cx="7956720" cy="68580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476000" y="1600200"/>
            <a:ext cx="727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25856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63640" y="6381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659640" y="63813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6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49A88-D0C7-42E6-A503-E84EFFB53AAA}" type="slidenum">
              <a:rPr b="1" lang="ru-RU" sz="1400" spc="-1" strike="noStrike">
                <a:solidFill>
                  <a:srgbClr val="00006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720" y="0"/>
            <a:ext cx="2556360" cy="6857640"/>
            <a:chOff x="-720" y="0"/>
            <a:chExt cx="2556360" cy="6857640"/>
          </a:xfrm>
        </p:grpSpPr>
        <p:pic>
          <p:nvPicPr>
            <p:cNvPr id="46" name="Picture 3" descr="02d773ea546a"/>
            <p:cNvPicPr/>
            <p:nvPr/>
          </p:nvPicPr>
          <p:blipFill>
            <a:blip r:embed="rId2"/>
            <a:stretch/>
          </p:blipFill>
          <p:spPr>
            <a:xfrm rot="16200000">
              <a:off x="-471960" y="3829680"/>
              <a:ext cx="3500280" cy="255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4" descr="02d773ea546a"/>
            <p:cNvPicPr/>
            <p:nvPr/>
          </p:nvPicPr>
          <p:blipFill>
            <a:blip r:embed="rId3"/>
            <a:stretch/>
          </p:blipFill>
          <p:spPr>
            <a:xfrm flipH="1" rot="16200000">
              <a:off x="-401400" y="401040"/>
              <a:ext cx="3357720" cy="2555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Rectangle 5"/>
          <p:cNvSpPr/>
          <p:nvPr/>
        </p:nvSpPr>
        <p:spPr>
          <a:xfrm>
            <a:off x="1187280" y="0"/>
            <a:ext cx="7956720" cy="68580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476000" y="1600200"/>
            <a:ext cx="727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1869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419280" y="6381360"/>
            <a:ext cx="3392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164000" y="6381360"/>
            <a:ext cx="1655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6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B01A5-7C26-4ADE-8039-EE95A97C2A20}" type="slidenum">
              <a:rPr b="1" lang="ru-RU" sz="1400" spc="-1" strike="noStrike">
                <a:solidFill>
                  <a:srgbClr val="00006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76000" y="-36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eorgia"/>
              </a:rPr>
              <a:t>Методы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1258920" y="808200"/>
            <a:ext cx="501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Нагляд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Georgia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Практическ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Georgia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Словес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920960" y="2198520"/>
            <a:ext cx="5879880" cy="44085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835280" y="188640"/>
            <a:ext cx="540072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Семейное кафе «Счастливые минутки»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4788000" y="1197000"/>
            <a:ext cx="4174920" cy="3132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rcRect l="12126" t="6174" r="9088" b="5263"/>
          <a:stretch/>
        </p:blipFill>
        <p:spPr>
          <a:xfrm>
            <a:off x="179280" y="1158840"/>
            <a:ext cx="3888000" cy="32781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411280" y="3772080"/>
            <a:ext cx="3873600" cy="29048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-324360" y="188640"/>
            <a:ext cx="6696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Фестиваль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«Поколение таланов»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rcRect l="25612" t="0" r="6706" b="0"/>
          <a:stretch/>
        </p:blipFill>
        <p:spPr>
          <a:xfrm>
            <a:off x="5003640" y="1125360"/>
            <a:ext cx="3929400" cy="3270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250920" y="3573360"/>
            <a:ext cx="4573440" cy="30672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000"/>
                            </p:stCondLst>
                            <p:childTnLst>
                              <p:par>
                                <p:cTn id="39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rcRect l="2724" t="2109" r="3682" b="0"/>
          <a:stretch/>
        </p:blipFill>
        <p:spPr>
          <a:xfrm>
            <a:off x="3708360" y="185760"/>
            <a:ext cx="5184720" cy="35416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rcRect l="4383" t="0" r="0" b="2835"/>
          <a:stretch/>
        </p:blipFill>
        <p:spPr>
          <a:xfrm>
            <a:off x="179280" y="3789360"/>
            <a:ext cx="5135760" cy="294012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1258920" y="260280"/>
            <a:ext cx="2232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танец детей и род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«Инд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64000" y="5734080"/>
            <a:ext cx="3384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игровая компози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«Жили у бабуси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95280" y="5589720"/>
            <a:ext cx="2376360" cy="620640"/>
          </a:xfrm>
          <a:prstGeom prst="cube">
            <a:avLst>
              <a:gd name="adj" fmla="val 49879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4000" y="981000"/>
            <a:ext cx="2952720" cy="1755720"/>
          </a:xfrm>
          <a:custGeom>
            <a:avLst/>
            <a:gdLst/>
            <a:ahLst/>
            <a:rect l="l" t="t" r="r" b="b"/>
            <a:pathLst>
              <a:path w="1321" h="788">
                <a:moveTo>
                  <a:pt x="4" y="391"/>
                </a:moveTo>
                <a:cubicBezTo>
                  <a:pt x="5" y="589"/>
                  <a:pt x="6" y="788"/>
                  <a:pt x="6" y="788"/>
                </a:cubicBezTo>
                <a:lnTo>
                  <a:pt x="1098" y="782"/>
                </a:lnTo>
                <a:cubicBezTo>
                  <a:pt x="1321" y="782"/>
                  <a:pt x="1315" y="667"/>
                  <a:pt x="1314" y="388"/>
                </a:cubicBezTo>
                <a:cubicBezTo>
                  <a:pt x="1314" y="193"/>
                  <a:pt x="1315" y="0"/>
                  <a:pt x="1315" y="0"/>
                </a:cubicBezTo>
                <a:lnTo>
                  <a:pt x="244" y="3"/>
                </a:lnTo>
                <a:cubicBezTo>
                  <a:pt x="0" y="3"/>
                  <a:pt x="5" y="138"/>
                  <a:pt x="4" y="391"/>
                </a:cubicBezTo>
                <a:close/>
              </a:path>
            </a:pathLst>
          </a:custGeom>
          <a:gradFill rotWithShape="0">
            <a:gsLst>
              <a:gs pos="0">
                <a:srgbClr val="e2e2e2"/>
              </a:gs>
              <a:gs pos="100000">
                <a:srgbClr val="ffffff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924000" y="260280"/>
            <a:ext cx="482436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Сравнительный анализ результатов диагностики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11280" y="2276640"/>
            <a:ext cx="218880" cy="218520"/>
            <a:chOff x="611280" y="2276640"/>
            <a:chExt cx="218880" cy="218520"/>
          </a:xfrm>
        </p:grpSpPr>
        <p:sp>
          <p:nvSpPr>
            <p:cNvPr id="208" name=""/>
            <p:cNvSpPr/>
            <p:nvPr/>
          </p:nvSpPr>
          <p:spPr>
            <a:xfrm>
              <a:off x="611280" y="2277360"/>
              <a:ext cx="218880" cy="21780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9" name="" descr=""/>
            <p:cNvPicPr/>
            <p:nvPr/>
          </p:nvPicPr>
          <p:blipFill>
            <a:blip r:embed="rId1"/>
            <a:stretch/>
          </p:blipFill>
          <p:spPr>
            <a:xfrm>
              <a:off x="629640" y="2276640"/>
              <a:ext cx="181080" cy="18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0" name=""/>
          <p:cNvGrpSpPr/>
          <p:nvPr/>
        </p:nvGrpSpPr>
        <p:grpSpPr>
          <a:xfrm>
            <a:off x="611280" y="1700280"/>
            <a:ext cx="218880" cy="218520"/>
            <a:chOff x="611280" y="1700280"/>
            <a:chExt cx="218880" cy="218520"/>
          </a:xfrm>
        </p:grpSpPr>
        <p:sp>
          <p:nvSpPr>
            <p:cNvPr id="211" name=""/>
            <p:cNvSpPr/>
            <p:nvPr/>
          </p:nvSpPr>
          <p:spPr>
            <a:xfrm>
              <a:off x="611280" y="1701000"/>
              <a:ext cx="218880" cy="217800"/>
            </a:xfrm>
            <a:prstGeom prst="ellipse">
              <a:avLst/>
            </a:prstGeom>
            <a:solidFill>
              <a:srgbClr val="99cc00"/>
            </a:solidFill>
            <a:ln w="1260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2" name="" descr=""/>
            <p:cNvPicPr/>
            <p:nvPr/>
          </p:nvPicPr>
          <p:blipFill>
            <a:blip r:embed="rId2"/>
            <a:stretch/>
          </p:blipFill>
          <p:spPr>
            <a:xfrm>
              <a:off x="629640" y="1700280"/>
              <a:ext cx="181080" cy="18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"/>
          <p:cNvSpPr/>
          <p:nvPr/>
        </p:nvSpPr>
        <p:spPr>
          <a:xfrm>
            <a:off x="1042920" y="112536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со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042920" y="162864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ред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042920" y="213372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из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 rot="16200000">
            <a:off x="1496520" y="4919400"/>
            <a:ext cx="1409760" cy="444600"/>
          </a:xfrm>
          <a:prstGeom prst="cube">
            <a:avLst>
              <a:gd name="adj" fmla="val 23791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 rot="16200000">
            <a:off x="775080" y="4776840"/>
            <a:ext cx="1700280" cy="444600"/>
          </a:xfrm>
          <a:prstGeom prst="cube">
            <a:avLst>
              <a:gd name="adj" fmla="val 23791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55640" y="586584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2008-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276720" y="5589720"/>
            <a:ext cx="2446200" cy="620640"/>
          </a:xfrm>
          <a:prstGeom prst="cube">
            <a:avLst>
              <a:gd name="adj" fmla="val 49879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 rot="16200000">
            <a:off x="4700160" y="5172840"/>
            <a:ext cx="908280" cy="444600"/>
          </a:xfrm>
          <a:prstGeom prst="cube">
            <a:avLst>
              <a:gd name="adj" fmla="val 23791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 rot="16200000">
            <a:off x="3288960" y="4423680"/>
            <a:ext cx="2435400" cy="444600"/>
          </a:xfrm>
          <a:prstGeom prst="cube">
            <a:avLst>
              <a:gd name="adj" fmla="val 23791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227640" y="5589720"/>
            <a:ext cx="2389320" cy="620640"/>
          </a:xfrm>
          <a:prstGeom prst="cube">
            <a:avLst>
              <a:gd name="adj" fmla="val 49879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 rot="16200000">
            <a:off x="7936200" y="5536080"/>
            <a:ext cx="195120" cy="444600"/>
          </a:xfrm>
          <a:prstGeom prst="cube">
            <a:avLst>
              <a:gd name="adj" fmla="val 23791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 rot="16200000">
            <a:off x="6386400" y="4638600"/>
            <a:ext cx="1998720" cy="442800"/>
          </a:xfrm>
          <a:prstGeom prst="cube">
            <a:avLst>
              <a:gd name="adj" fmla="val 23791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564000" y="5877000"/>
            <a:ext cx="151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2009-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443640" y="5877000"/>
            <a:ext cx="15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2010-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 rot="16200000">
            <a:off x="704520" y="5350680"/>
            <a:ext cx="546120" cy="444600"/>
          </a:xfrm>
          <a:prstGeom prst="cube">
            <a:avLst>
              <a:gd name="adj" fmla="val 2379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 rot="16200000">
            <a:off x="3440520" y="5207040"/>
            <a:ext cx="833400" cy="444600"/>
          </a:xfrm>
          <a:prstGeom prst="cube">
            <a:avLst>
              <a:gd name="adj" fmla="val 2379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 rot="16200000">
            <a:off x="5997960" y="4883760"/>
            <a:ext cx="1481040" cy="444600"/>
          </a:xfrm>
          <a:prstGeom prst="cube">
            <a:avLst>
              <a:gd name="adj" fmla="val 2379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611280" y="1197000"/>
            <a:ext cx="218880" cy="218520"/>
            <a:chOff x="611280" y="1197000"/>
            <a:chExt cx="218880" cy="218520"/>
          </a:xfrm>
        </p:grpSpPr>
        <p:sp>
          <p:nvSpPr>
            <p:cNvPr id="231" name=""/>
            <p:cNvSpPr/>
            <p:nvPr/>
          </p:nvSpPr>
          <p:spPr>
            <a:xfrm>
              <a:off x="611280" y="1197720"/>
              <a:ext cx="218880" cy="217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2" name="" descr=""/>
            <p:cNvPicPr/>
            <p:nvPr/>
          </p:nvPicPr>
          <p:blipFill>
            <a:blip r:embed="rId3"/>
            <a:stretch/>
          </p:blipFill>
          <p:spPr>
            <a:xfrm>
              <a:off x="629640" y="1197000"/>
              <a:ext cx="181080" cy="18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3" name=""/>
          <p:cNvSpPr/>
          <p:nvPr/>
        </p:nvSpPr>
        <p:spPr>
          <a:xfrm>
            <a:off x="6372360" y="3933720"/>
            <a:ext cx="14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9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020000" y="3429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</a:rPr>
              <a:t>5</a:t>
            </a:r>
            <a:r>
              <a:rPr b="1" lang="ru-RU" sz="1800" spc="-1" strike="noStrike">
                <a:solidFill>
                  <a:srgbClr val="fefefe"/>
                </a:solidFill>
                <a:latin typeface="Arial"/>
              </a:rPr>
              <a:t>9</a:t>
            </a:r>
            <a:r>
              <a:rPr b="1" lang="en-US" sz="1800" spc="-1" strike="noStrike">
                <a:solidFill>
                  <a:srgbClr val="fefefe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740720" y="5157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efefe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efefe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908000" y="4076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efefe"/>
                </a:solidFill>
                <a:latin typeface="Arial"/>
              </a:rPr>
              <a:t>33</a:t>
            </a:r>
            <a:r>
              <a:rPr b="1" lang="en-US" sz="1800" spc="-1" strike="noStrike">
                <a:solidFill>
                  <a:srgbClr val="fefefe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87280" y="3645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efefe"/>
                </a:solidFill>
                <a:latin typeface="Arial"/>
              </a:rPr>
              <a:t>52</a:t>
            </a:r>
            <a:r>
              <a:rPr b="1" lang="en-US" sz="1800" spc="-1" strike="noStrike">
                <a:solidFill>
                  <a:srgbClr val="fefefe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39640" y="4869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efefe"/>
                </a:solidFill>
                <a:latin typeface="Arial"/>
              </a:rPr>
              <a:t>15</a:t>
            </a:r>
            <a:r>
              <a:rPr b="1" lang="en-US" sz="1800" spc="-1" strike="noStrike">
                <a:solidFill>
                  <a:srgbClr val="fefefe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419640" y="4581360"/>
            <a:ext cx="8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efefe"/>
                </a:solidFill>
                <a:latin typeface="Arial"/>
              </a:rPr>
              <a:t>29</a:t>
            </a:r>
            <a:r>
              <a:rPr b="1" lang="en-US" sz="1800" spc="-1" strike="noStrike">
                <a:solidFill>
                  <a:srgbClr val="fefefe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067280" y="2997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efefe"/>
                </a:solidFill>
                <a:latin typeface="Arial"/>
              </a:rPr>
              <a:t>67</a:t>
            </a:r>
            <a:r>
              <a:rPr b="1" lang="en-US" sz="1800" spc="-1" strike="noStrike">
                <a:solidFill>
                  <a:srgbClr val="fefefe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788000" y="4508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efefe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fefefe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2000"/>
                            </p:stCondLst>
                            <p:childTnLst>
                              <p:par>
                                <p:cTn id="4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3000"/>
                            </p:stCondLst>
                            <p:childTnLst>
                              <p:par>
                                <p:cTn id="52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99640" y="0"/>
            <a:ext cx="7272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eorgia"/>
              </a:rPr>
              <a:t>Наши успех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3851280" cy="28893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4788000" y="1125360"/>
            <a:ext cx="4165560" cy="312444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56000" y="3716280"/>
            <a:ext cx="3887640" cy="291636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4365720"/>
            <a:ext cx="2232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«лягуш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659640" y="5373720"/>
            <a:ext cx="2232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элем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артер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гимнас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42920" y="6138720"/>
            <a:ext cx="2232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«берез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588000" y="4221000"/>
            <a:ext cx="2232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«мости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1000"/>
                            </p:stCondLst>
                            <p:childTnLst>
                              <p:par>
                                <p:cTn id="5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2000"/>
                            </p:stCondLst>
                            <p:childTnLst>
                              <p:par>
                                <p:cTn id="5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3000"/>
                            </p:stCondLst>
                            <p:childTnLst>
                              <p:par>
                                <p:cTn id="59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4000"/>
                            </p:stCondLst>
                            <p:childTnLst>
                              <p:par>
                                <p:cTn id="60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3186000" cy="424836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2556000" y="189000"/>
            <a:ext cx="4319640" cy="32400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4427640" y="3213000"/>
            <a:ext cx="4527360" cy="339588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179280" y="5445000"/>
            <a:ext cx="3816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В природе танцуют все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0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1000"/>
                            </p:stCondLst>
                            <p:childTnLst>
                              <p:par>
                                <p:cTn id="6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2000"/>
                            </p:stCondLst>
                            <p:childTnLst>
                              <p:par>
                                <p:cTn id="6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10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rcRect l="4708" t="12371" r="0" b="6101"/>
          <a:stretch/>
        </p:blipFill>
        <p:spPr>
          <a:xfrm>
            <a:off x="4140360" y="3648240"/>
            <a:ext cx="5003640" cy="320976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0" y="1197000"/>
            <a:ext cx="4560840" cy="342108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2195640" y="260280"/>
            <a:ext cx="4897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Танцевать – это здоров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0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1000"/>
                            </p:stCondLst>
                            <p:childTnLst>
                              <p:par>
                                <p:cTn id="64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rcRect l="6145" t="12319" r="7609" b="11682"/>
          <a:stretch/>
        </p:blipFill>
        <p:spPr>
          <a:xfrm>
            <a:off x="4716360" y="3645000"/>
            <a:ext cx="4284720" cy="283212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rcRect l="3407" t="11287" r="6551" b="9397"/>
          <a:stretch/>
        </p:blipFill>
        <p:spPr>
          <a:xfrm>
            <a:off x="250920" y="3645000"/>
            <a:ext cx="4248000" cy="280656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4643280" y="404640"/>
            <a:ext cx="4105440" cy="307836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42483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Фестивали, конкурсы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 spd="slow">
    <p:fade thruBlk="true"/>
  </p:transition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0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2000"/>
                            </p:stCondLst>
                            <p:childTnLst>
                              <p:par>
                                <p:cTn id="6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3000"/>
                            </p:stCondLst>
                            <p:childTnLst>
                              <p:par>
                                <p:cTn id="6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324000" y="692280"/>
            <a:ext cx="3816360" cy="28620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2"/>
          <a:srcRect l="7905" t="0" r="0" b="13911"/>
          <a:stretch/>
        </p:blipFill>
        <p:spPr>
          <a:xfrm>
            <a:off x="4716360" y="765000"/>
            <a:ext cx="3961080" cy="27784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3"/>
          <a:srcRect l="811" t="0" r="0" b="5003"/>
          <a:stretch/>
        </p:blipFill>
        <p:spPr>
          <a:xfrm>
            <a:off x="250920" y="4005360"/>
            <a:ext cx="3960720" cy="26478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4"/>
          <a:srcRect l="4905" t="0" r="13125" b="11461"/>
          <a:stretch/>
        </p:blipFill>
        <p:spPr>
          <a:xfrm>
            <a:off x="4716360" y="3789360"/>
            <a:ext cx="4032360" cy="29304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0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15640" y="333000"/>
            <a:ext cx="828036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«Возможно, самое лучшее, самое совершенное и радостное, что есть в жизни – это свободное движение под музыку. </a:t>
            </a:r>
            <a:br>
              <a:rPr sz="3200"/>
            </a:b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И научиться этому можно у ребенка».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                                                 А.И.Буренина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rcRect l="1683" t="0" r="25286" b="0"/>
          <a:stretch/>
        </p:blipFill>
        <p:spPr>
          <a:xfrm>
            <a:off x="1187280" y="2565360"/>
            <a:ext cx="4007160" cy="41166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5292720" y="4554360"/>
            <a:ext cx="38512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Спасибо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за внимани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0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1000"/>
                            </p:stCondLst>
                            <p:childTnLst>
                              <p:par>
                                <p:cTn id="71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76000" y="-36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eorgia"/>
              </a:rPr>
              <a:t>Наглядные метод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58920" y="980640"/>
            <a:ext cx="302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Метод показа</a:t>
            </a:r>
            <a:endParaRPr b="0" lang="en-US" sz="2800" spc="-1" strike="noStrike">
              <a:solidFill>
                <a:srgbClr val="00006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3315" t="11144" r="0" b="0"/>
          <a:stretch/>
        </p:blipFill>
        <p:spPr>
          <a:xfrm>
            <a:off x="250920" y="2276640"/>
            <a:ext cx="4032000" cy="27795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rcRect l="8794" t="18748" r="0" b="0"/>
          <a:stretch/>
        </p:blipFill>
        <p:spPr>
          <a:xfrm>
            <a:off x="4500720" y="3789360"/>
            <a:ext cx="4319280" cy="2886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rcRect l="6297" t="15485" r="10421" b="15529"/>
          <a:stretch/>
        </p:blipFill>
        <p:spPr>
          <a:xfrm>
            <a:off x="4500720" y="1197000"/>
            <a:ext cx="4390920" cy="244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826920" y="5516640"/>
            <a:ext cx="3024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Фрагм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разми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280" y="4365720"/>
            <a:ext cx="2232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прыгаем как зайч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88000" y="6138720"/>
            <a:ext cx="2232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скользим по во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796000" y="3284640"/>
            <a:ext cx="30258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мостик через реч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1258920" y="-2160"/>
            <a:ext cx="5216400" cy="24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Метод иллюстративно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нагляд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Rectangle 7" descr=""/>
          <p:cNvPicPr/>
          <p:nvPr/>
        </p:nvPicPr>
        <p:blipFill>
          <a:blip r:embed="rId1"/>
          <a:stretch/>
        </p:blipFill>
        <p:spPr>
          <a:xfrm>
            <a:off x="1116000" y="1916280"/>
            <a:ext cx="3959280" cy="2970000"/>
          </a:xfrm>
          <a:prstGeom prst="rect">
            <a:avLst/>
          </a:prstGeom>
          <a:ln w="0">
            <a:noFill/>
          </a:ln>
        </p:spPr>
      </p:pic>
      <p:pic>
        <p:nvPicPr>
          <p:cNvPr id="105" name="Rectangle 7" descr=""/>
          <p:cNvPicPr/>
          <p:nvPr/>
        </p:nvPicPr>
        <p:blipFill>
          <a:blip r:embed="rId2"/>
          <a:stretch/>
        </p:blipFill>
        <p:spPr>
          <a:xfrm>
            <a:off x="4500720" y="3500280"/>
            <a:ext cx="2320920" cy="3094200"/>
          </a:xfrm>
          <a:prstGeom prst="rect">
            <a:avLst/>
          </a:prstGeom>
          <a:ln w="0">
            <a:noFill/>
          </a:ln>
        </p:spPr>
      </p:pic>
      <p:pic>
        <p:nvPicPr>
          <p:cNvPr id="106" name="Rectangle 7" descr=""/>
          <p:cNvPicPr/>
          <p:nvPr/>
        </p:nvPicPr>
        <p:blipFill>
          <a:blip r:embed="rId3"/>
          <a:stretch/>
        </p:blipFill>
        <p:spPr>
          <a:xfrm>
            <a:off x="6659640" y="981000"/>
            <a:ext cx="2182680" cy="29196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912000" y="3933720"/>
            <a:ext cx="2232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ля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16720" y="5950080"/>
            <a:ext cx="2232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Весел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та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5013360"/>
            <a:ext cx="2232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балер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76000" y="-36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Практические методы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58560" y="907560"/>
            <a:ext cx="7272360" cy="19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Игровой</a:t>
            </a:r>
            <a:endParaRPr b="0" lang="en-US" sz="2800" spc="-1" strike="noStrike">
              <a:solidFill>
                <a:srgbClr val="00006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Импровизационный</a:t>
            </a:r>
            <a:endParaRPr b="0" lang="en-US" sz="2800" spc="-1" strike="noStrike">
              <a:solidFill>
                <a:srgbClr val="00006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Концентрический</a:t>
            </a:r>
            <a:endParaRPr b="0" lang="en-US" sz="2800" spc="-1" strike="noStrike">
              <a:solidFill>
                <a:srgbClr val="00006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6395" t="0" r="0" b="0"/>
          <a:stretch/>
        </p:blipFill>
        <p:spPr>
          <a:xfrm>
            <a:off x="2700360" y="2565360"/>
            <a:ext cx="5113440" cy="40989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000"/>
                            </p:stCondLst>
                            <p:childTnLst>
                              <p:par>
                                <p:cTn id="14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rcRect l="10320" t="0" r="0" b="5795"/>
          <a:stretch/>
        </p:blipFill>
        <p:spPr>
          <a:xfrm>
            <a:off x="250920" y="907920"/>
            <a:ext cx="4176720" cy="3291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572000" y="3429000"/>
            <a:ext cx="4282920" cy="3213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716360" y="1989000"/>
            <a:ext cx="442764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узыкально-ритмическая иг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«Веселая каруселька</a:t>
            </a: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79280" y="4437000"/>
            <a:ext cx="4176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музыкально-ритм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иг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«Цапля и лягушки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76000" y="0"/>
            <a:ext cx="727236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Словесные методы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6920" y="764640"/>
            <a:ext cx="7417080" cy="23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Объяснения, разъяснения, пояснения</a:t>
            </a:r>
            <a:endParaRPr b="0" lang="en-US" sz="3200" spc="-1" strike="noStrike">
              <a:solidFill>
                <a:srgbClr val="00006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Беседы, рассказы</a:t>
            </a:r>
            <a:endParaRPr b="0" lang="en-US" sz="3200" spc="-1" strike="noStrike">
              <a:solidFill>
                <a:srgbClr val="00006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Художественное слово </a:t>
            </a:r>
            <a:endParaRPr b="0" lang="en-US" sz="32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427640" y="3573360"/>
            <a:ext cx="518292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а море штиль и тишина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дна лишь лодочка видна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друг появляется волна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олна прозрачна, зелена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ачает лодочку 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3645000"/>
            <a:ext cx="3960720" cy="29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23484" r="0" b="20267"/>
          <a:stretch/>
        </p:blipFill>
        <p:spPr>
          <a:xfrm>
            <a:off x="179280" y="4221000"/>
            <a:ext cx="4859280" cy="20494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211640" y="692280"/>
            <a:ext cx="3701880" cy="106668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99b7ba"/>
              </a:gs>
              <a:gs pos="100000">
                <a:srgbClr val="bbe0e3"/>
              </a:gs>
            </a:gsLst>
            <a:lin ang="5400000"/>
          </a:gradFill>
          <a:ln w="2556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95640" y="2421000"/>
            <a:ext cx="3702240" cy="106668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29297d"/>
              </a:gs>
              <a:gs pos="100000">
                <a:srgbClr val="333399"/>
              </a:gs>
            </a:gsLst>
            <a:lin ang="5400000"/>
          </a:gradFill>
          <a:ln w="2556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780000" y="4149720"/>
            <a:ext cx="3701880" cy="106668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7da700"/>
              </a:gs>
              <a:gs pos="100000">
                <a:srgbClr val="99cc00"/>
              </a:gs>
            </a:gsLst>
            <a:lin ang="5400000"/>
          </a:gradFill>
          <a:ln w="2556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284720" y="765000"/>
            <a:ext cx="792000" cy="6732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067280" y="2492280"/>
            <a:ext cx="793800" cy="673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3851280" y="4221000"/>
            <a:ext cx="792000" cy="673200"/>
          </a:xfrm>
          <a:prstGeom prst="rect">
            <a:avLst/>
          </a:prstGeom>
          <a:ln w="0">
            <a:noFill/>
          </a:ln>
        </p:spPr>
      </p:pic>
      <p:grpSp>
        <p:nvGrpSpPr>
          <p:cNvPr id="128" name=""/>
          <p:cNvGrpSpPr/>
          <p:nvPr/>
        </p:nvGrpSpPr>
        <p:grpSpPr>
          <a:xfrm>
            <a:off x="395280" y="1989000"/>
            <a:ext cx="2231640" cy="2467080"/>
            <a:chOff x="395280" y="1989000"/>
            <a:chExt cx="2231640" cy="2467080"/>
          </a:xfrm>
        </p:grpSpPr>
        <p:pic>
          <p:nvPicPr>
            <p:cNvPr id="129" name="" descr=""/>
            <p:cNvPicPr/>
            <p:nvPr/>
          </p:nvPicPr>
          <p:blipFill>
            <a:blip r:embed="rId4"/>
            <a:stretch/>
          </p:blipFill>
          <p:spPr>
            <a:xfrm>
              <a:off x="395280" y="1989000"/>
              <a:ext cx="2231640" cy="23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395280" y="1989000"/>
              <a:ext cx="2216520" cy="2376360"/>
            </a:xfrm>
            <a:prstGeom prst="ellipse">
              <a:avLst/>
            </a:prstGeom>
            <a:gradFill rotWithShape="0">
              <a:gsLst>
                <a:gs pos="0">
                  <a:srgbClr val="404040">
                    <a:alpha val="90196"/>
                  </a:srgbClr>
                </a:gs>
                <a:gs pos="50000">
                  <a:srgbClr val="f8f8f8">
                    <a:alpha val="45098"/>
                  </a:srgbClr>
                </a:gs>
                <a:gs pos="100000">
                  <a:srgbClr val="404040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5320" y="2037240"/>
              <a:ext cx="1741320" cy="82404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545760" y="3663000"/>
              <a:ext cx="1973160" cy="793080"/>
              <a:chOff x="545760" y="3663000"/>
              <a:chExt cx="1973160" cy="793080"/>
            </a:xfrm>
          </p:grpSpPr>
          <p:grpSp>
            <p:nvGrpSpPr>
              <p:cNvPr id="133" name=""/>
              <p:cNvGrpSpPr/>
              <p:nvPr/>
            </p:nvGrpSpPr>
            <p:grpSpPr>
              <a:xfrm>
                <a:off x="894600" y="3667680"/>
                <a:ext cx="1624320" cy="756360"/>
                <a:chOff x="894600" y="3667680"/>
                <a:chExt cx="1624320" cy="756360"/>
              </a:xfrm>
            </p:grpSpPr>
            <p:sp>
              <p:nvSpPr>
                <p:cNvPr id="134" name=""/>
                <p:cNvSpPr/>
                <p:nvPr/>
              </p:nvSpPr>
              <p:spPr>
                <a:xfrm flipH="1" flipV="1" rot="3964800">
                  <a:off x="1766160" y="3458520"/>
                  <a:ext cx="307440" cy="1173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 flipH="1" flipV="1" rot="4780200">
                  <a:off x="1583640" y="3529800"/>
                  <a:ext cx="307440" cy="1174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 flipH="1" flipV="1" rot="5076000">
                  <a:off x="1471320" y="3543120"/>
                  <a:ext cx="307440" cy="1173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 flipH="1" flipV="1" rot="5608200">
                  <a:off x="1336320" y="3552840"/>
                  <a:ext cx="307440" cy="1174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545760" y="3663000"/>
                <a:ext cx="1618920" cy="793080"/>
                <a:chOff x="545760" y="3663000"/>
                <a:chExt cx="1618920" cy="793080"/>
              </a:xfrm>
            </p:grpSpPr>
            <p:sp>
              <p:nvSpPr>
                <p:cNvPr id="139" name=""/>
                <p:cNvSpPr/>
                <p:nvPr/>
              </p:nvSpPr>
              <p:spPr>
                <a:xfrm flipH="1" flipV="1" rot="5317800">
                  <a:off x="1418400" y="3548880"/>
                  <a:ext cx="309240" cy="1174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H="1" flipV="1" rot="6133800">
                  <a:off x="1224000" y="3545640"/>
                  <a:ext cx="309240" cy="1173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 flipV="1" rot="6429000">
                  <a:off x="1114560" y="3514680"/>
                  <a:ext cx="309240" cy="1173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flipV="1" rot="6961200">
                  <a:off x="985680" y="3471840"/>
                  <a:ext cx="309240" cy="1173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"/>
          <p:cNvSpPr/>
          <p:nvPr/>
        </p:nvSpPr>
        <p:spPr>
          <a:xfrm>
            <a:off x="4140360" y="2565360"/>
            <a:ext cx="3425760" cy="60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емина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356000" y="836640"/>
            <a:ext cx="3425760" cy="60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суль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51280" y="4292640"/>
            <a:ext cx="3425760" cy="60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астер-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5280" y="2708280"/>
            <a:ext cx="22320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трудничеств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едагог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16200000">
            <a:off x="2372400" y="1379880"/>
            <a:ext cx="1623960" cy="96840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16200000">
            <a:off x="3162960" y="2460960"/>
            <a:ext cx="314280" cy="109692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 rot="16200000">
            <a:off x="2372400" y="3756600"/>
            <a:ext cx="1623960" cy="96840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4000"/>
                            </p:stCondLst>
                            <p:childTnLst>
                              <p:par>
                                <p:cTn id="2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0"/>
                            </p:stCondLst>
                            <p:childTnLst>
                              <p:par>
                                <p:cTn id="2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6000"/>
                            </p:stCondLst>
                            <p:childTnLst>
                              <p:par>
                                <p:cTn id="28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rcRect l="0" t="0" r="0" b="14121"/>
          <a:stretch/>
        </p:blipFill>
        <p:spPr>
          <a:xfrm>
            <a:off x="395280" y="1528920"/>
            <a:ext cx="4262400" cy="2744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68360" y="260280"/>
            <a:ext cx="799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eorgia"/>
              </a:rPr>
              <a:t>Мастер - кла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rcRect l="0" t="3455" r="0" b="17184"/>
          <a:stretch/>
        </p:blipFill>
        <p:spPr>
          <a:xfrm>
            <a:off x="5083200" y="2421000"/>
            <a:ext cx="3673440" cy="38876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403280" y="4365720"/>
            <a:ext cx="3313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делаем снежинки для тан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 rot="5400000">
            <a:off x="2349000" y="2554200"/>
            <a:ext cx="4176720" cy="11732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395280" y="189000"/>
            <a:ext cx="3657600" cy="1007640"/>
            <a:chOff x="395280" y="189000"/>
            <a:chExt cx="3657600" cy="1007640"/>
          </a:xfrm>
        </p:grpSpPr>
        <p:sp>
          <p:nvSpPr>
            <p:cNvPr id="156" name=""/>
            <p:cNvSpPr/>
            <p:nvPr/>
          </p:nvSpPr>
          <p:spPr>
            <a:xfrm>
              <a:off x="395280" y="189000"/>
              <a:ext cx="3657600" cy="10076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2e2e8c"/>
                </a:gs>
                <a:gs pos="100000">
                  <a:srgbClr val="33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03920" y="220320"/>
              <a:ext cx="3643920" cy="931680"/>
              <a:chOff x="403920" y="220320"/>
              <a:chExt cx="3643920" cy="931680"/>
            </a:xfrm>
          </p:grpSpPr>
          <p:sp>
            <p:nvSpPr>
              <p:cNvPr id="158" name=""/>
              <p:cNvSpPr/>
              <p:nvPr/>
            </p:nvSpPr>
            <p:spPr>
              <a:xfrm>
                <a:off x="403920" y="910800"/>
                <a:ext cx="3643920" cy="241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33399">
                      <a:alpha val="0"/>
                    </a:srgbClr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03920" y="220320"/>
                <a:ext cx="3643920" cy="241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edeee"/>
                  </a:gs>
                  <a:gs pos="100000">
                    <a:srgbClr val="333399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0" name=""/>
          <p:cNvGrpSpPr/>
          <p:nvPr/>
        </p:nvGrpSpPr>
        <p:grpSpPr>
          <a:xfrm>
            <a:off x="395280" y="1341360"/>
            <a:ext cx="3657600" cy="1295280"/>
            <a:chOff x="395280" y="1341360"/>
            <a:chExt cx="3657600" cy="1295280"/>
          </a:xfrm>
        </p:grpSpPr>
        <p:sp>
          <p:nvSpPr>
            <p:cNvPr id="161" name=""/>
            <p:cNvSpPr/>
            <p:nvPr/>
          </p:nvSpPr>
          <p:spPr>
            <a:xfrm>
              <a:off x="395280" y="1341360"/>
              <a:ext cx="3657600" cy="129528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008c8c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403920" y="1381680"/>
              <a:ext cx="3643920" cy="1197360"/>
              <a:chOff x="403920" y="1381680"/>
              <a:chExt cx="3643920" cy="1197360"/>
            </a:xfrm>
          </p:grpSpPr>
          <p:sp>
            <p:nvSpPr>
              <p:cNvPr id="163" name=""/>
              <p:cNvSpPr/>
              <p:nvPr/>
            </p:nvSpPr>
            <p:spPr>
              <a:xfrm>
                <a:off x="403920" y="2269080"/>
                <a:ext cx="3643920" cy="3099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9999">
                      <a:alpha val="0"/>
                    </a:srgbClr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03920" y="1381680"/>
                <a:ext cx="3643920" cy="310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bde4e4"/>
                  </a:gs>
                  <a:gs pos="100000">
                    <a:srgbClr val="009999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5" name=""/>
          <p:cNvGrpSpPr/>
          <p:nvPr/>
        </p:nvGrpSpPr>
        <p:grpSpPr>
          <a:xfrm>
            <a:off x="468360" y="2781360"/>
            <a:ext cx="3657600" cy="863280"/>
            <a:chOff x="468360" y="2781360"/>
            <a:chExt cx="3657600" cy="863280"/>
          </a:xfrm>
        </p:grpSpPr>
        <p:sp>
          <p:nvSpPr>
            <p:cNvPr id="166" name=""/>
            <p:cNvSpPr/>
            <p:nvPr/>
          </p:nvSpPr>
          <p:spPr>
            <a:xfrm>
              <a:off x="468360" y="2781360"/>
              <a:ext cx="3657600" cy="86328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99cc00"/>
                </a:gs>
                <a:gs pos="50000">
                  <a:srgbClr val="8cbb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477000" y="2808000"/>
              <a:ext cx="3643920" cy="798120"/>
              <a:chOff x="477000" y="2808000"/>
              <a:chExt cx="3643920" cy="798120"/>
            </a:xfrm>
          </p:grpSpPr>
          <p:sp>
            <p:nvSpPr>
              <p:cNvPr id="168" name=""/>
              <p:cNvSpPr/>
              <p:nvPr/>
            </p:nvSpPr>
            <p:spPr>
              <a:xfrm>
                <a:off x="477000" y="3399480"/>
                <a:ext cx="3643920" cy="206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9cc00">
                      <a:alpha val="0"/>
                    </a:srgbClr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77000" y="2808000"/>
                <a:ext cx="3643920" cy="207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7f2c5"/>
                  </a:gs>
                  <a:gs pos="100000">
                    <a:srgbClr val="99cc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0" name=""/>
          <p:cNvSpPr/>
          <p:nvPr/>
        </p:nvSpPr>
        <p:spPr>
          <a:xfrm>
            <a:off x="468360" y="260280"/>
            <a:ext cx="33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нформационные стен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8360" y="1341360"/>
            <a:ext cx="33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ндивидуальные беседы, консульт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39640" y="2924280"/>
            <a:ext cx="35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нкетир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1916280"/>
            <a:ext cx="3395880" cy="2616120"/>
          </a:xfrm>
          <a:prstGeom prst="flowChartAlternateProcess">
            <a:avLst/>
          </a:prstGeom>
          <a:gradFill rotWithShape="0">
            <a:gsLst>
              <a:gs pos="0">
                <a:srgbClr val="e2e2e2"/>
              </a:gs>
              <a:gs pos="50000">
                <a:srgbClr val="ffffff"/>
              </a:gs>
              <a:gs pos="100000">
                <a:srgbClr val="e2e2e2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148360" y="2565360"/>
            <a:ext cx="323064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Взаимодействие родител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42620" t="64489" r="19467" b="0"/>
          <a:stretch/>
        </p:blipFill>
        <p:spPr>
          <a:xfrm>
            <a:off x="395280" y="2133720"/>
            <a:ext cx="576360" cy="6904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rcRect l="42620" t="64489" r="19467" b="0"/>
          <a:stretch/>
        </p:blipFill>
        <p:spPr>
          <a:xfrm>
            <a:off x="504720" y="4038480"/>
            <a:ext cx="576360" cy="690840"/>
          </a:xfrm>
          <a:prstGeom prst="rect">
            <a:avLst/>
          </a:prstGeom>
          <a:ln w="0">
            <a:noFill/>
          </a:ln>
        </p:spPr>
      </p:pic>
      <p:grpSp>
        <p:nvGrpSpPr>
          <p:cNvPr id="177" name=""/>
          <p:cNvGrpSpPr/>
          <p:nvPr/>
        </p:nvGrpSpPr>
        <p:grpSpPr>
          <a:xfrm>
            <a:off x="395280" y="3860640"/>
            <a:ext cx="3657600" cy="1296720"/>
            <a:chOff x="395280" y="3860640"/>
            <a:chExt cx="3657600" cy="1296720"/>
          </a:xfrm>
        </p:grpSpPr>
        <p:sp>
          <p:nvSpPr>
            <p:cNvPr id="178" name=""/>
            <p:cNvSpPr/>
            <p:nvPr/>
          </p:nvSpPr>
          <p:spPr>
            <a:xfrm>
              <a:off x="395280" y="3860640"/>
              <a:ext cx="3657600" cy="1296720"/>
            </a:xfrm>
            <a:prstGeom prst="roundRect">
              <a:avLst>
                <a:gd name="adj" fmla="val 17509"/>
              </a:avLst>
            </a:pr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403920" y="3900960"/>
              <a:ext cx="3643920" cy="1198440"/>
              <a:chOff x="403920" y="3900960"/>
              <a:chExt cx="3643920" cy="1198440"/>
            </a:xfrm>
          </p:grpSpPr>
          <p:sp>
            <p:nvSpPr>
              <p:cNvPr id="180" name=""/>
              <p:cNvSpPr/>
              <p:nvPr/>
            </p:nvSpPr>
            <p:spPr>
              <a:xfrm>
                <a:off x="403920" y="4789080"/>
                <a:ext cx="3643920" cy="310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9cc00">
                      <a:alpha val="0"/>
                    </a:srgbClr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03920" y="3900960"/>
                <a:ext cx="3643920" cy="311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7f2c5"/>
                  </a:gs>
                  <a:gs pos="100000">
                    <a:srgbClr val="99cc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2" name=""/>
          <p:cNvGrpSpPr/>
          <p:nvPr/>
        </p:nvGrpSpPr>
        <p:grpSpPr>
          <a:xfrm>
            <a:off x="468360" y="5373720"/>
            <a:ext cx="3657600" cy="934560"/>
            <a:chOff x="468360" y="5373720"/>
            <a:chExt cx="3657600" cy="934560"/>
          </a:xfrm>
        </p:grpSpPr>
        <p:sp>
          <p:nvSpPr>
            <p:cNvPr id="183" name=""/>
            <p:cNvSpPr/>
            <p:nvPr/>
          </p:nvSpPr>
          <p:spPr>
            <a:xfrm>
              <a:off x="468360" y="5373720"/>
              <a:ext cx="3657600" cy="934560"/>
            </a:xfrm>
            <a:prstGeom prst="roundRect">
              <a:avLst>
                <a:gd name="adj" fmla="val 17509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477000" y="5402520"/>
              <a:ext cx="3643920" cy="864000"/>
              <a:chOff x="477000" y="5402520"/>
              <a:chExt cx="3643920" cy="864000"/>
            </a:xfrm>
          </p:grpSpPr>
          <p:sp>
            <p:nvSpPr>
              <p:cNvPr id="185" name=""/>
              <p:cNvSpPr/>
              <p:nvPr/>
            </p:nvSpPr>
            <p:spPr>
              <a:xfrm>
                <a:off x="477000" y="6042960"/>
                <a:ext cx="3643920" cy="223560"/>
              </a:xfrm>
              <a:prstGeom prst="roundRect">
                <a:avLst>
                  <a:gd name="adj" fmla="val 5000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77000" y="5402520"/>
                <a:ext cx="3643920" cy="223920"/>
              </a:xfrm>
              <a:prstGeom prst="roundRect">
                <a:avLst>
                  <a:gd name="adj" fmla="val 5000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7" name=""/>
          <p:cNvSpPr/>
          <p:nvPr/>
        </p:nvSpPr>
        <p:spPr>
          <a:xfrm>
            <a:off x="468360" y="3860640"/>
            <a:ext cx="352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астие в педагогическом проце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68360" y="5373720"/>
            <a:ext cx="359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ыпуск газет, букле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3"/>
          <a:srcRect l="0" t="0" r="0" b="1298"/>
          <a:stretch/>
        </p:blipFill>
        <p:spPr>
          <a:xfrm>
            <a:off x="7596360" y="3687840"/>
            <a:ext cx="1330200" cy="31701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rcRect l="42620" t="64489" r="19467" b="0"/>
          <a:stretch/>
        </p:blipFill>
        <p:spPr>
          <a:xfrm>
            <a:off x="3564000" y="5734080"/>
            <a:ext cx="576360" cy="6904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5"/>
          <a:srcRect l="42620" t="64489" r="19467" b="0"/>
          <a:stretch/>
        </p:blipFill>
        <p:spPr>
          <a:xfrm>
            <a:off x="3419640" y="549360"/>
            <a:ext cx="576000" cy="6904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6"/>
          <a:srcRect l="42620" t="64489" r="19467" b="0"/>
          <a:stretch/>
        </p:blipFill>
        <p:spPr>
          <a:xfrm>
            <a:off x="324000" y="3860640"/>
            <a:ext cx="576000" cy="6908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3000"/>
                            </p:stCondLst>
                            <p:childTnLst>
                              <p:par>
                                <p:cTn id="3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4000"/>
                            </p:stCondLst>
                            <p:childTnLst>
                              <p:par>
                                <p:cTn id="3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0"/>
                            </p:stCondLst>
                            <p:childTnLst>
                              <p:par>
                                <p:cTn id="3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14:08:05Z</dcterms:created>
  <dc:creator>User</dc:creator>
  <dc:description/>
  <dc:language>en-US</dc:language>
  <cp:lastModifiedBy>yaros</cp:lastModifiedBy>
  <dcterms:modified xsi:type="dcterms:W3CDTF">2012-11-10T05:28:24Z</dcterms:modified>
  <cp:revision>289</cp:revision>
  <dc:subject/>
  <dc:title>Слайд 1</dc:title>
</cp:coreProperties>
</file>