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8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CFE5-ED05-4E72-8DB4-1242130165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50A9-8923-4345-916E-7DA506E932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9CB1-83D2-44C2-953C-A80A9EDDA8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7FD8-70AA-4304-8DD8-22FCBC861D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6AD2-86E8-4CCF-BEE1-6F262D1E28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D7D8-C169-4985-8C38-B7351B2648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0D72-C17D-45AD-B1E9-94E53868EA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4FE1-DD73-4601-BD0A-F6018D5737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A5F7-DFB8-4446-A3A6-BC10CDD09D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CD0E-756B-457D-8616-144801D849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F6EF-C4ED-4DA8-95E5-2A123220C1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5F3-2E21-4191-B3B6-5484C188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55CD-43FD-46CA-8C9B-492E7112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B6D3-E9F5-4D93-829B-F0A015E1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6A30-4837-410B-B209-5202888F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C831-1B63-41E4-ADA7-5045EE35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BAA3-9DCB-4165-8BBA-0DBB132A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BF62-6D99-488C-A606-459955BB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C076-6C7F-4E90-9310-6A62A82B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7ACC-7DEA-4292-B9C8-FFC0AD52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A904-A080-4284-B0D8-8E668B50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0B84-88D2-4DD2-9CCF-1EBE1446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2A24-44F5-46AF-8DD0-088A817B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C023-C737-4012-937B-06B28050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E4FC-4EAC-4C86-96C9-17FCC6CD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FE1B-3899-48E4-9D45-122FA23D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8DBC-C84A-4498-A053-2858E64C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EE8C-39D6-4764-B588-17954513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C0101-E2E7-48EC-B6DA-69B0111D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E68B8-3A84-4FCB-A08A-4CE34407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7F4D1-AF20-4726-9768-BDB1FE42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C133C-4B32-4E84-A2EF-E28CCE17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8AFBB-5CD9-464E-9E7D-98DDFBB1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780D-7804-4547-9100-B2C019F6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03332-C3D0-4E67-AEB1-86A63BBC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B93F8-0849-4628-81EC-C9E51873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94EB8-9075-4F6A-A2C9-A39D5B67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CF6AD-CA94-43BE-8012-8B48146D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0F1BF-09AE-4A18-A5B7-257EBF5C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C28E1-498E-452B-BB87-FEDBAE06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58C02-6739-4A66-AEE9-E6DB04FA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F27CC-9281-4E03-B442-0E1FCFEE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9DD1E-717F-4DE7-A4A5-8A9ABF46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A2630-77DC-44FB-96A2-403EC392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DEDC-3572-44BC-B004-1EB5C6FA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BB106-2195-4253-840E-1A40D596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C09D6-5EDF-4E00-B785-D04F4435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C1C98-A475-4646-8F3E-5A763AAE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22E6B-33D6-4117-B74A-AA737DDE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57B25-EC80-42A1-A733-E3BBDFCF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BCDBB-C254-41C2-9285-BA88C7B8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2AA41-1C5E-43A2-AE7F-459B320A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C3DA7-527E-4582-B19C-F9FA8DDF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A1729-5FDC-40A3-BD68-235DE8451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1855-1B75-469E-A6A3-23F4E280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326-ABCE-4B40-82EC-D139E01D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24A7-120A-4EAD-B4F9-847722B8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A662-9015-4DD5-8EF0-5FA92AB8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7975-F8D9-4E29-B7AF-7EF373F0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8133-3702-455D-9CCF-7CFA04BBE21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FAB9-6C45-4226-A075-F33C2F80099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A8DF-4F2C-4735-B49C-BE9E84A3C5A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2850-564E-4BB5-B559-2196D09D8F2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755640" y="92160"/>
            <a:ext cx="8285040" cy="2193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втор: ученик 3 Б класс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423 школы г.Кронштадт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Гараев Ники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4" descr="SandClock"/>
          <p:cNvPicPr/>
          <p:nvPr/>
        </p:nvPicPr>
        <p:blipFill>
          <a:blip r:embed="rId1"/>
          <a:stretch/>
        </p:blipFill>
        <p:spPr>
          <a:xfrm>
            <a:off x="5562720" y="1600200"/>
            <a:ext cx="3095640" cy="3809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xdewxq_cont"/>
          <p:cNvPicPr/>
          <p:nvPr/>
        </p:nvPicPr>
        <p:blipFill>
          <a:blip r:embed="rId2"/>
          <a:stretch/>
        </p:blipFill>
        <p:spPr>
          <a:xfrm>
            <a:off x="457200" y="2590920"/>
            <a:ext cx="35812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295280" y="231084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Picture 4" descr="0_e4125_b3a90608_XL"/>
          <p:cNvPicPr/>
          <p:nvPr/>
        </p:nvPicPr>
        <p:blipFill>
          <a:blip r:embed="rId2"/>
          <a:stretch/>
        </p:blipFill>
        <p:spPr>
          <a:xfrm>
            <a:off x="0" y="0"/>
            <a:ext cx="3733920" cy="3718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067720ae3aed928d660252bbda1"/>
          <p:cNvPicPr/>
          <p:nvPr/>
        </p:nvPicPr>
        <p:blipFill>
          <a:blip r:embed="rId3"/>
          <a:stretch/>
        </p:blipFill>
        <p:spPr>
          <a:xfrm>
            <a:off x="5791320" y="0"/>
            <a:ext cx="3352680" cy="3079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wait2"/>
          <p:cNvPicPr/>
          <p:nvPr/>
        </p:nvPicPr>
        <p:blipFill>
          <a:blip r:embed="rId4"/>
          <a:stretch/>
        </p:blipFill>
        <p:spPr>
          <a:xfrm>
            <a:off x="5257800" y="3276720"/>
            <a:ext cx="3886200" cy="3581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80015"/>
          <p:cNvPicPr/>
          <p:nvPr/>
        </p:nvPicPr>
        <p:blipFill>
          <a:blip r:embed="rId5"/>
          <a:stretch/>
        </p:blipFill>
        <p:spPr>
          <a:xfrm>
            <a:off x="0" y="3716280"/>
            <a:ext cx="56386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80015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314172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2"/>
          <p:cNvSpPr/>
          <p:nvPr/>
        </p:nvSpPr>
        <p:spPr>
          <a:xfrm>
            <a:off x="380880" y="3352680"/>
            <a:ext cx="8305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измерения небольших промежутков времени люди изобрели час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ачала появились солнечные час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работали только днё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 на этих часах показывала тень от стержня или пластин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ипетские солнечные часы состояли из двух сколоченных углом пластин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р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солнце только встава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 тени отмечали зарубкой на длинной план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италос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это 6 часов ут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 длину утренней тени делили на 6 одинаковых част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 которое тень перемещались от одной зарубки до друг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имали за 1 ча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лдень часы переворачивались другим конц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еперь тен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иваяс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ять шла по отметка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лось всего 12дневных часов-6 утренних и 6 вечер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304920" y="228600"/>
            <a:ext cx="284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появились ча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зже появились другие виды часов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торые могли показывать время и ночью: песочные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еханические и даже электронные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4" descr="SandClock"/>
          <p:cNvPicPr/>
          <p:nvPr/>
        </p:nvPicPr>
        <p:blipFill>
          <a:blip r:embed="rId1"/>
          <a:stretch/>
        </p:blipFill>
        <p:spPr>
          <a:xfrm>
            <a:off x="228600" y="3352680"/>
            <a:ext cx="2414520" cy="2971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1129"/>
          <p:cNvPicPr/>
          <p:nvPr/>
        </p:nvPicPr>
        <p:blipFill>
          <a:blip r:embed="rId2"/>
          <a:stretch/>
        </p:blipFill>
        <p:spPr>
          <a:xfrm>
            <a:off x="2971800" y="3200400"/>
            <a:ext cx="3295800" cy="3289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F:\часы\Orient-OT-CFP01001B7-E.jpg"/>
          <p:cNvPicPr/>
          <p:nvPr/>
        </p:nvPicPr>
        <p:blipFill>
          <a:blip r:embed="rId3"/>
          <a:stretch/>
        </p:blipFill>
        <p:spPr>
          <a:xfrm>
            <a:off x="6248520" y="3048120"/>
            <a:ext cx="2476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ручные часы своим появлением обязаны ювелиру из Парижа Ньютону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м в 1809-м году согласно заказу Жозефины (жены императора Наполеона1)были изготовлены два браслета из золота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оторые он украсил жемчугами и драгоценостями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один браслет был вмонтирован календарик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 в другой миниатюрные часики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о часы с браслетом не заинтересовали часовщиков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живых в то время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добным часам суждено было распростонятся во Франции лишь с 1850-го года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 их серийным производством занялись много позже- поночалу в Швецарии (в 1880-м году)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 потом в США и Англии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4" descr="067720ae3aed928d660252bbda1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гадки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) Мы когда стоим а стоять умеем лёжа даже если убежим мы не двигаемся тоже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) Ходят весь век а не человек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)На руке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стене и на башне в вышине ходят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одят ровным ходом от восхода до захода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)От этой части работают стрелки часов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1129"/>
          <p:cNvPicPr/>
          <p:nvPr/>
        </p:nvPicPr>
        <p:blipFill>
          <a:blip r:embed="rId1"/>
          <a:stretch/>
        </p:blipFill>
        <p:spPr>
          <a:xfrm>
            <a:off x="6153120" y="4633920"/>
            <a:ext cx="29908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асы бывают разные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4" descr="568-2"/>
          <p:cNvPicPr/>
          <p:nvPr/>
        </p:nvPicPr>
        <p:blipFill>
          <a:blip r:embed="rId1"/>
          <a:stretch/>
        </p:blipFill>
        <p:spPr>
          <a:xfrm>
            <a:off x="3886200" y="1600200"/>
            <a:ext cx="4762440" cy="3333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1129"/>
          <p:cNvPicPr/>
          <p:nvPr/>
        </p:nvPicPr>
        <p:blipFill>
          <a:blip r:embed="rId2"/>
          <a:stretch/>
        </p:blipFill>
        <p:spPr>
          <a:xfrm>
            <a:off x="457200" y="2819520"/>
            <a:ext cx="32958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4" descr="719_img2"/>
          <p:cNvPicPr/>
          <p:nvPr/>
        </p:nvPicPr>
        <p:blipFill>
          <a:blip r:embed="rId1"/>
          <a:stretch/>
        </p:blipFill>
        <p:spPr>
          <a:xfrm>
            <a:off x="4724280" y="380880"/>
            <a:ext cx="3567240" cy="5791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0_6edf2_bded615_XL"/>
          <p:cNvPicPr/>
          <p:nvPr/>
        </p:nvPicPr>
        <p:blipFill>
          <a:blip r:embed="rId2"/>
          <a:stretch/>
        </p:blipFill>
        <p:spPr>
          <a:xfrm>
            <a:off x="457200" y="1600200"/>
            <a:ext cx="3952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4" descr="Orient-OT-CFP01001B7-E"/>
          <p:cNvPicPr/>
          <p:nvPr/>
        </p:nvPicPr>
        <p:blipFill>
          <a:blip r:embed="rId1"/>
          <a:stretch/>
        </p:blipFill>
        <p:spPr>
          <a:xfrm>
            <a:off x="6172200" y="1600200"/>
            <a:ext cx="2476440" cy="4572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568-2"/>
          <p:cNvPicPr/>
          <p:nvPr/>
        </p:nvPicPr>
        <p:blipFill>
          <a:blip r:embed="rId2"/>
          <a:stretch/>
        </p:blipFill>
        <p:spPr>
          <a:xfrm>
            <a:off x="457200" y="1600200"/>
            <a:ext cx="4762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09:52:33Z</dcterms:created>
  <dc:creator>рок</dc:creator>
  <dc:description/>
  <dc:language>en-US</dc:language>
  <cp:lastModifiedBy>User</cp:lastModifiedBy>
  <dcterms:modified xsi:type="dcterms:W3CDTF">2012-02-09T06:57:2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