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8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06B6-B8ED-47C4-AA04-50E7E0BFFA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71C0-A268-4045-AF78-91392031E3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DCC0-29F3-4750-A7A3-3A7CF3CAC8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1E47-E0C6-44D7-8D07-C0D3A79EAE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ED52-E83D-4282-B681-F3447A4D2E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BDBA-B4EA-4598-818E-34B81519DA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0CD8-086F-44AA-9984-10BC1B297A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F76C-D762-4552-82CA-CA4BF27487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C9CD-6A23-425D-9FB5-D8171CACAA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262A-925D-4FA5-9F87-FC2AF400D7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06FB-079B-4E03-926B-63A6D00CB5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8166-8727-469E-9DDA-BF34D708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7B68-AC70-4BEF-AE38-421758EB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CE4C-F34B-414B-8F36-BB1AD9BC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055D-A7A6-4FFC-A663-E6C6B5F4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FC41-5769-4999-B7A3-0374D479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7594-4F0D-44A1-9658-E646C63A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5027-68E2-4DD2-83BD-3F70F08A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93CA-2C43-4D03-A1B6-227ECF48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9273-843B-4207-A07A-DFF1D6C4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26D4-B8FE-493F-8485-AF92D6BF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5A5A-1D62-486B-8481-511E0970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83E-07F0-4C7A-8D4F-14E04C4E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3C34-E19C-477E-A276-735CA26B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7210-16E1-4401-8011-7D106862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FFFA-D416-402F-AB25-B92CC016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94E7-D060-4D2E-B9FF-C45006A0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E954-A1C4-469C-8920-CA962F9B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2090D-BF86-4088-9DBC-76D73251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A5FFB-3F5B-4705-AC77-405F67E3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3A5DA-8BB5-423B-BC4D-0B98170F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4D38A-020E-4094-A9BF-8243E958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222DC-DBB2-4AA6-8C83-207AD311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3244-B9CA-4960-84F5-A9EC78EE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78735-3332-4C65-BE06-F31CC06B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69E75-651B-4DB9-8D69-7FFBAF7B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96F7C-6E6B-4B11-A047-C24680E8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9F9D1-674C-4C66-92BF-42B332C0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95484-2526-4883-AEDE-0475BB37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B7C76-A756-4868-BDB7-74F9B061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8D931-35F4-4E39-9829-B70C9B92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3A33D-44E0-4475-8EDC-90D2AC81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7A112-0242-4D22-B048-EFF6A965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CE87A-D90B-4EDB-A8FC-D7D166BC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2585-B5E0-4A6F-BEE0-6965A341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8A6E4-0328-49F0-8CC1-DD2F6134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94CF6-469F-43A4-A526-821BB533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5547D-3487-47B9-92DA-5C839295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86DA7-189A-4A10-8A05-106A04E4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4696E-0BC4-4867-9864-80351C85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5EDA7-D9C8-46E0-9D91-3C69AA3A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FEC80-732C-4100-B155-970502D1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B2B7F-A232-40A6-93F5-227A6D55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1DC85-F308-417C-8D3F-E8322742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14D8-F600-4394-BB3E-2815E699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F3EA-721A-4E49-A7EE-6565EC81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6A5D-AF3B-489C-8CE8-6147AD15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6FD7-7598-4805-A24C-6D8522BF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E8F0-9D86-4647-A433-61B9EEF2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9201-CA97-4EE4-A84F-06203ED189D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7A76-E625-48BD-9EB8-ACEBEC18EB1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5061-35E7-4F64-AAAC-58377023867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8511-95E7-426A-AF53-2C386C694FB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755640" y="92160"/>
            <a:ext cx="8285040" cy="2193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втор: ученик 3 Б класс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423 школы г.Кронштадт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Гараев Ники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4" descr="SandClock"/>
          <p:cNvPicPr/>
          <p:nvPr/>
        </p:nvPicPr>
        <p:blipFill>
          <a:blip r:embed="rId1"/>
          <a:stretch/>
        </p:blipFill>
        <p:spPr>
          <a:xfrm>
            <a:off x="5562720" y="1600200"/>
            <a:ext cx="3095640" cy="3809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xdewxq_cont"/>
          <p:cNvPicPr/>
          <p:nvPr/>
        </p:nvPicPr>
        <p:blipFill>
          <a:blip r:embed="rId2"/>
          <a:stretch/>
        </p:blipFill>
        <p:spPr>
          <a:xfrm>
            <a:off x="457200" y="2590920"/>
            <a:ext cx="35812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295280" y="231084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Picture 4" descr="0_e4125_b3a90608_XL"/>
          <p:cNvPicPr/>
          <p:nvPr/>
        </p:nvPicPr>
        <p:blipFill>
          <a:blip r:embed="rId2"/>
          <a:stretch/>
        </p:blipFill>
        <p:spPr>
          <a:xfrm>
            <a:off x="0" y="0"/>
            <a:ext cx="3733920" cy="3718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067720ae3aed928d660252bbda1"/>
          <p:cNvPicPr/>
          <p:nvPr/>
        </p:nvPicPr>
        <p:blipFill>
          <a:blip r:embed="rId3"/>
          <a:stretch/>
        </p:blipFill>
        <p:spPr>
          <a:xfrm>
            <a:off x="5791320" y="0"/>
            <a:ext cx="3352680" cy="3079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wait2"/>
          <p:cNvPicPr/>
          <p:nvPr/>
        </p:nvPicPr>
        <p:blipFill>
          <a:blip r:embed="rId4"/>
          <a:stretch/>
        </p:blipFill>
        <p:spPr>
          <a:xfrm>
            <a:off x="5257800" y="3276720"/>
            <a:ext cx="3886200" cy="3581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80015"/>
          <p:cNvPicPr/>
          <p:nvPr/>
        </p:nvPicPr>
        <p:blipFill>
          <a:blip r:embed="rId5"/>
          <a:stretch/>
        </p:blipFill>
        <p:spPr>
          <a:xfrm>
            <a:off x="0" y="3716280"/>
            <a:ext cx="56386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80015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314172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2"/>
          <p:cNvSpPr/>
          <p:nvPr/>
        </p:nvSpPr>
        <p:spPr>
          <a:xfrm>
            <a:off x="380880" y="3352680"/>
            <a:ext cx="8305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измерения небольших промежутков времени люди изобрели час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ачала появились солнечные час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работали только днё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 на этих часах показывала тень от стержня или пластин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ипетские солнечные часы состояли из двух сколоченных углом пластин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р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солнце только встава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 тени отмечали зарубкой на длинной план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италос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это 6 часов ут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 длину утренней тени делили на 6 одинаковых част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 которое тень перемещались от одной зарубки до друг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имали за 1 ча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лдень часы переворачивались другим конц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еперь тен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иваяс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ять шла по отметка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лось всего 12дневных часов-6 утренних и 6 вечер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304920" y="228600"/>
            <a:ext cx="284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появились ча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зже появились другие виды часов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торые могли показывать время и ночью: песочные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еханические и даже электронные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4" descr="SandClock"/>
          <p:cNvPicPr/>
          <p:nvPr/>
        </p:nvPicPr>
        <p:blipFill>
          <a:blip r:embed="rId1"/>
          <a:stretch/>
        </p:blipFill>
        <p:spPr>
          <a:xfrm>
            <a:off x="228600" y="3352680"/>
            <a:ext cx="2414520" cy="2971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1129"/>
          <p:cNvPicPr/>
          <p:nvPr/>
        </p:nvPicPr>
        <p:blipFill>
          <a:blip r:embed="rId2"/>
          <a:stretch/>
        </p:blipFill>
        <p:spPr>
          <a:xfrm>
            <a:off x="2971800" y="3200400"/>
            <a:ext cx="3295800" cy="3289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F:\часы\Orient-OT-CFP01001B7-E.jpg"/>
          <p:cNvPicPr/>
          <p:nvPr/>
        </p:nvPicPr>
        <p:blipFill>
          <a:blip r:embed="rId3"/>
          <a:stretch/>
        </p:blipFill>
        <p:spPr>
          <a:xfrm>
            <a:off x="6248520" y="3048120"/>
            <a:ext cx="2476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ручные часы своим появлением обязаны ювелиру из Парижа Ньютону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м в 1809-м году согласно заказу Жозефины (жены императора Наполеона1)были изготовлены два браслета из золота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оторые он украсил жемчугами и драгоценостями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один браслет был вмонтирован календарик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 в другой миниатюрные часики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о часы с браслетом не заинтересовали часовщиков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живых в то время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добным часам суждено было распростонятся во Франции лишь с 1850-го года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 их серийным производством занялись много позже- поночалу в Швецарии (в 1880-м году)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 потом в США и Англии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4" descr="067720ae3aed928d660252bbda1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гадки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) Мы когда стоим а стоять умеем лёжа даже если убежим мы не двигаемся тоже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) Ходят весь век а не человек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)На руке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стене и на башне в вышине ходят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одят ровным ходом от восхода до захода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)От этой части работают стрелки часов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1129"/>
          <p:cNvPicPr/>
          <p:nvPr/>
        </p:nvPicPr>
        <p:blipFill>
          <a:blip r:embed="rId1"/>
          <a:stretch/>
        </p:blipFill>
        <p:spPr>
          <a:xfrm>
            <a:off x="6153120" y="4633920"/>
            <a:ext cx="29908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асы бывают разные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4" descr="568-2"/>
          <p:cNvPicPr/>
          <p:nvPr/>
        </p:nvPicPr>
        <p:blipFill>
          <a:blip r:embed="rId1"/>
          <a:stretch/>
        </p:blipFill>
        <p:spPr>
          <a:xfrm>
            <a:off x="3886200" y="1600200"/>
            <a:ext cx="4762440" cy="3333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1129"/>
          <p:cNvPicPr/>
          <p:nvPr/>
        </p:nvPicPr>
        <p:blipFill>
          <a:blip r:embed="rId2"/>
          <a:stretch/>
        </p:blipFill>
        <p:spPr>
          <a:xfrm>
            <a:off x="457200" y="2819520"/>
            <a:ext cx="32958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4" descr="719_img2"/>
          <p:cNvPicPr/>
          <p:nvPr/>
        </p:nvPicPr>
        <p:blipFill>
          <a:blip r:embed="rId1"/>
          <a:stretch/>
        </p:blipFill>
        <p:spPr>
          <a:xfrm>
            <a:off x="4724280" y="380880"/>
            <a:ext cx="3567240" cy="5791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0_6edf2_bded615_XL"/>
          <p:cNvPicPr/>
          <p:nvPr/>
        </p:nvPicPr>
        <p:blipFill>
          <a:blip r:embed="rId2"/>
          <a:stretch/>
        </p:blipFill>
        <p:spPr>
          <a:xfrm>
            <a:off x="457200" y="1600200"/>
            <a:ext cx="3952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4" descr="Orient-OT-CFP01001B7-E"/>
          <p:cNvPicPr/>
          <p:nvPr/>
        </p:nvPicPr>
        <p:blipFill>
          <a:blip r:embed="rId1"/>
          <a:stretch/>
        </p:blipFill>
        <p:spPr>
          <a:xfrm>
            <a:off x="6172200" y="1600200"/>
            <a:ext cx="2476440" cy="4572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568-2"/>
          <p:cNvPicPr/>
          <p:nvPr/>
        </p:nvPicPr>
        <p:blipFill>
          <a:blip r:embed="rId2"/>
          <a:stretch/>
        </p:blipFill>
        <p:spPr>
          <a:xfrm>
            <a:off x="457200" y="1600200"/>
            <a:ext cx="4762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09:52:33Z</dcterms:created>
  <dc:creator>рок</dc:creator>
  <dc:description/>
  <dc:language>en-US</dc:language>
  <cp:lastModifiedBy>User</cp:lastModifiedBy>
  <dcterms:modified xsi:type="dcterms:W3CDTF">2012-02-09T06:57:2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