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2022-4094-448B-8FDB-82D60BEED4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3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B5B5-AB59-49FF-B645-949C61B0BB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7D9-5F7A-4BB7-9D7F-B6AB367E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98B-3D42-4E26-BD68-2C1CD338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59E-5753-4438-B40A-28B5AA3B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156-5B9A-4467-BA1B-94F9EF3C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0F7-9E0B-45A9-9F89-2592DB1B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EEA-5F55-4A3C-BB0C-8EE166E1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F64-2068-462D-AA0A-939FB891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F02-4FF9-4BF9-9688-B514D905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1F4-27C4-4434-B2D7-399925AF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FC3-191D-40E1-A9ED-41907266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6A0-04F1-4966-9443-E38F707D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F33-F664-4EDD-8994-0286CC41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1105-2983-408B-A665-AAC83E51B7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0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2"/>
          <p:cNvSpPr/>
          <p:nvPr/>
        </p:nvSpPr>
        <p:spPr>
          <a:xfrm>
            <a:off x="609480" y="517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17"/>
          <p:cNvSpPr/>
          <p:nvPr/>
        </p:nvSpPr>
        <p:spPr>
          <a:xfrm>
            <a:off x="857160" y="214200"/>
            <a:ext cx="8001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9080" y="357120"/>
            <a:ext cx="4129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11200" y="441360"/>
            <a:ext cx="74152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Модель  управления методической, психолого-педагогической помощи при аттестации педагогических кадров в ДО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2357280" y="2928960"/>
            <a:ext cx="4714920" cy="300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8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558200" cy="29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зируя результаты, можно отметить, что в коллективе сохраняется благоприятный социально психологический климат. Практика показала, что внедрение модели методического и психологического сопровождения педагогов в период аттестации создает условия веры педагога в себя, в свои силы, а это, в свою очередь, позволяет повысить качество образования и мастерство наших педагогов. За 2 года в учреждении прошли аттестацию 5 педагогов, 2педагога подтвердили свою квалификационную категорию и 3 педагога получили I квалификационную категор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Спасибо</a:t>
            </a:r>
            <a:r>
              <a:rPr b="1" lang="ru-RU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0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2"/>
          <p:cNvSpPr/>
          <p:nvPr/>
        </p:nvSpPr>
        <p:spPr>
          <a:xfrm>
            <a:off x="609480" y="517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857160" y="214200"/>
            <a:ext cx="8001000" cy="81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ПРИКАЗ МИНИСТЕРСТВА ОБРАЗОВАНИЯ И НАУКИ РФ ОТ 24 МАРТА 2010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N 209 "О ПОРЯДКЕ АТТЕСТАЦИИ ПЕДАГОГ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ГОСУДАРСТВЕННЫХ И МУНИЦИПАЛЬНЫХ ОБРАЗОВАТЕ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УЧРЕЖДЕНИЙ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тестация проводится  в целях установления  соответствия  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алификации  педагогических  работников  требованиям,    предъявляемым к квалификационным  категориям  (первой  или  высшей)  или    подтверждения соответствия педагогических  работников  занимаемым  ими должностям на основе оценки их профессиональной деятельности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0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4280" y="475920"/>
            <a:ext cx="73584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вете многочисленных инноваций последнего времени в сфере дошкольного образования (внедрение ФГТ, новая система оплаты труда, изменение формы аттестации педагогических работников и т.п.) воспитатели пребывают в состоянии дискомфорта, неуверенности, психологического напряжения, а иногда и просто депрессии, потому что функционал воспитателя существенно расшир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 нами встали вопросы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помочь педагогу подготовиться к этой важной, трудоемкой и ответственной процедуре АТТЕСТАЦИИ ? Какая система мероприятий будет наиболее эффективн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3276720" y="4611600"/>
            <a:ext cx="2374920" cy="169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9" descr="C:\Users\Юля\Pictures\Работа\картинк2\e13007a2d143[1].gif"/>
          <p:cNvPicPr/>
          <p:nvPr/>
        </p:nvPicPr>
        <p:blipFill>
          <a:blip r:embed="rId3"/>
          <a:stretch/>
        </p:blipFill>
        <p:spPr>
          <a:xfrm>
            <a:off x="6953400" y="5064120"/>
            <a:ext cx="1800000" cy="127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Прямоугольник 1"/>
          <p:cNvSpPr/>
          <p:nvPr/>
        </p:nvSpPr>
        <p:spPr>
          <a:xfrm>
            <a:off x="901800" y="47628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ка показывает, что к аттестации педагоги относятся по-разному. По данным опроса дошкольных работников ДОУ , среди положительных сторон аттестации они отмечают повышение оплаты труда, возможность проявления творческой инициативы, повышение профессиональной компетенции, продуктивности педагогического тру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разработали  модель взаимодействия администрации ДОУ,  педагога психолога и экспертной группы (в состав группы входят специалисты ДОУ, педагоги стажисты) с педагогами в «межаттестационный» период и во время аттес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Эта работа ведется в три этап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83664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дготовительный этап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артнерство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Заключительный этап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buClr>
                <a:srgbClr val="996633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Цель подготовительного этап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у педагога представлений о механизме прохождения аттестации с анализом и первичной диагностикой уровня развития собственной педагог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Цель этапа «Партнерство»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ть профессиональный рост и совершенствование                      мастерства педагога. Информирование педагогов о порядке проведения аттестации, правах и обязанностях аттестуемы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Цель заключительного этап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педагогической деятель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бщение педагогического опыта, подготовка документов, проектов, программ, статей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885080" y="5300640"/>
            <a:ext cx="1590840" cy="1731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0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 txBox="1"/>
          <p:nvPr/>
        </p:nvSpPr>
        <p:spPr>
          <a:xfrm>
            <a:off x="949320" y="404640"/>
            <a:ext cx="7943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мероприятий проводимых на данных этапах направлена на достижение педагогом цели своей деятельности в оптимальный срок и при оптимальных затрат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Лесенка профессионального мастерств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844640"/>
          <a:ext cx="7632720" cy="3679920"/>
        </p:xfrm>
        <a:graphic>
          <a:graphicData uri="http://schemas.openxmlformats.org/drawingml/2006/table">
            <a:tbl>
              <a:tblPr/>
              <a:tblGrid>
                <a:gridCol w="1440000"/>
                <a:gridCol w="1360440"/>
                <a:gridCol w="1611360"/>
                <a:gridCol w="3220920"/>
              </a:tblGrid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тель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ение личности и деятельности воспит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теоретических знаний воспит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.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Анкетирование.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Самоанализ педагогических зн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21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плана методической учебы педаго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тование банка нормативно-правовой базы аттестации и банка методических идей.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Оформление портфолио, документов необходимых педагогу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овышение профессионального мастерства.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102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личностных особенностей и профессионально значимых качеств воспит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требований квалификационных характеристик и их уточнение относительно заявленной категор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8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042920" y="404640"/>
          <a:ext cx="7632720" cy="604872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584360"/>
                <a:gridCol w="374328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30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артнерство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ить профессиональный рост и совершенствование мастер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 знаний основ педагогики и психолог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. — Консультации, занятия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Семинары.— Тренинги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Сообщения  — Мастер-клас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787400">
                <a:tc rowSpan="4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 rowSpan="4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го мастерства и психологической компетентности педаго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педагога о возможностях его профессионального роста.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резентация педагогического опыта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Курсы повышения квалификации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сихолого-педагогические семинары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Тренинги. — Консилиумы.— Методические объединения. — Написание статей — Посещение занятий психологом и методистом с последующим их обсуждением с педагог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101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условия, дающие воспитателю возможность проявить творчество, новатор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­-класс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Конкурсы профессионального мастерства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едагогические мастерские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Творческие проектные группы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Информирование о деятельности педагога в ДО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82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и профессионально значимых качеств педаго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 личностного роста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Индивидуальные консуль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101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авыков эффективного взаимодействия с детьми, родителями; и коллегами по рабо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Индивидуально - консультативная помощь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Коммуникативные тренинги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Групповые формы организации досугов по интересам                                    — «Родительские клубы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005760" y="6095880"/>
          <a:ext cx="208080" cy="36540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40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2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116000" y="404640"/>
          <a:ext cx="7632720" cy="5951880"/>
        </p:xfrm>
        <a:graphic>
          <a:graphicData uri="http://schemas.openxmlformats.org/drawingml/2006/table">
            <a:tbl>
              <a:tblPr/>
              <a:tblGrid>
                <a:gridCol w="1152360"/>
                <a:gridCol w="1151280"/>
                <a:gridCol w="158400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артнерство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азание помощи в преодолении профессиональных и личностных пробл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у педагогов интереса к практической психолог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 лекций, консультаций, бесед о практической психологии, имеющих увлекательный характер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Организация занятий, дающих практический опыт психологической самопомощ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595160"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стерео типизации профессиональной деятельности, формирование способности                                            к восприятию нов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евая игра.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  Психогимнастика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Чтение литературы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едагогические игры,  Педагогические Ситуац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101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ая поддержка и помощь педагогу в разрешении профессиональных пробл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дискуссия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Чтение литературы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Разбор педагогических ситуаций                                          — Занятия по ИК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84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я скрытых психологиче­ских ресурсов педагога, обеспечивающих самостоятельное решение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рофессионального роста и совершенствование мастерства педагога по всем показателям его деятельности 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Внесение поправок и устранение недочетов.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Методическая помощь в написании статей, программ, проек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0"/>
          <p:cNvGraphicFramePr/>
          <p:nvPr/>
        </p:nvGraphicFramePr>
        <p:xfrm>
          <a:off x="0" y="4680"/>
          <a:ext cx="914400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5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71640" y="836640"/>
          <a:ext cx="7632720" cy="3564000"/>
        </p:xfrm>
        <a:graphic>
          <a:graphicData uri="http://schemas.openxmlformats.org/drawingml/2006/table">
            <a:tbl>
              <a:tblPr/>
              <a:tblGrid>
                <a:gridCol w="2016000"/>
                <a:gridCol w="1728720"/>
                <a:gridCol w="1584360"/>
                <a:gridCol w="230364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т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итель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gridSpan="2"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документов, проектов, статей, программ,  приложений, результатов анкетир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личного опыта  педагога (показ открытых занятий, мастер – классов, решение педагогических ситуаций, экзамен по ИК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ение листа самооцен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уровня научно-методической культуры педагог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естация педагогов ДОУ в КЦОКО Забайкальского кр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777</cp:lastModifiedBy>
  <cp:lastPrinted>2012-08-27T11:21:21Z</cp:lastPrinted>
  <dcterms:modified xsi:type="dcterms:W3CDTF">2012-11-10T11:08:39Z</dcterms:modified>
  <cp:revision>120</cp:revision>
  <dc:subject/>
  <dc:title>Заголовок слайда отсутствует</dc:title>
</cp:coreProperties>
</file>