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1EF0A-0C0C-48A6-ADB5-694071994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AB54F-E47B-47F9-80F0-9B1EF055B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20085-449F-4FBC-A32E-8FB0CFE34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EF145-BF8E-4CA9-BEC9-D5C28EE7E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C92DF-63EF-4054-82A1-0FE6F24DB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39E6A-8341-43B8-9BDC-35A21310A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0BCD8-B7A5-4426-A134-BC0B57AD9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97ABF-456C-423E-9D2E-84B0A716C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F5315-5EA0-4A8B-808B-ED5F6F46C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13CD4-002F-470A-9A93-DBD57E39C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18569-C79F-473B-8A41-D37D89FFE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15623-C432-4846-9829-721A41C3E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23AD1-670D-4548-B332-206D024FD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0F325-625B-4FE1-8DE8-09F7E883A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91E4A-2078-48E6-BE95-7394C49BF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1ADDB-3896-40CA-A481-E9941D7BA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5C719-5D89-4F22-8B9A-ECDC5A775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5D139-3BCD-4838-91B7-0C744895A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CCB18-F2D2-4ECD-A5F8-B4EF09927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134DB-D175-40FA-8EBF-158CE289A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DCF5E-8FC2-4184-9A5F-F2625B9CF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2FB2F-CD7C-401C-8784-CFFBCA0D0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2EC39-44BB-4F5A-8124-5419886E7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01F27-F53F-402C-A720-4E1C1706C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B3790-8705-4F42-BDD8-56C2B3C2539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C3904-DBCA-48B5-87C7-C03E7777122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Особенности составления ОРУ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НА 1,2,3 ЭТАПАХ ОБУЧЕНИЯ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 ЧЕМ РАЗНИЦ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493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685800" y="1828800"/>
            <a:ext cx="7696080" cy="17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marL="240120" indent="-2401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На 3-й стадии ребенок овладевает навыком. Его движения становятся экономичными, свободными, точными и раскованными. Ребенок осознает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двигательную задачу, творчески использует движение в игровой и жизненных ситуациях.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                  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3719520"/>
            <a:ext cx="7696080" cy="17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200"/>
                </a:solidFill>
                <a:latin typeface="Comic Sans MS"/>
              </a:rPr>
              <a:t>                              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blinds dir="horz"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Методы обучения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86" name="Diagram 4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</p:spTree>
  </p:cSld>
  <p:transition spd="med">
    <p:diamond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6870600" cy="5329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0" lang="ru-RU" sz="3600" spc="-1" strike="noStrike">
                <a:solidFill>
                  <a:srgbClr val="ff33cc"/>
                </a:solidFill>
                <a:latin typeface="Comic Sans MS"/>
              </a:rPr>
              <a:t>1-й – первоначальное разучивание</a:t>
            </a:r>
            <a:br>
              <a:rPr sz="3600"/>
            </a:b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Словесный: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объяснение, подача команд, сигналы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Наглядный:</a:t>
            </a:r>
            <a:br>
              <a:rPr sz="2800"/>
            </a:b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оказ, имитация, предметная наглядность, непосредственная помощь воспитателя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Практический: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овтор упражнений без изменений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88" name="Diagram 4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grpSp>
        <p:nvGrpSpPr>
          <p:cNvPr id="189" name="Diagram 8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</p:spTree>
  </p:cSld>
  <p:transition spd="med">
    <p:cover dir="ru"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33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cc"/>
                </a:solidFill>
                <a:latin typeface="Comic Sans MS"/>
              </a:rPr>
              <a:t>2-й – углубленное разучивание</a:t>
            </a: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412640"/>
            <a:ext cx="769608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Словесный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объяснение, пояснения, указания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Наглядный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оказ, использование наглядных пособий, имитация, зрительные ориентиры, предметная наглядность, наглядно-слуховые приемы, непосредственная помощь воспитателя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Практический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овторение упражнений без изменений, проведение упражнений в игровой форме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1000"/>
                            </p:stCondLst>
                            <p:childTnLst>
                              <p:par>
                                <p:cTn id="17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3000"/>
                            </p:stCondLst>
                            <p:childTnLst>
                              <p:par>
                                <p:cTn id="19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4000"/>
                            </p:stCondLst>
                            <p:childTnLst>
                              <p:par>
                                <p:cTn id="19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5000"/>
                            </p:stCondLst>
                            <p:childTnLst>
                              <p:par>
                                <p:cTn id="2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6000"/>
                            </p:stCondLst>
                            <p:childTnLst>
                              <p:par>
                                <p:cTn id="21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26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cc00"/>
                </a:solidFill>
                <a:latin typeface="Comic Sans MS"/>
              </a:rPr>
              <a:t>3-й – закрепление навыка и совершенствовании техники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341360"/>
            <a:ext cx="769608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Словесный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одача команд, распряжений, сигналов, вопросы к детям, образный сюжетный рассказ, беседа, словесная инструкция, считалки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Наглядный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имитация, зрительные ориентиры, предметная наглядность, наглядно-слуховые приемы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Практический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овторение упражнений с изменениями и  без изменений, проведение упражнений в игровой форме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cover dir="rd"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0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2750"/>
                            </p:stCondLst>
                            <p:childTnLst>
                              <p:par>
                                <p:cTn id="22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30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30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5750"/>
                            </p:stCondLst>
                            <p:childTnLst>
                              <p:par>
                                <p:cTn id="23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30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30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8750"/>
                            </p:stCondLst>
                            <p:childTnLst>
                              <p:par>
                                <p:cTn id="23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30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30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11750"/>
                            </p:stCondLst>
                            <p:childTnLst>
                              <p:par>
                                <p:cTn id="24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30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30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14750"/>
                            </p:stCondLst>
                            <p:childTnLst>
                              <p:par>
                                <p:cTn id="24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3000" fill="hold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3000" fill="hold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17750"/>
                            </p:stCondLst>
                            <p:childTnLst>
                              <p:par>
                                <p:cTn id="25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3000" fill="hold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3000" fill="hold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10260000" cy="7550280"/>
          </a:xfrm>
          <a:prstGeom prst="rect">
            <a:avLst/>
          </a:prstGeom>
          <a:ln w="0">
            <a:noFill/>
          </a:ln>
        </p:spPr>
      </p:pic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600" spc="-1" strike="noStrike">
                <a:solidFill>
                  <a:srgbClr val="006666"/>
                </a:solidFill>
                <a:latin typeface="Comic Sans MS"/>
              </a:rPr>
              <a:t>ЦЕЛЬ </a:t>
            </a:r>
            <a:br>
              <a:rPr sz="6600"/>
            </a:br>
            <a:r>
              <a:rPr b="0" i="1" lang="ru-RU" sz="6600" spc="-1" strike="noStrike">
                <a:solidFill>
                  <a:srgbClr val="006666"/>
                </a:solidFill>
                <a:latin typeface="Comic Sans MS"/>
              </a:rPr>
              <a:t>           (ЗАДАЧИ)</a:t>
            </a:r>
            <a:br>
              <a:rPr sz="6600"/>
            </a:br>
            <a:br>
              <a:rPr sz="6600"/>
            </a:br>
            <a:br>
              <a:rPr sz="6600"/>
            </a:b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50560" y="1828800"/>
            <a:ext cx="9289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990099"/>
                </a:solidFill>
                <a:latin typeface="Comic Sans MS"/>
              </a:rPr>
              <a:t>Если хочешь быть здоров – занимайся, закаляйся 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990099"/>
                </a:solidFill>
                <a:latin typeface="Comic Sans MS"/>
              </a:rPr>
              <a:t>Если хочешь быть</a:t>
            </a:r>
            <a:r>
              <a:rPr b="1" lang="ru-RU" sz="5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5400" spc="-1" strike="noStrike">
                <a:solidFill>
                  <a:srgbClr val="ff0000"/>
                </a:solidFill>
                <a:latin typeface="Comic Sans MS"/>
              </a:rPr>
              <a:t>ЗДОРОВ! 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wheel spokes="8"/>
  </p:transition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0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8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69" dur="20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0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71" dur="20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17" descr=""/>
          <p:cNvPicPr/>
          <p:nvPr/>
        </p:nvPicPr>
        <p:blipFill>
          <a:blip r:embed="rId1"/>
          <a:stretch/>
        </p:blipFill>
        <p:spPr>
          <a:xfrm>
            <a:off x="0" y="0"/>
            <a:ext cx="11430000" cy="7858080"/>
          </a:xfrm>
          <a:prstGeom prst="rect">
            <a:avLst/>
          </a:prstGeom>
          <a:ln w="0">
            <a:noFill/>
          </a:ln>
        </p:spPr>
      </p:pic>
      <p:grpSp>
        <p:nvGrpSpPr>
          <p:cNvPr id="154" name="Organization Chart 7"/>
          <p:cNvGrpSpPr/>
          <p:nvPr/>
        </p:nvGrpSpPr>
        <p:grpSpPr>
          <a:xfrm>
            <a:off x="0" y="189000"/>
            <a:ext cx="9143280" cy="6667200"/>
            <a:chOff x="0" y="189000"/>
            <a:chExt cx="9143280" cy="6667200"/>
          </a:xfrm>
        </p:grpSpPr>
        <p:cxnSp>
          <p:nvCxnSpPr>
            <p:cNvPr id="155" name="_s1028"/>
            <p:cNvCxnSpPr>
              <a:stCxn id="156" idx="0"/>
              <a:endCxn id="157" idx="2"/>
            </p:cNvCxnSpPr>
            <p:nvPr/>
          </p:nvCxnSpPr>
          <p:spPr>
            <a:xfrm flipV="1" rot="16200000">
              <a:off x="5504400" y="1922040"/>
              <a:ext cx="1334160" cy="3200760"/>
            </a:xfrm>
            <a:prstGeom prst="bentConnector3">
              <a:avLst>
                <a:gd name="adj1" fmla="val 1279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8" name="_s1029"/>
            <p:cNvCxnSpPr>
              <a:stCxn id="159" idx="0"/>
              <a:endCxn id="157" idx="2"/>
            </p:cNvCxnSpPr>
            <p:nvPr/>
          </p:nvCxnSpPr>
          <p:spPr>
            <a:xfrm flipV="1">
              <a:off x="4571280" y="2855520"/>
              <a:ext cx="3960" cy="13341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0" name="_s1030"/>
            <p:cNvCxnSpPr>
              <a:stCxn id="161" idx="0"/>
              <a:endCxn id="157" idx="2"/>
            </p:cNvCxnSpPr>
            <p:nvPr/>
          </p:nvCxnSpPr>
          <p:spPr>
            <a:xfrm flipH="1" flipV="1" rot="5400000">
              <a:off x="2304000" y="1922040"/>
              <a:ext cx="1334160" cy="3200760"/>
            </a:xfrm>
            <a:prstGeom prst="bentConnector3">
              <a:avLst>
                <a:gd name="adj1" fmla="val 12793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57" name="_s1031"/>
            <p:cNvSpPr/>
            <p:nvPr/>
          </p:nvSpPr>
          <p:spPr>
            <a:xfrm>
              <a:off x="3200040" y="189000"/>
              <a:ext cx="2742840" cy="2666880"/>
            </a:xfrm>
            <a:prstGeom prst="roundRect">
              <a:avLst>
                <a:gd name="adj" fmla="val 16667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Этапы 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1" name="_s1032"/>
            <p:cNvSpPr/>
            <p:nvPr/>
          </p:nvSpPr>
          <p:spPr>
            <a:xfrm>
              <a:off x="0" y="4189320"/>
              <a:ext cx="2742840" cy="266688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ahoma"/>
                </a:rPr>
                <a:t>   </a:t>
              </a:r>
              <a:r>
                <a:rPr b="1" lang="ru-RU" sz="2400" spc="-1" strike="noStrike">
                  <a:solidFill>
                    <a:srgbClr val="000000"/>
                  </a:solidFill>
                  <a:latin typeface="Tahoma"/>
                </a:rPr>
                <a:t>1-й </a:t>
              </a:r>
              <a:r>
                <a:rPr b="0" lang="ru-RU" sz="2400" spc="-1" strike="noStrike">
                  <a:solidFill>
                    <a:srgbClr val="000000"/>
                  </a:solidFill>
                  <a:latin typeface="Tahoma"/>
                </a:rPr>
                <a:t>  </a:t>
              </a:r>
              <a:r>
                <a:rPr b="0" lang="ru-RU" sz="2400" spc="-1" strike="noStrike">
                  <a:solidFill>
                    <a:srgbClr val="0000ff"/>
                  </a:solidFill>
                  <a:latin typeface="Tahoma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ff"/>
                  </a:solidFill>
                  <a:latin typeface="Tahoma"/>
                </a:rPr>
                <a:t> 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 Unicode MS"/>
                </a:rPr>
                <a:t>первоначальное 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 Unicode MS"/>
                </a:rPr>
                <a:t>разучивание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I</a:t>
              </a:r>
              <a:r>
                <a:rPr b="1" lang="ru-RU" sz="2000" spc="-1" strike="noStrike">
                  <a:solidFill>
                    <a:srgbClr val="000000"/>
                  </a:solidFill>
                  <a:latin typeface="Tahoma"/>
                </a:rPr>
                <a:t> стадия</a:t>
              </a:r>
              <a:r>
                <a:rPr b="1" lang="ru-RU" sz="1200" spc="-1" strike="noStrike">
                  <a:solidFill>
                    <a:srgbClr val="000000"/>
                  </a:solidFill>
                  <a:latin typeface="Tahoma"/>
                </a:rPr>
                <a:t>.</a:t>
              </a:r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ahoma"/>
                </a:rPr>
                <a:t>(длительность этапа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ru-RU" sz="2000" spc="-1" strike="noStrike">
                  <a:solidFill>
                    <a:srgbClr val="000000"/>
                  </a:solidFill>
                  <a:latin typeface="Tahoma"/>
                </a:rPr>
                <a:t>1-3 занятия)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ahoma"/>
                </a:rPr>
                <a:t>иррадиация  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9" name="_s1033"/>
            <p:cNvSpPr/>
            <p:nvPr/>
          </p:nvSpPr>
          <p:spPr>
            <a:xfrm>
              <a:off x="3200040" y="4189320"/>
              <a:ext cx="2742840" cy="2666880"/>
            </a:xfrm>
            <a:prstGeom prst="roundRect">
              <a:avLst>
                <a:gd name="adj" fmla="val 16667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ahoma"/>
                </a:rPr>
                <a:t>2-й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 Unicode MS"/>
                </a:rPr>
                <a:t>углубленное 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 Unicode MS"/>
                </a:rPr>
                <a:t>разучивание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II</a:t>
              </a: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 стадия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длительность этапа 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3-6 занятий)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специализация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6" name="_s1034"/>
            <p:cNvSpPr/>
            <p:nvPr/>
          </p:nvSpPr>
          <p:spPr>
            <a:xfrm>
              <a:off x="6400440" y="4189320"/>
              <a:ext cx="2742840" cy="26668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c9fcb"/>
                </a:gs>
                <a:gs pos="100000">
                  <a:srgbClr val="f8b049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ahoma"/>
                </a:rPr>
                <a:t>3-й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 Unicode MS"/>
                </a:rPr>
                <a:t>закрепление навыка и 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 Unicode MS"/>
                </a:rPr>
                <a:t>совершенствовании 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 Unicode MS"/>
                </a:rPr>
                <a:t>техники</a:t>
              </a:r>
              <a:r>
                <a:rPr b="1" lang="ru-RU" sz="1600" spc="-1" strike="noStrike">
                  <a:solidFill>
                    <a:srgbClr val="000000"/>
                  </a:solidFill>
                  <a:latin typeface="Arial Unicode MS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Unicode MS"/>
                </a:rPr>
                <a:t>III</a:t>
              </a:r>
              <a:r>
                <a:rPr b="1" lang="ru-RU" sz="2000" spc="-1" strike="noStrike">
                  <a:solidFill>
                    <a:srgbClr val="000000"/>
                  </a:solidFill>
                  <a:latin typeface="Arial Unicode MS"/>
                </a:rPr>
                <a:t> стадия</a:t>
              </a:r>
              <a:r>
                <a:rPr b="1" lang="ru-RU" sz="1600" spc="-1" strike="noStrike">
                  <a:solidFill>
                    <a:srgbClr val="000000"/>
                  </a:solidFill>
                  <a:latin typeface="Arial Unicode MS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 Unicode MS"/>
                </a:rPr>
                <a:t>(длительность этапа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 Unicode MS"/>
                </a:rPr>
                <a:t> </a:t>
              </a:r>
              <a:r>
                <a:rPr b="1" lang="ru-RU" sz="1600" spc="-1" strike="noStrike">
                  <a:solidFill>
                    <a:srgbClr val="000000"/>
                  </a:solidFill>
                  <a:latin typeface="Arial Unicode MS"/>
                </a:rPr>
                <a:t>10 и более занятий)</a:t>
              </a:r>
              <a:r>
                <a:rPr b="0" lang="ru-RU" sz="1600" spc="-1" strike="noStrike">
                  <a:solidFill>
                    <a:srgbClr val="000000"/>
                  </a:solidFill>
                  <a:latin typeface="Arial Unicode MS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 Unicode MS"/>
                </a:rPr>
                <a:t>Стабилизация 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 Unicode MS"/>
                </a:rPr>
                <a:t>условно-рефлекторного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 Unicode MS"/>
                </a:rPr>
                <a:t>акта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cover dir="d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65" name="Diagram 18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sp>
        <p:nvSpPr>
          <p:cNvPr id="166" name="Rectangle 30"/>
          <p:cNvSpPr/>
          <p:nvPr/>
        </p:nvSpPr>
        <p:spPr>
          <a:xfrm>
            <a:off x="2286000" y="1557360"/>
            <a:ext cx="4572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ff33"/>
                </a:solidFill>
                <a:latin typeface="Comic Sans MS"/>
              </a:rPr>
              <a:t>     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ff33"/>
                </a:solidFill>
                <a:latin typeface="Comic Sans MS"/>
              </a:rPr>
              <a:t>      </a:t>
            </a:r>
            <a:r>
              <a:rPr b="1" lang="ru-RU" sz="4000" spc="-1" strike="noStrike">
                <a:solidFill>
                  <a:srgbClr val="0000cc"/>
                </a:solidFill>
                <a:latin typeface="Comic Sans MS"/>
              </a:rPr>
              <a:t>ЦЕЛЬ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Comic Sans MS"/>
              </a:rPr>
              <a:t>   </a:t>
            </a:r>
            <a:r>
              <a:rPr b="1" lang="ru-RU" sz="4000" spc="-1" strike="noStrike">
                <a:solidFill>
                  <a:srgbClr val="ff0000"/>
                </a:solidFill>
                <a:latin typeface="Comic Sans MS"/>
              </a:rPr>
              <a:t>(ЗАДАЧИ)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ff33"/>
                </a:solidFill>
                <a:latin typeface="Comic Sans MS"/>
              </a:rPr>
              <a:t>                      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strips dir="ld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" dur="20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2000"/>
                            </p:stCondLst>
                            <p:childTnLst>
                              <p:par>
                                <p:cTn id="4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" dur="2000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1-й этап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ff"/>
                </a:solidFill>
                <a:latin typeface="Comic Sans MS"/>
              </a:rPr>
              <a:t>Дать общие представления об общеразвивающих упражнениях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ff"/>
                </a:solidFill>
                <a:latin typeface="Comic Sans MS"/>
              </a:rPr>
              <a:t>Сформировать умение выполнять общеразвивающие упражнения в общих чертах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comb dir="horz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33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2-й этап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557360"/>
            <a:ext cx="769608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Comic Sans MS"/>
              </a:rPr>
              <a:t>Дать представление о каждом элементе техники общеразвивающего упражнения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Comic Sans MS"/>
              </a:rPr>
              <a:t>Сформировать умение выполнять каждый элемент техники общеразвивающего упражнения и общеразвивающего упражнения в целом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zoom dir="out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3-й этап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cc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cc00"/>
                </a:solidFill>
                <a:latin typeface="Comic Sans MS"/>
              </a:rPr>
              <a:t>Закрепление и совершенствование навыка общеразвивающего упражнения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799"/>
              </a:spcBef>
              <a:buClr>
                <a:srgbClr val="00cc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cc00"/>
                </a:solidFill>
                <a:latin typeface="Comic Sans MS"/>
              </a:rPr>
              <a:t>Сформировать умение применять это  общеразвивающее упражнение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cc00"/>
                </a:solidFill>
                <a:latin typeface="Comic Sans MS"/>
              </a:rPr>
              <a:t>   </a:t>
            </a:r>
            <a:r>
              <a:rPr b="0" lang="ru-RU" sz="3200" spc="-1" strike="noStrike">
                <a:solidFill>
                  <a:srgbClr val="00cc00"/>
                </a:solidFill>
                <a:latin typeface="Comic Sans MS"/>
              </a:rPr>
              <a:t>в различных условиях и ситуациях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comb dir="vert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75" name="Diagram 4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sp>
        <p:nvSpPr>
          <p:cNvPr id="176" name="Rectangle 6"/>
          <p:cNvSpPr/>
          <p:nvPr/>
        </p:nvSpPr>
        <p:spPr>
          <a:xfrm>
            <a:off x="2286000" y="1557360"/>
            <a:ext cx="457200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ff33"/>
                </a:solidFill>
                <a:latin typeface="Comic Sans MS"/>
              </a:rPr>
              <a:t>     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ru-RU" sz="4000" spc="-1" strike="noStrike">
                <a:solidFill>
                  <a:srgbClr val="703dff"/>
                </a:solidFill>
                <a:latin typeface="Comic Sans MS"/>
              </a:rPr>
              <a:t>Особенности     воспроизведения   движений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ff33"/>
                </a:solidFill>
                <a:latin typeface="Comic Sans MS"/>
              </a:rPr>
              <a:t>     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Comic Sans MS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ff33"/>
                </a:solidFill>
                <a:latin typeface="Comic Sans MS"/>
              </a:rPr>
              <a:t>                      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randomBar dir="horz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907920"/>
            <a:ext cx="7696080" cy="457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Для 1-ой стадии характерно широкое иррадирование процесса возбуждения и недостаточное внутреннее торможение при ознакомлении ребенка с новым движением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Ребенок испытывает неуверенность, у него появляются лишние движения, неточность их воспроизведения в пространстве и времени, напряженность мускулатуры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checker dir="vert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5000"/>
                            </p:stCondLst>
                            <p:childTnLst>
                              <p:par>
                                <p:cTn id="11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Образование двигательного навыка на 2-й стадии происходит волнообразно. Ребенок то легко выполняет двигательные действия, то, по прошествии времени, как будто впервые выполняет его. Постепенно происходит уточнение и совершенствование двигательного умения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cover dir="ru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3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3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22T15:35:18Z</dcterms:created>
  <dc:creator>Вова</dc:creator>
  <dc:description/>
  <dc:language>en-US</dc:language>
  <cp:lastModifiedBy>pofig</cp:lastModifiedBy>
  <dcterms:modified xsi:type="dcterms:W3CDTF">2012-11-10T18:20:16Z</dcterms:modified>
  <cp:revision>5</cp:revision>
  <dc:subject/>
  <dc:title>Особенности составления ОРУ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9</vt:r8>
  </property>
</Properties>
</file>