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B210-8256-49F0-8B26-D5D4C0D1F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ая деятельность воспитателя с детьми по обучению детей грамоте и развитию речи( старший возра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Согласный звук С ,буква С.Определение места звука в трех позициях. Составление слов из слогов. Составление ска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заня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 вами снова попадаем в страну « АБВГДейка» и ждут нас там интересные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« Найди слова с буквой « С» и определи , где эта буква в начале, середине или в конце слова. ИГРА « Назови слова»( в кругу с мяч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УКВА «С» ПОХОЖА НА БАНАН , НА ХАМЕЛИОНА, НА ИЗОГНУВШИЙСЯ ЦВЕТОК, НА МЕСЯЦ, ……Давайте её пропишем сначала в воздухе, потом в тетра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ление небольшой сказки с этими героями. Выслушиваем 3-4 реб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перво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о , согласные. Назовите согласные, которые вы уже знае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мы познакомимся с новым звуком «С» и буквой  С  , которая обозначает этот зву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ГАДАЙТЕ ЗАГАД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ни. Где слышится звук « С»  В середине, в начале или конце сло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ющая зага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О, ЭТО ПОРОСЕНОК .ЗАГАДАЙТЕ ТЕПЕРЬ ВЫ РЕБЯТА ЗАГАДКУ.( дети загадыва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 Кто больше составит слов из слог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2A6-DF14-4D9A-921B-40E89CD4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4A5-3779-48FD-BA93-24BCFAE5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E90-00A3-4EC4-BCE6-D60CC007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307-42C1-4E56-9A53-7BF638CF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1A2A-7AD5-4FCB-8697-8F830768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41E-86A9-4E1A-AA73-06817093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BB1C-FCEF-4F2C-9093-2E0E9381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43C-32A1-41F1-9E51-64B1DA5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A40-3897-4791-BC39-BF76BF2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A732-CCBE-4AC0-A84A-5253AE4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ECA8-0FA3-4B62-9021-8F681CE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053-F829-4310-9519-048F6DF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B59-C9C7-4F5C-B558-C0C2384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B55-FEBF-4583-8089-5A94FE1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DD1-FABC-4D75-938B-F9EAD35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92C8-DB2D-4F7D-A67F-9A48BAD3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C357-A97F-403B-AEF3-FB1D7584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4B3-44F7-4399-95E1-5CB81EF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44E-D968-43F3-A599-612CE5A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CEC-0B51-40CC-9AFB-8E7C907C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F27-F197-42B4-948F-F933143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D7B-7AE3-4D03-A607-E299F53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117-E981-41C1-9150-DE66E54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E07-DBEF-4A78-BFD1-17175867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20F-0AD2-49A0-A0F1-E2E7376039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D3C-8C93-49D9-9111-C6F70D9BFF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04000" cy="4465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55640" y="476280"/>
            <a:ext cx="77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АБВГДЕ й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НАЙДИ СЛОВА С БУКВОЙ «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ЦЕ  СЕЛО  ЗА  СЕЛ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ЯТ  СИНИЦЫ,  СОЙКИ  СПЯТ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ИТ  В  РЕКЕ   УСТАЛЫЙ   С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ЯТ  И  ЛЕС  И  СТЕПЬ  И  САД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ДО  СПИТ ,ПАСТУХ  И  ПЁС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ОЛКЛИ  СКРИПЫ, ПЕСНИ, СМЕХ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Н  В  СТРАНУ  СВОЮ  УНЁС  ВСЕ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17b3"/>
                </a:solidFill>
                <a:latin typeface="Comic Sans MS"/>
              </a:rPr>
              <a:t>НА ЧТО ПОХОЖА БУКВА «С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94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924200" y="3645000"/>
            <a:ext cx="2071440" cy="26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19640" y="3645000"/>
            <a:ext cx="284184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Составь сказку с этими героя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71448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2874960" cy="374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732720" y="2637000"/>
            <a:ext cx="1942920" cy="29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сть звуки , которые можно пропеть. Какие это зву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696440" cy="423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Comic Sans MS"/>
              </a:rPr>
              <a:t>А О Ы Э У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Comic Sans MS"/>
              </a:rPr>
              <a:t>Я Ё И  Е Ю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6872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ются звуки, которые произносятся при помощи губ, зубов, язык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6000" y="1196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- песенка насос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Губы в улыбке, зубы видны. Кончик языка спрятался за зубы. Какая струйка воздуха выходит изо рта- теплая или холодная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Горло – домик голоса. Звук произносится глухо и называется глухим согласным звуком. Может произносится твердо и мяг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68720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катаюсь на нем до вечерней зари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о ленивый мой конь возит только с гор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 на горку всегда сам пешком я хож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коня своего за веревку вож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1483920"/>
            <a:ext cx="651348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место хвостика – крючок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место носа- пятачок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ятачок дырявый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 крючок вертлявы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76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э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97160" y="723960"/>
            <a:ext cx="6349680" cy="5410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19280" y="549360"/>
          <a:ext cx="6095880" cy="5630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d17b3"/>
                          </a:solidFill>
                          <a:latin typeface="Georgia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cd17b3"/>
                          </a:solidFill>
                          <a:latin typeface="Georgia"/>
                        </a:rPr>
                        <a:t>С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Н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С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В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4800" spc="-1" strike="noStrike">
                          <a:solidFill>
                            <a:srgbClr val="00b200"/>
                          </a:solidFill>
                          <a:latin typeface="Arial"/>
                        </a:rPr>
                        <a:t>Ш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Л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5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7:06:44Z</dcterms:created>
  <dc:creator>User</dc:creator>
  <dc:description/>
  <dc:language>en-US</dc:language>
  <cp:lastModifiedBy>User</cp:lastModifiedBy>
  <dcterms:modified xsi:type="dcterms:W3CDTF">2011-12-09T07:35:01Z</dcterms:modified>
  <cp:revision>6</cp:revision>
  <dc:subject/>
  <dc:title>Слайд 1</dc:title>
</cp:coreProperties>
</file>