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C7C-AAD8-4EF9-9EBD-D3AC6C712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ая деятельность воспитателя с детьми по обучению детей грамоте и развитию речи( старший возра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Согласный звук С ,буква С.Определение места звука в трех позициях. Составление слов из слогов. Составление ска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заня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 вами снова попадаем в страну « АБВГДейка» и ждут нас там интересные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« Найди слова с буквой « С» и определи , где эта буква в начале, середине или в конце слова. ИГРА « Назови слова»( в кругу с мяч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УКВА «С» ПОХОЖА НА БАНАН , НА ХАМЕЛИОНА, НА ИЗОГНУВШИЙСЯ ЦВЕТОК, НА МЕСЯЦ, ……Давайте её пропишем сначала в воздухе, потом в тетра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ление небольшой сказки с этими героями. Выслушиваем 3-4 реб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перво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ьно , согласные. Назовите согласные, которые вы уже знае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годня мы познакомимся с новым звуком «С» и буквой  С  , которая обозначает этот зву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ГАДАЙТЕ ЗАГАД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ни. Где слышится звук « С»  В середине, в начале или конце сло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едующая зага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ЬНО, ЭТО ПОРОСЕНОК .ЗАГАДАЙТЕ ТЕПЕРЬ ВЫ РЕБЯТА ЗАГАДКУ.( дети загадыва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 Кто больше составит слов из слогов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CC4-9631-4F80-A0B0-A583ACB2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5B1-F9C2-441B-9B48-2F6E2DA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2B9-C047-45BC-BE9F-D270503D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542-C526-4FC6-A1E4-02E2AE53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0070-BD52-4C5E-9009-123156DF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7507-9D8E-4FAD-BC77-F5DF04B3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369F-AF92-44E1-96D3-6E619CC7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3594-62AE-4C7F-BEA3-2F460934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6E2-9CB1-43F8-A0BC-E35D6F4A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E9C9-A6E3-4365-B9E1-69A1E46C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18D1-B6E5-41FA-BE70-60777629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528-C0F6-442B-9904-75D8149B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75B-7012-4499-82ED-B757123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0C80-62F2-490A-93B3-0AC683C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409-49F6-4F04-9CB5-8ED27DF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540B-428C-4976-82D4-2F5A11C1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4CFF-51D3-4385-9682-5C24BCFD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24D-3106-47E5-BD53-F63EC93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324-FC44-4A93-B4A7-08569109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3F4-F44D-4BBC-9148-94EF51B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7A7-9760-45BA-9529-C3E4DF6C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5D5-DB86-4378-9028-3C16100E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D24-DE32-453B-8923-21A309D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E3B-D9EB-4DEF-8D6B-453509DF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04F-FFB5-46FE-B60C-0AAEF898F3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5CE-FCF3-4124-B95B-EFC3E19F4A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704000" cy="4465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755640" y="476280"/>
            <a:ext cx="77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а АБВГДЕ й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НАЙДИ СЛОВА С БУКВОЙ «С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ЦЕ  СЕЛО  ЗА  СЕЛО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ЯТ  СИНИЦЫ,  СОЙКИ  СПЯТ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ИТ  В  РЕКЕ   УСТАЛЫЙ   СО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ЯТ  И  ЛЕС  И  СТЕПЬ  И  САД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ДО  СПИТ ,ПАСТУХ  И  ПЁС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ОЛКЛИ  СКРИПЫ, ПЕСНИ, СМЕХ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Н  В  СТРАНУ  СВОЮ  УНЁС  ВСЕ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17b3"/>
                </a:solidFill>
                <a:latin typeface="Comic Sans MS"/>
              </a:rPr>
              <a:t>НА ЧТО ПОХОЖА БУКВА «С»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294012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924200" y="3645000"/>
            <a:ext cx="2071440" cy="2663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19640" y="3645000"/>
            <a:ext cx="2841840" cy="266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Comic Sans MS"/>
              </a:rPr>
              <a:t>Составь сказку с этими героям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71448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2874960" cy="374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732720" y="2637000"/>
            <a:ext cx="1942920" cy="290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Есть звуки , которые можно пропеть. Какие это зву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696440" cy="423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Comic Sans MS"/>
              </a:rPr>
              <a:t>А О Ы Э У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Comic Sans MS"/>
              </a:rPr>
              <a:t>Я Ё И  Е Ю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152280"/>
            <a:ext cx="6872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 называются звуки, которые произносятся при помощи губ, зубов, язык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3095640" cy="230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56000" y="1196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- песенка насос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Губы в улыбке, зубы видны. Кончик языка спрятался за зубы. Какая струйка воздуха выходит изо рта- теплая или холодная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Горло – домик голоса. Звук произносится глухо и называется глухим согласным звуком. Может произносится твердо и мяг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68720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катаюсь на нем до вечерней зари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о ленивый мой конь возит только с гор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 на горку всегда сам пешком я хож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 коня своего за веревку вож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1483920"/>
            <a:ext cx="651348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место хвостика – крючок,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место носа- пятачок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ятачок дырявый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 крючок вертлявы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764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э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97160" y="723960"/>
            <a:ext cx="6349680" cy="5410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619280" y="549360"/>
          <a:ext cx="6095880" cy="5630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d17b3"/>
                          </a:solidFill>
                          <a:latin typeface="Georgia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cd17b3"/>
                          </a:solidFill>
                          <a:latin typeface="Georgia"/>
                        </a:rPr>
                        <a:t>С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Н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db092c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db092c"/>
                          </a:solidFill>
                          <a:latin typeface="Arial"/>
                        </a:rPr>
                        <a:t>С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db092c"/>
                          </a:solidFill>
                          <a:latin typeface="Arial"/>
                        </a:rPr>
                        <a:t>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703dff"/>
                          </a:solidFill>
                          <a:latin typeface="Arial"/>
                        </a:rPr>
                        <a:t>В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4800" spc="-1" strike="noStrike">
                          <a:solidFill>
                            <a:srgbClr val="00b200"/>
                          </a:solidFill>
                          <a:latin typeface="Arial"/>
                        </a:rPr>
                        <a:t>Ш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Л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5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5400" spc="-1" strike="noStrike">
                          <a:solidFill>
                            <a:srgbClr val="00ccff"/>
                          </a:solidFill>
                          <a:latin typeface="Arial"/>
                        </a:rPr>
                        <a:t>Н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9900ff"/>
                          </a:solidFill>
                          <a:latin typeface="Arial"/>
                        </a:rPr>
                        <a:t>М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7:06:44Z</dcterms:created>
  <dc:creator>User</dc:creator>
  <dc:description/>
  <dc:language>en-US</dc:language>
  <cp:lastModifiedBy>User</cp:lastModifiedBy>
  <dcterms:modified xsi:type="dcterms:W3CDTF">2011-12-09T07:35:01Z</dcterms:modified>
  <cp:revision>6</cp:revision>
  <dc:subject/>
  <dc:title>Слайд 1</dc:title>
</cp:coreProperties>
</file>