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0FE-67B3-4C13-9618-979B5137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BEC-BEC2-49A9-ABC8-DBE4946F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3C9-45A0-43B7-8275-C675B07C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F8D-B566-4822-8F49-00F7834F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CBFB-7766-4A12-BDA3-6C6818A3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8F72-E5C3-449D-A776-C2D85534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A2E6-F82C-49CE-8AFB-C1405627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62A9-BE48-4842-9771-2AAC8CF6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0623-B164-44F3-8139-78EE1804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58BF-5A51-4882-8CD7-21B8E350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EE08-72BD-4CF7-B4B2-6C883B92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302-3915-4AFD-9092-A4BDA73B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89BF-FBB7-4BD8-AB1A-9B8FFFFF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3A0B-523C-48B3-9E50-1F2F8070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137D-306A-452C-A2D3-57E43E5F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104E-3B8F-4319-99D9-5488984A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F1B8-2448-4F7F-A810-5BF3D1A7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49D-49A9-4AFE-B31F-889D81DF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EE7-6379-4BA3-8520-18D9FBF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D43-2D79-46F2-8544-613684E4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D99-84A7-4AAE-89C7-D73FE746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B99-AC13-4F53-9FFC-B8278ACE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DF1-FE33-46DB-87FC-18FF498F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7E2-2741-4CD2-A142-CB86AB9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F17D-98C9-4B59-AC29-6850475E136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BB37-7615-4D51-AA41-2D8CA104D9E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2401920" y="609480"/>
            <a:ext cx="6504120" cy="2541600"/>
          </a:xfrm>
          <a:prstGeom prst="rect">
            <a:avLst/>
          </a:prstGeom>
          <a:ln w="0">
            <a:noFill/>
          </a:ln>
        </p:spPr>
      </p:pic>
      <p:pic>
        <p:nvPicPr>
          <p:cNvPr id="96" name="Объект 4" descr=""/>
          <p:cNvPicPr/>
          <p:nvPr/>
        </p:nvPicPr>
        <p:blipFill>
          <a:blip r:embed="rId2"/>
          <a:stretch/>
        </p:blipFill>
        <p:spPr>
          <a:xfrm>
            <a:off x="457200" y="1932120"/>
            <a:ext cx="8229600" cy="4395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1\Desktop\к проекту 2012 на конкурс\logo.png"/>
          <p:cNvPicPr/>
          <p:nvPr/>
        </p:nvPicPr>
        <p:blipFill>
          <a:blip r:embed="rId3"/>
          <a:stretch/>
        </p:blipFill>
        <p:spPr>
          <a:xfrm>
            <a:off x="324000" y="549360"/>
            <a:ext cx="20160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1" name="Picture 2" descr="F:\профилактика и правовое воспитание с 2009\профилактика ПАВ 2011-на конкурс\наркопрофилактика\IMG_0001.jpg"/>
          <p:cNvPicPr/>
          <p:nvPr/>
        </p:nvPicPr>
        <p:blipFill>
          <a:blip r:embed="rId1"/>
          <a:srcRect l="11627" t="5810" r="17155" b="3105"/>
          <a:stretch/>
        </p:blipFill>
        <p:spPr>
          <a:xfrm>
            <a:off x="214200" y="142920"/>
            <a:ext cx="3500640" cy="335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профилактика и правовое воспитание с 2009\профилактика ПАВ 2011-на конкурс\наркопрофилактика\IMG_0003.jpg"/>
          <p:cNvPicPr/>
          <p:nvPr/>
        </p:nvPicPr>
        <p:blipFill>
          <a:blip r:embed="rId2"/>
          <a:srcRect l="0" t="8170" r="0" b="0"/>
          <a:stretch/>
        </p:blipFill>
        <p:spPr>
          <a:xfrm>
            <a:off x="3857760" y="0"/>
            <a:ext cx="3422520" cy="235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6251400" y="3967200"/>
            <a:ext cx="2892600" cy="28908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C:\Users\'kmljhflj\Desktop\рабочие документы с 2009-2011\ФО и СМ работа\акция 2010\к акции.jpg"/>
          <p:cNvPicPr/>
          <p:nvPr/>
        </p:nvPicPr>
        <p:blipFill>
          <a:blip r:embed="rId4"/>
          <a:srcRect l="10197" t="15837" r="11618" b="10502"/>
          <a:stretch/>
        </p:blipFill>
        <p:spPr>
          <a:xfrm>
            <a:off x="2928960" y="2928960"/>
            <a:ext cx="3143160" cy="3714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P1020674"/>
          <p:cNvPicPr/>
          <p:nvPr/>
        </p:nvPicPr>
        <p:blipFill>
          <a:blip r:embed="rId5"/>
          <a:stretch/>
        </p:blipFill>
        <p:spPr>
          <a:xfrm>
            <a:off x="0" y="400068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IMG_0008"/>
          <p:cNvPicPr/>
          <p:nvPr/>
        </p:nvPicPr>
        <p:blipFill>
          <a:blip r:embed="rId6"/>
          <a:stretch/>
        </p:blipFill>
        <p:spPr>
          <a:xfrm>
            <a:off x="5572080" y="1643040"/>
            <a:ext cx="32115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4" descr="9496da8e17b8"/>
          <p:cNvPicPr/>
          <p:nvPr/>
        </p:nvPicPr>
        <p:blipFill>
          <a:blip r:embed="rId1"/>
          <a:stretch/>
        </p:blipFill>
        <p:spPr>
          <a:xfrm>
            <a:off x="-77760" y="-127080"/>
            <a:ext cx="93139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" name="Picture 4" descr="fe52efa24803f916bd"/>
          <p:cNvPicPr/>
          <p:nvPr/>
        </p:nvPicPr>
        <p:blipFill>
          <a:blip r:embed="rId1"/>
          <a:stretch/>
        </p:blipFill>
        <p:spPr>
          <a:xfrm>
            <a:off x="-150840" y="-114480"/>
            <a:ext cx="9294840" cy="6972480"/>
          </a:xfrm>
          <a:prstGeom prst="rect">
            <a:avLst/>
          </a:prstGeom>
          <a:ln w="0">
            <a:noFill/>
          </a:ln>
        </p:spPr>
      </p:pic>
      <p:pic>
        <p:nvPicPr>
          <p:cNvPr id="142" name="WordArt 7" descr=""/>
          <p:cNvPicPr/>
          <p:nvPr/>
        </p:nvPicPr>
        <p:blipFill>
          <a:blip r:embed="rId2"/>
          <a:stretch/>
        </p:blipFill>
        <p:spPr>
          <a:xfrm>
            <a:off x="-23760" y="212760"/>
            <a:ext cx="92041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9" name="Рисунок 3" descr="1971mad.jpg"/>
          <p:cNvPicPr/>
          <p:nvPr/>
        </p:nvPicPr>
        <p:blipFill>
          <a:blip r:embed="rId1"/>
          <a:srcRect l="7349" t="0" r="6868" b="9601"/>
          <a:stretch/>
        </p:blipFill>
        <p:spPr>
          <a:xfrm>
            <a:off x="6215040" y="0"/>
            <a:ext cx="2500200" cy="385776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pic>
        <p:nvPicPr>
          <p:cNvPr id="100" name="Рисунок 4" descr="Fo5udXy5l8hLU93xBLbNUbHrVbM97dWO.jpg"/>
          <p:cNvPicPr/>
          <p:nvPr/>
        </p:nvPicPr>
        <p:blipFill>
          <a:blip r:embed="rId2"/>
          <a:srcRect l="27502" t="0" r="0" b="0"/>
          <a:stretch/>
        </p:blipFill>
        <p:spPr>
          <a:xfrm>
            <a:off x="214200" y="3602160"/>
            <a:ext cx="3197160" cy="325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вонючие бычки "/>
          <p:cNvPicPr/>
          <p:nvPr/>
        </p:nvPicPr>
        <p:blipFill>
          <a:blip r:embed="rId3"/>
          <a:stretch/>
        </p:blipFill>
        <p:spPr>
          <a:xfrm>
            <a:off x="6326280" y="4214880"/>
            <a:ext cx="2817720" cy="212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24900"/>
          <p:cNvPicPr/>
          <p:nvPr/>
        </p:nvPicPr>
        <p:blipFill>
          <a:blip r:embed="rId4"/>
          <a:stretch/>
        </p:blipFill>
        <p:spPr>
          <a:xfrm>
            <a:off x="3500280" y="3402000"/>
            <a:ext cx="3097440" cy="34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1222"/>
          <p:cNvPicPr/>
          <p:nvPr/>
        </p:nvPicPr>
        <p:blipFill>
          <a:blip r:embed="rId5"/>
          <a:stretch/>
        </p:blipFill>
        <p:spPr>
          <a:xfrm>
            <a:off x="3000240" y="0"/>
            <a:ext cx="2592360" cy="3529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нарко"/>
          <p:cNvPicPr/>
          <p:nvPr/>
        </p:nvPicPr>
        <p:blipFill>
          <a:blip r:embed="rId6"/>
          <a:stretch/>
        </p:blipFill>
        <p:spPr>
          <a:xfrm>
            <a:off x="214200" y="0"/>
            <a:ext cx="2425680" cy="335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Алексей\Desktop\e4eb0de566be4ab58f920554ab26e736.jpg"/>
          <p:cNvPicPr/>
          <p:nvPr/>
        </p:nvPicPr>
        <p:blipFill>
          <a:blip r:embed="rId7"/>
          <a:stretch/>
        </p:blipFill>
        <p:spPr>
          <a:xfrm>
            <a:off x="4443480" y="1268280"/>
            <a:ext cx="430992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зультаты  исследований  асоциальных явлений среди старшеклассник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0" y="1357200"/>
            <a:ext cx="89298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4" descr="будуще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Цели    проект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2" name="Объект 2"/>
          <p:cNvGrpSpPr/>
          <p:nvPr/>
        </p:nvGrpSpPr>
        <p:grpSpPr>
          <a:xfrm>
            <a:off x="152280" y="1109520"/>
            <a:ext cx="9021960" cy="5619960"/>
            <a:chOff x="152280" y="1109520"/>
            <a:chExt cx="9021960" cy="5619960"/>
          </a:xfrm>
        </p:grpSpPr>
        <p:pic>
          <p:nvPicPr>
            <p:cNvPr id="113" name="Объект 2" descr=""/>
            <p:cNvPicPr/>
            <p:nvPr/>
          </p:nvPicPr>
          <p:blipFill>
            <a:blip r:embed="rId1"/>
            <a:stretch/>
          </p:blipFill>
          <p:spPr>
            <a:xfrm>
              <a:off x="152280" y="1109520"/>
              <a:ext cx="9021960" cy="561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85840" y="1143000"/>
              <a:ext cx="86439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изменение ценностного отношения детей и подростков к психоактивным веществам, формирование личной ответственности за свое поведение, обуславливающие снижения спроса на ПАВ в молодежной популяции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сдерживание вовлечения подростков в  употребление ПАВ  за счет пропаганды здорового образа жизни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 </a:t>
              </a: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формирование антиалкогольной, антитабакозависимой, антинаркотической  установки и профилактической работы, осуществляемой специалистами школы и   волонтерской группой, членами детского школьного общественного объединения «Свежий ветер»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чи   проект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6" name="Объект 2"/>
          <p:cNvGrpSpPr/>
          <p:nvPr/>
        </p:nvGrpSpPr>
        <p:grpSpPr>
          <a:xfrm>
            <a:off x="92160" y="895320"/>
            <a:ext cx="8905680" cy="5780160"/>
            <a:chOff x="92160" y="895320"/>
            <a:chExt cx="8905680" cy="5780160"/>
          </a:xfrm>
        </p:grpSpPr>
        <p:pic>
          <p:nvPicPr>
            <p:cNvPr id="117" name="Объект 2" descr=""/>
            <p:cNvPicPr/>
            <p:nvPr/>
          </p:nvPicPr>
          <p:blipFill>
            <a:blip r:embed="rId1"/>
            <a:stretch/>
          </p:blipFill>
          <p:spPr>
            <a:xfrm>
              <a:off x="92160" y="895320"/>
              <a:ext cx="8905680" cy="57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14200" y="1000080"/>
              <a:ext cx="8715600" cy="55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onstantia"/>
                </a:rPr>
                <a:t>Развивать  у подростков навыки  стойкого противостояния к употреблению ПА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Формировать гражданско-правовое  самосознания участников проекта и контингента учащихся, охваченного услугами проек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030a0"/>
                  </a:solidFill>
                  <a:latin typeface="Constantia"/>
                </a:rPr>
                <a:t>Привлечь внимание общественности к проблеме профилактики ПАВ среди подростков и молодёжи посел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onstantia"/>
                </a:rPr>
                <a:t>Развивать  у участников проекта сознательного отношения к проблеме  употребления ПАВ, навыков совместной   творческой деятель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onstantia"/>
                </a:rPr>
                <a:t>Расширять  информированность  подростков о пагубном  влиянии употребления ПА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onstantia"/>
                </a:rPr>
                <a:t>Формировать  устойчивую   тенденцию  к ведению здорового образа жизн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Calibri"/>
              </a:rPr>
              <a:t>Основные этапы и сроки реализации проекта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480" y="1935000"/>
            <a:ext cx="86439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рок реализации проекта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– 1,5 года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, состоит из 3-х этапов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1 этап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  2012 год - подготовительны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 этап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2012-2013  учебный год - организационны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3 этап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– 2013- 2014 учебный год - заключительны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alibri"/>
              </a:rPr>
              <a:t>План   реализации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Овал 3"/>
          <p:cNvSpPr/>
          <p:nvPr/>
        </p:nvSpPr>
        <p:spPr>
          <a:xfrm>
            <a:off x="142920" y="1357200"/>
            <a:ext cx="3786120" cy="26434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1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Создание волонтерск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891400" y="1662480"/>
            <a:ext cx="2576160" cy="1818720"/>
          </a:xfrm>
          <a:prstGeom prst="rect">
            <a:avLst/>
          </a:prstGeom>
          <a:solidFill>
            <a:srgbClr val="d60093"/>
          </a:solidFill>
          <a:ln w="25560">
            <a:solidFill>
              <a:srgbClr val="085091"/>
            </a:solidFill>
            <a:miter/>
          </a:ln>
        </p:spPr>
        <p:txBody>
          <a:bodyPr anchor="ctr">
            <a:normAutofit fontScale="92000"/>
          </a:bodyPr>
          <a:p>
            <a:pPr marL="250920" indent="-2509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2 бло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nstantia"/>
              </a:rPr>
              <a:t>Разработка методически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Овал 5"/>
          <p:cNvSpPr/>
          <p:nvPr/>
        </p:nvSpPr>
        <p:spPr>
          <a:xfrm>
            <a:off x="2500200" y="3929040"/>
            <a:ext cx="4143600" cy="2714760"/>
          </a:xfrm>
          <a:prstGeom prst="ellipse">
            <a:avLst/>
          </a:prstGeom>
          <a:solidFill>
            <a:srgbClr val="7e963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3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ыступления в социу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войная стрелка влево/вправо 6"/>
          <p:cNvSpPr/>
          <p:nvPr/>
        </p:nvSpPr>
        <p:spPr>
          <a:xfrm>
            <a:off x="4000680" y="2286000"/>
            <a:ext cx="1357200" cy="785880"/>
          </a:xfrm>
          <a:prstGeom prst="left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гнутая влево стрелка 9"/>
          <p:cNvSpPr/>
          <p:nvPr/>
        </p:nvSpPr>
        <p:spPr>
          <a:xfrm>
            <a:off x="1428840" y="4143240"/>
            <a:ext cx="1000080" cy="150048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281160 h 1500480"/>
              <a:gd name="textAreaBottom" fmla="*/ 1094040 h 150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гнутая вправо стрелка 10"/>
          <p:cNvSpPr/>
          <p:nvPr/>
        </p:nvSpPr>
        <p:spPr>
          <a:xfrm>
            <a:off x="6715080" y="4071960"/>
            <a:ext cx="1071720" cy="150012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274320 h 1500120"/>
              <a:gd name="textAreaBottom" fmla="*/ 10918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3288197"/>
                <a:lnTo>
                  <a:pt x="5400" y="21349"/>
                </a:lnTo>
                <a:lnTo>
                  <a:pt x="0" y="17743"/>
                </a:lnTo>
                <a:lnTo>
                  <a:pt x="5400" y="13635"/>
                </a:lnTo>
                <a:lnTo>
                  <a:pt x="5400" y="15563"/>
                </a:lnTo>
                <a:arcTo wR="21600" hR="7907" stAng="3288197" swAng="-2972512"/>
                <a:lnTo>
                  <a:pt x="20947" y="9836"/>
                </a:lnTo>
                <a:arcTo wR="21600" hR="7907" stAng="-315685" swAng="-5084315"/>
                <a:close/>
              </a:path>
              <a:path fill="darkenLess"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-315685"/>
                <a:lnTo>
                  <a:pt x="20947" y="9836"/>
                </a:lnTo>
                <a:arcTo wR="21600" hR="7907" stAng="-315685" swAng="-5084315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едполагаемые  конечные результаты, их социальная значимость и экономическая целесообразность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71468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о завершению проекта  ожидае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меньшение факторов риска злоупотребления  ПАВ  несовершеннолетни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силение личностных ресурсов, препятствующих развитию саморазрушающих форм повед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личие навыков противодействия  негативной   среде, решения жизненных проблем, поиска, восприятия, оказания социальной поддержки в сложных жизненных ситуация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величение мотивации к ЗОЖ и учебе, улучшение отношений с родителями и сверстниками, планы на дальнейшее развитие своей индивидуальности с исключением употребления ПА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8:05:12Z</dcterms:created>
  <dc:creator>User</dc:creator>
  <dc:description/>
  <dc:language>en-US</dc:language>
  <cp:lastModifiedBy>User</cp:lastModifiedBy>
  <dcterms:modified xsi:type="dcterms:W3CDTF">2012-03-19T07:37:19Z</dcterms:modified>
  <cp:revision>20</cp:revision>
  <dc:subject/>
  <dc:title>Презентация PowerPoint</dc:title>
</cp:coreProperties>
</file>