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980-3803-4188-9488-9688B8BB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F4D-FBCC-4B3E-A6EB-57C73338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89B-1CCF-4DB6-8790-A16C5855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E3D-B430-4563-A2BA-468FB234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70C9-3687-4C19-B3A7-B8680024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BA52-4F24-4657-9FFA-7CA7B0B1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359D-6942-49CA-86A3-A2A733BB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D21F-46E0-4E4D-864A-E0C6BB59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ED48-5137-4808-A1CD-58F9D991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4C07-DDF9-4BEF-AF20-DBE9F322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2F12-ED43-4875-98E2-93E3389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7DE-1DE5-4595-96DD-7A79528E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D819-CD91-4029-B03B-7DFC405D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F897-FCE5-4AC5-950E-9AB3F708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888F-E5A5-410E-B835-4A814F0E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4999-7AB9-4D0C-9CD4-E80E3942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758-1A94-4FBC-B40C-8A759167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E43-526B-4C98-A0BE-0BEBF631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059-4196-4C41-BC15-677D0FC4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950-9FFE-4B0F-B149-588EA086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ED7-0568-41AA-A92A-97247CE2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E71-DCC9-4620-BBF9-20ADB477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23F-1287-4841-B94E-972F1DF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5F3-F983-459B-BB5A-B109AE69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D521-5574-451A-A4AF-247E959E9C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5C43-4000-4513-9028-5C07A42153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bezh.ru/im/satroefoto/sport2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Муниципальная общеобразовательная гимназия №4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г. Лыткарин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физической куль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ысенко Светлана Александ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7-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446200" y="419040"/>
            <a:ext cx="36640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0800000">
            <a:off x="1331640" y="691920"/>
            <a:ext cx="5940360" cy="5729040"/>
          </a:xfrm>
          <a:custGeom>
            <a:avLst/>
            <a:gdLst>
              <a:gd name="textAreaLeft" fmla="*/ 1067760 w 5940360"/>
              <a:gd name="textAreaRight" fmla="*/ 4872600 w 5940360"/>
              <a:gd name="textAreaTop" fmla="*/ 1029600 h 5729040"/>
              <a:gd name="textAreaBottom" fmla="*/ 4699440 h 572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61" y="21600"/>
                </a:lnTo>
                <a:lnTo>
                  <a:pt x="3839" y="21600"/>
                </a:lnTo>
                <a:close/>
              </a:path>
            </a:pathLst>
          </a:cu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2823840" y="1196640"/>
            <a:ext cx="2909880" cy="4078440"/>
          </a:xfrm>
          <a:custGeom>
            <a:avLst/>
            <a:gdLst>
              <a:gd name="textAreaLeft" fmla="*/ 583560 w 2909880"/>
              <a:gd name="textAreaRight" fmla="*/ 2326320 w 2909880"/>
              <a:gd name="textAreaTop" fmla="*/ 818280 h 4078440"/>
              <a:gd name="textAreaBottom" fmla="*/ 3260160 h 407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949" y="21600"/>
                </a:lnTo>
                <a:lnTo>
                  <a:pt x="4651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78000" y="3332160"/>
            <a:ext cx="240048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57920" y="711360"/>
            <a:ext cx="1011240" cy="5729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078000" y="5275440"/>
            <a:ext cx="252720" cy="116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6165720"/>
            <a:ext cx="113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24200" y="4983120"/>
            <a:ext cx="2781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0800000">
            <a:off x="2446200" y="5275080"/>
            <a:ext cx="3664080" cy="1106280"/>
          </a:xfrm>
          <a:custGeom>
            <a:avLst/>
            <a:gdLst>
              <a:gd name="textAreaLeft" fmla="*/ 503280 w 3664080"/>
              <a:gd name="textAreaRight" fmla="*/ 3160800 w 3664080"/>
              <a:gd name="textAreaTop" fmla="*/ 151920 h 1106280"/>
              <a:gd name="textAreaBottom" fmla="*/ 954360 h 110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09" y="21600"/>
                </a:lnTo>
                <a:lnTo>
                  <a:pt x="2191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2556000"/>
            <a:ext cx="1263600" cy="776160"/>
          </a:xfrm>
          <a:prstGeom prst="parallelogram">
            <a:avLst>
              <a:gd name="adj" fmla="val 13484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3456000" y="710640"/>
            <a:ext cx="1644480" cy="485640"/>
          </a:xfrm>
          <a:custGeom>
            <a:avLst/>
            <a:gdLst>
              <a:gd name="textAreaLeft" fmla="*/ 192960 w 1644480"/>
              <a:gd name="textAreaRight" fmla="*/ 1451520 w 1644480"/>
              <a:gd name="textAreaTop" fmla="*/ 56880 h 485640"/>
              <a:gd name="textAreaBottom" fmla="*/ 42876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188" y="21600"/>
                </a:lnTo>
                <a:lnTo>
                  <a:pt x="1412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700000" y="5275440"/>
            <a:ext cx="377640" cy="110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24200" y="5275440"/>
            <a:ext cx="290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56000" y="1197000"/>
            <a:ext cx="1644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3640" y="2556000"/>
            <a:ext cx="2149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24200" y="2652840"/>
            <a:ext cx="290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24200" y="2652840"/>
            <a:ext cx="0" cy="38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32640" y="2652840"/>
            <a:ext cx="0" cy="38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4200" y="2751120"/>
            <a:ext cx="290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24200" y="2847960"/>
            <a:ext cx="290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128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7800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20364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3072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0556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7848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308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1016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3544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87800" y="2652840"/>
            <a:ext cx="32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1488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196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6868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9432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2140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4668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0480" y="26528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7376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2612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0160" y="189000"/>
            <a:ext cx="1011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 – 19 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53200" y="2652840"/>
            <a:ext cx="1440" cy="29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3840" y="1098720"/>
            <a:ext cx="1467000" cy="60156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ОБОДНАЯ З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40040" y="2751120"/>
            <a:ext cx="1011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ОНА ЗАМ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92360" y="3716280"/>
            <a:ext cx="1512720" cy="57636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ОБОДН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87680" y="5954760"/>
            <a:ext cx="6318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5 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4789440"/>
            <a:ext cx="379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51280" y="5662440"/>
            <a:ext cx="504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8 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605560" y="3138480"/>
            <a:ext cx="631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-23 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3716280"/>
            <a:ext cx="998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ОН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80000" y="4365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мет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27640" y="3357720"/>
            <a:ext cx="865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 мет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8000" y="1268280"/>
            <a:ext cx="504720" cy="3673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64000" y="2349360"/>
            <a:ext cx="129528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,24м/2,43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76280"/>
            <a:ext cx="792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03640" y="5300640"/>
            <a:ext cx="20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евая ли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9000"/>
                            </p:stCondLst>
                            <p:childTnLst>
                              <p:par>
                                <p:cTn id="485" nodeType="afterEffect" fill="hold" presetClass="entr" presetID="18" presetSubtype="12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5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7 1.11111E-006 L -2.77778E-007 -0.08403 E">
                                      <p:cBhvr>
                                        <p:cTn id="496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63400" y="466920"/>
            <a:ext cx="5940360" cy="5748120"/>
            <a:chOff x="1463400" y="466920"/>
            <a:chExt cx="5940360" cy="5748120"/>
          </a:xfrm>
        </p:grpSpPr>
        <p:sp>
          <p:nvSpPr>
            <p:cNvPr id="340" name=""/>
            <p:cNvSpPr/>
            <p:nvPr/>
          </p:nvSpPr>
          <p:spPr>
            <a:xfrm rot="10800000">
              <a:off x="1463400" y="466560"/>
              <a:ext cx="5940360" cy="5729040"/>
            </a:xfrm>
            <a:custGeom>
              <a:avLst/>
              <a:gdLst>
                <a:gd name="textAreaLeft" fmla="*/ 1067760 w 5940360"/>
                <a:gd name="textAreaRight" fmla="*/ 4872600 w 5940360"/>
                <a:gd name="textAreaTop" fmla="*/ 1029600 h 5729040"/>
                <a:gd name="textAreaBottom" fmla="*/ 4699440 h 57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761" y="21600"/>
                  </a:lnTo>
                  <a:lnTo>
                    <a:pt x="3839" y="21600"/>
                  </a:lnTo>
                  <a:close/>
                </a:path>
              </a:pathLst>
            </a:custGeom>
            <a:solidFill>
              <a:srgbClr val="3399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0800000">
              <a:off x="2955600" y="971280"/>
              <a:ext cx="2909880" cy="4078440"/>
            </a:xfrm>
            <a:custGeom>
              <a:avLst/>
              <a:gdLst>
                <a:gd name="textAreaLeft" fmla="*/ 583560 w 2909880"/>
                <a:gd name="textAreaRight" fmla="*/ 2326320 w 2909880"/>
                <a:gd name="textAreaTop" fmla="*/ 818280 h 4078440"/>
                <a:gd name="textAreaBottom" fmla="*/ 3260160 h 407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949" y="21600"/>
                  </a:lnTo>
                  <a:lnTo>
                    <a:pt x="4651" y="21600"/>
                  </a:lnTo>
                  <a:close/>
                </a:path>
              </a:pathLst>
            </a:cu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9760" y="3106800"/>
              <a:ext cx="2400480" cy="1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209760" y="5050080"/>
              <a:ext cx="252720" cy="11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0800000">
              <a:off x="2577960" y="5049720"/>
              <a:ext cx="3664080" cy="1106280"/>
            </a:xfrm>
            <a:custGeom>
              <a:avLst/>
              <a:gdLst>
                <a:gd name="textAreaLeft" fmla="*/ 503280 w 3664080"/>
                <a:gd name="textAreaRight" fmla="*/ 3160800 w 3664080"/>
                <a:gd name="textAreaTop" fmla="*/ 151920 h 1106280"/>
                <a:gd name="textAreaBottom" fmla="*/ 954360 h 11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09" y="21600"/>
                  </a:lnTo>
                  <a:lnTo>
                    <a:pt x="2191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71800" y="2330640"/>
              <a:ext cx="1263600" cy="776160"/>
            </a:xfrm>
            <a:prstGeom prst="parallelogram">
              <a:avLst>
                <a:gd name="adj" fmla="val 13484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0800000">
              <a:off x="3587760" y="485280"/>
              <a:ext cx="1644480" cy="485640"/>
            </a:xfrm>
            <a:custGeom>
              <a:avLst/>
              <a:gdLst>
                <a:gd name="textAreaLeft" fmla="*/ 192960 w 1644480"/>
                <a:gd name="textAreaRight" fmla="*/ 1451520 w 1644480"/>
                <a:gd name="textAreaTop" fmla="*/ 56880 h 485640"/>
                <a:gd name="textAreaBottom" fmla="*/ 42876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88" y="21600"/>
                  </a:lnTo>
                  <a:lnTo>
                    <a:pt x="1412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55960" y="5050080"/>
              <a:ext cx="290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87760" y="971640"/>
              <a:ext cx="1644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35400" y="2330640"/>
              <a:ext cx="2149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55960" y="2427480"/>
              <a:ext cx="290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55960" y="2427480"/>
              <a:ext cx="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64400" y="2427480"/>
              <a:ext cx="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55960" y="2525760"/>
              <a:ext cx="290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5960" y="2622600"/>
              <a:ext cx="290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830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976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33540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248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3732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102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77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1484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4192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6720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942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19560" y="2427480"/>
              <a:ext cx="32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4664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7372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004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60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531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7844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322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0552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578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849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34800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11640" y="306864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0364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4365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11640" y="4005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03640" y="429264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5440400">
            <a:off x="4538880" y="3894480"/>
            <a:ext cx="706680" cy="784080"/>
          </a:xfrm>
          <a:custGeom>
            <a:avLst/>
            <a:gdLst>
              <a:gd name="textAreaLeft" fmla="*/ 0 w 706680"/>
              <a:gd name="textAreaRight" fmla="*/ 707040 w 7066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1429400">
            <a:off x="3359160" y="3866400"/>
            <a:ext cx="936720" cy="792360"/>
          </a:xfrm>
          <a:custGeom>
            <a:avLst/>
            <a:gdLst>
              <a:gd name="textAreaLeft" fmla="*/ 0 w 936720"/>
              <a:gd name="textAreaRight" fmla="*/ 937080 w 936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8592200">
            <a:off x="3239640" y="3609720"/>
            <a:ext cx="865440" cy="792000"/>
          </a:xfrm>
          <a:custGeom>
            <a:avLst/>
            <a:gdLst>
              <a:gd name="textAreaLeft" fmla="*/ 0 w 865440"/>
              <a:gd name="textAreaRight" fmla="*/ 865800 w 865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240200">
            <a:off x="3642840" y="3153960"/>
            <a:ext cx="646200" cy="692280"/>
          </a:xfrm>
          <a:custGeom>
            <a:avLst/>
            <a:gdLst>
              <a:gd name="textAreaLeft" fmla="*/ 0 w 646200"/>
              <a:gd name="textAreaRight" fmla="*/ 646560 w 64620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3798600">
            <a:off x="4350240" y="3218400"/>
            <a:ext cx="785880" cy="631800"/>
          </a:xfrm>
          <a:custGeom>
            <a:avLst/>
            <a:gdLst>
              <a:gd name="textAreaLeft" fmla="*/ 0 w 785880"/>
              <a:gd name="textAreaRight" fmla="*/ 786240 w 78588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7919400">
            <a:off x="4669560" y="3547080"/>
            <a:ext cx="774720" cy="827280"/>
          </a:xfrm>
          <a:custGeom>
            <a:avLst/>
            <a:gdLst>
              <a:gd name="textAreaLeft" fmla="*/ 0 w 774720"/>
              <a:gd name="textAreaRight" fmla="*/ 775080 w 774720"/>
              <a:gd name="textAreaTop" fmla="*/ 0 h 827280"/>
              <a:gd name="textAreaBottom" fmla="*/ 827640 h 827280"/>
            </a:gdLst>
            <a:ahLst/>
            <a:rect l="textAreaLeft" t="textAreaTop" r="textAreaRight" b="textAreaBottom"/>
            <a:pathLst>
              <a:path w="21600" h="21600">
                <a:moveTo>
                  <a:pt x="12442" y="18303"/>
                </a:moveTo>
                <a:arcTo wR="-7681" hR="-7681" stAng="4659435" swAng="-4659435"/>
                <a:lnTo>
                  <a:pt x="0" y="10800"/>
                </a:lnTo>
                <a:arcTo wR="10800" hR="10800" stAng="10800000" swAng="4659435"/>
                <a:lnTo>
                  <a:pt x="7914" y="-2388"/>
                </a:lnTo>
                <a:lnTo>
                  <a:pt x="12986" y="863"/>
                </a:lnTo>
                <a:lnTo>
                  <a:pt x="9735" y="5934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4156400">
            <a:off x="3924000" y="2779200"/>
            <a:ext cx="2879640" cy="1152360"/>
          </a:xfrm>
          <a:custGeom>
            <a:avLst/>
            <a:gdLst>
              <a:gd name="textAreaLeft" fmla="*/ 645120 w 2879640"/>
              <a:gd name="textAreaRight" fmla="*/ 2022120 w 2879640"/>
              <a:gd name="textAreaTop" fmla="*/ 154080 h 1152360"/>
              <a:gd name="textAreaBottom" fmla="*/ 9982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79" hR="21600" stAng="10800000" swAng="-5400000"/>
                <a:lnTo>
                  <a:pt x="10328" y="21600"/>
                </a:lnTo>
                <a:arcTo wR="9679" hR="21600" stAng="5400000" swAng="-3034219"/>
                <a:lnTo>
                  <a:pt x="21003" y="7468"/>
                </a:lnTo>
                <a:lnTo>
                  <a:pt x="19683" y="0"/>
                </a:lnTo>
                <a:lnTo>
                  <a:pt x="17168" y="7468"/>
                </a:lnTo>
                <a:lnTo>
                  <a:pt x="18761" y="7468"/>
                </a:lnTo>
                <a:arcTo wR="9679" hR="21600" stAng="2365781" swAng="2982548"/>
                <a:lnTo>
                  <a:pt x="10003" y="21588"/>
                </a:lnTo>
                <a:arcTo wR="9679" hR="21600" stAng="5451671" swAng="5348329"/>
                <a:close/>
              </a:path>
              <a:path fill="darkenLess" w="21600" h="21600">
                <a:moveTo>
                  <a:pt x="0" y="0"/>
                </a:moveTo>
                <a:arcTo wR="9679" hR="21600" stAng="10800000" swAng="-5400000"/>
                <a:lnTo>
                  <a:pt x="10328" y="21600"/>
                </a:lnTo>
                <a:arcTo wR="9679" hR="21600" stAng="5400000" swAng="51671"/>
                <a:lnTo>
                  <a:pt x="10003" y="21588"/>
                </a:lnTo>
                <a:arcTo wR="9679" hR="21600" stAng="5451671" swAng="5348329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5e0000"/>
              </a:gs>
              <a:gs pos="100000">
                <a:srgbClr val="cc0000"/>
              </a:gs>
            </a:gsLst>
            <a:lin ang="1284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938000">
            <a:off x="1716840" y="2991600"/>
            <a:ext cx="2643120" cy="1104840"/>
          </a:xfrm>
          <a:custGeom>
            <a:avLst/>
            <a:gdLst>
              <a:gd name="textAreaLeft" fmla="*/ 565200 w 2643120"/>
              <a:gd name="textAreaRight" fmla="*/ 1814400 w 2643120"/>
              <a:gd name="textAreaTop" fmla="*/ 147960 h 1104840"/>
              <a:gd name="textAreaBottom" fmla="*/ 95688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0" hR="21600" stAng="10800000" swAng="5400000"/>
                <a:lnTo>
                  <a:pt x="10207" y="0"/>
                </a:lnTo>
                <a:arcTo wR="9240" hR="21600" stAng="-5400000" swAng="3361981"/>
                <a:lnTo>
                  <a:pt x="21239" y="15619"/>
                </a:lnTo>
                <a:lnTo>
                  <a:pt x="18963" y="21600"/>
                </a:lnTo>
                <a:lnTo>
                  <a:pt x="15964" y="15619"/>
                </a:lnTo>
                <a:lnTo>
                  <a:pt x="18118" y="15619"/>
                </a:lnTo>
                <a:arcTo wR="9240" hR="21600" stAng="-2038019" swAng="-3284937"/>
                <a:lnTo>
                  <a:pt x="9723" y="30"/>
                </a:lnTo>
                <a:arcTo wR="9240" hR="21600" stAng="-5477044" swAng="-5322956"/>
                <a:close/>
              </a:path>
              <a:path fill="darkenLess" w="21600" h="21600">
                <a:moveTo>
                  <a:pt x="0" y="21600"/>
                </a:moveTo>
                <a:arcTo wR="9240" hR="21600" stAng="10800000" swAng="5400000"/>
                <a:lnTo>
                  <a:pt x="9240" y="0"/>
                </a:lnTo>
                <a:arcTo wR="9240" hR="21600" stAng="-5400000" swAng="77044"/>
                <a:lnTo>
                  <a:pt x="9723" y="30"/>
                </a:lnTo>
                <a:arcTo wR="9240" hR="21600" stAng="-5477044" swAng="-5322956"/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06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96000" y="907920"/>
            <a:ext cx="2160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умерация зон, начинается с позиции подающего(1) и далее против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овой стре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 – подающ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,4 – нападающ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 – связующ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,6- защитники (блокирующи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280" y="1628640"/>
            <a:ext cx="208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выигрывается очко при чужой подаче, то игроки, двигаясь по часовой стрелке , переходят в другие зо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100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100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8000"/>
                            </p:stCondLst>
                            <p:childTnLst>
                              <p:par>
                                <p:cTn id="5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100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100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1000" autoRev="1" fill="hold"/>
                                        <p:tgtEl>
                                          <p:spTgt spid="3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1000" autoRev="1" fill="hold"/>
                                        <p:tgtEl>
                                          <p:spTgt spid="3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3" presetSubtype="10">
                                  <p:stCondLst>
                                    <p:cond delay="7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7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5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5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6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6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8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1000"/>
                            </p:stCondLst>
                            <p:childTnLst>
                              <p:par>
                                <p:cTn id="6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3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15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2500"/>
                            </p:stCondLst>
                            <p:childTnLst>
                              <p:par>
                                <p:cTn id="62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4500"/>
                            </p:stCondLst>
                            <p:childTnLst>
                              <p:par>
                                <p:cTn id="62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4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6500"/>
                            </p:stCondLst>
                            <p:childTnLst>
                              <p:par>
                                <p:cTn id="64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20231E-007 L -0.08264 -0.03653 E">
                                      <p:cBhvr>
                                        <p:cTn id="646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0532 L -0.09428 0.05249 E">
                                      <p:cBhvr>
                                        <p:cTn id="64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68208E-006 L 0.00382 -0.15214 E">
                                      <p:cBhvr>
                                        <p:cTn id="650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4104E-006 L 0.09462 -0.04185 E">
                                      <p:cBhvr>
                                        <p:cTn id="652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L 0.0908 0.04763 E">
                                      <p:cBhvr>
                                        <p:cTn id="654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4 L 0.00816 0.14705 E">
                                      <p:cBhvr>
                                        <p:cTn id="656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1392120" y="466920"/>
            <a:ext cx="5940360" cy="5748120"/>
            <a:chOff x="1392120" y="466920"/>
            <a:chExt cx="5940360" cy="5748120"/>
          </a:xfrm>
        </p:grpSpPr>
        <p:sp>
          <p:nvSpPr>
            <p:cNvPr id="394" name=""/>
            <p:cNvSpPr/>
            <p:nvPr/>
          </p:nvSpPr>
          <p:spPr>
            <a:xfrm rot="10800000">
              <a:off x="1392120" y="466560"/>
              <a:ext cx="5940360" cy="5729040"/>
            </a:xfrm>
            <a:custGeom>
              <a:avLst/>
              <a:gdLst>
                <a:gd name="textAreaLeft" fmla="*/ 1067760 w 5940360"/>
                <a:gd name="textAreaRight" fmla="*/ 4872600 w 5940360"/>
                <a:gd name="textAreaTop" fmla="*/ 1029600 h 5729040"/>
                <a:gd name="textAreaBottom" fmla="*/ 4699440 h 57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761" y="21600"/>
                  </a:lnTo>
                  <a:lnTo>
                    <a:pt x="3839" y="21600"/>
                  </a:lnTo>
                  <a:close/>
                </a:path>
              </a:pathLst>
            </a:custGeom>
            <a:solidFill>
              <a:srgbClr val="3399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0800000">
              <a:off x="2884320" y="971280"/>
              <a:ext cx="2909880" cy="4078440"/>
            </a:xfrm>
            <a:custGeom>
              <a:avLst/>
              <a:gdLst>
                <a:gd name="textAreaLeft" fmla="*/ 583560 w 2909880"/>
                <a:gd name="textAreaRight" fmla="*/ 2326320 w 2909880"/>
                <a:gd name="textAreaTop" fmla="*/ 818280 h 4078440"/>
                <a:gd name="textAreaBottom" fmla="*/ 3260160 h 407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949" y="21600"/>
                  </a:lnTo>
                  <a:lnTo>
                    <a:pt x="4651" y="21600"/>
                  </a:lnTo>
                  <a:close/>
                </a:path>
              </a:pathLst>
            </a:cu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38480" y="3106800"/>
              <a:ext cx="2400480" cy="1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3138480" y="5050080"/>
              <a:ext cx="252720" cy="11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2506680" y="5049720"/>
              <a:ext cx="3664080" cy="1106280"/>
            </a:xfrm>
            <a:custGeom>
              <a:avLst/>
              <a:gdLst>
                <a:gd name="textAreaLeft" fmla="*/ 503280 w 3664080"/>
                <a:gd name="textAreaRight" fmla="*/ 3160800 w 3664080"/>
                <a:gd name="textAreaTop" fmla="*/ 151920 h 1106280"/>
                <a:gd name="textAreaBottom" fmla="*/ 954360 h 11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09" y="21600"/>
                  </a:lnTo>
                  <a:lnTo>
                    <a:pt x="2191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0520" y="2330640"/>
              <a:ext cx="1263600" cy="776160"/>
            </a:xfrm>
            <a:prstGeom prst="parallelogram">
              <a:avLst>
                <a:gd name="adj" fmla="val 13484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0800000">
              <a:off x="3516480" y="485280"/>
              <a:ext cx="1644480" cy="485640"/>
            </a:xfrm>
            <a:custGeom>
              <a:avLst/>
              <a:gdLst>
                <a:gd name="textAreaLeft" fmla="*/ 192960 w 1644480"/>
                <a:gd name="textAreaRight" fmla="*/ 1451520 w 1644480"/>
                <a:gd name="textAreaTop" fmla="*/ 56880 h 485640"/>
                <a:gd name="textAreaBottom" fmla="*/ 42876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88" y="21600"/>
                  </a:lnTo>
                  <a:lnTo>
                    <a:pt x="1412" y="216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84680" y="5050080"/>
              <a:ext cx="290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16480" y="971640"/>
              <a:ext cx="1644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64120" y="2330640"/>
              <a:ext cx="2149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84680" y="2427480"/>
              <a:ext cx="290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84680" y="2427480"/>
              <a:ext cx="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93120" y="2427480"/>
              <a:ext cx="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84680" y="2525760"/>
              <a:ext cx="290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84680" y="2622600"/>
              <a:ext cx="290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1176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3848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26412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9120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660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3896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164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435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7064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9592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2300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8280" y="2427480"/>
              <a:ext cx="32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753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0244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2916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5480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818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0716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60960" y="2427480"/>
              <a:ext cx="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3424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8660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3680" y="2427480"/>
              <a:ext cx="1440" cy="29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4932360" y="4437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4437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48000" y="357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306864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59280" y="357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1628640"/>
            <a:ext cx="208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выигрывается очко при чужой подаче, то игроки, двигаясь по часовой стрелке , переходят в другие зо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5549E-006 L -0.09046 0.03677 E">
                                      <p:cBhvr>
                                        <p:cTn id="662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13873E-006 L 0.00782 -0.12578 E">
                                      <p:cBhvr>
                                        <p:cTn id="664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023 L 0.08282 -0.06805 E">
                                      <p:cBhvr>
                                        <p:cTn id="666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0.07882 0.07361 E">
                                      <p:cBhvr>
                                        <p:cTn id="66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21965E-006 L 0.00399 0.1207 E">
                                      <p:cBhvr>
                                        <p:cTn id="67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13873E-006 L -0.09461 -0.03145 E">
                                      <p:cBhvr>
                                        <p:cTn id="672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6 0.03677 L -0.09046 -0.09965 E">
                                      <p:cBhvr>
                                        <p:cTn id="67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1257 L 0.09063 -0.19421 E">
                                      <p:cBhvr>
                                        <p:cTn id="677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-0.06821 L 0.16146 -0.00532 E">
                                      <p:cBhvr>
                                        <p:cTn id="679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07361 L 0.08281 0.19445 E">
                                      <p:cBhvr>
                                        <p:cTn id="681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12069 L -0.08246 0.08925 E">
                                      <p:cBhvr>
                                        <p:cTn id="683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62 -0.03145 L -0.17709 0.00532 E">
                                      <p:cBhvr>
                                        <p:cTn id="685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-0.09422 L -0.00382 -0.1625 E">
                                      <p:cBhvr>
                                        <p:cTn id="688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-0.19399 L 0.17726 -0.12046 E">
                                      <p:cBhvr>
                                        <p:cTn id="690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6 -2.22222E-006 L 0.16945 0.12084 E">
                                      <p:cBhvr>
                                        <p:cTn id="692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3 0.19422 L -0.00382 0.16278 E">
                                      <p:cBhvr>
                                        <p:cTn id="694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9433 L -0.17708 0.1311 E">
                                      <p:cBhvr>
                                        <p:cTn id="696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0.00532 L -0.17709 -0.1311 E">
                                      <p:cBhvr>
                                        <p:cTn id="698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16254 L 0.08281 -0.08901 E">
                                      <p:cBhvr>
                                        <p:cTn id="701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26 -0.12592 L 0.18125 0.00024 E">
                                      <p:cBhvr>
                                        <p:cTn id="703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27 0.12069 L 0.08282 0.09965 E">
                                      <p:cBhvr>
                                        <p:cTn id="705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16786 L -0.09844 0.20463 E">
                                      <p:cBhvr>
                                        <p:cTn id="707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1 0.1311 L -0.1691 -0.00532 E">
                                      <p:cBhvr>
                                        <p:cTn id="709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26 -0.12578 L -0.08663 -0.19907 E">
                                      <p:cBhvr>
                                        <p:cTn id="71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8000"/>
                            </p:stCondLst>
                            <p:childTnLst>
                              <p:par>
                                <p:cTn id="71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9445 L 0.08281 0.02639 E">
                                      <p:cBhvr>
                                        <p:cTn id="71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08 -0.00532 L 0.09063 -0.03681 E">
                                      <p:cBhvr>
                                        <p:cTn id="716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0.09433 L -0.00382 0.1311 E">
                                      <p:cBhvr>
                                        <p:cTn id="718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6 0.20463 L -0.09046 0.07099 E">
                                      <p:cBhvr>
                                        <p:cTn id="72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28 4.04624E-007 L -0.08246 -0.06821 E">
                                      <p:cBhvr>
                                        <p:cTn id="72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9398 L -0.00382 -0.1206 E">
                                      <p:cBhvr>
                                        <p:cTn id="724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332000" y="2489040"/>
            <a:ext cx="6696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ПОДАЧА</a:t>
            </a:r>
            <a:endParaRPr b="0" lang="en-US" sz="8000" spc="1" strike="noStrike">
              <a:ln w="5724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4356000" y="2997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0364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0836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6400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5600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4836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724360" y="2924280"/>
            <a:ext cx="871560" cy="869760"/>
            <a:chOff x="5724360" y="2924280"/>
            <a:chExt cx="871560" cy="869760"/>
          </a:xfrm>
        </p:grpSpPr>
        <p:sp>
          <p:nvSpPr>
            <p:cNvPr id="446" name=""/>
            <p:cNvSpPr/>
            <p:nvPr/>
          </p:nvSpPr>
          <p:spPr>
            <a:xfrm>
              <a:off x="5724360" y="2924280"/>
              <a:ext cx="871560" cy="86976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14720" y="3084480"/>
              <a:ext cx="746280" cy="67428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59280" y="2958840"/>
              <a:ext cx="745920" cy="72828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19480" y="3012840"/>
              <a:ext cx="378000" cy="25524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56280" y="2949480"/>
              <a:ext cx="360360" cy="24552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92760" y="3122280"/>
              <a:ext cx="339480" cy="24120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18200" y="3105000"/>
              <a:ext cx="371160" cy="2520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79760" y="3468600"/>
              <a:ext cx="385920" cy="25344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78320" y="3350880"/>
              <a:ext cx="406440" cy="2523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62480" y="3213000"/>
              <a:ext cx="403200" cy="27108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99120" y="3330360"/>
              <a:ext cx="91800" cy="39168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29000" y="369540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76600" y="368748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02240" y="3622320"/>
              <a:ext cx="6012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97240" y="3254040"/>
              <a:ext cx="168480" cy="48384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46400" y="3149280"/>
              <a:ext cx="176400" cy="6062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881360" y="701640"/>
            <a:ext cx="5410080" cy="5237280"/>
            <a:chOff x="1881360" y="701640"/>
            <a:chExt cx="5410080" cy="5237280"/>
          </a:xfrm>
        </p:grpSpPr>
        <p:grpSp>
          <p:nvGrpSpPr>
            <p:cNvPr id="463" name=""/>
            <p:cNvGrpSpPr/>
            <p:nvPr/>
          </p:nvGrpSpPr>
          <p:grpSpPr>
            <a:xfrm>
              <a:off x="1881360" y="701640"/>
              <a:ext cx="5410080" cy="5219640"/>
              <a:chOff x="1881360" y="701640"/>
              <a:chExt cx="5410080" cy="5219640"/>
            </a:xfrm>
          </p:grpSpPr>
          <p:sp>
            <p:nvSpPr>
              <p:cNvPr id="464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240000" y="1162080"/>
              <a:ext cx="2651040" cy="3714840"/>
              <a:chOff x="3240000" y="1162080"/>
              <a:chExt cx="2651040" cy="3714840"/>
            </a:xfrm>
          </p:grpSpPr>
          <p:sp>
            <p:nvSpPr>
              <p:cNvPr id="467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3471840" y="310680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52760" y="487692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2895480" y="4876920"/>
              <a:ext cx="3338640" cy="1008000"/>
              <a:chOff x="2895480" y="4876920"/>
              <a:chExt cx="3338640" cy="1008000"/>
            </a:xfrm>
          </p:grpSpPr>
          <p:sp>
            <p:nvSpPr>
              <p:cNvPr id="472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435400" y="2400480"/>
              <a:ext cx="1150920" cy="706320"/>
              <a:chOff x="2435400" y="2400480"/>
              <a:chExt cx="1150920" cy="706320"/>
            </a:xfrm>
          </p:grpSpPr>
          <p:sp>
            <p:nvSpPr>
              <p:cNvPr id="475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3816360" y="719280"/>
              <a:ext cx="1496880" cy="442800"/>
              <a:chOff x="3816360" y="719280"/>
              <a:chExt cx="1496880" cy="442800"/>
            </a:xfrm>
          </p:grpSpPr>
          <p:sp>
            <p:nvSpPr>
              <p:cNvPr id="478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3240000" y="487692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16360" y="1162080"/>
              <a:ext cx="149688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86320" y="240048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40000" y="248760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40000" y="248760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89600" y="248760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40000" y="257796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40000" y="266544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559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718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35863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018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736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57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63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322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4640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608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768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90920" y="248760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068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22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86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31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687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832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132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973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277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436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1881360" y="701640"/>
              <a:ext cx="5410080" cy="5219640"/>
              <a:chOff x="1881360" y="701640"/>
              <a:chExt cx="5410080" cy="5219640"/>
            </a:xfrm>
          </p:grpSpPr>
          <p:sp>
            <p:nvSpPr>
              <p:cNvPr id="511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240000" y="1162080"/>
              <a:ext cx="2651040" cy="3714840"/>
              <a:chOff x="3240000" y="1162080"/>
              <a:chExt cx="2651040" cy="3714840"/>
            </a:xfrm>
          </p:grpSpPr>
          <p:sp>
            <p:nvSpPr>
              <p:cNvPr id="514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3471840" y="310680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52760" y="487692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2895480" y="4876920"/>
              <a:ext cx="3338640" cy="1008000"/>
              <a:chOff x="2895480" y="4876920"/>
              <a:chExt cx="3338640" cy="1008000"/>
            </a:xfrm>
          </p:grpSpPr>
          <p:sp>
            <p:nvSpPr>
              <p:cNvPr id="519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2435400" y="2400480"/>
              <a:ext cx="1150920" cy="706320"/>
              <a:chOff x="2435400" y="2400480"/>
              <a:chExt cx="1150920" cy="706320"/>
            </a:xfrm>
          </p:grpSpPr>
          <p:sp>
            <p:nvSpPr>
              <p:cNvPr id="522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3816360" y="719280"/>
              <a:ext cx="1496880" cy="442800"/>
              <a:chOff x="3816360" y="719280"/>
              <a:chExt cx="1496880" cy="442800"/>
            </a:xfrm>
          </p:grpSpPr>
          <p:sp>
            <p:nvSpPr>
              <p:cNvPr id="525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240000" y="487692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16360" y="1162080"/>
              <a:ext cx="149688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86320" y="240048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40000" y="248760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240000" y="248760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89600" y="248760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40000" y="257796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40000" y="266544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559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718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5863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018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736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57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163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322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4640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608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768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90920" y="248760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068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22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386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531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687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832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132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973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277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436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219640" y="501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3141720"/>
            <a:ext cx="252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одач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59280" y="5373720"/>
            <a:ext cx="30254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4941720"/>
            <a:ext cx="0" cy="93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6400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70836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427640" y="292428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19640" y="3429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5148360" y="4941720"/>
            <a:ext cx="504720" cy="432000"/>
            <a:chOff x="5148360" y="4941720"/>
            <a:chExt cx="504720" cy="432000"/>
          </a:xfrm>
        </p:grpSpPr>
        <p:sp>
          <p:nvSpPr>
            <p:cNvPr id="567" name=""/>
            <p:cNvSpPr/>
            <p:nvPr/>
          </p:nvSpPr>
          <p:spPr>
            <a:xfrm>
              <a:off x="5148360" y="4941720"/>
              <a:ext cx="504720" cy="43200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00560" y="5021280"/>
              <a:ext cx="432000" cy="3348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68520" y="4959000"/>
              <a:ext cx="432000" cy="36180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1040" y="4985640"/>
              <a:ext cx="218880" cy="12672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40600" y="4954320"/>
              <a:ext cx="208440" cy="12204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87960" y="5040000"/>
              <a:ext cx="196560" cy="1198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76240" y="5031360"/>
              <a:ext cx="214920" cy="12528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11880" y="5212080"/>
              <a:ext cx="223200" cy="12600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11160" y="5153760"/>
              <a:ext cx="235080" cy="12528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01800" y="5085000"/>
              <a:ext cx="233280" cy="13464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65440" y="5143320"/>
              <a:ext cx="52920" cy="19440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82720" y="532476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68040" y="532080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40760" y="5288400"/>
              <a:ext cx="3456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06400" y="5105520"/>
              <a:ext cx="97560" cy="24048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18920" y="5053320"/>
              <a:ext cx="101880" cy="30096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4000"/>
                            </p:stCondLst>
                            <p:childTnLst>
                              <p:par>
                                <p:cTn id="7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500"/>
                            </p:stCondLst>
                            <p:childTnLst>
                              <p:par>
                                <p:cTn id="8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4.56647E-006 C -0.00105 -0.00139 -0.00192 -0.00301 -0.00313 -0.00439 C -0.00522 -0.00671 -0.00765 -0.00809 -0.00955 -0.01064 C -0.01338 -0.01572 -0.01545 -0.0222 -0.01911 -0.02752 C -0.02779 -0.04023 -0.03612 -0.05272 -0.04445 -0.06567 C -0.05001 -0.07422 -0.04567 -0.07075 -0.0507 -0.08254 C -0.0514 -0.08439 -0.05313 -0.08509 -0.054 -0.08671 C -0.05574 -0.08994 -0.0573 -0.09364 -0.05869 -0.09734 C -0.05938 -0.09942 -0.05938 -0.10173 -0.06025 -0.10358 C -0.07171 -0.12624 -0.05956 -0.09572 -0.06824 -0.1163 C -0.07379 -0.12925 -0.06893 -0.12231 -0.07779 -0.13757 C -0.08265 -0.1459 -0.0823 -0.14127 -0.08577 -0.15029 C -0.09011 -0.16162 -0.09411 -0.17272 -0.09845 -0.18405 C -0.10539 -0.20254 -0.10782 -0.22312 -0.11581 -0.24116 C -0.11737 -0.25202 -0.12032 -0.2622 -0.12223 -0.27283 C -0.12327 -0.28624 -0.12432 -0.29965 -0.12536 -0.31306 C -0.12848 -0.35237 -0.12466 -0.39214 -0.12223 -0.43145 C -0.12206 -0.43422 -0.11407 -0.44416 -0.11268 -0.44624 C -0.10695 -0.45549 -0.10487 -0.46867 -0.09688 -0.47584 C -0.09359 -0.47884 -0.08925 -0.47954 -0.08577 -0.48208 C -0.08195 -0.48486 -0.07935 -0.48832 -0.07466 -0.48832 E">
                                      <p:cBhvr>
                                        <p:cTn id="811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348000" y="836640"/>
            <a:ext cx="1944720" cy="46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80000" y="5516640"/>
            <a:ext cx="107928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80000" y="1197000"/>
            <a:ext cx="115236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80000" y="3357720"/>
            <a:ext cx="1152360" cy="143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476360" y="5084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ИГРА ПРОДОЛЖАЕ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2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2" dur="20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000"/>
                            </p:stCondLst>
                            <p:childTnLst>
                              <p:par>
                                <p:cTn id="8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356000" y="2997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00364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0836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6400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35600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4836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5724360" y="2924280"/>
            <a:ext cx="871560" cy="869760"/>
            <a:chOff x="5724360" y="2924280"/>
            <a:chExt cx="871560" cy="869760"/>
          </a:xfrm>
        </p:grpSpPr>
        <p:sp>
          <p:nvSpPr>
            <p:cNvPr id="595" name=""/>
            <p:cNvSpPr/>
            <p:nvPr/>
          </p:nvSpPr>
          <p:spPr>
            <a:xfrm>
              <a:off x="5724360" y="2924280"/>
              <a:ext cx="871560" cy="86976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14720" y="3084480"/>
              <a:ext cx="746280" cy="67428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59280" y="2958840"/>
              <a:ext cx="745920" cy="72828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19480" y="3012840"/>
              <a:ext cx="378000" cy="25524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56280" y="2949480"/>
              <a:ext cx="360360" cy="24552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92760" y="3122280"/>
              <a:ext cx="339480" cy="24120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18200" y="3105000"/>
              <a:ext cx="371160" cy="2520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79760" y="3468600"/>
              <a:ext cx="385920" cy="25344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8320" y="3350880"/>
              <a:ext cx="406440" cy="2523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62480" y="3213000"/>
              <a:ext cx="403200" cy="27108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99120" y="3330360"/>
              <a:ext cx="91800" cy="39168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129000" y="369540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76600" y="368748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2240" y="3622320"/>
              <a:ext cx="6012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97240" y="3254040"/>
              <a:ext cx="168480" cy="48384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46400" y="3149280"/>
              <a:ext cx="176400" cy="6062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881360" y="701640"/>
            <a:ext cx="5410080" cy="5237280"/>
            <a:chOff x="1881360" y="701640"/>
            <a:chExt cx="5410080" cy="5237280"/>
          </a:xfrm>
        </p:grpSpPr>
        <p:grpSp>
          <p:nvGrpSpPr>
            <p:cNvPr id="612" name=""/>
            <p:cNvGrpSpPr/>
            <p:nvPr/>
          </p:nvGrpSpPr>
          <p:grpSpPr>
            <a:xfrm>
              <a:off x="1881360" y="701640"/>
              <a:ext cx="5410080" cy="5219640"/>
              <a:chOff x="1881360" y="701640"/>
              <a:chExt cx="5410080" cy="5219640"/>
            </a:xfrm>
          </p:grpSpPr>
          <p:sp>
            <p:nvSpPr>
              <p:cNvPr id="613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240000" y="1162080"/>
              <a:ext cx="2651040" cy="3714840"/>
              <a:chOff x="3240000" y="1162080"/>
              <a:chExt cx="2651040" cy="3714840"/>
            </a:xfrm>
          </p:grpSpPr>
          <p:sp>
            <p:nvSpPr>
              <p:cNvPr id="616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3471840" y="310680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52760" y="487692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2895480" y="4876920"/>
              <a:ext cx="3338640" cy="1008000"/>
              <a:chOff x="2895480" y="4876920"/>
              <a:chExt cx="3338640" cy="1008000"/>
            </a:xfrm>
          </p:grpSpPr>
          <p:sp>
            <p:nvSpPr>
              <p:cNvPr id="621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435400" y="2400480"/>
              <a:ext cx="1150920" cy="706320"/>
              <a:chOff x="2435400" y="2400480"/>
              <a:chExt cx="1150920" cy="706320"/>
            </a:xfrm>
          </p:grpSpPr>
          <p:sp>
            <p:nvSpPr>
              <p:cNvPr id="624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816360" y="719280"/>
              <a:ext cx="1496880" cy="442800"/>
              <a:chOff x="3816360" y="719280"/>
              <a:chExt cx="1496880" cy="442800"/>
            </a:xfrm>
          </p:grpSpPr>
          <p:sp>
            <p:nvSpPr>
              <p:cNvPr id="627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3240000" y="487692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16360" y="1162080"/>
              <a:ext cx="149688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86320" y="240048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40000" y="248760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40000" y="248760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9600" y="248760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40000" y="257796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0000" y="266544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559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718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5863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18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7736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57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163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322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4640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608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768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90920" y="248760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068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22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386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531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687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832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132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973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277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436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1881360" y="701640"/>
              <a:ext cx="5410080" cy="5219640"/>
              <a:chOff x="1881360" y="701640"/>
              <a:chExt cx="5410080" cy="5219640"/>
            </a:xfrm>
          </p:grpSpPr>
          <p:sp>
            <p:nvSpPr>
              <p:cNvPr id="660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881360" y="70164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3240000" y="1162080"/>
              <a:ext cx="2651040" cy="3714840"/>
              <a:chOff x="3240000" y="1162080"/>
              <a:chExt cx="2651040" cy="3714840"/>
            </a:xfrm>
          </p:grpSpPr>
          <p:sp>
            <p:nvSpPr>
              <p:cNvPr id="663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40000" y="116208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3471840" y="310680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52760" y="487692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2895480" y="4876920"/>
              <a:ext cx="3338640" cy="1008000"/>
              <a:chOff x="2895480" y="4876920"/>
              <a:chExt cx="3338640" cy="1008000"/>
            </a:xfrm>
          </p:grpSpPr>
          <p:sp>
            <p:nvSpPr>
              <p:cNvPr id="668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95480" y="487692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2435400" y="2400480"/>
              <a:ext cx="1150920" cy="706320"/>
              <a:chOff x="2435400" y="2400480"/>
              <a:chExt cx="1150920" cy="706320"/>
            </a:xfrm>
          </p:grpSpPr>
          <p:sp>
            <p:nvSpPr>
              <p:cNvPr id="671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435400" y="240048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3816360" y="719280"/>
              <a:ext cx="1496880" cy="442800"/>
              <a:chOff x="3816360" y="719280"/>
              <a:chExt cx="1496880" cy="442800"/>
            </a:xfrm>
          </p:grpSpPr>
          <p:sp>
            <p:nvSpPr>
              <p:cNvPr id="674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16360" y="71928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3240000" y="487692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6360" y="1162080"/>
              <a:ext cx="149688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6320" y="240048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40000" y="248760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40000" y="248760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89600" y="248760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40000" y="257796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40000" y="266544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559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718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5863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018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7368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57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163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322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4640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608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768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90920" y="248760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068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2276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3868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5316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687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8320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1324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97320" y="248760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2772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43640" y="248760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219640" y="501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27640" y="3933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56400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70836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427640" y="292428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219640" y="3429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148360" y="4941720"/>
            <a:ext cx="504720" cy="432000"/>
            <a:chOff x="5148360" y="4941720"/>
            <a:chExt cx="504720" cy="432000"/>
          </a:xfrm>
        </p:grpSpPr>
        <p:sp>
          <p:nvSpPr>
            <p:cNvPr id="713" name=""/>
            <p:cNvSpPr/>
            <p:nvPr/>
          </p:nvSpPr>
          <p:spPr>
            <a:xfrm>
              <a:off x="5148360" y="4941720"/>
              <a:ext cx="504720" cy="43200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00560" y="5021280"/>
              <a:ext cx="432000" cy="3348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68520" y="4959000"/>
              <a:ext cx="432000" cy="36180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61040" y="4985640"/>
              <a:ext cx="218880" cy="12672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600" y="4954320"/>
              <a:ext cx="208440" cy="12204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87960" y="5040000"/>
              <a:ext cx="196560" cy="1198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76240" y="5031360"/>
              <a:ext cx="214920" cy="12528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1880" y="5212080"/>
              <a:ext cx="223200" cy="12600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11160" y="5153760"/>
              <a:ext cx="235080" cy="12528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01800" y="5085000"/>
              <a:ext cx="233280" cy="13464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65440" y="5143320"/>
              <a:ext cx="52920" cy="19440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82720" y="532476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468040" y="532080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40760" y="5288400"/>
              <a:ext cx="3456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06400" y="5105520"/>
              <a:ext cx="97560" cy="24048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18920" y="5053320"/>
              <a:ext cx="101880" cy="30096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4335E-006 C -0.00625 -0.00902 -0.01094 -0.01873 -0.01771 -0.02682 C -0.02031 -0.03468 -0.02396 -0.0363 -0.02691 -0.0437 C -0.02864 -0.04763 -0.02882 -0.05295 -0.0309 -0.05642 C -0.03837 -0.06775 -0.04253 -0.08046 -0.04948 -0.09226 C -0.05399 -0.10012 -0.05607 -0.10798 -0.06076 -0.11584 C -0.06771 -0.13804 -0.06406 -0.12902 -0.07048 -0.14336 C -0.07257 -0.15168 -0.07344 -0.157 -0.0783 -0.16255 C -0.08455 -0.18243 -0.08906 -0.20347 -0.09514 -0.22312 C -0.11215 -0.32255 -0.11632 -0.42544 -0.11614 -0.52717 C -0.11736 -0.5533 -0.11892 -0.57873 -0.11996 -0.60486 C -0.12048 -0.62289 -0.1184 -0.6111 -0.11198 -0.62844 C -0.11024 -0.6326 -0.10642 -0.64 -0.10642 -0.63977 E">
                                      <p:cBhvr>
                                        <p:cTn id="844" dur="2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348000" y="836640"/>
            <a:ext cx="1944720" cy="46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780000" y="5516640"/>
            <a:ext cx="107928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780000" y="1197000"/>
            <a:ext cx="115236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780000" y="3357720"/>
            <a:ext cx="1152360" cy="143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5084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ПЕРЕХОД ПО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5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5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5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5" dur="2000" fill="hold"/>
                                        <p:tgtEl>
                                          <p:spTgt spid="7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4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4356000" y="2997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0364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0836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56400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14836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724360" y="2924280"/>
            <a:ext cx="871560" cy="869760"/>
            <a:chOff x="5724360" y="2924280"/>
            <a:chExt cx="871560" cy="869760"/>
          </a:xfrm>
        </p:grpSpPr>
        <p:sp>
          <p:nvSpPr>
            <p:cNvPr id="741" name=""/>
            <p:cNvSpPr/>
            <p:nvPr/>
          </p:nvSpPr>
          <p:spPr>
            <a:xfrm>
              <a:off x="5724360" y="2924280"/>
              <a:ext cx="871560" cy="86976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14720" y="3084480"/>
              <a:ext cx="746280" cy="67428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59280" y="2958840"/>
              <a:ext cx="745920" cy="72828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19480" y="3012840"/>
              <a:ext cx="378000" cy="25524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56280" y="2949480"/>
              <a:ext cx="360360" cy="24552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792760" y="3122280"/>
              <a:ext cx="339480" cy="24120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18200" y="3105000"/>
              <a:ext cx="371160" cy="2520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79760" y="3468600"/>
              <a:ext cx="385920" cy="25344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78320" y="3350880"/>
              <a:ext cx="406440" cy="2523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162480" y="3213000"/>
              <a:ext cx="403200" cy="27108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9120" y="3330360"/>
              <a:ext cx="91800" cy="39168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29000" y="369540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276600" y="368748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02240" y="3622320"/>
              <a:ext cx="6012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997240" y="3254040"/>
              <a:ext cx="168480" cy="48384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46400" y="3149280"/>
              <a:ext cx="176400" cy="6062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881360" y="701640"/>
            <a:ext cx="5410080" cy="5219640"/>
            <a:chOff x="1881360" y="701640"/>
            <a:chExt cx="5410080" cy="5219640"/>
          </a:xfrm>
        </p:grpSpPr>
        <p:sp>
          <p:nvSpPr>
            <p:cNvPr id="758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noFill/>
            <a:ln cap="rnd"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3240000" y="1162080"/>
            <a:ext cx="2651040" cy="3714840"/>
            <a:chOff x="3240000" y="1162080"/>
            <a:chExt cx="2651040" cy="3714840"/>
          </a:xfrm>
        </p:grpSpPr>
        <p:sp>
          <p:nvSpPr>
            <p:cNvPr id="761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3471840" y="3106800"/>
            <a:ext cx="21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452760" y="4876920"/>
            <a:ext cx="268200" cy="1062000"/>
          </a:xfrm>
          <a:custGeom>
            <a:avLst/>
            <a:gdLst/>
            <a:ahLst/>
            <a:rect l="l" t="t" r="r" b="b"/>
            <a:pathLst>
              <a:path w="774" h="3059">
                <a:moveTo>
                  <a:pt x="695" y="166"/>
                </a:moveTo>
                <a:lnTo>
                  <a:pt x="103" y="2898"/>
                </a:lnTo>
                <a:cubicBezTo>
                  <a:pt x="102" y="2905"/>
                  <a:pt x="95" y="2909"/>
                  <a:pt x="88" y="2908"/>
                </a:cubicBezTo>
                <a:cubicBezTo>
                  <a:pt x="82" y="2907"/>
                  <a:pt x="77" y="2900"/>
                  <a:pt x="79" y="2893"/>
                </a:cubicBezTo>
                <a:lnTo>
                  <a:pt x="671" y="161"/>
                </a:lnTo>
                <a:cubicBezTo>
                  <a:pt x="672" y="154"/>
                  <a:pt x="679" y="150"/>
                  <a:pt x="685" y="151"/>
                </a:cubicBezTo>
                <a:cubicBezTo>
                  <a:pt x="692" y="152"/>
                  <a:pt x="697" y="159"/>
                  <a:pt x="695" y="166"/>
                </a:cubicBezTo>
                <a:close/>
                <a:moveTo>
                  <a:pt x="578" y="175"/>
                </a:moveTo>
                <a:lnTo>
                  <a:pt x="718" y="0"/>
                </a:lnTo>
                <a:lnTo>
                  <a:pt x="774" y="217"/>
                </a:lnTo>
                <a:lnTo>
                  <a:pt x="578" y="175"/>
                </a:lnTo>
                <a:close/>
                <a:moveTo>
                  <a:pt x="196" y="2884"/>
                </a:moveTo>
                <a:lnTo>
                  <a:pt x="56" y="3059"/>
                </a:lnTo>
                <a:lnTo>
                  <a:pt x="0" y="2842"/>
                </a:lnTo>
                <a:lnTo>
                  <a:pt x="196" y="288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2895480" y="4876920"/>
            <a:ext cx="3338640" cy="1008000"/>
            <a:chOff x="2895480" y="4876920"/>
            <a:chExt cx="3338640" cy="1008000"/>
          </a:xfrm>
        </p:grpSpPr>
        <p:sp>
          <p:nvSpPr>
            <p:cNvPr id="766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435400" y="2400480"/>
            <a:ext cx="1150920" cy="706320"/>
            <a:chOff x="2435400" y="2400480"/>
            <a:chExt cx="1150920" cy="706320"/>
          </a:xfrm>
        </p:grpSpPr>
        <p:sp>
          <p:nvSpPr>
            <p:cNvPr id="769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3816360" y="719280"/>
            <a:ext cx="1496880" cy="442800"/>
            <a:chOff x="3816360" y="719280"/>
            <a:chExt cx="1496880" cy="442800"/>
          </a:xfrm>
        </p:grpSpPr>
        <p:sp>
          <p:nvSpPr>
            <p:cNvPr id="772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3240000" y="4876920"/>
            <a:ext cx="264960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16360" y="1162080"/>
            <a:ext cx="14968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586320" y="2400480"/>
            <a:ext cx="19573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40000" y="2487600"/>
            <a:ext cx="2649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40000" y="2487600"/>
            <a:ext cx="180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889600" y="2487600"/>
            <a:ext cx="144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240000" y="2577960"/>
            <a:ext cx="2649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0" y="2665440"/>
            <a:ext cx="26510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3559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4718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5863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7018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7736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657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163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9322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04640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1608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2768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90920" y="2487600"/>
            <a:ext cx="32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5068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622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7386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531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9687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0832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132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973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277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436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881360" y="701640"/>
            <a:ext cx="5410080" cy="5219640"/>
            <a:chOff x="1881360" y="701640"/>
            <a:chExt cx="5410080" cy="5219640"/>
          </a:xfrm>
        </p:grpSpPr>
        <p:sp>
          <p:nvSpPr>
            <p:cNvPr id="805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noFill/>
            <a:ln cap="rnd"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240000" y="1162080"/>
            <a:ext cx="2651040" cy="3714840"/>
            <a:chOff x="3240000" y="1162080"/>
            <a:chExt cx="2651040" cy="3714840"/>
          </a:xfrm>
        </p:grpSpPr>
        <p:sp>
          <p:nvSpPr>
            <p:cNvPr id="808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3471840" y="3106800"/>
            <a:ext cx="21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452760" y="4876920"/>
            <a:ext cx="268200" cy="1062000"/>
          </a:xfrm>
          <a:custGeom>
            <a:avLst/>
            <a:gdLst/>
            <a:ahLst/>
            <a:rect l="l" t="t" r="r" b="b"/>
            <a:pathLst>
              <a:path w="774" h="3059">
                <a:moveTo>
                  <a:pt x="695" y="166"/>
                </a:moveTo>
                <a:lnTo>
                  <a:pt x="103" y="2898"/>
                </a:lnTo>
                <a:cubicBezTo>
                  <a:pt x="102" y="2905"/>
                  <a:pt x="95" y="2909"/>
                  <a:pt x="88" y="2908"/>
                </a:cubicBezTo>
                <a:cubicBezTo>
                  <a:pt x="82" y="2907"/>
                  <a:pt x="77" y="2900"/>
                  <a:pt x="79" y="2893"/>
                </a:cubicBezTo>
                <a:lnTo>
                  <a:pt x="671" y="161"/>
                </a:lnTo>
                <a:cubicBezTo>
                  <a:pt x="672" y="154"/>
                  <a:pt x="679" y="150"/>
                  <a:pt x="685" y="151"/>
                </a:cubicBezTo>
                <a:cubicBezTo>
                  <a:pt x="692" y="152"/>
                  <a:pt x="697" y="159"/>
                  <a:pt x="695" y="166"/>
                </a:cubicBezTo>
                <a:close/>
                <a:moveTo>
                  <a:pt x="578" y="175"/>
                </a:moveTo>
                <a:lnTo>
                  <a:pt x="718" y="0"/>
                </a:lnTo>
                <a:lnTo>
                  <a:pt x="774" y="217"/>
                </a:lnTo>
                <a:lnTo>
                  <a:pt x="578" y="175"/>
                </a:lnTo>
                <a:close/>
                <a:moveTo>
                  <a:pt x="196" y="2884"/>
                </a:moveTo>
                <a:lnTo>
                  <a:pt x="56" y="3059"/>
                </a:lnTo>
                <a:lnTo>
                  <a:pt x="0" y="2842"/>
                </a:lnTo>
                <a:lnTo>
                  <a:pt x="196" y="288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895480" y="4876920"/>
            <a:ext cx="3338640" cy="1008000"/>
            <a:chOff x="2895480" y="4876920"/>
            <a:chExt cx="3338640" cy="1008000"/>
          </a:xfrm>
        </p:grpSpPr>
        <p:sp>
          <p:nvSpPr>
            <p:cNvPr id="813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35400" y="2400480"/>
            <a:ext cx="1150920" cy="706320"/>
            <a:chOff x="2435400" y="2400480"/>
            <a:chExt cx="1150920" cy="706320"/>
          </a:xfrm>
        </p:grpSpPr>
        <p:sp>
          <p:nvSpPr>
            <p:cNvPr id="816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16360" y="719280"/>
            <a:ext cx="1496880" cy="442800"/>
            <a:chOff x="3816360" y="719280"/>
            <a:chExt cx="1496880" cy="442800"/>
          </a:xfrm>
        </p:grpSpPr>
        <p:sp>
          <p:nvSpPr>
            <p:cNvPr id="819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3240000" y="4876920"/>
            <a:ext cx="264960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16360" y="1162080"/>
            <a:ext cx="14968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86320" y="2400480"/>
            <a:ext cx="19573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240000" y="2487600"/>
            <a:ext cx="2649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240000" y="2487600"/>
            <a:ext cx="180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89600" y="2487600"/>
            <a:ext cx="144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240000" y="2577960"/>
            <a:ext cx="2649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40000" y="2665440"/>
            <a:ext cx="26510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559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718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35863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018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7736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657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163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322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04640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1608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2768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390920" y="2487600"/>
            <a:ext cx="32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068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22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7386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531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687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832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3132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1973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277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436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219640" y="501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427640" y="3933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56400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70836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2428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219640" y="3429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5148360" y="4941720"/>
            <a:ext cx="504720" cy="432000"/>
            <a:chOff x="5148360" y="4941720"/>
            <a:chExt cx="504720" cy="432000"/>
          </a:xfrm>
        </p:grpSpPr>
        <p:sp>
          <p:nvSpPr>
            <p:cNvPr id="858" name=""/>
            <p:cNvSpPr/>
            <p:nvPr/>
          </p:nvSpPr>
          <p:spPr>
            <a:xfrm>
              <a:off x="5148360" y="4941720"/>
              <a:ext cx="504720" cy="43200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200560" y="5021280"/>
              <a:ext cx="432000" cy="33480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68520" y="4959000"/>
              <a:ext cx="432000" cy="36180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61040" y="4985640"/>
              <a:ext cx="218880" cy="12672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40600" y="4954320"/>
              <a:ext cx="208440" cy="12204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87960" y="5040000"/>
              <a:ext cx="196560" cy="1198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76240" y="5031360"/>
              <a:ext cx="214920" cy="12528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11880" y="5212080"/>
              <a:ext cx="223200" cy="12600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1160" y="5153760"/>
              <a:ext cx="235080" cy="12528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01800" y="5085000"/>
              <a:ext cx="233280" cy="13464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365440" y="5143320"/>
              <a:ext cx="52920" cy="19440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82720" y="532476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68040" y="5320800"/>
              <a:ext cx="34920" cy="432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40760" y="5288400"/>
              <a:ext cx="34560" cy="432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06400" y="5105520"/>
              <a:ext cx="97560" cy="24048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18920" y="5053320"/>
              <a:ext cx="101880" cy="30096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8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8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8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9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8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1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2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8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8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9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9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0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0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1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5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C 0.00435 -0.00764 0.00747 -0.01574 0.01146 -0.02361 C 0.01233 -0.02523 0.01388 -0.02616 0.01459 -0.02778 C 0.01702 -0.0331 0.01823 -0.03935 0.02083 -0.04444 C 0.02153 -0.04583 0.02223 -0.04722 0.02292 -0.04861 C 0.02378 -0.05278 0.0257 -0.05671 0.02605 -0.06111 C 0.02744 -0.07963 0.02518 -0.09236 0.02917 -0.10833 C 0.02882 -0.11852 0.029 -0.1287 0.02813 -0.13889 C 0.02761 -0.14467 0.02431 -0.15278 0.02292 -0.15833 C 0.02014 -0.16944 0.01962 -0.18125 0.01563 -0.19167 C 0.01459 -0.19954 0.01355 -0.20926 0.01146 -0.21667 C 0.00955 -0.22384 0.00833 -0.22315 0.0073 -0.22917 C 0.00365 -0.25092 -0.00452 -0.27245 -0.01459 -0.29028 C -0.01685 -0.29907 -0.02171 -0.30486 -0.02605 -0.31111 C -0.029 -0.31551 -0.0316 -0.32037 -0.03438 -0.325 C -0.03646 -0.32847 -0.03888 -0.33217 -0.04167 -0.33472 C -0.04271 -0.33565 -0.04393 -0.33634 -0.0448 -0.3375 C -0.05053 -0.34514 -0.05573 -0.35648 -0.0625 -0.3625 C -0.06511 -0.36759 -0.06858 -0.3706 -0.07188 -0.375 E">
                                      <p:cBhvr>
                                        <p:cTn id="1067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0" dur="1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72" dur="1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1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80" dur="1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81" dur="1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8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89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90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098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099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1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07" dur="1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08" dur="1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1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16" dur="1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17" dur="1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25" dur="1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26" dur="1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3" dur="1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34" dur="1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35" dur="1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2" dur="1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43" dur="1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44" dur="1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1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52" dur="1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53" dur="1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1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62" dur="1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70" dur="1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71" dur="1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8" dur="1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79" dur="1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80" dur="1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7" dur="1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88" dur="1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89" dur="1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6" dur="1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197" dur="1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198" dur="1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5" dur="1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06" dur="1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07" dur="1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4" dur="1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15" dur="1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16" dur="1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3" dur="1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24" dur="1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25" dur="1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2" dur="1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33" dur="1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34" dur="1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1" dur="1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42" dur="1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43" dur="1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0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51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52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9" dur="1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60" dur="1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61" dur="1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8" dur="1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69" dur="1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70" dur="1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7" dur="1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78" dur="1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79" dur="1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1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87" dur="1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88" dur="1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5" dur="1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296" dur="1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297" dur="1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88 -0.375 C -0.06268 -0.3831 -0.05868 -0.39884 -0.05521 -0.4125 C -0.05556 -0.4213 -0.05573 -0.43009 -0.05625 -0.43889 C -0.05712 -0.45463 -0.06198 -0.47153 -0.06667 -0.48611 C -0.06858 -0.49213 -0.06979 -0.49769 -0.07396 -0.50139 C -0.07917 -0.51181 -0.08872 -0.51829 -0.09582 -0.52639 C -0.09722 -0.52801 -0.1 -0.53264 -0.10208 -0.53333 C -0.10417 -0.53403 -0.10625 -0.53333 -0.10833 -0.53333 E">
                                      <p:cBhvr>
                                        <p:cTn id="1305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3348000" y="836640"/>
            <a:ext cx="1944720" cy="46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780000" y="5516640"/>
            <a:ext cx="107928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780000" y="1197000"/>
            <a:ext cx="115236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780000" y="3357720"/>
            <a:ext cx="1152360" cy="143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476360" y="5084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ИГРА ПРОДОЛЖАЕ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1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1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6" dur="2000" fill="hold"/>
                                        <p:tgtEl>
                                          <p:spTgt spid="8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8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5987880"/>
            <a:ext cx="871560" cy="870120"/>
            <a:chOff x="0" y="5987880"/>
            <a:chExt cx="871560" cy="870120"/>
          </a:xfrm>
        </p:grpSpPr>
        <p:sp>
          <p:nvSpPr>
            <p:cNvPr id="214" name=""/>
            <p:cNvSpPr/>
            <p:nvPr/>
          </p:nvSpPr>
          <p:spPr>
            <a:xfrm>
              <a:off x="0" y="5987880"/>
              <a:ext cx="871560" cy="87012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360" y="6148440"/>
              <a:ext cx="746280" cy="67464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920" y="6022800"/>
              <a:ext cx="745920" cy="72864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5120" y="6076800"/>
              <a:ext cx="378000" cy="25560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1920" y="6013440"/>
              <a:ext cx="360360" cy="24588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400" y="6186240"/>
              <a:ext cx="339480" cy="24156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840" y="6168960"/>
              <a:ext cx="371160" cy="25236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5400" y="6532560"/>
              <a:ext cx="385920" cy="25380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3960" y="6414840"/>
              <a:ext cx="406440" cy="25272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8120" y="6276960"/>
              <a:ext cx="403200" cy="27144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760" y="6394320"/>
              <a:ext cx="91800" cy="39204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4640" y="6759360"/>
              <a:ext cx="60480" cy="8748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2240" y="6751440"/>
              <a:ext cx="60480" cy="8748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7880" y="6686280"/>
              <a:ext cx="60120" cy="8748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2880" y="6318000"/>
              <a:ext cx="168480" cy="48420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2040" y="6213240"/>
              <a:ext cx="176400" cy="60660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080" cy="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04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01295E-007 L 0.39965 -0.53492 E">
                                      <p:cBhvr>
                                        <p:cTn id="10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356000" y="2997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00364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6400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35600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14836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5724360" y="2924280"/>
            <a:ext cx="871560" cy="869760"/>
            <a:chOff x="5724360" y="2924280"/>
            <a:chExt cx="871560" cy="869760"/>
          </a:xfrm>
        </p:grpSpPr>
        <p:sp>
          <p:nvSpPr>
            <p:cNvPr id="886" name=""/>
            <p:cNvSpPr/>
            <p:nvPr/>
          </p:nvSpPr>
          <p:spPr>
            <a:xfrm>
              <a:off x="5724360" y="2924280"/>
              <a:ext cx="871560" cy="86976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814720" y="3084480"/>
              <a:ext cx="746280" cy="67428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59280" y="2958840"/>
              <a:ext cx="745920" cy="72828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19480" y="3012840"/>
              <a:ext cx="378000" cy="25524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56280" y="2949480"/>
              <a:ext cx="360360" cy="24552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92760" y="3122280"/>
              <a:ext cx="339480" cy="24120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18200" y="3105000"/>
              <a:ext cx="371160" cy="2520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79760" y="3468600"/>
              <a:ext cx="385920" cy="25344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78320" y="3350880"/>
              <a:ext cx="406440" cy="2523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62480" y="3213000"/>
              <a:ext cx="403200" cy="27108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99120" y="3330360"/>
              <a:ext cx="91800" cy="39168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29000" y="369540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76600" y="368748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02240" y="3622320"/>
              <a:ext cx="6012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997240" y="3254040"/>
              <a:ext cx="168480" cy="48384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846400" y="3149280"/>
              <a:ext cx="176400" cy="6062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881360" y="701640"/>
            <a:ext cx="5410080" cy="5219640"/>
            <a:chOff x="1881360" y="701640"/>
            <a:chExt cx="5410080" cy="5219640"/>
          </a:xfrm>
        </p:grpSpPr>
        <p:sp>
          <p:nvSpPr>
            <p:cNvPr id="903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noFill/>
            <a:ln cap="rnd"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240000" y="1162080"/>
            <a:ext cx="2651040" cy="3714840"/>
            <a:chOff x="3240000" y="1162080"/>
            <a:chExt cx="2651040" cy="3714840"/>
          </a:xfrm>
        </p:grpSpPr>
        <p:sp>
          <p:nvSpPr>
            <p:cNvPr id="906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3471840" y="3106800"/>
            <a:ext cx="21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452760" y="4876920"/>
            <a:ext cx="268200" cy="1062000"/>
          </a:xfrm>
          <a:custGeom>
            <a:avLst/>
            <a:gdLst/>
            <a:ahLst/>
            <a:rect l="l" t="t" r="r" b="b"/>
            <a:pathLst>
              <a:path w="774" h="3059">
                <a:moveTo>
                  <a:pt x="695" y="166"/>
                </a:moveTo>
                <a:lnTo>
                  <a:pt x="103" y="2898"/>
                </a:lnTo>
                <a:cubicBezTo>
                  <a:pt x="102" y="2905"/>
                  <a:pt x="95" y="2909"/>
                  <a:pt x="88" y="2908"/>
                </a:cubicBezTo>
                <a:cubicBezTo>
                  <a:pt x="82" y="2907"/>
                  <a:pt x="77" y="2900"/>
                  <a:pt x="79" y="2893"/>
                </a:cubicBezTo>
                <a:lnTo>
                  <a:pt x="671" y="161"/>
                </a:lnTo>
                <a:cubicBezTo>
                  <a:pt x="672" y="154"/>
                  <a:pt x="679" y="150"/>
                  <a:pt x="685" y="151"/>
                </a:cubicBezTo>
                <a:cubicBezTo>
                  <a:pt x="692" y="152"/>
                  <a:pt x="697" y="159"/>
                  <a:pt x="695" y="166"/>
                </a:cubicBezTo>
                <a:close/>
                <a:moveTo>
                  <a:pt x="578" y="175"/>
                </a:moveTo>
                <a:lnTo>
                  <a:pt x="718" y="0"/>
                </a:lnTo>
                <a:lnTo>
                  <a:pt x="774" y="217"/>
                </a:lnTo>
                <a:lnTo>
                  <a:pt x="578" y="175"/>
                </a:lnTo>
                <a:close/>
                <a:moveTo>
                  <a:pt x="196" y="2884"/>
                </a:moveTo>
                <a:lnTo>
                  <a:pt x="56" y="3059"/>
                </a:lnTo>
                <a:lnTo>
                  <a:pt x="0" y="2842"/>
                </a:lnTo>
                <a:lnTo>
                  <a:pt x="196" y="288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2895480" y="4876920"/>
            <a:ext cx="3338640" cy="1008000"/>
            <a:chOff x="2895480" y="4876920"/>
            <a:chExt cx="3338640" cy="1008000"/>
          </a:xfrm>
        </p:grpSpPr>
        <p:sp>
          <p:nvSpPr>
            <p:cNvPr id="911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2435400" y="2400480"/>
            <a:ext cx="1150920" cy="706320"/>
            <a:chOff x="2435400" y="2400480"/>
            <a:chExt cx="1150920" cy="706320"/>
          </a:xfrm>
        </p:grpSpPr>
        <p:sp>
          <p:nvSpPr>
            <p:cNvPr id="914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816360" y="719280"/>
            <a:ext cx="1496880" cy="442800"/>
            <a:chOff x="3816360" y="719280"/>
            <a:chExt cx="1496880" cy="442800"/>
          </a:xfrm>
        </p:grpSpPr>
        <p:sp>
          <p:nvSpPr>
            <p:cNvPr id="917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240000" y="4876920"/>
            <a:ext cx="264960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16360" y="1162080"/>
            <a:ext cx="14968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86320" y="2400480"/>
            <a:ext cx="19573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240000" y="2487600"/>
            <a:ext cx="2649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240000" y="2487600"/>
            <a:ext cx="180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0" y="2487600"/>
            <a:ext cx="144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40000" y="2577960"/>
            <a:ext cx="2649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240000" y="2665440"/>
            <a:ext cx="26510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3559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718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35863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7018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736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57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163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9322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04640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1608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2768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390920" y="2487600"/>
            <a:ext cx="32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5068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622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7386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8531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9687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0832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3132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1973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277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5436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1881360" y="701640"/>
            <a:ext cx="5410080" cy="5219640"/>
            <a:chOff x="1881360" y="701640"/>
            <a:chExt cx="5410080" cy="5219640"/>
          </a:xfrm>
        </p:grpSpPr>
        <p:sp>
          <p:nvSpPr>
            <p:cNvPr id="950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81360" y="701640"/>
              <a:ext cx="5410080" cy="5219640"/>
            </a:xfrm>
            <a:custGeom>
              <a:avLst/>
              <a:gdLst/>
              <a:ahLst/>
              <a:rect l="l" t="t" r="r" b="b"/>
              <a:pathLst>
                <a:path w="3408" h="3288">
                  <a:moveTo>
                    <a:pt x="3408" y="3288"/>
                  </a:moveTo>
                  <a:lnTo>
                    <a:pt x="2803" y="0"/>
                  </a:lnTo>
                  <a:lnTo>
                    <a:pt x="606" y="0"/>
                  </a:lnTo>
                  <a:lnTo>
                    <a:pt x="0" y="3288"/>
                  </a:lnTo>
                  <a:lnTo>
                    <a:pt x="3408" y="3288"/>
                  </a:lnTo>
                  <a:close/>
                </a:path>
              </a:pathLst>
            </a:custGeom>
            <a:noFill/>
            <a:ln cap="rnd"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3240000" y="1162080"/>
            <a:ext cx="2651040" cy="3714840"/>
            <a:chOff x="3240000" y="1162080"/>
            <a:chExt cx="2651040" cy="3714840"/>
          </a:xfrm>
        </p:grpSpPr>
        <p:sp>
          <p:nvSpPr>
            <p:cNvPr id="953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40000" y="1162080"/>
              <a:ext cx="2651040" cy="3714840"/>
            </a:xfrm>
            <a:custGeom>
              <a:avLst/>
              <a:gdLst/>
              <a:ahLst/>
              <a:rect l="l" t="t" r="r" b="b"/>
              <a:pathLst>
                <a:path w="1670" h="2340">
                  <a:moveTo>
                    <a:pt x="1670" y="2340"/>
                  </a:moveTo>
                  <a:lnTo>
                    <a:pt x="1310" y="0"/>
                  </a:lnTo>
                  <a:lnTo>
                    <a:pt x="360" y="0"/>
                  </a:lnTo>
                  <a:lnTo>
                    <a:pt x="0" y="2340"/>
                  </a:lnTo>
                  <a:lnTo>
                    <a:pt x="1670" y="2340"/>
                  </a:lnTo>
                  <a:close/>
                </a:path>
              </a:pathLst>
            </a:custGeom>
            <a:noFill/>
            <a:ln cap="rnd"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3471840" y="3106800"/>
            <a:ext cx="21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452760" y="4876920"/>
            <a:ext cx="268200" cy="1062000"/>
          </a:xfrm>
          <a:custGeom>
            <a:avLst/>
            <a:gdLst/>
            <a:ahLst/>
            <a:rect l="l" t="t" r="r" b="b"/>
            <a:pathLst>
              <a:path w="774" h="3059">
                <a:moveTo>
                  <a:pt x="695" y="166"/>
                </a:moveTo>
                <a:lnTo>
                  <a:pt x="103" y="2898"/>
                </a:lnTo>
                <a:cubicBezTo>
                  <a:pt x="102" y="2905"/>
                  <a:pt x="95" y="2909"/>
                  <a:pt x="88" y="2908"/>
                </a:cubicBezTo>
                <a:cubicBezTo>
                  <a:pt x="82" y="2907"/>
                  <a:pt x="77" y="2900"/>
                  <a:pt x="79" y="2893"/>
                </a:cubicBezTo>
                <a:lnTo>
                  <a:pt x="671" y="161"/>
                </a:lnTo>
                <a:cubicBezTo>
                  <a:pt x="672" y="154"/>
                  <a:pt x="679" y="150"/>
                  <a:pt x="685" y="151"/>
                </a:cubicBezTo>
                <a:cubicBezTo>
                  <a:pt x="692" y="152"/>
                  <a:pt x="697" y="159"/>
                  <a:pt x="695" y="166"/>
                </a:cubicBezTo>
                <a:close/>
                <a:moveTo>
                  <a:pt x="578" y="175"/>
                </a:moveTo>
                <a:lnTo>
                  <a:pt x="718" y="0"/>
                </a:lnTo>
                <a:lnTo>
                  <a:pt x="774" y="217"/>
                </a:lnTo>
                <a:lnTo>
                  <a:pt x="578" y="175"/>
                </a:lnTo>
                <a:close/>
                <a:moveTo>
                  <a:pt x="196" y="2884"/>
                </a:moveTo>
                <a:lnTo>
                  <a:pt x="56" y="3059"/>
                </a:lnTo>
                <a:lnTo>
                  <a:pt x="0" y="2842"/>
                </a:lnTo>
                <a:lnTo>
                  <a:pt x="196" y="288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2895480" y="4876920"/>
            <a:ext cx="3338640" cy="1008000"/>
            <a:chOff x="2895480" y="4876920"/>
            <a:chExt cx="3338640" cy="1008000"/>
          </a:xfrm>
        </p:grpSpPr>
        <p:sp>
          <p:nvSpPr>
            <p:cNvPr id="958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95480" y="4876920"/>
              <a:ext cx="3338640" cy="1008000"/>
            </a:xfrm>
            <a:custGeom>
              <a:avLst/>
              <a:gdLst/>
              <a:ahLst/>
              <a:rect l="l" t="t" r="r" b="b"/>
              <a:pathLst>
                <a:path w="2103" h="635">
                  <a:moveTo>
                    <a:pt x="2103" y="635"/>
                  </a:moveTo>
                  <a:lnTo>
                    <a:pt x="1890" y="0"/>
                  </a:lnTo>
                  <a:lnTo>
                    <a:pt x="214" y="0"/>
                  </a:lnTo>
                  <a:lnTo>
                    <a:pt x="0" y="635"/>
                  </a:lnTo>
                  <a:lnTo>
                    <a:pt x="2103" y="635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2435400" y="2400480"/>
            <a:ext cx="1150920" cy="706320"/>
            <a:chOff x="2435400" y="2400480"/>
            <a:chExt cx="1150920" cy="706320"/>
          </a:xfrm>
        </p:grpSpPr>
        <p:sp>
          <p:nvSpPr>
            <p:cNvPr id="961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35400" y="2400480"/>
              <a:ext cx="1150920" cy="706320"/>
            </a:xfrm>
            <a:custGeom>
              <a:avLst/>
              <a:gdLst/>
              <a:ahLst/>
              <a:rect l="l" t="t" r="r" b="b"/>
              <a:pathLst>
                <a:path w="725" h="445">
                  <a:moveTo>
                    <a:pt x="60" y="0"/>
                  </a:moveTo>
                  <a:lnTo>
                    <a:pt x="0" y="445"/>
                  </a:lnTo>
                  <a:lnTo>
                    <a:pt x="665" y="445"/>
                  </a:lnTo>
                  <a:lnTo>
                    <a:pt x="725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16360" y="719280"/>
            <a:ext cx="1496880" cy="442800"/>
            <a:chOff x="3816360" y="719280"/>
            <a:chExt cx="1496880" cy="442800"/>
          </a:xfrm>
        </p:grpSpPr>
        <p:sp>
          <p:nvSpPr>
            <p:cNvPr id="964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16360" y="719280"/>
              <a:ext cx="1496880" cy="442800"/>
            </a:xfrm>
            <a:custGeom>
              <a:avLst/>
              <a:gdLst/>
              <a:ahLst/>
              <a:rect l="l" t="t" r="r" b="b"/>
              <a:pathLst>
                <a:path w="943" h="279">
                  <a:moveTo>
                    <a:pt x="943" y="279"/>
                  </a:moveTo>
                  <a:lnTo>
                    <a:pt x="882" y="0"/>
                  </a:lnTo>
                  <a:lnTo>
                    <a:pt x="61" y="0"/>
                  </a:lnTo>
                  <a:lnTo>
                    <a:pt x="0" y="279"/>
                  </a:lnTo>
                  <a:lnTo>
                    <a:pt x="943" y="279"/>
                  </a:lnTo>
                  <a:close/>
                </a:path>
              </a:pathLst>
            </a:custGeom>
            <a:noFill/>
            <a:ln cap="rnd" w="7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240000" y="4876920"/>
            <a:ext cx="264960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16360" y="1162080"/>
            <a:ext cx="14968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586320" y="2400480"/>
            <a:ext cx="19573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240000" y="2487600"/>
            <a:ext cx="2649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240000" y="2487600"/>
            <a:ext cx="180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889600" y="2487600"/>
            <a:ext cx="1440" cy="353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240000" y="2577960"/>
            <a:ext cx="2649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240000" y="2665440"/>
            <a:ext cx="26510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3559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4718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35863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7018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77368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657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8163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9322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04640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1608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2768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390920" y="2487600"/>
            <a:ext cx="32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5068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62276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73868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316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9687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08320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31324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97320" y="2487600"/>
            <a:ext cx="180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42772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543640" y="2487600"/>
            <a:ext cx="1440" cy="266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219640" y="501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427640" y="3933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56400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0836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427640" y="292428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219640" y="3429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5148360" y="4941720"/>
            <a:ext cx="504720" cy="503280"/>
            <a:chOff x="5148360" y="4941720"/>
            <a:chExt cx="504720" cy="503280"/>
          </a:xfrm>
        </p:grpSpPr>
        <p:sp>
          <p:nvSpPr>
            <p:cNvPr id="1003" name=""/>
            <p:cNvSpPr/>
            <p:nvPr/>
          </p:nvSpPr>
          <p:spPr>
            <a:xfrm>
              <a:off x="5148360" y="4941720"/>
              <a:ext cx="504720" cy="50328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00560" y="5034600"/>
              <a:ext cx="432000" cy="39024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68520" y="4961880"/>
              <a:ext cx="432000" cy="421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61040" y="4992840"/>
              <a:ext cx="218880" cy="14760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40600" y="4956480"/>
              <a:ext cx="208440" cy="1422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187960" y="5056200"/>
              <a:ext cx="196560" cy="1396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376240" y="5046480"/>
              <a:ext cx="214920" cy="1458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11880" y="5256720"/>
              <a:ext cx="223200" cy="14652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11160" y="5188680"/>
              <a:ext cx="235080" cy="1461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01800" y="5108760"/>
              <a:ext cx="233280" cy="15696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65440" y="5176800"/>
              <a:ext cx="52920" cy="22680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82720" y="5387760"/>
              <a:ext cx="34920" cy="504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68040" y="5383440"/>
              <a:ext cx="34920" cy="504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40760" y="5345640"/>
              <a:ext cx="34560" cy="504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06400" y="5132520"/>
              <a:ext cx="97560" cy="28008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218920" y="5072040"/>
              <a:ext cx="101880" cy="3506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0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3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5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5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5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7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8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3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3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0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0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0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2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3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3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4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5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8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4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4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C 0.00435 -0.00764 0.00747 -0.01574 0.01146 -0.02361 C 0.01233 -0.02523 0.01388 -0.02616 0.01459 -0.02778 C 0.01702 -0.0331 0.01823 -0.03935 0.02083 -0.04444 C 0.02153 -0.04583 0.02223 -0.04722 0.02292 -0.04861 C 0.02378 -0.05278 0.0257 -0.05671 0.02605 -0.06111 C 0.02744 -0.07963 0.02518 -0.09236 0.02917 -0.10833 C 0.02882 -0.11852 0.029 -0.1287 0.02813 -0.13889 C 0.02761 -0.14467 0.02431 -0.15278 0.02292 -0.15833 C 0.02014 -0.16944 0.01962 -0.18125 0.01563 -0.19167 C 0.01459 -0.19954 0.01355 -0.20926 0.01146 -0.21667 C 0.00955 -0.22384 0.00833 -0.22315 0.0073 -0.22917 C 0.00365 -0.25092 -0.00452 -0.27245 -0.01459 -0.29028 C -0.01685 -0.29907 -0.02171 -0.30486 -0.02605 -0.31111 C -0.029 -0.31551 -0.0316 -0.32037 -0.03438 -0.325 C -0.03646 -0.32847 -0.03888 -0.33217 -0.04167 -0.33472 C -0.04271 -0.33565 -0.04393 -0.33634 -0.0448 -0.3375 C -0.05053 -0.34514 -0.05573 -0.35648 -0.0625 -0.3625 C -0.06511 -0.36759 -0.06858 -0.3706 -0.07188 -0.375 E">
                                      <p:cBhvr>
                                        <p:cTn id="1528" dur="2000" fill="hold"/>
                                        <p:tgtEl>
                                          <p:spTgt spid="10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1" dur="1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32" dur="1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33" dur="1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0" dur="1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41" dur="1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42" dur="1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9" dur="1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50" dur="1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51" dur="1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1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59" dur="1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60" dur="1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1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68" dur="1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69" dur="1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6" dur="1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77" dur="1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78" dur="1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1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86" dur="1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87" dur="1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4" dur="1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95" dur="1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596" dur="1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3" dur="1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04" dur="1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05" dur="1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1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13" dur="1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14" dur="1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1" dur="1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22" dur="1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23" dur="1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1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31" dur="1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32" dur="1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1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40" dur="1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41" dur="1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8" dur="1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49" dur="1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50" dur="1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7" dur="1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58" dur="1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59" dur="1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6" dur="1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67" dur="1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68" dur="1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5" dur="1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76" dur="1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77" dur="1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3" dur="1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694" dur="1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95" dur="1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2" dur="1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03" dur="1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04" dur="1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1" dur="1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12" dur="1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13" dur="1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0" dur="1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21" dur="1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22" dur="1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30" dur="1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31" dur="1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8" dur="1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39" dur="1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40" dur="1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7" dur="1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48" dur="1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49" dur="1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6" dur="1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757" dur="1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758" dur="1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88 -0.37502 C -0.06719 -0.35653 -0.07066 -0.33618 -0.075 -0.31791 C -0.07726 -0.24577 -0.07483 -0.29225 -0.0783 -0.2504 C -0.07882 -0.24323 -0.07986 -0.22913 -0.07986 -0.22913 E">
                                      <p:cBhvr>
                                        <p:cTn id="1767" dur="2000" fill="hold"/>
                                        <p:tgtEl>
                                          <p:spTgt spid="10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3348000" y="836640"/>
            <a:ext cx="1944720" cy="46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780000" y="5516640"/>
            <a:ext cx="107928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780000" y="1197000"/>
            <a:ext cx="115236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780000" y="3357720"/>
            <a:ext cx="1152360" cy="143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476360" y="5084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ПЕРЕХОД ПО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0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7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7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75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776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8" dur="2000" fill="hold"/>
                                        <p:tgtEl>
                                          <p:spTgt spid="10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4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7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0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4356000" y="299736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00364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708360" y="328464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56400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356000" y="3933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148360" y="4149720"/>
            <a:ext cx="36036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724360" y="2924280"/>
            <a:ext cx="871560" cy="869760"/>
            <a:chOff x="5724360" y="2924280"/>
            <a:chExt cx="871560" cy="869760"/>
          </a:xfrm>
        </p:grpSpPr>
        <p:sp>
          <p:nvSpPr>
            <p:cNvPr id="1031" name=""/>
            <p:cNvSpPr/>
            <p:nvPr/>
          </p:nvSpPr>
          <p:spPr>
            <a:xfrm>
              <a:off x="5724360" y="2924280"/>
              <a:ext cx="871560" cy="86976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14720" y="3084480"/>
              <a:ext cx="746280" cy="67428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59280" y="2958840"/>
              <a:ext cx="745920" cy="72828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19480" y="3012840"/>
              <a:ext cx="378000" cy="25524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056280" y="2949480"/>
              <a:ext cx="360360" cy="24552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92760" y="3122280"/>
              <a:ext cx="339480" cy="24120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118200" y="3105000"/>
              <a:ext cx="371160" cy="2520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79760" y="3468600"/>
              <a:ext cx="385920" cy="25344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178320" y="3350880"/>
              <a:ext cx="406440" cy="2523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162480" y="3213000"/>
              <a:ext cx="403200" cy="27108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99120" y="3330360"/>
              <a:ext cx="91800" cy="39168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29000" y="369540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276600" y="3687480"/>
              <a:ext cx="60480" cy="8712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02240" y="3622320"/>
              <a:ext cx="60120" cy="8712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97240" y="3254040"/>
              <a:ext cx="168480" cy="48384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46400" y="3149280"/>
              <a:ext cx="176400" cy="6062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1870200" y="684000"/>
            <a:ext cx="5410080" cy="5237280"/>
            <a:chOff x="1870200" y="684000"/>
            <a:chExt cx="5410080" cy="5237280"/>
          </a:xfrm>
        </p:grpSpPr>
        <p:grpSp>
          <p:nvGrpSpPr>
            <p:cNvPr id="1048" name=""/>
            <p:cNvGrpSpPr/>
            <p:nvPr/>
          </p:nvGrpSpPr>
          <p:grpSpPr>
            <a:xfrm>
              <a:off x="1870200" y="684000"/>
              <a:ext cx="5410080" cy="5219640"/>
              <a:chOff x="1870200" y="684000"/>
              <a:chExt cx="5410080" cy="5219640"/>
            </a:xfrm>
          </p:grpSpPr>
          <p:sp>
            <p:nvSpPr>
              <p:cNvPr id="1049" name=""/>
              <p:cNvSpPr/>
              <p:nvPr/>
            </p:nvSpPr>
            <p:spPr>
              <a:xfrm>
                <a:off x="1870200" y="68400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870200" y="68400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3228840" y="1144440"/>
              <a:ext cx="2651040" cy="3714840"/>
              <a:chOff x="3228840" y="1144440"/>
              <a:chExt cx="2651040" cy="3714840"/>
            </a:xfrm>
          </p:grpSpPr>
          <p:sp>
            <p:nvSpPr>
              <p:cNvPr id="1052" name=""/>
              <p:cNvSpPr/>
              <p:nvPr/>
            </p:nvSpPr>
            <p:spPr>
              <a:xfrm>
                <a:off x="3228840" y="114444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28840" y="114444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3460680" y="308916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441600" y="485928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2884320" y="4859280"/>
              <a:ext cx="3338640" cy="1008000"/>
              <a:chOff x="2884320" y="4859280"/>
              <a:chExt cx="3338640" cy="10080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884320" y="485928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884320" y="485928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2424240" y="2382840"/>
              <a:ext cx="1150920" cy="706320"/>
              <a:chOff x="2424240" y="2382840"/>
              <a:chExt cx="1150920" cy="706320"/>
            </a:xfrm>
          </p:grpSpPr>
          <p:sp>
            <p:nvSpPr>
              <p:cNvPr id="1060" name=""/>
              <p:cNvSpPr/>
              <p:nvPr/>
            </p:nvSpPr>
            <p:spPr>
              <a:xfrm>
                <a:off x="2424240" y="238284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424240" y="238284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3805200" y="701640"/>
              <a:ext cx="1496880" cy="442800"/>
              <a:chOff x="3805200" y="701640"/>
              <a:chExt cx="1496880" cy="442800"/>
            </a:xfrm>
          </p:grpSpPr>
          <p:sp>
            <p:nvSpPr>
              <p:cNvPr id="1063" name=""/>
              <p:cNvSpPr/>
              <p:nvPr/>
            </p:nvSpPr>
            <p:spPr>
              <a:xfrm>
                <a:off x="3805200" y="70164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805200" y="70164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228840" y="485928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805200" y="1144440"/>
              <a:ext cx="149688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75160" y="238284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28840" y="246996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28840" y="246996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78440" y="246996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28840" y="256032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28840" y="264780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447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6068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357516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9072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6252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64660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80520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9211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3524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497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26564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79760" y="246996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49568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1160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7275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4200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9575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7204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0208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1861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1656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53248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1870200" y="684000"/>
              <a:ext cx="5410080" cy="5219640"/>
              <a:chOff x="1870200" y="684000"/>
              <a:chExt cx="5410080" cy="5219640"/>
            </a:xfrm>
          </p:grpSpPr>
          <p:sp>
            <p:nvSpPr>
              <p:cNvPr id="1096" name=""/>
              <p:cNvSpPr/>
              <p:nvPr/>
            </p:nvSpPr>
            <p:spPr>
              <a:xfrm>
                <a:off x="1870200" y="68400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70200" y="684000"/>
                <a:ext cx="5410080" cy="5219640"/>
              </a:xfrm>
              <a:custGeom>
                <a:avLst/>
                <a:gdLst/>
                <a:ahLst/>
                <a:rect l="l" t="t" r="r" b="b"/>
                <a:pathLst>
                  <a:path w="3408" h="3288">
                    <a:moveTo>
                      <a:pt x="3408" y="3288"/>
                    </a:moveTo>
                    <a:lnTo>
                      <a:pt x="2803" y="0"/>
                    </a:lnTo>
                    <a:lnTo>
                      <a:pt x="606" y="0"/>
                    </a:lnTo>
                    <a:lnTo>
                      <a:pt x="0" y="3288"/>
                    </a:lnTo>
                    <a:lnTo>
                      <a:pt x="3408" y="3288"/>
                    </a:lnTo>
                    <a:close/>
                  </a:path>
                </a:pathLst>
              </a:custGeom>
              <a:noFill/>
              <a:ln cap="rnd" w="52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3228840" y="1144440"/>
              <a:ext cx="2651040" cy="3714840"/>
              <a:chOff x="3228840" y="1144440"/>
              <a:chExt cx="2651040" cy="3714840"/>
            </a:xfrm>
          </p:grpSpPr>
          <p:sp>
            <p:nvSpPr>
              <p:cNvPr id="1099" name=""/>
              <p:cNvSpPr/>
              <p:nvPr/>
            </p:nvSpPr>
            <p:spPr>
              <a:xfrm>
                <a:off x="3228840" y="114444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228840" y="1144440"/>
                <a:ext cx="2651040" cy="3714840"/>
              </a:xfrm>
              <a:custGeom>
                <a:avLst/>
                <a:gdLst/>
                <a:ahLst/>
                <a:rect l="l" t="t" r="r" b="b"/>
                <a:pathLst>
                  <a:path w="1670" h="2340">
                    <a:moveTo>
                      <a:pt x="1670" y="2340"/>
                    </a:moveTo>
                    <a:lnTo>
                      <a:pt x="1310" y="0"/>
                    </a:lnTo>
                    <a:lnTo>
                      <a:pt x="360" y="0"/>
                    </a:lnTo>
                    <a:lnTo>
                      <a:pt x="0" y="2340"/>
                    </a:lnTo>
                    <a:lnTo>
                      <a:pt x="1670" y="2340"/>
                    </a:lnTo>
                    <a:close/>
                  </a:path>
                </a:pathLst>
              </a:custGeom>
              <a:noFill/>
              <a:ln cap="rnd"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3460680" y="3089160"/>
              <a:ext cx="21859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41600" y="4859280"/>
              <a:ext cx="268200" cy="1062000"/>
            </a:xfrm>
            <a:custGeom>
              <a:avLst/>
              <a:gdLst/>
              <a:ahLst/>
              <a:rect l="l" t="t" r="r" b="b"/>
              <a:pathLst>
                <a:path w="774" h="3059">
                  <a:moveTo>
                    <a:pt x="695" y="166"/>
                  </a:moveTo>
                  <a:lnTo>
                    <a:pt x="103" y="2898"/>
                  </a:lnTo>
                  <a:cubicBezTo>
                    <a:pt x="102" y="2905"/>
                    <a:pt x="95" y="2909"/>
                    <a:pt x="88" y="2908"/>
                  </a:cubicBezTo>
                  <a:cubicBezTo>
                    <a:pt x="82" y="2907"/>
                    <a:pt x="77" y="2900"/>
                    <a:pt x="79" y="2893"/>
                  </a:cubicBezTo>
                  <a:lnTo>
                    <a:pt x="671" y="161"/>
                  </a:lnTo>
                  <a:cubicBezTo>
                    <a:pt x="672" y="154"/>
                    <a:pt x="679" y="150"/>
                    <a:pt x="685" y="151"/>
                  </a:cubicBezTo>
                  <a:cubicBezTo>
                    <a:pt x="692" y="152"/>
                    <a:pt x="697" y="159"/>
                    <a:pt x="695" y="166"/>
                  </a:cubicBezTo>
                  <a:close/>
                  <a:moveTo>
                    <a:pt x="578" y="175"/>
                  </a:moveTo>
                  <a:lnTo>
                    <a:pt x="718" y="0"/>
                  </a:lnTo>
                  <a:lnTo>
                    <a:pt x="774" y="217"/>
                  </a:lnTo>
                  <a:lnTo>
                    <a:pt x="578" y="175"/>
                  </a:lnTo>
                  <a:close/>
                  <a:moveTo>
                    <a:pt x="196" y="2884"/>
                  </a:moveTo>
                  <a:lnTo>
                    <a:pt x="56" y="3059"/>
                  </a:lnTo>
                  <a:lnTo>
                    <a:pt x="0" y="2842"/>
                  </a:lnTo>
                  <a:lnTo>
                    <a:pt x="196" y="288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2884320" y="4859280"/>
              <a:ext cx="3338640" cy="1008000"/>
              <a:chOff x="2884320" y="4859280"/>
              <a:chExt cx="3338640" cy="1008000"/>
            </a:xfrm>
          </p:grpSpPr>
          <p:sp>
            <p:nvSpPr>
              <p:cNvPr id="1104" name=""/>
              <p:cNvSpPr/>
              <p:nvPr/>
            </p:nvSpPr>
            <p:spPr>
              <a:xfrm>
                <a:off x="2884320" y="485928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884320" y="4859280"/>
                <a:ext cx="3338640" cy="1008000"/>
              </a:xfrm>
              <a:custGeom>
                <a:avLst/>
                <a:gdLst/>
                <a:ahLst/>
                <a:rect l="l" t="t" r="r" b="b"/>
                <a:pathLst>
                  <a:path w="2103" h="635">
                    <a:moveTo>
                      <a:pt x="2103" y="635"/>
                    </a:moveTo>
                    <a:lnTo>
                      <a:pt x="1890" y="0"/>
                    </a:lnTo>
                    <a:lnTo>
                      <a:pt x="214" y="0"/>
                    </a:lnTo>
                    <a:lnTo>
                      <a:pt x="0" y="635"/>
                    </a:lnTo>
                    <a:lnTo>
                      <a:pt x="2103" y="635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2424240" y="2382840"/>
              <a:ext cx="1150920" cy="706320"/>
              <a:chOff x="2424240" y="2382840"/>
              <a:chExt cx="1150920" cy="706320"/>
            </a:xfrm>
          </p:grpSpPr>
          <p:sp>
            <p:nvSpPr>
              <p:cNvPr id="1107" name=""/>
              <p:cNvSpPr/>
              <p:nvPr/>
            </p:nvSpPr>
            <p:spPr>
              <a:xfrm>
                <a:off x="2424240" y="238284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424240" y="2382840"/>
                <a:ext cx="1150920" cy="706320"/>
              </a:xfrm>
              <a:custGeom>
                <a:avLst/>
                <a:gdLst/>
                <a:ahLst/>
                <a:rect l="l" t="t" r="r" b="b"/>
                <a:pathLst>
                  <a:path w="725" h="445">
                    <a:moveTo>
                      <a:pt x="60" y="0"/>
                    </a:moveTo>
                    <a:lnTo>
                      <a:pt x="0" y="445"/>
                    </a:lnTo>
                    <a:lnTo>
                      <a:pt x="665" y="445"/>
                    </a:lnTo>
                    <a:lnTo>
                      <a:pt x="725" y="0"/>
                    </a:lnTo>
                    <a:lnTo>
                      <a:pt x="60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3805200" y="701640"/>
              <a:ext cx="1496880" cy="442800"/>
              <a:chOff x="3805200" y="701640"/>
              <a:chExt cx="1496880" cy="442800"/>
            </a:xfrm>
          </p:grpSpPr>
          <p:sp>
            <p:nvSpPr>
              <p:cNvPr id="1110" name=""/>
              <p:cNvSpPr/>
              <p:nvPr/>
            </p:nvSpPr>
            <p:spPr>
              <a:xfrm>
                <a:off x="3805200" y="70164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805200" y="701640"/>
                <a:ext cx="1496880" cy="442800"/>
              </a:xfrm>
              <a:custGeom>
                <a:avLst/>
                <a:gdLst/>
                <a:ahLst/>
                <a:rect l="l" t="t" r="r" b="b"/>
                <a:pathLst>
                  <a:path w="943" h="279">
                    <a:moveTo>
                      <a:pt x="943" y="279"/>
                    </a:moveTo>
                    <a:lnTo>
                      <a:pt x="882" y="0"/>
                    </a:lnTo>
                    <a:lnTo>
                      <a:pt x="61" y="0"/>
                    </a:lnTo>
                    <a:lnTo>
                      <a:pt x="0" y="279"/>
                    </a:lnTo>
                    <a:lnTo>
                      <a:pt x="943" y="279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2" name=""/>
            <p:cNvSpPr/>
            <p:nvPr/>
          </p:nvSpPr>
          <p:spPr>
            <a:xfrm>
              <a:off x="3228840" y="4859280"/>
              <a:ext cx="264960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05200" y="1144440"/>
              <a:ext cx="1496880" cy="14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575160" y="2382840"/>
              <a:ext cx="195732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28840" y="2469960"/>
              <a:ext cx="264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228840" y="2469960"/>
              <a:ext cx="180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878440" y="2469960"/>
              <a:ext cx="1440" cy="353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228840" y="2560320"/>
              <a:ext cx="2649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228840" y="2647800"/>
              <a:ext cx="2651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447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46068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357516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9072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6252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64660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0520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9211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3524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1497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6564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379760" y="2469960"/>
              <a:ext cx="32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49568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1160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72752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4200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9575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07204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0208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86160" y="2469960"/>
              <a:ext cx="180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41656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532480" y="2469960"/>
              <a:ext cx="1440" cy="26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219640" y="501336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427640" y="3933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564000" y="4221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08360" y="335772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427640" y="292428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219640" y="3429000"/>
            <a:ext cx="360360" cy="36036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5148360" y="4941720"/>
            <a:ext cx="504720" cy="503280"/>
            <a:chOff x="5148360" y="4941720"/>
            <a:chExt cx="504720" cy="503280"/>
          </a:xfrm>
        </p:grpSpPr>
        <p:sp>
          <p:nvSpPr>
            <p:cNvPr id="1149" name=""/>
            <p:cNvSpPr/>
            <p:nvPr/>
          </p:nvSpPr>
          <p:spPr>
            <a:xfrm>
              <a:off x="5148360" y="4941720"/>
              <a:ext cx="504720" cy="503280"/>
            </a:xfrm>
            <a:custGeom>
              <a:avLst/>
              <a:gdLst/>
              <a:ahLst/>
              <a:rect l="l" t="t" r="r" b="b"/>
              <a:pathLst>
                <a:path w="1098" h="1098">
                  <a:moveTo>
                    <a:pt x="1098" y="549"/>
                  </a:moveTo>
                  <a:lnTo>
                    <a:pt x="1096" y="605"/>
                  </a:lnTo>
                  <a:lnTo>
                    <a:pt x="1086" y="660"/>
                  </a:lnTo>
                  <a:lnTo>
                    <a:pt x="1074" y="713"/>
                  </a:lnTo>
                  <a:lnTo>
                    <a:pt x="1055" y="762"/>
                  </a:lnTo>
                  <a:lnTo>
                    <a:pt x="1032" y="811"/>
                  </a:lnTo>
                  <a:lnTo>
                    <a:pt x="1005" y="856"/>
                  </a:lnTo>
                  <a:lnTo>
                    <a:pt x="972" y="898"/>
                  </a:lnTo>
                  <a:lnTo>
                    <a:pt x="938" y="937"/>
                  </a:lnTo>
                  <a:lnTo>
                    <a:pt x="899" y="972"/>
                  </a:lnTo>
                  <a:lnTo>
                    <a:pt x="856" y="1004"/>
                  </a:lnTo>
                  <a:lnTo>
                    <a:pt x="811" y="1032"/>
                  </a:lnTo>
                  <a:lnTo>
                    <a:pt x="763" y="1055"/>
                  </a:lnTo>
                  <a:lnTo>
                    <a:pt x="712" y="1073"/>
                  </a:lnTo>
                  <a:lnTo>
                    <a:pt x="659" y="1086"/>
                  </a:lnTo>
                  <a:lnTo>
                    <a:pt x="605" y="1095"/>
                  </a:lnTo>
                  <a:lnTo>
                    <a:pt x="548" y="1098"/>
                  </a:lnTo>
                  <a:lnTo>
                    <a:pt x="492" y="1095"/>
                  </a:lnTo>
                  <a:lnTo>
                    <a:pt x="438" y="1086"/>
                  </a:lnTo>
                  <a:lnTo>
                    <a:pt x="385" y="1073"/>
                  </a:lnTo>
                  <a:lnTo>
                    <a:pt x="335" y="1055"/>
                  </a:lnTo>
                  <a:lnTo>
                    <a:pt x="287" y="1032"/>
                  </a:lnTo>
                  <a:lnTo>
                    <a:pt x="242" y="1004"/>
                  </a:lnTo>
                  <a:lnTo>
                    <a:pt x="199" y="972"/>
                  </a:lnTo>
                  <a:lnTo>
                    <a:pt x="160" y="937"/>
                  </a:lnTo>
                  <a:lnTo>
                    <a:pt x="126" y="898"/>
                  </a:lnTo>
                  <a:lnTo>
                    <a:pt x="93" y="856"/>
                  </a:lnTo>
                  <a:lnTo>
                    <a:pt x="66" y="811"/>
                  </a:lnTo>
                  <a:lnTo>
                    <a:pt x="43" y="762"/>
                  </a:lnTo>
                  <a:lnTo>
                    <a:pt x="24" y="713"/>
                  </a:lnTo>
                  <a:lnTo>
                    <a:pt x="12" y="660"/>
                  </a:lnTo>
                  <a:lnTo>
                    <a:pt x="2" y="605"/>
                  </a:lnTo>
                  <a:lnTo>
                    <a:pt x="0" y="549"/>
                  </a:lnTo>
                  <a:lnTo>
                    <a:pt x="2" y="493"/>
                  </a:lnTo>
                  <a:lnTo>
                    <a:pt x="12" y="438"/>
                  </a:lnTo>
                  <a:lnTo>
                    <a:pt x="24" y="385"/>
                  </a:lnTo>
                  <a:lnTo>
                    <a:pt x="43" y="336"/>
                  </a:lnTo>
                  <a:lnTo>
                    <a:pt x="66" y="287"/>
                  </a:lnTo>
                  <a:lnTo>
                    <a:pt x="93" y="242"/>
                  </a:lnTo>
                  <a:lnTo>
                    <a:pt x="126" y="200"/>
                  </a:lnTo>
                  <a:lnTo>
                    <a:pt x="160" y="161"/>
                  </a:lnTo>
                  <a:lnTo>
                    <a:pt x="199" y="126"/>
                  </a:lnTo>
                  <a:lnTo>
                    <a:pt x="242" y="94"/>
                  </a:lnTo>
                  <a:lnTo>
                    <a:pt x="287" y="66"/>
                  </a:lnTo>
                  <a:lnTo>
                    <a:pt x="335" y="43"/>
                  </a:lnTo>
                  <a:lnTo>
                    <a:pt x="385" y="25"/>
                  </a:lnTo>
                  <a:lnTo>
                    <a:pt x="438" y="12"/>
                  </a:lnTo>
                  <a:lnTo>
                    <a:pt x="492" y="3"/>
                  </a:lnTo>
                  <a:lnTo>
                    <a:pt x="548" y="0"/>
                  </a:lnTo>
                  <a:lnTo>
                    <a:pt x="611" y="3"/>
                  </a:lnTo>
                  <a:lnTo>
                    <a:pt x="669" y="11"/>
                  </a:lnTo>
                  <a:lnTo>
                    <a:pt x="725" y="25"/>
                  </a:lnTo>
                  <a:lnTo>
                    <a:pt x="778" y="43"/>
                  </a:lnTo>
                  <a:lnTo>
                    <a:pt x="826" y="65"/>
                  </a:lnTo>
                  <a:lnTo>
                    <a:pt x="871" y="93"/>
                  </a:lnTo>
                  <a:lnTo>
                    <a:pt x="912" y="124"/>
                  </a:lnTo>
                  <a:lnTo>
                    <a:pt x="950" y="158"/>
                  </a:lnTo>
                  <a:lnTo>
                    <a:pt x="984" y="198"/>
                  </a:lnTo>
                  <a:lnTo>
                    <a:pt x="1014" y="240"/>
                  </a:lnTo>
                  <a:lnTo>
                    <a:pt x="1039" y="285"/>
                  </a:lnTo>
                  <a:lnTo>
                    <a:pt x="1060" y="334"/>
                  </a:lnTo>
                  <a:lnTo>
                    <a:pt x="1076" y="384"/>
                  </a:lnTo>
                  <a:lnTo>
                    <a:pt x="1089" y="437"/>
                  </a:lnTo>
                  <a:lnTo>
                    <a:pt x="1096" y="491"/>
                  </a:lnTo>
                  <a:lnTo>
                    <a:pt x="1098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00560" y="5034600"/>
              <a:ext cx="432000" cy="390240"/>
            </a:xfrm>
            <a:custGeom>
              <a:avLst/>
              <a:gdLst/>
              <a:ahLst/>
              <a:rect l="l" t="t" r="r" b="b"/>
              <a:pathLst>
                <a:path w="940" h="852">
                  <a:moveTo>
                    <a:pt x="801" y="0"/>
                  </a:moveTo>
                  <a:lnTo>
                    <a:pt x="817" y="29"/>
                  </a:lnTo>
                  <a:lnTo>
                    <a:pt x="831" y="59"/>
                  </a:lnTo>
                  <a:lnTo>
                    <a:pt x="842" y="90"/>
                  </a:lnTo>
                  <a:lnTo>
                    <a:pt x="853" y="121"/>
                  </a:lnTo>
                  <a:lnTo>
                    <a:pt x="861" y="155"/>
                  </a:lnTo>
                  <a:lnTo>
                    <a:pt x="866" y="188"/>
                  </a:lnTo>
                  <a:lnTo>
                    <a:pt x="870" y="223"/>
                  </a:lnTo>
                  <a:lnTo>
                    <a:pt x="871" y="257"/>
                  </a:lnTo>
                  <a:lnTo>
                    <a:pt x="869" y="309"/>
                  </a:lnTo>
                  <a:lnTo>
                    <a:pt x="861" y="359"/>
                  </a:lnTo>
                  <a:lnTo>
                    <a:pt x="848" y="407"/>
                  </a:lnTo>
                  <a:lnTo>
                    <a:pt x="832" y="453"/>
                  </a:lnTo>
                  <a:lnTo>
                    <a:pt x="810" y="497"/>
                  </a:lnTo>
                  <a:lnTo>
                    <a:pt x="785" y="538"/>
                  </a:lnTo>
                  <a:lnTo>
                    <a:pt x="756" y="578"/>
                  </a:lnTo>
                  <a:lnTo>
                    <a:pt x="724" y="613"/>
                  </a:lnTo>
                  <a:lnTo>
                    <a:pt x="688" y="646"/>
                  </a:lnTo>
                  <a:lnTo>
                    <a:pt x="649" y="674"/>
                  </a:lnTo>
                  <a:lnTo>
                    <a:pt x="607" y="700"/>
                  </a:lnTo>
                  <a:lnTo>
                    <a:pt x="563" y="722"/>
                  </a:lnTo>
                  <a:lnTo>
                    <a:pt x="516" y="738"/>
                  </a:lnTo>
                  <a:lnTo>
                    <a:pt x="468" y="750"/>
                  </a:lnTo>
                  <a:lnTo>
                    <a:pt x="418" y="758"/>
                  </a:lnTo>
                  <a:lnTo>
                    <a:pt x="366" y="761"/>
                  </a:lnTo>
                  <a:lnTo>
                    <a:pt x="340" y="760"/>
                  </a:lnTo>
                  <a:lnTo>
                    <a:pt x="313" y="758"/>
                  </a:lnTo>
                  <a:lnTo>
                    <a:pt x="287" y="755"/>
                  </a:lnTo>
                  <a:lnTo>
                    <a:pt x="262" y="750"/>
                  </a:lnTo>
                  <a:lnTo>
                    <a:pt x="236" y="743"/>
                  </a:lnTo>
                  <a:lnTo>
                    <a:pt x="212" y="737"/>
                  </a:lnTo>
                  <a:lnTo>
                    <a:pt x="188" y="728"/>
                  </a:lnTo>
                  <a:lnTo>
                    <a:pt x="164" y="718"/>
                  </a:lnTo>
                  <a:lnTo>
                    <a:pt x="141" y="708"/>
                  </a:lnTo>
                  <a:lnTo>
                    <a:pt x="119" y="696"/>
                  </a:lnTo>
                  <a:lnTo>
                    <a:pt x="97" y="684"/>
                  </a:lnTo>
                  <a:lnTo>
                    <a:pt x="76" y="670"/>
                  </a:lnTo>
                  <a:lnTo>
                    <a:pt x="55" y="655"/>
                  </a:lnTo>
                  <a:lnTo>
                    <a:pt x="37" y="639"/>
                  </a:lnTo>
                  <a:lnTo>
                    <a:pt x="17" y="621"/>
                  </a:lnTo>
                  <a:lnTo>
                    <a:pt x="0" y="604"/>
                  </a:lnTo>
                  <a:lnTo>
                    <a:pt x="17" y="632"/>
                  </a:lnTo>
                  <a:lnTo>
                    <a:pt x="36" y="657"/>
                  </a:lnTo>
                  <a:lnTo>
                    <a:pt x="56" y="682"/>
                  </a:lnTo>
                  <a:lnTo>
                    <a:pt x="78" y="705"/>
                  </a:lnTo>
                  <a:lnTo>
                    <a:pt x="103" y="727"/>
                  </a:lnTo>
                  <a:lnTo>
                    <a:pt x="127" y="748"/>
                  </a:lnTo>
                  <a:lnTo>
                    <a:pt x="153" y="767"/>
                  </a:lnTo>
                  <a:lnTo>
                    <a:pt x="181" y="784"/>
                  </a:lnTo>
                  <a:lnTo>
                    <a:pt x="210" y="799"/>
                  </a:lnTo>
                  <a:lnTo>
                    <a:pt x="239" y="813"/>
                  </a:lnTo>
                  <a:lnTo>
                    <a:pt x="270" y="824"/>
                  </a:lnTo>
                  <a:lnTo>
                    <a:pt x="301" y="835"/>
                  </a:lnTo>
                  <a:lnTo>
                    <a:pt x="333" y="841"/>
                  </a:lnTo>
                  <a:lnTo>
                    <a:pt x="366" y="847"/>
                  </a:lnTo>
                  <a:lnTo>
                    <a:pt x="400" y="851"/>
                  </a:lnTo>
                  <a:lnTo>
                    <a:pt x="434" y="852"/>
                  </a:lnTo>
                  <a:lnTo>
                    <a:pt x="486" y="849"/>
                  </a:lnTo>
                  <a:lnTo>
                    <a:pt x="536" y="841"/>
                  </a:lnTo>
                  <a:lnTo>
                    <a:pt x="584" y="829"/>
                  </a:lnTo>
                  <a:lnTo>
                    <a:pt x="631" y="813"/>
                  </a:lnTo>
                  <a:lnTo>
                    <a:pt x="675" y="791"/>
                  </a:lnTo>
                  <a:lnTo>
                    <a:pt x="717" y="765"/>
                  </a:lnTo>
                  <a:lnTo>
                    <a:pt x="756" y="737"/>
                  </a:lnTo>
                  <a:lnTo>
                    <a:pt x="791" y="704"/>
                  </a:lnTo>
                  <a:lnTo>
                    <a:pt x="825" y="669"/>
                  </a:lnTo>
                  <a:lnTo>
                    <a:pt x="854" y="629"/>
                  </a:lnTo>
                  <a:lnTo>
                    <a:pt x="879" y="588"/>
                  </a:lnTo>
                  <a:lnTo>
                    <a:pt x="900" y="544"/>
                  </a:lnTo>
                  <a:lnTo>
                    <a:pt x="917" y="497"/>
                  </a:lnTo>
                  <a:lnTo>
                    <a:pt x="930" y="448"/>
                  </a:lnTo>
                  <a:lnTo>
                    <a:pt x="938" y="399"/>
                  </a:lnTo>
                  <a:lnTo>
                    <a:pt x="940" y="347"/>
                  </a:lnTo>
                  <a:lnTo>
                    <a:pt x="938" y="297"/>
                  </a:lnTo>
                  <a:lnTo>
                    <a:pt x="931" y="249"/>
                  </a:lnTo>
                  <a:lnTo>
                    <a:pt x="918" y="203"/>
                  </a:lnTo>
                  <a:lnTo>
                    <a:pt x="903" y="158"/>
                  </a:lnTo>
                  <a:lnTo>
                    <a:pt x="882" y="114"/>
                  </a:lnTo>
                  <a:lnTo>
                    <a:pt x="859" y="74"/>
                  </a:lnTo>
                  <a:lnTo>
                    <a:pt x="832" y="36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168520" y="4961880"/>
              <a:ext cx="432000" cy="421560"/>
            </a:xfrm>
            <a:custGeom>
              <a:avLst/>
              <a:gdLst/>
              <a:ahLst/>
              <a:rect l="l" t="t" r="r" b="b"/>
              <a:pathLst>
                <a:path w="941" h="919">
                  <a:moveTo>
                    <a:pt x="436" y="919"/>
                  </a:moveTo>
                  <a:lnTo>
                    <a:pt x="488" y="916"/>
                  </a:lnTo>
                  <a:lnTo>
                    <a:pt x="538" y="908"/>
                  </a:lnTo>
                  <a:lnTo>
                    <a:pt x="586" y="896"/>
                  </a:lnTo>
                  <a:lnTo>
                    <a:pt x="633" y="880"/>
                  </a:lnTo>
                  <a:lnTo>
                    <a:pt x="677" y="858"/>
                  </a:lnTo>
                  <a:lnTo>
                    <a:pt x="719" y="832"/>
                  </a:lnTo>
                  <a:lnTo>
                    <a:pt x="758" y="804"/>
                  </a:lnTo>
                  <a:lnTo>
                    <a:pt x="794" y="771"/>
                  </a:lnTo>
                  <a:lnTo>
                    <a:pt x="826" y="736"/>
                  </a:lnTo>
                  <a:lnTo>
                    <a:pt x="855" y="696"/>
                  </a:lnTo>
                  <a:lnTo>
                    <a:pt x="880" y="655"/>
                  </a:lnTo>
                  <a:lnTo>
                    <a:pt x="902" y="611"/>
                  </a:lnTo>
                  <a:lnTo>
                    <a:pt x="918" y="565"/>
                  </a:lnTo>
                  <a:lnTo>
                    <a:pt x="931" y="517"/>
                  </a:lnTo>
                  <a:lnTo>
                    <a:pt x="939" y="467"/>
                  </a:lnTo>
                  <a:lnTo>
                    <a:pt x="941" y="415"/>
                  </a:lnTo>
                  <a:lnTo>
                    <a:pt x="940" y="381"/>
                  </a:lnTo>
                  <a:lnTo>
                    <a:pt x="936" y="346"/>
                  </a:lnTo>
                  <a:lnTo>
                    <a:pt x="931" y="313"/>
                  </a:lnTo>
                  <a:lnTo>
                    <a:pt x="923" y="279"/>
                  </a:lnTo>
                  <a:lnTo>
                    <a:pt x="912" y="248"/>
                  </a:lnTo>
                  <a:lnTo>
                    <a:pt x="901" y="217"/>
                  </a:lnTo>
                  <a:lnTo>
                    <a:pt x="887" y="187"/>
                  </a:lnTo>
                  <a:lnTo>
                    <a:pt x="871" y="158"/>
                  </a:lnTo>
                  <a:lnTo>
                    <a:pt x="853" y="141"/>
                  </a:lnTo>
                  <a:lnTo>
                    <a:pt x="834" y="124"/>
                  </a:lnTo>
                  <a:lnTo>
                    <a:pt x="815" y="107"/>
                  </a:lnTo>
                  <a:lnTo>
                    <a:pt x="795" y="92"/>
                  </a:lnTo>
                  <a:lnTo>
                    <a:pt x="774" y="79"/>
                  </a:lnTo>
                  <a:lnTo>
                    <a:pt x="752" y="66"/>
                  </a:lnTo>
                  <a:lnTo>
                    <a:pt x="730" y="53"/>
                  </a:lnTo>
                  <a:lnTo>
                    <a:pt x="707" y="43"/>
                  </a:lnTo>
                  <a:lnTo>
                    <a:pt x="683" y="34"/>
                  </a:lnTo>
                  <a:lnTo>
                    <a:pt x="659" y="24"/>
                  </a:lnTo>
                  <a:lnTo>
                    <a:pt x="635" y="18"/>
                  </a:lnTo>
                  <a:lnTo>
                    <a:pt x="609" y="12"/>
                  </a:lnTo>
                  <a:lnTo>
                    <a:pt x="584" y="6"/>
                  </a:lnTo>
                  <a:lnTo>
                    <a:pt x="557" y="3"/>
                  </a:lnTo>
                  <a:lnTo>
                    <a:pt x="531" y="1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3" y="11"/>
                  </a:lnTo>
                  <a:lnTo>
                    <a:pt x="355" y="23"/>
                  </a:lnTo>
                  <a:lnTo>
                    <a:pt x="307" y="41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3" y="116"/>
                  </a:lnTo>
                  <a:lnTo>
                    <a:pt x="147" y="149"/>
                  </a:lnTo>
                  <a:lnTo>
                    <a:pt x="115" y="185"/>
                  </a:lnTo>
                  <a:lnTo>
                    <a:pt x="86" y="224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3" y="355"/>
                  </a:lnTo>
                  <a:lnTo>
                    <a:pt x="10" y="404"/>
                  </a:lnTo>
                  <a:lnTo>
                    <a:pt x="2" y="453"/>
                  </a:lnTo>
                  <a:lnTo>
                    <a:pt x="0" y="505"/>
                  </a:lnTo>
                  <a:lnTo>
                    <a:pt x="1" y="540"/>
                  </a:lnTo>
                  <a:lnTo>
                    <a:pt x="4" y="574"/>
                  </a:lnTo>
                  <a:lnTo>
                    <a:pt x="10" y="608"/>
                  </a:lnTo>
                  <a:lnTo>
                    <a:pt x="18" y="640"/>
                  </a:lnTo>
                  <a:lnTo>
                    <a:pt x="29" y="672"/>
                  </a:lnTo>
                  <a:lnTo>
                    <a:pt x="40" y="703"/>
                  </a:lnTo>
                  <a:lnTo>
                    <a:pt x="54" y="733"/>
                  </a:lnTo>
                  <a:lnTo>
                    <a:pt x="70" y="762"/>
                  </a:lnTo>
                  <a:lnTo>
                    <a:pt x="87" y="779"/>
                  </a:lnTo>
                  <a:lnTo>
                    <a:pt x="107" y="797"/>
                  </a:lnTo>
                  <a:lnTo>
                    <a:pt x="125" y="813"/>
                  </a:lnTo>
                  <a:lnTo>
                    <a:pt x="146" y="828"/>
                  </a:lnTo>
                  <a:lnTo>
                    <a:pt x="167" y="842"/>
                  </a:lnTo>
                  <a:lnTo>
                    <a:pt x="189" y="854"/>
                  </a:lnTo>
                  <a:lnTo>
                    <a:pt x="211" y="866"/>
                  </a:lnTo>
                  <a:lnTo>
                    <a:pt x="234" y="876"/>
                  </a:lnTo>
                  <a:lnTo>
                    <a:pt x="258" y="886"/>
                  </a:lnTo>
                  <a:lnTo>
                    <a:pt x="282" y="895"/>
                  </a:lnTo>
                  <a:lnTo>
                    <a:pt x="306" y="901"/>
                  </a:lnTo>
                  <a:lnTo>
                    <a:pt x="332" y="908"/>
                  </a:lnTo>
                  <a:lnTo>
                    <a:pt x="357" y="913"/>
                  </a:lnTo>
                  <a:lnTo>
                    <a:pt x="383" y="916"/>
                  </a:lnTo>
                  <a:lnTo>
                    <a:pt x="410" y="918"/>
                  </a:lnTo>
                  <a:lnTo>
                    <a:pt x="436" y="9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61040" y="4992840"/>
              <a:ext cx="218880" cy="147600"/>
            </a:xfrm>
            <a:custGeom>
              <a:avLst/>
              <a:gdLst/>
              <a:ahLst/>
              <a:rect l="l" t="t" r="r" b="b"/>
              <a:pathLst>
                <a:path w="474" h="322">
                  <a:moveTo>
                    <a:pt x="0" y="3"/>
                  </a:moveTo>
                  <a:lnTo>
                    <a:pt x="5" y="29"/>
                  </a:lnTo>
                  <a:lnTo>
                    <a:pt x="9" y="29"/>
                  </a:lnTo>
                  <a:lnTo>
                    <a:pt x="16" y="28"/>
                  </a:lnTo>
                  <a:lnTo>
                    <a:pt x="28" y="28"/>
                  </a:lnTo>
                  <a:lnTo>
                    <a:pt x="46" y="28"/>
                  </a:lnTo>
                  <a:lnTo>
                    <a:pt x="66" y="30"/>
                  </a:lnTo>
                  <a:lnTo>
                    <a:pt x="91" y="35"/>
                  </a:lnTo>
                  <a:lnTo>
                    <a:pt x="117" y="42"/>
                  </a:lnTo>
                  <a:lnTo>
                    <a:pt x="148" y="51"/>
                  </a:lnTo>
                  <a:lnTo>
                    <a:pt x="180" y="66"/>
                  </a:lnTo>
                  <a:lnTo>
                    <a:pt x="215" y="85"/>
                  </a:lnTo>
                  <a:lnTo>
                    <a:pt x="252" y="108"/>
                  </a:lnTo>
                  <a:lnTo>
                    <a:pt x="291" y="138"/>
                  </a:lnTo>
                  <a:lnTo>
                    <a:pt x="330" y="172"/>
                  </a:lnTo>
                  <a:lnTo>
                    <a:pt x="370" y="215"/>
                  </a:lnTo>
                  <a:lnTo>
                    <a:pt x="411" y="264"/>
                  </a:lnTo>
                  <a:lnTo>
                    <a:pt x="452" y="322"/>
                  </a:lnTo>
                  <a:lnTo>
                    <a:pt x="474" y="308"/>
                  </a:lnTo>
                  <a:lnTo>
                    <a:pt x="432" y="248"/>
                  </a:lnTo>
                  <a:lnTo>
                    <a:pt x="389" y="195"/>
                  </a:lnTo>
                  <a:lnTo>
                    <a:pt x="346" y="151"/>
                  </a:lnTo>
                  <a:lnTo>
                    <a:pt x="305" y="115"/>
                  </a:lnTo>
                  <a:lnTo>
                    <a:pt x="264" y="83"/>
                  </a:lnTo>
                  <a:lnTo>
                    <a:pt x="226" y="59"/>
                  </a:lnTo>
                  <a:lnTo>
                    <a:pt x="190" y="40"/>
                  </a:lnTo>
                  <a:lnTo>
                    <a:pt x="155" y="25"/>
                  </a:lnTo>
                  <a:lnTo>
                    <a:pt x="123" y="14"/>
                  </a:lnTo>
                  <a:lnTo>
                    <a:pt x="94" y="7"/>
                  </a:lnTo>
                  <a:lnTo>
                    <a:pt x="67" y="3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40600" y="4956480"/>
              <a:ext cx="208440" cy="142200"/>
            </a:xfrm>
            <a:custGeom>
              <a:avLst/>
              <a:gdLst/>
              <a:ahLst/>
              <a:rect l="l" t="t" r="r" b="b"/>
              <a:pathLst>
                <a:path w="455" h="310">
                  <a:moveTo>
                    <a:pt x="3" y="4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10" y="19"/>
                  </a:lnTo>
                  <a:lnTo>
                    <a:pt x="22" y="18"/>
                  </a:lnTo>
                  <a:lnTo>
                    <a:pt x="38" y="19"/>
                  </a:lnTo>
                  <a:lnTo>
                    <a:pt x="58" y="20"/>
                  </a:lnTo>
                  <a:lnTo>
                    <a:pt x="81" y="25"/>
                  </a:lnTo>
                  <a:lnTo>
                    <a:pt x="107" y="32"/>
                  </a:lnTo>
                  <a:lnTo>
                    <a:pt x="136" y="41"/>
                  </a:lnTo>
                  <a:lnTo>
                    <a:pt x="167" y="55"/>
                  </a:lnTo>
                  <a:lnTo>
                    <a:pt x="202" y="73"/>
                  </a:lnTo>
                  <a:lnTo>
                    <a:pt x="236" y="97"/>
                  </a:lnTo>
                  <a:lnTo>
                    <a:pt x="274" y="125"/>
                  </a:lnTo>
                  <a:lnTo>
                    <a:pt x="312" y="161"/>
                  </a:lnTo>
                  <a:lnTo>
                    <a:pt x="353" y="203"/>
                  </a:lnTo>
                  <a:lnTo>
                    <a:pt x="393" y="252"/>
                  </a:lnTo>
                  <a:lnTo>
                    <a:pt x="433" y="310"/>
                  </a:lnTo>
                  <a:lnTo>
                    <a:pt x="455" y="296"/>
                  </a:lnTo>
                  <a:lnTo>
                    <a:pt x="412" y="236"/>
                  </a:lnTo>
                  <a:lnTo>
                    <a:pt x="370" y="184"/>
                  </a:lnTo>
                  <a:lnTo>
                    <a:pt x="330" y="140"/>
                  </a:lnTo>
                  <a:lnTo>
                    <a:pt x="289" y="103"/>
                  </a:lnTo>
                  <a:lnTo>
                    <a:pt x="251" y="73"/>
                  </a:lnTo>
                  <a:lnTo>
                    <a:pt x="214" y="50"/>
                  </a:lnTo>
                  <a:lnTo>
                    <a:pt x="180" y="32"/>
                  </a:lnTo>
                  <a:lnTo>
                    <a:pt x="146" y="18"/>
                  </a:lnTo>
                  <a:lnTo>
                    <a:pt x="116" y="9"/>
                  </a:lnTo>
                  <a:lnTo>
                    <a:pt x="90" y="3"/>
                  </a:lnTo>
                  <a:lnTo>
                    <a:pt x="66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16" y="2"/>
                  </a:lnTo>
                  <a:lnTo>
                    <a:pt x="8" y="3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87960" y="5056200"/>
              <a:ext cx="196560" cy="139680"/>
            </a:xfrm>
            <a:custGeom>
              <a:avLst/>
              <a:gdLst/>
              <a:ahLst/>
              <a:rect l="l" t="t" r="r" b="b"/>
              <a:pathLst>
                <a:path w="429" h="305">
                  <a:moveTo>
                    <a:pt x="0" y="3"/>
                  </a:moveTo>
                  <a:lnTo>
                    <a:pt x="6" y="28"/>
                  </a:lnTo>
                  <a:lnTo>
                    <a:pt x="8" y="28"/>
                  </a:lnTo>
                  <a:lnTo>
                    <a:pt x="15" y="27"/>
                  </a:lnTo>
                  <a:lnTo>
                    <a:pt x="27" y="26"/>
                  </a:lnTo>
                  <a:lnTo>
                    <a:pt x="42" y="27"/>
                  </a:lnTo>
                  <a:lnTo>
                    <a:pt x="60" y="28"/>
                  </a:lnTo>
                  <a:lnTo>
                    <a:pt x="81" y="32"/>
                  </a:lnTo>
                  <a:lnTo>
                    <a:pt x="105" y="38"/>
                  </a:lnTo>
                  <a:lnTo>
                    <a:pt x="133" y="47"/>
                  </a:lnTo>
                  <a:lnTo>
                    <a:pt x="162" y="61"/>
                  </a:lnTo>
                  <a:lnTo>
                    <a:pt x="193" y="78"/>
                  </a:lnTo>
                  <a:lnTo>
                    <a:pt x="226" y="100"/>
                  </a:lnTo>
                  <a:lnTo>
                    <a:pt x="261" y="127"/>
                  </a:lnTo>
                  <a:lnTo>
                    <a:pt x="296" y="161"/>
                  </a:lnTo>
                  <a:lnTo>
                    <a:pt x="332" y="201"/>
                  </a:lnTo>
                  <a:lnTo>
                    <a:pt x="370" y="250"/>
                  </a:lnTo>
                  <a:lnTo>
                    <a:pt x="407" y="305"/>
                  </a:lnTo>
                  <a:lnTo>
                    <a:pt x="429" y="291"/>
                  </a:lnTo>
                  <a:lnTo>
                    <a:pt x="390" y="232"/>
                  </a:lnTo>
                  <a:lnTo>
                    <a:pt x="350" y="183"/>
                  </a:lnTo>
                  <a:lnTo>
                    <a:pt x="312" y="140"/>
                  </a:lnTo>
                  <a:lnTo>
                    <a:pt x="274" y="104"/>
                  </a:lnTo>
                  <a:lnTo>
                    <a:pt x="239" y="76"/>
                  </a:lnTo>
                  <a:lnTo>
                    <a:pt x="203" y="51"/>
                  </a:lnTo>
                  <a:lnTo>
                    <a:pt x="171" y="34"/>
                  </a:lnTo>
                  <a:lnTo>
                    <a:pt x="140" y="20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61" y="1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376240" y="5046480"/>
              <a:ext cx="214920" cy="145800"/>
            </a:xfrm>
            <a:custGeom>
              <a:avLst/>
              <a:gdLst/>
              <a:ahLst/>
              <a:rect l="l" t="t" r="r" b="b"/>
              <a:pathLst>
                <a:path w="468" h="319">
                  <a:moveTo>
                    <a:pt x="0" y="295"/>
                  </a:moveTo>
                  <a:lnTo>
                    <a:pt x="8" y="319"/>
                  </a:lnTo>
                  <a:lnTo>
                    <a:pt x="59" y="302"/>
                  </a:lnTo>
                  <a:lnTo>
                    <a:pt x="106" y="281"/>
                  </a:lnTo>
                  <a:lnTo>
                    <a:pt x="152" y="259"/>
                  </a:lnTo>
                  <a:lnTo>
                    <a:pt x="195" y="235"/>
                  </a:lnTo>
                  <a:lnTo>
                    <a:pt x="235" y="211"/>
                  </a:lnTo>
                  <a:lnTo>
                    <a:pt x="273" y="185"/>
                  </a:lnTo>
                  <a:lnTo>
                    <a:pt x="308" y="161"/>
                  </a:lnTo>
                  <a:lnTo>
                    <a:pt x="340" y="136"/>
                  </a:lnTo>
                  <a:lnTo>
                    <a:pt x="369" y="113"/>
                  </a:lnTo>
                  <a:lnTo>
                    <a:pt x="394" y="91"/>
                  </a:lnTo>
                  <a:lnTo>
                    <a:pt x="416" y="70"/>
                  </a:lnTo>
                  <a:lnTo>
                    <a:pt x="435" y="53"/>
                  </a:lnTo>
                  <a:lnTo>
                    <a:pt x="448" y="38"/>
                  </a:lnTo>
                  <a:lnTo>
                    <a:pt x="459" y="27"/>
                  </a:lnTo>
                  <a:lnTo>
                    <a:pt x="466" y="19"/>
                  </a:lnTo>
                  <a:lnTo>
                    <a:pt x="468" y="17"/>
                  </a:lnTo>
                  <a:lnTo>
                    <a:pt x="448" y="0"/>
                  </a:lnTo>
                  <a:lnTo>
                    <a:pt x="446" y="2"/>
                  </a:lnTo>
                  <a:lnTo>
                    <a:pt x="439" y="9"/>
                  </a:lnTo>
                  <a:lnTo>
                    <a:pt x="429" y="20"/>
                  </a:lnTo>
                  <a:lnTo>
                    <a:pt x="415" y="34"/>
                  </a:lnTo>
                  <a:lnTo>
                    <a:pt x="397" y="52"/>
                  </a:lnTo>
                  <a:lnTo>
                    <a:pt x="376" y="71"/>
                  </a:lnTo>
                  <a:lnTo>
                    <a:pt x="352" y="93"/>
                  </a:lnTo>
                  <a:lnTo>
                    <a:pt x="323" y="116"/>
                  </a:lnTo>
                  <a:lnTo>
                    <a:pt x="293" y="139"/>
                  </a:lnTo>
                  <a:lnTo>
                    <a:pt x="258" y="164"/>
                  </a:lnTo>
                  <a:lnTo>
                    <a:pt x="222" y="189"/>
                  </a:lnTo>
                  <a:lnTo>
                    <a:pt x="182" y="213"/>
                  </a:lnTo>
                  <a:lnTo>
                    <a:pt x="141" y="236"/>
                  </a:lnTo>
                  <a:lnTo>
                    <a:pt x="96" y="258"/>
                  </a:lnTo>
                  <a:lnTo>
                    <a:pt x="49" y="27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11880" y="5256720"/>
              <a:ext cx="223200" cy="146520"/>
            </a:xfrm>
            <a:custGeom>
              <a:avLst/>
              <a:gdLst/>
              <a:ahLst/>
              <a:rect l="l" t="t" r="r" b="b"/>
              <a:pathLst>
                <a:path w="486" h="320">
                  <a:moveTo>
                    <a:pt x="1" y="293"/>
                  </a:moveTo>
                  <a:lnTo>
                    <a:pt x="0" y="320"/>
                  </a:lnTo>
                  <a:lnTo>
                    <a:pt x="4" y="320"/>
                  </a:lnTo>
                  <a:lnTo>
                    <a:pt x="16" y="320"/>
                  </a:lnTo>
                  <a:lnTo>
                    <a:pt x="33" y="318"/>
                  </a:lnTo>
                  <a:lnTo>
                    <a:pt x="56" y="316"/>
                  </a:lnTo>
                  <a:lnTo>
                    <a:pt x="84" y="311"/>
                  </a:lnTo>
                  <a:lnTo>
                    <a:pt x="115" y="306"/>
                  </a:lnTo>
                  <a:lnTo>
                    <a:pt x="151" y="296"/>
                  </a:lnTo>
                  <a:lnTo>
                    <a:pt x="188" y="285"/>
                  </a:lnTo>
                  <a:lnTo>
                    <a:pt x="227" y="269"/>
                  </a:lnTo>
                  <a:lnTo>
                    <a:pt x="267" y="248"/>
                  </a:lnTo>
                  <a:lnTo>
                    <a:pt x="307" y="224"/>
                  </a:lnTo>
                  <a:lnTo>
                    <a:pt x="347" y="194"/>
                  </a:lnTo>
                  <a:lnTo>
                    <a:pt x="386" y="158"/>
                  </a:lnTo>
                  <a:lnTo>
                    <a:pt x="421" y="116"/>
                  </a:lnTo>
                  <a:lnTo>
                    <a:pt x="456" y="67"/>
                  </a:lnTo>
                  <a:lnTo>
                    <a:pt x="486" y="12"/>
                  </a:lnTo>
                  <a:lnTo>
                    <a:pt x="462" y="0"/>
                  </a:lnTo>
                  <a:lnTo>
                    <a:pt x="433" y="53"/>
                  </a:lnTo>
                  <a:lnTo>
                    <a:pt x="401" y="99"/>
                  </a:lnTo>
                  <a:lnTo>
                    <a:pt x="366" y="139"/>
                  </a:lnTo>
                  <a:lnTo>
                    <a:pt x="329" y="173"/>
                  </a:lnTo>
                  <a:lnTo>
                    <a:pt x="292" y="202"/>
                  </a:lnTo>
                  <a:lnTo>
                    <a:pt x="253" y="225"/>
                  </a:lnTo>
                  <a:lnTo>
                    <a:pt x="215" y="245"/>
                  </a:lnTo>
                  <a:lnTo>
                    <a:pt x="178" y="260"/>
                  </a:lnTo>
                  <a:lnTo>
                    <a:pt x="143" y="271"/>
                  </a:lnTo>
                  <a:lnTo>
                    <a:pt x="110" y="279"/>
                  </a:lnTo>
                  <a:lnTo>
                    <a:pt x="80" y="286"/>
                  </a:lnTo>
                  <a:lnTo>
                    <a:pt x="54" y="290"/>
                  </a:lnTo>
                  <a:lnTo>
                    <a:pt x="32" y="292"/>
                  </a:lnTo>
                  <a:lnTo>
                    <a:pt x="16" y="293"/>
                  </a:lnTo>
                  <a:lnTo>
                    <a:pt x="4" y="293"/>
                  </a:lnTo>
                  <a:lnTo>
                    <a:pt x="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11160" y="5188680"/>
              <a:ext cx="235080" cy="146160"/>
            </a:xfrm>
            <a:custGeom>
              <a:avLst/>
              <a:gdLst/>
              <a:ahLst/>
              <a:rect l="l" t="t" r="r" b="b"/>
              <a:pathLst>
                <a:path w="513" h="318">
                  <a:moveTo>
                    <a:pt x="2" y="291"/>
                  </a:moveTo>
                  <a:lnTo>
                    <a:pt x="0" y="318"/>
                  </a:lnTo>
                  <a:lnTo>
                    <a:pt x="5" y="318"/>
                  </a:lnTo>
                  <a:lnTo>
                    <a:pt x="18" y="318"/>
                  </a:lnTo>
                  <a:lnTo>
                    <a:pt x="36" y="317"/>
                  </a:lnTo>
                  <a:lnTo>
                    <a:pt x="60" y="314"/>
                  </a:lnTo>
                  <a:lnTo>
                    <a:pt x="90" y="311"/>
                  </a:lnTo>
                  <a:lnTo>
                    <a:pt x="125" y="304"/>
                  </a:lnTo>
                  <a:lnTo>
                    <a:pt x="162" y="296"/>
                  </a:lnTo>
                  <a:lnTo>
                    <a:pt x="202" y="283"/>
                  </a:lnTo>
                  <a:lnTo>
                    <a:pt x="243" y="267"/>
                  </a:lnTo>
                  <a:lnTo>
                    <a:pt x="285" y="248"/>
                  </a:lnTo>
                  <a:lnTo>
                    <a:pt x="328" y="223"/>
                  </a:lnTo>
                  <a:lnTo>
                    <a:pt x="370" y="193"/>
                  </a:lnTo>
                  <a:lnTo>
                    <a:pt x="411" y="158"/>
                  </a:lnTo>
                  <a:lnTo>
                    <a:pt x="447" y="115"/>
                  </a:lnTo>
                  <a:lnTo>
                    <a:pt x="482" y="67"/>
                  </a:lnTo>
                  <a:lnTo>
                    <a:pt x="513" y="11"/>
                  </a:lnTo>
                  <a:lnTo>
                    <a:pt x="489" y="0"/>
                  </a:lnTo>
                  <a:lnTo>
                    <a:pt x="460" y="53"/>
                  </a:lnTo>
                  <a:lnTo>
                    <a:pt x="427" y="99"/>
                  </a:lnTo>
                  <a:lnTo>
                    <a:pt x="391" y="138"/>
                  </a:lnTo>
                  <a:lnTo>
                    <a:pt x="353" y="173"/>
                  </a:lnTo>
                  <a:lnTo>
                    <a:pt x="314" y="200"/>
                  </a:lnTo>
                  <a:lnTo>
                    <a:pt x="272" y="225"/>
                  </a:lnTo>
                  <a:lnTo>
                    <a:pt x="232" y="243"/>
                  </a:lnTo>
                  <a:lnTo>
                    <a:pt x="193" y="258"/>
                  </a:lnTo>
                  <a:lnTo>
                    <a:pt x="155" y="269"/>
                  </a:lnTo>
                  <a:lnTo>
                    <a:pt x="119" y="279"/>
                  </a:lnTo>
                  <a:lnTo>
                    <a:pt x="87" y="284"/>
                  </a:lnTo>
                  <a:lnTo>
                    <a:pt x="59" y="288"/>
                  </a:lnTo>
                  <a:lnTo>
                    <a:pt x="36" y="290"/>
                  </a:lnTo>
                  <a:lnTo>
                    <a:pt x="18" y="291"/>
                  </a:lnTo>
                  <a:lnTo>
                    <a:pt x="6" y="291"/>
                  </a:lnTo>
                  <a:lnTo>
                    <a:pt x="2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401800" y="5108760"/>
              <a:ext cx="233280" cy="156960"/>
            </a:xfrm>
            <a:custGeom>
              <a:avLst/>
              <a:gdLst/>
              <a:ahLst/>
              <a:rect l="l" t="t" r="r" b="b"/>
              <a:pathLst>
                <a:path w="507" h="341">
                  <a:moveTo>
                    <a:pt x="0" y="314"/>
                  </a:moveTo>
                  <a:lnTo>
                    <a:pt x="5" y="341"/>
                  </a:lnTo>
                  <a:lnTo>
                    <a:pt x="9" y="340"/>
                  </a:lnTo>
                  <a:lnTo>
                    <a:pt x="21" y="337"/>
                  </a:lnTo>
                  <a:lnTo>
                    <a:pt x="40" y="334"/>
                  </a:lnTo>
                  <a:lnTo>
                    <a:pt x="64" y="328"/>
                  </a:lnTo>
                  <a:lnTo>
                    <a:pt x="93" y="319"/>
                  </a:lnTo>
                  <a:lnTo>
                    <a:pt x="127" y="309"/>
                  </a:lnTo>
                  <a:lnTo>
                    <a:pt x="164" y="296"/>
                  </a:lnTo>
                  <a:lnTo>
                    <a:pt x="203" y="279"/>
                  </a:lnTo>
                  <a:lnTo>
                    <a:pt x="243" y="259"/>
                  </a:lnTo>
                  <a:lnTo>
                    <a:pt x="285" y="237"/>
                  </a:lnTo>
                  <a:lnTo>
                    <a:pt x="327" y="210"/>
                  </a:lnTo>
                  <a:lnTo>
                    <a:pt x="367" y="180"/>
                  </a:lnTo>
                  <a:lnTo>
                    <a:pt x="407" y="145"/>
                  </a:lnTo>
                  <a:lnTo>
                    <a:pt x="443" y="106"/>
                  </a:lnTo>
                  <a:lnTo>
                    <a:pt x="477" y="61"/>
                  </a:lnTo>
                  <a:lnTo>
                    <a:pt x="507" y="12"/>
                  </a:lnTo>
                  <a:lnTo>
                    <a:pt x="484" y="0"/>
                  </a:lnTo>
                  <a:lnTo>
                    <a:pt x="455" y="47"/>
                  </a:lnTo>
                  <a:lnTo>
                    <a:pt x="423" y="89"/>
                  </a:lnTo>
                  <a:lnTo>
                    <a:pt x="388" y="127"/>
                  </a:lnTo>
                  <a:lnTo>
                    <a:pt x="350" y="160"/>
                  </a:lnTo>
                  <a:lnTo>
                    <a:pt x="311" y="189"/>
                  </a:lnTo>
                  <a:lnTo>
                    <a:pt x="271" y="214"/>
                  </a:lnTo>
                  <a:lnTo>
                    <a:pt x="230" y="236"/>
                  </a:lnTo>
                  <a:lnTo>
                    <a:pt x="191" y="256"/>
                  </a:lnTo>
                  <a:lnTo>
                    <a:pt x="153" y="271"/>
                  </a:lnTo>
                  <a:lnTo>
                    <a:pt x="117" y="283"/>
                  </a:lnTo>
                  <a:lnTo>
                    <a:pt x="85" y="294"/>
                  </a:lnTo>
                  <a:lnTo>
                    <a:pt x="58" y="302"/>
                  </a:lnTo>
                  <a:lnTo>
                    <a:pt x="35" y="307"/>
                  </a:lnTo>
                  <a:lnTo>
                    <a:pt x="16" y="311"/>
                  </a:lnTo>
                  <a:lnTo>
                    <a:pt x="5" y="31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65440" y="5176800"/>
              <a:ext cx="52920" cy="226800"/>
            </a:xfrm>
            <a:custGeom>
              <a:avLst/>
              <a:gdLst/>
              <a:ahLst/>
              <a:rect l="l" t="t" r="r" b="b"/>
              <a:pathLst>
                <a:path w="117" h="496">
                  <a:moveTo>
                    <a:pt x="0" y="16"/>
                  </a:moveTo>
                  <a:lnTo>
                    <a:pt x="6" y="24"/>
                  </a:lnTo>
                  <a:lnTo>
                    <a:pt x="20" y="46"/>
                  </a:lnTo>
                  <a:lnTo>
                    <a:pt x="38" y="84"/>
                  </a:lnTo>
                  <a:lnTo>
                    <a:pt x="58" y="135"/>
                  </a:lnTo>
                  <a:lnTo>
                    <a:pt x="75" y="202"/>
                  </a:lnTo>
                  <a:lnTo>
                    <a:pt x="87" y="284"/>
                  </a:lnTo>
                  <a:lnTo>
                    <a:pt x="89" y="380"/>
                  </a:lnTo>
                  <a:lnTo>
                    <a:pt x="80" y="492"/>
                  </a:lnTo>
                  <a:lnTo>
                    <a:pt x="106" y="496"/>
                  </a:lnTo>
                  <a:lnTo>
                    <a:pt x="117" y="379"/>
                  </a:lnTo>
                  <a:lnTo>
                    <a:pt x="113" y="279"/>
                  </a:lnTo>
                  <a:lnTo>
                    <a:pt x="101" y="195"/>
                  </a:lnTo>
                  <a:lnTo>
                    <a:pt x="83" y="126"/>
                  </a:lnTo>
                  <a:lnTo>
                    <a:pt x="63" y="73"/>
                  </a:lnTo>
                  <a:lnTo>
                    <a:pt x="43" y="34"/>
                  </a:lnTo>
                  <a:lnTo>
                    <a:pt x="28" y="9"/>
                  </a:lnTo>
                  <a:lnTo>
                    <a:pt x="21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382720" y="5387760"/>
              <a:ext cx="34920" cy="504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7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7"/>
                  </a:lnTo>
                  <a:lnTo>
                    <a:pt x="51" y="70"/>
                  </a:lnTo>
                  <a:lnTo>
                    <a:pt x="59" y="53"/>
                  </a:lnTo>
                  <a:lnTo>
                    <a:pt x="66" y="37"/>
                  </a:lnTo>
                  <a:lnTo>
                    <a:pt x="71" y="22"/>
                  </a:lnTo>
                  <a:lnTo>
                    <a:pt x="74" y="12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6" y="9"/>
                  </a:lnTo>
                  <a:lnTo>
                    <a:pt x="43" y="20"/>
                  </a:lnTo>
                  <a:lnTo>
                    <a:pt x="38" y="32"/>
                  </a:lnTo>
                  <a:lnTo>
                    <a:pt x="34" y="45"/>
                  </a:lnTo>
                  <a:lnTo>
                    <a:pt x="27" y="58"/>
                  </a:lnTo>
                  <a:lnTo>
                    <a:pt x="19" y="70"/>
                  </a:lnTo>
                  <a:lnTo>
                    <a:pt x="11" y="8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468040" y="5383440"/>
              <a:ext cx="34920" cy="504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0" y="86"/>
                  </a:moveTo>
                  <a:lnTo>
                    <a:pt x="13" y="109"/>
                  </a:lnTo>
                  <a:lnTo>
                    <a:pt x="28" y="99"/>
                  </a:lnTo>
                  <a:lnTo>
                    <a:pt x="40" y="85"/>
                  </a:lnTo>
                  <a:lnTo>
                    <a:pt x="52" y="69"/>
                  </a:lnTo>
                  <a:lnTo>
                    <a:pt x="60" y="52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9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40760" y="5345640"/>
              <a:ext cx="34560" cy="5040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0" y="86"/>
                  </a:moveTo>
                  <a:lnTo>
                    <a:pt x="12" y="111"/>
                  </a:lnTo>
                  <a:lnTo>
                    <a:pt x="27" y="100"/>
                  </a:lnTo>
                  <a:lnTo>
                    <a:pt x="40" y="86"/>
                  </a:lnTo>
                  <a:lnTo>
                    <a:pt x="52" y="70"/>
                  </a:lnTo>
                  <a:lnTo>
                    <a:pt x="60" y="53"/>
                  </a:lnTo>
                  <a:lnTo>
                    <a:pt x="65" y="37"/>
                  </a:lnTo>
                  <a:lnTo>
                    <a:pt x="70" y="23"/>
                  </a:lnTo>
                  <a:lnTo>
                    <a:pt x="74" y="11"/>
                  </a:lnTo>
                  <a:lnTo>
                    <a:pt x="75" y="6"/>
                  </a:lnTo>
                  <a:lnTo>
                    <a:pt x="49" y="0"/>
                  </a:lnTo>
                  <a:lnTo>
                    <a:pt x="47" y="9"/>
                  </a:lnTo>
                  <a:lnTo>
                    <a:pt x="44" y="20"/>
                  </a:lnTo>
                  <a:lnTo>
                    <a:pt x="39" y="32"/>
                  </a:lnTo>
                  <a:lnTo>
                    <a:pt x="33" y="45"/>
                  </a:lnTo>
                  <a:lnTo>
                    <a:pt x="26" y="58"/>
                  </a:lnTo>
                  <a:lnTo>
                    <a:pt x="18" y="70"/>
                  </a:lnTo>
                  <a:lnTo>
                    <a:pt x="10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306400" y="5132520"/>
              <a:ext cx="97560" cy="280080"/>
            </a:xfrm>
            <a:custGeom>
              <a:avLst/>
              <a:gdLst/>
              <a:ahLst/>
              <a:rect l="l" t="t" r="r" b="b"/>
              <a:pathLst>
                <a:path w="212" h="611">
                  <a:moveTo>
                    <a:pt x="197" y="611"/>
                  </a:moveTo>
                  <a:lnTo>
                    <a:pt x="212" y="588"/>
                  </a:lnTo>
                  <a:lnTo>
                    <a:pt x="163" y="550"/>
                  </a:lnTo>
                  <a:lnTo>
                    <a:pt x="121" y="509"/>
                  </a:lnTo>
                  <a:lnTo>
                    <a:pt x="89" y="464"/>
                  </a:lnTo>
                  <a:lnTo>
                    <a:pt x="65" y="418"/>
                  </a:lnTo>
                  <a:lnTo>
                    <a:pt x="48" y="369"/>
                  </a:lnTo>
                  <a:lnTo>
                    <a:pt x="36" y="322"/>
                  </a:lnTo>
                  <a:lnTo>
                    <a:pt x="29" y="275"/>
                  </a:lnTo>
                  <a:lnTo>
                    <a:pt x="27" y="229"/>
                  </a:lnTo>
                  <a:lnTo>
                    <a:pt x="28" y="185"/>
                  </a:lnTo>
                  <a:lnTo>
                    <a:pt x="32" y="145"/>
                  </a:lnTo>
                  <a:lnTo>
                    <a:pt x="37" y="108"/>
                  </a:lnTo>
                  <a:lnTo>
                    <a:pt x="44" y="75"/>
                  </a:lnTo>
                  <a:lnTo>
                    <a:pt x="51" y="49"/>
                  </a:lnTo>
                  <a:lnTo>
                    <a:pt x="57" y="28"/>
                  </a:lnTo>
                  <a:lnTo>
                    <a:pt x="60" y="14"/>
                  </a:lnTo>
                  <a:lnTo>
                    <a:pt x="63" y="10"/>
                  </a:lnTo>
                  <a:lnTo>
                    <a:pt x="37" y="0"/>
                  </a:lnTo>
                  <a:lnTo>
                    <a:pt x="35" y="6"/>
                  </a:lnTo>
                  <a:lnTo>
                    <a:pt x="32" y="20"/>
                  </a:lnTo>
                  <a:lnTo>
                    <a:pt x="25" y="41"/>
                  </a:lnTo>
                  <a:lnTo>
                    <a:pt x="18" y="68"/>
                  </a:lnTo>
                  <a:lnTo>
                    <a:pt x="11" y="103"/>
                  </a:lnTo>
                  <a:lnTo>
                    <a:pt x="5" y="142"/>
                  </a:lnTo>
                  <a:lnTo>
                    <a:pt x="2" y="185"/>
                  </a:lnTo>
                  <a:lnTo>
                    <a:pt x="0" y="231"/>
                  </a:lnTo>
                  <a:lnTo>
                    <a:pt x="3" y="279"/>
                  </a:lnTo>
                  <a:lnTo>
                    <a:pt x="10" y="329"/>
                  </a:lnTo>
                  <a:lnTo>
                    <a:pt x="22" y="380"/>
                  </a:lnTo>
                  <a:lnTo>
                    <a:pt x="41" y="430"/>
                  </a:lnTo>
                  <a:lnTo>
                    <a:pt x="67" y="479"/>
                  </a:lnTo>
                  <a:lnTo>
                    <a:pt x="101" y="526"/>
                  </a:lnTo>
                  <a:lnTo>
                    <a:pt x="144" y="571"/>
                  </a:lnTo>
                  <a:lnTo>
                    <a:pt x="197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18920" y="5072040"/>
              <a:ext cx="101880" cy="350640"/>
            </a:xfrm>
            <a:custGeom>
              <a:avLst/>
              <a:gdLst/>
              <a:ahLst/>
              <a:rect l="l" t="t" r="r" b="b"/>
              <a:pathLst>
                <a:path w="222" h="764">
                  <a:moveTo>
                    <a:pt x="207" y="764"/>
                  </a:moveTo>
                  <a:lnTo>
                    <a:pt x="222" y="743"/>
                  </a:lnTo>
                  <a:lnTo>
                    <a:pt x="165" y="696"/>
                  </a:lnTo>
                  <a:lnTo>
                    <a:pt x="120" y="643"/>
                  </a:lnTo>
                  <a:lnTo>
                    <a:pt x="86" y="588"/>
                  </a:lnTo>
                  <a:lnTo>
                    <a:pt x="59" y="529"/>
                  </a:lnTo>
                  <a:lnTo>
                    <a:pt x="42" y="469"/>
                  </a:lnTo>
                  <a:lnTo>
                    <a:pt x="31" y="408"/>
                  </a:lnTo>
                  <a:lnTo>
                    <a:pt x="27" y="348"/>
                  </a:lnTo>
                  <a:lnTo>
                    <a:pt x="27" y="289"/>
                  </a:lnTo>
                  <a:lnTo>
                    <a:pt x="31" y="233"/>
                  </a:lnTo>
                  <a:lnTo>
                    <a:pt x="40" y="181"/>
                  </a:lnTo>
                  <a:lnTo>
                    <a:pt x="49" y="134"/>
                  </a:lnTo>
                  <a:lnTo>
                    <a:pt x="58" y="93"/>
                  </a:lnTo>
                  <a:lnTo>
                    <a:pt x="67" y="59"/>
                  </a:lnTo>
                  <a:lnTo>
                    <a:pt x="76" y="32"/>
                  </a:lnTo>
                  <a:lnTo>
                    <a:pt x="82" y="16"/>
                  </a:lnTo>
                  <a:lnTo>
                    <a:pt x="84" y="9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1" y="24"/>
                  </a:lnTo>
                  <a:lnTo>
                    <a:pt x="43" y="51"/>
                  </a:lnTo>
                  <a:lnTo>
                    <a:pt x="33" y="87"/>
                  </a:lnTo>
                  <a:lnTo>
                    <a:pt x="22" y="129"/>
                  </a:lnTo>
                  <a:lnTo>
                    <a:pt x="13" y="179"/>
                  </a:lnTo>
                  <a:lnTo>
                    <a:pt x="6" y="233"/>
                  </a:lnTo>
                  <a:lnTo>
                    <a:pt x="2" y="291"/>
                  </a:lnTo>
                  <a:lnTo>
                    <a:pt x="0" y="352"/>
                  </a:lnTo>
                  <a:lnTo>
                    <a:pt x="6" y="414"/>
                  </a:lnTo>
                  <a:lnTo>
                    <a:pt x="16" y="477"/>
                  </a:lnTo>
                  <a:lnTo>
                    <a:pt x="36" y="541"/>
                  </a:lnTo>
                  <a:lnTo>
                    <a:pt x="63" y="602"/>
                  </a:lnTo>
                  <a:lnTo>
                    <a:pt x="99" y="660"/>
                  </a:lnTo>
                  <a:lnTo>
                    <a:pt x="147" y="715"/>
                  </a:lnTo>
                  <a:lnTo>
                    <a:pt x="207" y="7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3780000" y="119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3635280" y="1125360"/>
            <a:ext cx="216000" cy="13669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292720" y="1125360"/>
            <a:ext cx="216000" cy="13669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0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C -0.00313 -0.00625 -0.0073 -0.00926 -0.01042 -0.01527 C -0.01337 -0.03009 -0.01928 -0.04606 -0.02362 -0.06111 C -0.02969 -0.08264 -0.03316 -0.10555 -0.0382 -0.12754 C -0.04098 -0.13958 -0.04532 -0.15162 -0.04705 -0.16365 C -0.04775 -0.16875 -0.04757 -0.17407 -0.04844 -0.17893 C -0.04931 -0.18287 -0.05139 -0.19051 -0.05139 -0.19004 C -0.0573 -0.24352 -0.0691 -0.29514 -0.07483 -0.34838 C -0.07344 -0.5868 -0.07344 -0.50694 -0.07344 -0.58796 E">
                                      <p:cBhvr>
                                        <p:cTn id="1805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3348000" y="836640"/>
            <a:ext cx="1944720" cy="46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780000" y="5516640"/>
            <a:ext cx="107928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780000" y="1197000"/>
            <a:ext cx="115236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780000" y="3357720"/>
            <a:ext cx="1152360" cy="1439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476360" y="5084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ИГРА ПРОДОЛЖАЕ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0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1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12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13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14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6" dur="20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2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5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8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116000" y="1773360"/>
            <a:ext cx="3682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19280" y="2565360"/>
            <a:ext cx="352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451640" y="1413000"/>
            <a:ext cx="304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635280" y="4076640"/>
            <a:ext cx="28728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32360" y="4005360"/>
            <a:ext cx="43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12000" y="3284640"/>
            <a:ext cx="3045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32720" y="2349360"/>
            <a:ext cx="352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484360" y="3429000"/>
            <a:ext cx="287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73080" cy="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116000" y="1773360"/>
            <a:ext cx="3682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619280" y="2565360"/>
            <a:ext cx="352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451640" y="1413000"/>
            <a:ext cx="3049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635280" y="4076640"/>
            <a:ext cx="28728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32360" y="4005360"/>
            <a:ext cx="43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12000" y="3284640"/>
            <a:ext cx="3045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732720" y="2349360"/>
            <a:ext cx="352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484360" y="3429000"/>
            <a:ext cx="287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700280"/>
          <a:ext cx="22338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22338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195640" y="3500280"/>
            <a:ext cx="2117520" cy="1656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6588000" y="1628640"/>
            <a:ext cx="2189160" cy="1638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292720" y="3429000"/>
            <a:ext cx="2436840" cy="175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635280" y="4508640"/>
            <a:ext cx="2232000" cy="151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2843280" y="2060640"/>
            <a:ext cx="352908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ейбол везде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51280" y="4941720"/>
            <a:ext cx="1942920" cy="6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отдыхе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300720" y="620640"/>
            <a:ext cx="114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зале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867280" y="3860640"/>
            <a:ext cx="176220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пляже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95640" y="3933720"/>
            <a:ext cx="11998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воде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71280" cy="71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79280" y="630864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6763E-006 L 0.13003 -0.2148 E">
                                      <p:cBhvr>
                                        <p:cTn id="58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8" presetSubtype="12">
                                  <p:stCondLst>
                                    <p:cond delay="1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8" presetSubtype="12">
                                  <p:stCondLst>
                                    <p:cond delay="1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56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16667E-006 -1.79191E-006 L -0.13541 -0.1926 E">
                                      <p:cBhvr>
                                        <p:cTn id="69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1" dur="6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82659E-007 L -0.17882 -0.18335 E">
                                      <p:cBhvr>
                                        <p:cTn id="77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3699E-006 L 0.13455 -0.19075 E">
                                      <p:cBhvr>
                                        <p:cTn id="85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56069E-006 C 0.01164 0.03792 0.02917 0.07792 0.04323 0.09411 C 0.06459 0.11977 0.08507 0.12994 0.08907 0.1163 C 0.09237 0.10312 0.07796 0.07168 0.05678 0.04648 C 0.04254 0.03029 0.0165 0.01919 -0.00625 0.01757 C -0.02829 0.01919 -0.0552 0.03029 -0.06927 0.04648 C -0.09062 0.07168 -0.10451 0.10312 -0.10069 0.1163 C -0.0967 0.12994 -0.07638 0.11977 -0.0559 0.09411 C -0.04166 0.07792 -0.02361 0.03792 -0.01267 -1.56069E-006 C -0.00086 -0.04023 0.00712 -0.09248 0.00712 -0.12578 C 0.00712 -0.17711 0.00174 -0.21618 -0.00625 -0.21618 C -0.01336 -0.21618 -0.01979 -0.17711 -0.01979 -0.12578 C -0.01979 -0.09248 -0.01111 -0.04023 -4.44444E-006 -1.56069E-006 Z">
                                      <p:cBhvr>
                                        <p:cTn id="9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100"/>
                            </p:stCondLst>
                            <p:childTnLst>
                              <p:par>
                                <p:cTn id="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100"/>
                            </p:stCondLst>
                            <p:childTnLst>
                              <p:par>
                                <p:cTn id="108" nodeType="afterEffect" fill="hold" presetClass="exit" presetID="3" presetSubtype="10">
                                  <p:stCondLst>
                                    <p:cond delay="2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100"/>
                            </p:stCondLst>
                            <p:childTnLst>
                              <p:par>
                                <p:cTn id="131" nodeType="afterEffect" fill="hold" presetClass="exit" presetID="3" presetSubtype="10">
                                  <p:stCondLst>
                                    <p:cond delay="2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100"/>
                            </p:stCondLst>
                            <p:childTnLst>
                              <p:par>
                                <p:cTn id="140" nodeType="afterEffect" fill="hold" presetClass="exit" presetID="3" presetSubtype="10">
                                  <p:stCondLst>
                                    <p:cond delay="1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7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46821E-007 L 0.09271 -0.17988 E">
                                      <p:cBhvr>
                                        <p:cTn id="148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700"/>
                            </p:stCondLst>
                            <p:childTnLst>
                              <p:par>
                                <p:cTn id="15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2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7341E-006 L -0.08924 -0.19237 E">
                                      <p:cBhvr>
                                        <p:cTn id="161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2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Историческая справк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71640" cy="71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985920" cy="5400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859280" y="1773360"/>
            <a:ext cx="388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Дж. Морган – основатель волейбола. Официальной датой рождения этой игры считается 1895 год.   Волейбол получил свое начало  в США и назывался МИНТО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ейбол в переводе с английского означает «летающий мяч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64000" y="5300640"/>
            <a:ext cx="29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4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4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4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4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4167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403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Фото 1921 г. Студенты СГПУ за игрой в волейбол"/>
          <p:cNvPicPr/>
          <p:nvPr/>
        </p:nvPicPr>
        <p:blipFill>
          <a:blip r:embed="rId3"/>
          <a:stretch/>
        </p:blipFill>
        <p:spPr>
          <a:xfrm>
            <a:off x="4500720" y="2997360"/>
            <a:ext cx="431640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Игра в волейбол 30 k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ружность мяча            с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               г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Волейбол. Подготовка."/>
          <p:cNvPicPr/>
          <p:nvPr/>
        </p:nvPicPr>
        <p:blipFill>
          <a:blip r:embed="rId1"/>
          <a:stretch/>
        </p:blipFill>
        <p:spPr>
          <a:xfrm>
            <a:off x="2411280" y="2060640"/>
            <a:ext cx="4321440" cy="3673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725440" y="189000"/>
            <a:ext cx="129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65-6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95640" y="692280"/>
            <a:ext cx="180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260-2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2924280"/>
            <a:ext cx="865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1000" autoRev="1" fill="hold"/>
                                        <p:tgtEl>
                                          <p:spTgt spid="2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5:54:01Z</dcterms:created>
  <dc:creator>ОлЬкА</dc:creator>
  <dc:description/>
  <dc:language>en-US</dc:language>
  <cp:lastModifiedBy>Света</cp:lastModifiedBy>
  <dcterms:modified xsi:type="dcterms:W3CDTF">2012-11-10T13:06:15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