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D17-B6ED-4C6F-809A-AA6DDEA4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349-5EEA-4661-B9E0-FF1EF70D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3B3-D1F7-4197-876B-E6E84FA3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2F2-F3D0-4557-BCFC-9D962CF1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D1B6-7448-48D3-8604-3B3759F6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DAA-FF5A-4685-87E4-0E66FC33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2D4-A7DF-4684-8071-D49E975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BE10-F716-4B24-8FA9-AFB199EA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26D-5E9A-456E-88B1-6AE81AD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D6C5-B200-4C4B-9A96-FABF506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1D54-C5EC-4BC7-909D-D8E0638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229-F1CA-4724-AFCE-F5F63E0B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4091-DA68-4AED-B888-6CE75FD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DF4-530E-499C-83F0-A858CA1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B6E5-430C-48F4-A91E-9ED6E978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80D6-4FAF-4633-9E7F-43429B6B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0D4D-570B-4723-A348-B02AFF16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1D4-17BD-47B2-8E86-09BC363C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95F-2F84-4B6D-ADEC-00B2245B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378-5A4B-4113-A090-CEC4522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DE4-1D64-474F-95E3-76D65DB8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D0E-0DBF-4B9B-A5BE-2E67D25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D36-7E2E-4B2B-84EF-C6BED5F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846-F166-417D-BCF8-C416D6E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D4DD-261A-4D37-9B85-65E33DFF1D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7D35-2E8E-44FD-A2C9-0FDE20C096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bezh.ru/im/satroefoto/sport2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Муниципальная общеобразовательная гимназия №4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г. Лыткарин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ысенко Светла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46200" y="419040"/>
            <a:ext cx="36640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1331640" y="691920"/>
            <a:ext cx="5940360" cy="5729040"/>
          </a:xfrm>
          <a:custGeom>
            <a:avLst/>
            <a:gdLst>
              <a:gd name="textAreaLeft" fmla="*/ 1067760 w 5940360"/>
              <a:gd name="textAreaRight" fmla="*/ 4872600 w 5940360"/>
              <a:gd name="textAreaTop" fmla="*/ 1029600 h 5729040"/>
              <a:gd name="textAreaBottom" fmla="*/ 4699440 h 57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61" y="21600"/>
                </a:lnTo>
                <a:lnTo>
                  <a:pt x="3839" y="21600"/>
                </a:lnTo>
                <a:close/>
              </a:path>
            </a:pathLst>
          </a:cu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2823840" y="1196640"/>
            <a:ext cx="2909880" cy="4078440"/>
          </a:xfrm>
          <a:custGeom>
            <a:avLst/>
            <a:gdLst>
              <a:gd name="textAreaLeft" fmla="*/ 583560 w 2909880"/>
              <a:gd name="textAreaRight" fmla="*/ 2326320 w 2909880"/>
              <a:gd name="textAreaTop" fmla="*/ 818280 h 4078440"/>
              <a:gd name="textAreaBottom" fmla="*/ 3260160 h 407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949" y="21600"/>
                </a:lnTo>
                <a:lnTo>
                  <a:pt x="4651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78000" y="3332160"/>
            <a:ext cx="240048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57920" y="711360"/>
            <a:ext cx="1011240" cy="572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078000" y="5275440"/>
            <a:ext cx="252720" cy="116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6165720"/>
            <a:ext cx="113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24200" y="4983120"/>
            <a:ext cx="2781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2446200" y="5275080"/>
            <a:ext cx="3664080" cy="1106280"/>
          </a:xfrm>
          <a:custGeom>
            <a:avLst/>
            <a:gdLst>
              <a:gd name="textAreaLeft" fmla="*/ 503280 w 3664080"/>
              <a:gd name="textAreaRight" fmla="*/ 3160800 w 3664080"/>
              <a:gd name="textAreaTop" fmla="*/ 151920 h 1106280"/>
              <a:gd name="textAreaBottom" fmla="*/ 954360 h 110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09" y="21600"/>
                </a:lnTo>
                <a:lnTo>
                  <a:pt x="2191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2556000"/>
            <a:ext cx="1263600" cy="776160"/>
          </a:xfrm>
          <a:prstGeom prst="parallelogram">
            <a:avLst>
              <a:gd name="adj" fmla="val 13484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3456000" y="710640"/>
            <a:ext cx="1644480" cy="485640"/>
          </a:xfrm>
          <a:custGeom>
            <a:avLst/>
            <a:gdLst>
              <a:gd name="textAreaLeft" fmla="*/ 192960 w 1644480"/>
              <a:gd name="textAreaRight" fmla="*/ 1451520 w 1644480"/>
              <a:gd name="textAreaTop" fmla="*/ 56880 h 485640"/>
              <a:gd name="textAreaBottom" fmla="*/ 42876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88" y="21600"/>
                </a:lnTo>
                <a:lnTo>
                  <a:pt x="141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700000" y="5275440"/>
            <a:ext cx="377640" cy="110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24200" y="5275440"/>
            <a:ext cx="290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56000" y="1197000"/>
            <a:ext cx="1644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3640" y="2556000"/>
            <a:ext cx="2149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24200" y="2652840"/>
            <a:ext cx="290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24200" y="2652840"/>
            <a:ext cx="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32640" y="2652840"/>
            <a:ext cx="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4200" y="2751120"/>
            <a:ext cx="290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24200" y="2847960"/>
            <a:ext cx="290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20364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3072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784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308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1016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3544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87800" y="2652840"/>
            <a:ext cx="32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488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196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686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9432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2140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4668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04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7376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2612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0160" y="189000"/>
            <a:ext cx="1011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 – 19 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5320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3840" y="1098720"/>
            <a:ext cx="1467000" cy="60156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ОБОДНАЯ З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40040" y="2751120"/>
            <a:ext cx="1011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ОНА ЗАМ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3716280"/>
            <a:ext cx="1512720" cy="57636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ОБ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87680" y="5954760"/>
            <a:ext cx="631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5 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4789440"/>
            <a:ext cx="379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51280" y="5662440"/>
            <a:ext cx="504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8 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05560" y="3138480"/>
            <a:ext cx="631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-23 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3716280"/>
            <a:ext cx="99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ОН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43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мет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27640" y="3357720"/>
            <a:ext cx="86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 ме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1268280"/>
            <a:ext cx="504720" cy="3673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64000" y="2349360"/>
            <a:ext cx="129528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,24м/2,43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76280"/>
            <a:ext cx="792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3640" y="5300640"/>
            <a:ext cx="20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евая ли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00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5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1.11111E-006 L -2.77778E-007 -0.08403 E">
                                      <p:cBhvr>
                                        <p:cTn id="496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63400" y="466920"/>
            <a:ext cx="5940360" cy="5748120"/>
            <a:chOff x="1463400" y="466920"/>
            <a:chExt cx="5940360" cy="5748120"/>
          </a:xfrm>
        </p:grpSpPr>
        <p:sp>
          <p:nvSpPr>
            <p:cNvPr id="340" name=""/>
            <p:cNvSpPr/>
            <p:nvPr/>
          </p:nvSpPr>
          <p:spPr>
            <a:xfrm rot="10800000">
              <a:off x="1463400" y="466560"/>
              <a:ext cx="5940360" cy="5729040"/>
            </a:xfrm>
            <a:custGeom>
              <a:avLst/>
              <a:gdLst>
                <a:gd name="textAreaLeft" fmla="*/ 1067760 w 5940360"/>
                <a:gd name="textAreaRight" fmla="*/ 4872600 w 5940360"/>
                <a:gd name="textAreaTop" fmla="*/ 1029600 h 5729040"/>
                <a:gd name="textAreaBottom" fmla="*/ 4699440 h 57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61" y="21600"/>
                  </a:lnTo>
                  <a:lnTo>
                    <a:pt x="3839" y="21600"/>
                  </a:lnTo>
                  <a:close/>
                </a:path>
              </a:pathLst>
            </a:custGeom>
            <a:solidFill>
              <a:srgbClr val="3399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0800000">
              <a:off x="2955600" y="971280"/>
              <a:ext cx="2909880" cy="4078440"/>
            </a:xfrm>
            <a:custGeom>
              <a:avLst/>
              <a:gdLst>
                <a:gd name="textAreaLeft" fmla="*/ 583560 w 2909880"/>
                <a:gd name="textAreaRight" fmla="*/ 2326320 w 2909880"/>
                <a:gd name="textAreaTop" fmla="*/ 818280 h 4078440"/>
                <a:gd name="textAreaBottom" fmla="*/ 3260160 h 40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949" y="21600"/>
                  </a:lnTo>
                  <a:lnTo>
                    <a:pt x="4651" y="21600"/>
                  </a:lnTo>
                  <a:close/>
                </a:path>
              </a:pathLst>
            </a:cu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9760" y="3106800"/>
              <a:ext cx="240048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209760" y="5050080"/>
              <a:ext cx="25272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0800000">
              <a:off x="2577960" y="5049720"/>
              <a:ext cx="3664080" cy="1106280"/>
            </a:xfrm>
            <a:custGeom>
              <a:avLst/>
              <a:gdLst>
                <a:gd name="textAreaLeft" fmla="*/ 503280 w 3664080"/>
                <a:gd name="textAreaRight" fmla="*/ 3160800 w 3664080"/>
                <a:gd name="textAreaTop" fmla="*/ 151920 h 1106280"/>
                <a:gd name="textAreaBottom" fmla="*/ 954360 h 11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09" y="21600"/>
                  </a:lnTo>
                  <a:lnTo>
                    <a:pt x="2191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71800" y="2330640"/>
              <a:ext cx="1263600" cy="776160"/>
            </a:xfrm>
            <a:prstGeom prst="parallelogram">
              <a:avLst>
                <a:gd name="adj" fmla="val 13484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3587760" y="485280"/>
              <a:ext cx="1644480" cy="485640"/>
            </a:xfrm>
            <a:custGeom>
              <a:avLst/>
              <a:gdLst>
                <a:gd name="textAreaLeft" fmla="*/ 192960 w 1644480"/>
                <a:gd name="textAreaRight" fmla="*/ 1451520 w 1644480"/>
                <a:gd name="textAreaTop" fmla="*/ 56880 h 485640"/>
                <a:gd name="textAreaBottom" fmla="*/ 42876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88" y="21600"/>
                  </a:lnTo>
                  <a:lnTo>
                    <a:pt x="141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55960" y="5050080"/>
              <a:ext cx="290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7760" y="971640"/>
              <a:ext cx="164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35400" y="2330640"/>
              <a:ext cx="214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55960" y="2427480"/>
              <a:ext cx="290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5596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55960" y="2525760"/>
              <a:ext cx="290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5960" y="2622600"/>
              <a:ext cx="29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830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97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3354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3732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02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77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148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4192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72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942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19560" y="2427480"/>
              <a:ext cx="32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66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737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004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60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531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784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22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055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578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49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34800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11640" y="306864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0364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4365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4005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03640" y="429264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5440400">
            <a:off x="4538880" y="3894480"/>
            <a:ext cx="706680" cy="784080"/>
          </a:xfrm>
          <a:custGeom>
            <a:avLst/>
            <a:gdLst>
              <a:gd name="textAreaLeft" fmla="*/ 0 w 706680"/>
              <a:gd name="textAreaRight" fmla="*/ 707040 w 706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1429400">
            <a:off x="3359160" y="3866400"/>
            <a:ext cx="936720" cy="79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8592200">
            <a:off x="3239640" y="3609720"/>
            <a:ext cx="865440" cy="792000"/>
          </a:xfrm>
          <a:custGeom>
            <a:avLst/>
            <a:gdLst>
              <a:gd name="textAreaLeft" fmla="*/ 0 w 865440"/>
              <a:gd name="textAreaRight" fmla="*/ 865800 w 865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240200">
            <a:off x="3642840" y="3153960"/>
            <a:ext cx="646200" cy="692280"/>
          </a:xfrm>
          <a:custGeom>
            <a:avLst/>
            <a:gdLst>
              <a:gd name="textAreaLeft" fmla="*/ 0 w 646200"/>
              <a:gd name="textAreaRight" fmla="*/ 646560 w 64620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3798600">
            <a:off x="4350240" y="3218400"/>
            <a:ext cx="785880" cy="631800"/>
          </a:xfrm>
          <a:custGeom>
            <a:avLst/>
            <a:gdLst>
              <a:gd name="textAreaLeft" fmla="*/ 0 w 785880"/>
              <a:gd name="textAreaRight" fmla="*/ 786240 w 7858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7919400">
            <a:off x="4669560" y="3547080"/>
            <a:ext cx="774720" cy="827280"/>
          </a:xfrm>
          <a:custGeom>
            <a:avLst/>
            <a:gdLst>
              <a:gd name="textAreaLeft" fmla="*/ 0 w 774720"/>
              <a:gd name="textAreaRight" fmla="*/ 775080 w 77472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4156400">
            <a:off x="3924000" y="2779200"/>
            <a:ext cx="2879640" cy="1152360"/>
          </a:xfrm>
          <a:custGeom>
            <a:avLst/>
            <a:gdLst>
              <a:gd name="textAreaLeft" fmla="*/ 645120 w 2879640"/>
              <a:gd name="textAreaRight" fmla="*/ 2022120 w 2879640"/>
              <a:gd name="textAreaTop" fmla="*/ 154080 h 1152360"/>
              <a:gd name="textAreaBottom" fmla="*/ 9982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79" hR="21600" stAng="10800000" swAng="-5400000"/>
                <a:lnTo>
                  <a:pt x="10328" y="21600"/>
                </a:lnTo>
                <a:arcTo wR="9679" hR="21600" stAng="5400000" swAng="-3034219"/>
                <a:lnTo>
                  <a:pt x="21003" y="7468"/>
                </a:lnTo>
                <a:lnTo>
                  <a:pt x="19683" y="0"/>
                </a:lnTo>
                <a:lnTo>
                  <a:pt x="17168" y="7468"/>
                </a:lnTo>
                <a:lnTo>
                  <a:pt x="18761" y="7468"/>
                </a:lnTo>
                <a:arcTo wR="9679" hR="21600" stAng="2365781" swAng="2982548"/>
                <a:lnTo>
                  <a:pt x="10003" y="21588"/>
                </a:lnTo>
                <a:arcTo wR="9679" hR="21600" stAng="5451671" swAng="5348329"/>
                <a:close/>
              </a:path>
              <a:path fill="darkenLess" w="21600" h="21600">
                <a:moveTo>
                  <a:pt x="0" y="0"/>
                </a:moveTo>
                <a:arcTo wR="9679" hR="21600" stAng="10800000" swAng="-5400000"/>
                <a:lnTo>
                  <a:pt x="10328" y="21600"/>
                </a:lnTo>
                <a:arcTo wR="9679" hR="21600" stAng="5400000" swAng="51671"/>
                <a:lnTo>
                  <a:pt x="10003" y="21588"/>
                </a:lnTo>
                <a:arcTo wR="9679" hR="21600" stAng="5451671" swAng="5348329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1284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938000">
            <a:off x="1716840" y="2991600"/>
            <a:ext cx="2643120" cy="1104840"/>
          </a:xfrm>
          <a:custGeom>
            <a:avLst/>
            <a:gdLst>
              <a:gd name="textAreaLeft" fmla="*/ 565200 w 2643120"/>
              <a:gd name="textAreaRight" fmla="*/ 1814400 w 2643120"/>
              <a:gd name="textAreaTop" fmla="*/ 147960 h 1104840"/>
              <a:gd name="textAreaBottom" fmla="*/ 95688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0207" y="0"/>
                </a:lnTo>
                <a:arcTo wR="9240" hR="21600" stAng="-5400000" swAng="3361981"/>
                <a:lnTo>
                  <a:pt x="21239" y="15619"/>
                </a:lnTo>
                <a:lnTo>
                  <a:pt x="18963" y="21600"/>
                </a:lnTo>
                <a:lnTo>
                  <a:pt x="15964" y="15619"/>
                </a:lnTo>
                <a:lnTo>
                  <a:pt x="18118" y="15619"/>
                </a:lnTo>
                <a:arcTo wR="9240" hR="21600" stAng="-2038019" swAng="-3284937"/>
                <a:lnTo>
                  <a:pt x="9723" y="30"/>
                </a:lnTo>
                <a:arcTo wR="9240" hR="21600" stAng="-5477044" swAng="-5322956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77044"/>
                <a:lnTo>
                  <a:pt x="9723" y="30"/>
                </a:lnTo>
                <a:arcTo wR="9240" hR="21600" stAng="-5477044" swAng="-5322956"/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0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96000" y="907920"/>
            <a:ext cx="2160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умерация зон, начинается с позиции подающего(1) и далее против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овой стре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 – подающ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,4 – нападающ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 – связующ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,6- защитники (блокирующи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1628640"/>
            <a:ext cx="208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выигрывается очко при чужой подаче, то игроки, двигаясь по часовой стрелке , переходят в другие з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100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100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100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100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100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100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3" presetSubtype="10">
                                  <p:stCondLst>
                                    <p:cond delay="7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6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8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10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15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2500"/>
                            </p:stCondLst>
                            <p:childTnLst>
                              <p:par>
                                <p:cTn id="6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6500"/>
                            </p:stCondLst>
                            <p:childTnLst>
                              <p:par>
                                <p:cTn id="64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20231E-007 L -0.08264 -0.03653 E">
                                      <p:cBhvr>
                                        <p:cTn id="64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532 L -0.09428 0.05249 E">
                                      <p:cBhvr>
                                        <p:cTn id="64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68208E-006 L 0.00382 -0.15214 E">
                                      <p:cBhvr>
                                        <p:cTn id="65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4104E-006 L 0.09462 -0.04185 E">
                                      <p:cBhvr>
                                        <p:cTn id="652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0908 0.04763 E">
                                      <p:cBhvr>
                                        <p:cTn id="654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4 L 0.00816 0.14705 E">
                                      <p:cBhvr>
                                        <p:cTn id="656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392120" y="466920"/>
            <a:ext cx="5940360" cy="5748120"/>
            <a:chOff x="1392120" y="466920"/>
            <a:chExt cx="5940360" cy="5748120"/>
          </a:xfrm>
        </p:grpSpPr>
        <p:sp>
          <p:nvSpPr>
            <p:cNvPr id="394" name=""/>
            <p:cNvSpPr/>
            <p:nvPr/>
          </p:nvSpPr>
          <p:spPr>
            <a:xfrm rot="10800000">
              <a:off x="1392120" y="466560"/>
              <a:ext cx="5940360" cy="5729040"/>
            </a:xfrm>
            <a:custGeom>
              <a:avLst/>
              <a:gdLst>
                <a:gd name="textAreaLeft" fmla="*/ 1067760 w 5940360"/>
                <a:gd name="textAreaRight" fmla="*/ 4872600 w 5940360"/>
                <a:gd name="textAreaTop" fmla="*/ 1029600 h 5729040"/>
                <a:gd name="textAreaBottom" fmla="*/ 4699440 h 57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61" y="21600"/>
                  </a:lnTo>
                  <a:lnTo>
                    <a:pt x="3839" y="21600"/>
                  </a:lnTo>
                  <a:close/>
                </a:path>
              </a:pathLst>
            </a:custGeom>
            <a:solidFill>
              <a:srgbClr val="3399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0800000">
              <a:off x="2884320" y="971280"/>
              <a:ext cx="2909880" cy="4078440"/>
            </a:xfrm>
            <a:custGeom>
              <a:avLst/>
              <a:gdLst>
                <a:gd name="textAreaLeft" fmla="*/ 583560 w 2909880"/>
                <a:gd name="textAreaRight" fmla="*/ 2326320 w 2909880"/>
                <a:gd name="textAreaTop" fmla="*/ 818280 h 4078440"/>
                <a:gd name="textAreaBottom" fmla="*/ 3260160 h 40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949" y="21600"/>
                  </a:lnTo>
                  <a:lnTo>
                    <a:pt x="4651" y="21600"/>
                  </a:lnTo>
                  <a:close/>
                </a:path>
              </a:pathLst>
            </a:cu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38480" y="3106800"/>
              <a:ext cx="240048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3138480" y="5050080"/>
              <a:ext cx="25272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2506680" y="5049720"/>
              <a:ext cx="3664080" cy="1106280"/>
            </a:xfrm>
            <a:custGeom>
              <a:avLst/>
              <a:gdLst>
                <a:gd name="textAreaLeft" fmla="*/ 503280 w 3664080"/>
                <a:gd name="textAreaRight" fmla="*/ 3160800 w 3664080"/>
                <a:gd name="textAreaTop" fmla="*/ 151920 h 1106280"/>
                <a:gd name="textAreaBottom" fmla="*/ 954360 h 11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09" y="21600"/>
                  </a:lnTo>
                  <a:lnTo>
                    <a:pt x="2191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0520" y="2330640"/>
              <a:ext cx="1263600" cy="776160"/>
            </a:xfrm>
            <a:prstGeom prst="parallelogram">
              <a:avLst>
                <a:gd name="adj" fmla="val 13484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0800000">
              <a:off x="3516480" y="485280"/>
              <a:ext cx="1644480" cy="485640"/>
            </a:xfrm>
            <a:custGeom>
              <a:avLst/>
              <a:gdLst>
                <a:gd name="textAreaLeft" fmla="*/ 192960 w 1644480"/>
                <a:gd name="textAreaRight" fmla="*/ 1451520 w 1644480"/>
                <a:gd name="textAreaTop" fmla="*/ 56880 h 485640"/>
                <a:gd name="textAreaBottom" fmla="*/ 42876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88" y="21600"/>
                  </a:lnTo>
                  <a:lnTo>
                    <a:pt x="141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84680" y="5050080"/>
              <a:ext cx="290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16480" y="971640"/>
              <a:ext cx="164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64120" y="2330640"/>
              <a:ext cx="214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84680" y="2427480"/>
              <a:ext cx="290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8468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312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84680" y="2525760"/>
              <a:ext cx="290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84680" y="2622600"/>
              <a:ext cx="29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117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848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2641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9120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660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389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164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435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706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959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230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8280" y="2427480"/>
              <a:ext cx="32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3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024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91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548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818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071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609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342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866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36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932360" y="4437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4437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48000" y="357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306864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59280" y="357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1628640"/>
            <a:ext cx="208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выигрывается очко при чужой подаче, то игроки, двигаясь по часовой стрелке , переходят в другие з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5549E-006 L -0.09046 0.03677 E">
                                      <p:cBhvr>
                                        <p:cTn id="662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3873E-006 L 0.00782 -0.12578 E">
                                      <p:cBhvr>
                                        <p:cTn id="664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023 L 0.08282 -0.06805 E">
                                      <p:cBhvr>
                                        <p:cTn id="666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07882 0.07361 E">
                                      <p:cBhvr>
                                        <p:cTn id="66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21965E-006 L 0.00399 0.1207 E">
                                      <p:cBhvr>
                                        <p:cTn id="67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3873E-006 L -0.09461 -0.03145 E">
                                      <p:cBhvr>
                                        <p:cTn id="67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0.03677 L -0.09046 -0.09965 E">
                                      <p:cBhvr>
                                        <p:cTn id="67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1257 L 0.09063 -0.19421 E">
                                      <p:cBhvr>
                                        <p:cTn id="677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-0.06821 L 0.16146 -0.00532 E">
                                      <p:cBhvr>
                                        <p:cTn id="679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07361 L 0.08281 0.19445 E">
                                      <p:cBhvr>
                                        <p:cTn id="681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12069 L -0.08246 0.08925 E">
                                      <p:cBhvr>
                                        <p:cTn id="683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-0.03145 L -0.17709 0.00532 E">
                                      <p:cBhvr>
                                        <p:cTn id="685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-0.09422 L -0.00382 -0.1625 E">
                                      <p:cBhvr>
                                        <p:cTn id="688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0.19399 L 0.17726 -0.12046 E">
                                      <p:cBhvr>
                                        <p:cTn id="690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2.22222E-006 L 0.16945 0.12084 E">
                                      <p:cBhvr>
                                        <p:cTn id="692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3 0.19422 L -0.00382 0.16278 E">
                                      <p:cBhvr>
                                        <p:cTn id="69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9433 L -0.17708 0.1311 E">
                                      <p:cBhvr>
                                        <p:cTn id="69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0.00532 L -0.17709 -0.1311 E">
                                      <p:cBhvr>
                                        <p:cTn id="698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16254 L 0.08281 -0.08901 E">
                                      <p:cBhvr>
                                        <p:cTn id="70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6 -0.12592 L 0.18125 0.00024 E">
                                      <p:cBhvr>
                                        <p:cTn id="70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27 0.12069 L 0.08282 0.09965 E">
                                      <p:cBhvr>
                                        <p:cTn id="705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16786 L -0.09844 0.20463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1 0.1311 L -0.1691 -0.00532 E">
                                      <p:cBhvr>
                                        <p:cTn id="70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6 -0.12578 L -0.08663 -0.19907 E">
                                      <p:cBhvr>
                                        <p:cTn id="71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8000"/>
                            </p:stCondLst>
                            <p:childTnLst>
                              <p:par>
                                <p:cTn id="7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9445 L 0.08281 0.02639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-0.00532 L 0.09063 -0.03681 E">
                                      <p:cBhvr>
                                        <p:cTn id="716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09433 L -0.00382 0.1311 E">
                                      <p:cBhvr>
                                        <p:cTn id="71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0.20463 L -0.09046 0.07099 E">
                                      <p:cBhvr>
                                        <p:cTn id="72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28 4.04624E-007 L -0.08246 -0.06821 E">
                                      <p:cBhvr>
                                        <p:cTn id="72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9398 L -0.00382 -0.1206 E">
                                      <p:cBhvr>
                                        <p:cTn id="724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332000" y="2489040"/>
            <a:ext cx="6696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ПОДАЧА</a:t>
            </a:r>
            <a:endParaRPr b="0" lang="en-US" sz="80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446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881360" y="701640"/>
            <a:ext cx="5410080" cy="5237280"/>
            <a:chOff x="1881360" y="701640"/>
            <a:chExt cx="5410080" cy="5237280"/>
          </a:xfrm>
        </p:grpSpPr>
        <p:grpSp>
          <p:nvGrpSpPr>
            <p:cNvPr id="463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464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467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472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475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478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511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514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519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522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525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3141720"/>
            <a:ext cx="25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одач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59280" y="5373720"/>
            <a:ext cx="30254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4941720"/>
            <a:ext cx="0" cy="93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148360" y="4941720"/>
            <a:ext cx="504720" cy="432000"/>
            <a:chOff x="5148360" y="4941720"/>
            <a:chExt cx="504720" cy="432000"/>
          </a:xfrm>
        </p:grpSpPr>
        <p:sp>
          <p:nvSpPr>
            <p:cNvPr id="567" name=""/>
            <p:cNvSpPr/>
            <p:nvPr/>
          </p:nvSpPr>
          <p:spPr>
            <a:xfrm>
              <a:off x="5148360" y="4941720"/>
              <a:ext cx="504720" cy="43200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00560" y="5021280"/>
              <a:ext cx="432000" cy="3348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68520" y="4959000"/>
              <a:ext cx="432000" cy="36180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1040" y="4985640"/>
              <a:ext cx="218880" cy="12672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40600" y="4954320"/>
              <a:ext cx="208440" cy="12204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87960" y="5040000"/>
              <a:ext cx="196560" cy="1198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76240" y="5031360"/>
              <a:ext cx="214920" cy="12528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1880" y="5212080"/>
              <a:ext cx="223200" cy="1260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11160" y="5153760"/>
              <a:ext cx="235080" cy="12528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01800" y="5085000"/>
              <a:ext cx="233280" cy="1346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65440" y="5143320"/>
              <a:ext cx="52920" cy="1944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82720" y="532476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68040" y="532080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40760" y="5288400"/>
              <a:ext cx="3456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06400" y="5105520"/>
              <a:ext cx="97560" cy="2404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18920" y="5053320"/>
              <a:ext cx="101880" cy="30096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500"/>
                            </p:stCondLst>
                            <p:childTnLst>
                              <p:par>
                                <p:cTn id="8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4.56647E-006 C -0.00105 -0.00139 -0.00192 -0.00301 -0.00313 -0.00439 C -0.00522 -0.00671 -0.00765 -0.00809 -0.00955 -0.01064 C -0.01338 -0.01572 -0.01545 -0.0222 -0.01911 -0.02752 C -0.02779 -0.04023 -0.03612 -0.05272 -0.04445 -0.06567 C -0.05001 -0.07422 -0.04567 -0.07075 -0.0507 -0.08254 C -0.0514 -0.08439 -0.05313 -0.08509 -0.054 -0.08671 C -0.05574 -0.08994 -0.0573 -0.09364 -0.05869 -0.09734 C -0.05938 -0.09942 -0.05938 -0.10173 -0.06025 -0.10358 C -0.07171 -0.12624 -0.05956 -0.09572 -0.06824 -0.1163 C -0.07379 -0.12925 -0.06893 -0.12231 -0.07779 -0.13757 C -0.08265 -0.1459 -0.0823 -0.14127 -0.08577 -0.15029 C -0.09011 -0.16162 -0.09411 -0.17272 -0.09845 -0.18405 C -0.10539 -0.20254 -0.10782 -0.22312 -0.11581 -0.24116 C -0.11737 -0.25202 -0.12032 -0.2622 -0.12223 -0.27283 C -0.12327 -0.28624 -0.12432 -0.29965 -0.12536 -0.31306 C -0.12848 -0.35237 -0.12466 -0.39214 -0.12223 -0.43145 C -0.12206 -0.43422 -0.11407 -0.44416 -0.11268 -0.44624 C -0.10695 -0.45549 -0.10487 -0.46867 -0.09688 -0.47584 C -0.09359 -0.47884 -0.08925 -0.47954 -0.08577 -0.48208 C -0.08195 -0.48486 -0.07935 -0.48832 -0.07466 -0.48832 E">
                                      <p:cBhvr>
                                        <p:cTn id="811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ГРА ПРОДОЛЖА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2" dur="2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595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881360" y="701640"/>
            <a:ext cx="5410080" cy="5237280"/>
            <a:chOff x="1881360" y="701640"/>
            <a:chExt cx="5410080" cy="5237280"/>
          </a:xfrm>
        </p:grpSpPr>
        <p:grpSp>
          <p:nvGrpSpPr>
            <p:cNvPr id="612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613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616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621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624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627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660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663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668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671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674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148360" y="4941720"/>
            <a:ext cx="504720" cy="432000"/>
            <a:chOff x="5148360" y="4941720"/>
            <a:chExt cx="504720" cy="432000"/>
          </a:xfrm>
        </p:grpSpPr>
        <p:sp>
          <p:nvSpPr>
            <p:cNvPr id="713" name=""/>
            <p:cNvSpPr/>
            <p:nvPr/>
          </p:nvSpPr>
          <p:spPr>
            <a:xfrm>
              <a:off x="5148360" y="4941720"/>
              <a:ext cx="504720" cy="43200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00560" y="5021280"/>
              <a:ext cx="432000" cy="3348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68520" y="4959000"/>
              <a:ext cx="432000" cy="36180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61040" y="4985640"/>
              <a:ext cx="218880" cy="12672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600" y="4954320"/>
              <a:ext cx="208440" cy="12204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87960" y="5040000"/>
              <a:ext cx="196560" cy="1198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76240" y="5031360"/>
              <a:ext cx="214920" cy="12528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1880" y="5212080"/>
              <a:ext cx="223200" cy="1260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1160" y="5153760"/>
              <a:ext cx="235080" cy="12528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01800" y="5085000"/>
              <a:ext cx="233280" cy="1346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65440" y="5143320"/>
              <a:ext cx="52920" cy="1944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82720" y="532476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68040" y="532080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0760" y="5288400"/>
              <a:ext cx="3456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06400" y="5105520"/>
              <a:ext cx="97560" cy="2404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18920" y="5053320"/>
              <a:ext cx="101880" cy="30096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4335E-006 C -0.00625 -0.00902 -0.01094 -0.01873 -0.01771 -0.02682 C -0.02031 -0.03468 -0.02396 -0.0363 -0.02691 -0.0437 C -0.02864 -0.04763 -0.02882 -0.05295 -0.0309 -0.05642 C -0.03837 -0.06775 -0.04253 -0.08046 -0.04948 -0.09226 C -0.05399 -0.10012 -0.05607 -0.10798 -0.06076 -0.11584 C -0.06771 -0.13804 -0.06406 -0.12902 -0.07048 -0.14336 C -0.07257 -0.15168 -0.07344 -0.157 -0.0783 -0.16255 C -0.08455 -0.18243 -0.08906 -0.20347 -0.09514 -0.22312 C -0.11215 -0.32255 -0.11632 -0.42544 -0.11614 -0.52717 C -0.11736 -0.5533 -0.11892 -0.57873 -0.11996 -0.60486 C -0.12048 -0.62289 -0.1184 -0.6111 -0.11198 -0.62844 C -0.11024 -0.6326 -0.10642 -0.64 -0.10642 -0.63977 E">
                                      <p:cBhvr>
                                        <p:cTn id="844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ЕРЕХОД ПО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2000" fill="hold"/>
                                        <p:tgtEl>
                                          <p:spTgt spid="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741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758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761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766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769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772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805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808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813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816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819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5148360" y="4941720"/>
            <a:ext cx="504720" cy="432000"/>
            <a:chOff x="5148360" y="4941720"/>
            <a:chExt cx="504720" cy="432000"/>
          </a:xfrm>
        </p:grpSpPr>
        <p:sp>
          <p:nvSpPr>
            <p:cNvPr id="858" name=""/>
            <p:cNvSpPr/>
            <p:nvPr/>
          </p:nvSpPr>
          <p:spPr>
            <a:xfrm>
              <a:off x="5148360" y="4941720"/>
              <a:ext cx="504720" cy="43200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00560" y="5021280"/>
              <a:ext cx="432000" cy="3348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68520" y="4959000"/>
              <a:ext cx="432000" cy="36180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1040" y="4985640"/>
              <a:ext cx="218880" cy="12672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40600" y="4954320"/>
              <a:ext cx="208440" cy="12204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87960" y="5040000"/>
              <a:ext cx="196560" cy="1198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76240" y="5031360"/>
              <a:ext cx="214920" cy="12528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11880" y="5212080"/>
              <a:ext cx="223200" cy="1260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1160" y="5153760"/>
              <a:ext cx="235080" cy="12528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01800" y="5085000"/>
              <a:ext cx="233280" cy="1346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65440" y="5143320"/>
              <a:ext cx="52920" cy="1944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82720" y="532476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68040" y="532080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40760" y="5288400"/>
              <a:ext cx="3456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06400" y="5105520"/>
              <a:ext cx="97560" cy="2404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18920" y="5053320"/>
              <a:ext cx="101880" cy="30096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8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C 0.00435 -0.00764 0.00747 -0.01574 0.01146 -0.02361 C 0.01233 -0.02523 0.01388 -0.02616 0.01459 -0.02778 C 0.01702 -0.0331 0.01823 -0.03935 0.02083 -0.04444 C 0.02153 -0.04583 0.02223 -0.04722 0.02292 -0.04861 C 0.02378 -0.05278 0.0257 -0.05671 0.02605 -0.06111 C 0.02744 -0.07963 0.02518 -0.09236 0.02917 -0.10833 C 0.02882 -0.11852 0.029 -0.1287 0.02813 -0.13889 C 0.02761 -0.14467 0.02431 -0.15278 0.02292 -0.15833 C 0.02014 -0.16944 0.01962 -0.18125 0.01563 -0.19167 C 0.01459 -0.19954 0.01355 -0.20926 0.01146 -0.21667 C 0.00955 -0.22384 0.00833 -0.22315 0.0073 -0.22917 C 0.00365 -0.25092 -0.00452 -0.27245 -0.01459 -0.29028 C -0.01685 -0.29907 -0.02171 -0.30486 -0.02605 -0.31111 C -0.029 -0.31551 -0.0316 -0.32037 -0.03438 -0.325 C -0.03646 -0.32847 -0.03888 -0.33217 -0.04167 -0.33472 C -0.04271 -0.33565 -0.04393 -0.33634 -0.0448 -0.3375 C -0.05053 -0.34514 -0.05573 -0.35648 -0.0625 -0.3625 C -0.06511 -0.36759 -0.06858 -0.3706 -0.07188 -0.375 E">
                                      <p:cBhvr>
                                        <p:cTn id="1067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1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72" dur="1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1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80" dur="1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81" dur="1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89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90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9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9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1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07" dur="1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08" dur="1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17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26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3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34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35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43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44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53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70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71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1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79" dur="1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80" dur="1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1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89" dur="1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6" dur="1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98" dur="1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1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07" dur="1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1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15" dur="1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16" dur="1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3" dur="1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25" dur="1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2" dur="1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33" dur="1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34" dur="1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1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42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43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51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52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1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60" dur="1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61" dur="1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1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69" dur="1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70" dur="1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79" dur="1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87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88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5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96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97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-0.375 C -0.06268 -0.3831 -0.05868 -0.39884 -0.05521 -0.4125 C -0.05556 -0.4213 -0.05573 -0.43009 -0.05625 -0.43889 C -0.05712 -0.45463 -0.06198 -0.47153 -0.06667 -0.48611 C -0.06858 -0.49213 -0.06979 -0.49769 -0.07396 -0.50139 C -0.07917 -0.51181 -0.08872 -0.51829 -0.09582 -0.52639 C -0.09722 -0.52801 -0.1 -0.53264 -0.10208 -0.53333 C -0.10417 -0.53403 -0.10625 -0.53333 -0.10833 -0.53333 E">
                                      <p:cBhvr>
                                        <p:cTn id="1305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ГРА ПРОДОЛЖА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6" dur="2000" fill="hold"/>
                                        <p:tgtEl>
                                          <p:spTgt spid="8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5987880"/>
            <a:ext cx="871560" cy="870120"/>
            <a:chOff x="0" y="5987880"/>
            <a:chExt cx="871560" cy="870120"/>
          </a:xfrm>
        </p:grpSpPr>
        <p:sp>
          <p:nvSpPr>
            <p:cNvPr id="214" name=""/>
            <p:cNvSpPr/>
            <p:nvPr/>
          </p:nvSpPr>
          <p:spPr>
            <a:xfrm>
              <a:off x="0" y="5987880"/>
              <a:ext cx="871560" cy="87012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360" y="6148440"/>
              <a:ext cx="746280" cy="67464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920" y="6022800"/>
              <a:ext cx="745920" cy="72864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5120" y="6076800"/>
              <a:ext cx="378000" cy="25560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1920" y="6013440"/>
              <a:ext cx="360360" cy="24588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00" y="6186240"/>
              <a:ext cx="339480" cy="24156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840" y="6168960"/>
              <a:ext cx="371160" cy="25236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5400" y="6532560"/>
              <a:ext cx="385920" cy="2538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3960" y="6414840"/>
              <a:ext cx="406440" cy="2527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8120" y="6276960"/>
              <a:ext cx="403200" cy="2714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760" y="6394320"/>
              <a:ext cx="91800" cy="39204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4640" y="6759360"/>
              <a:ext cx="60480" cy="8748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2240" y="6751440"/>
              <a:ext cx="60480" cy="8748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7880" y="6686280"/>
              <a:ext cx="60120" cy="8748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2880" y="6318000"/>
              <a:ext cx="168480" cy="48420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2040" y="6213240"/>
              <a:ext cx="176400" cy="6066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0" cy="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4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1295E-007 L 0.39965 -0.53492 E">
                                      <p:cBhvr>
                                        <p:cTn id="10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886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903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906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911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914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917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950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953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958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961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964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5148360" y="4941720"/>
            <a:ext cx="504720" cy="503280"/>
            <a:chOff x="5148360" y="4941720"/>
            <a:chExt cx="504720" cy="503280"/>
          </a:xfrm>
        </p:grpSpPr>
        <p:sp>
          <p:nvSpPr>
            <p:cNvPr id="1003" name=""/>
            <p:cNvSpPr/>
            <p:nvPr/>
          </p:nvSpPr>
          <p:spPr>
            <a:xfrm>
              <a:off x="5148360" y="4941720"/>
              <a:ext cx="504720" cy="50328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00560" y="5034600"/>
              <a:ext cx="432000" cy="39024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68520" y="4961880"/>
              <a:ext cx="432000" cy="421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61040" y="4992840"/>
              <a:ext cx="218880" cy="14760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40600" y="4956480"/>
              <a:ext cx="208440" cy="1422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7960" y="5056200"/>
              <a:ext cx="196560" cy="1396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6240" y="5046480"/>
              <a:ext cx="214920" cy="1458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11880" y="5256720"/>
              <a:ext cx="223200" cy="14652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11160" y="5188680"/>
              <a:ext cx="235080" cy="1461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01800" y="5108760"/>
              <a:ext cx="233280" cy="15696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65440" y="5176800"/>
              <a:ext cx="52920" cy="2268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82720" y="538776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68040" y="538344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40760" y="5345640"/>
              <a:ext cx="3456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06400" y="5132520"/>
              <a:ext cx="97560" cy="2800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218920" y="5072040"/>
              <a:ext cx="101880" cy="3506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C 0.00435 -0.00764 0.00747 -0.01574 0.01146 -0.02361 C 0.01233 -0.02523 0.01388 -0.02616 0.01459 -0.02778 C 0.01702 -0.0331 0.01823 -0.03935 0.02083 -0.04444 C 0.02153 -0.04583 0.02223 -0.04722 0.02292 -0.04861 C 0.02378 -0.05278 0.0257 -0.05671 0.02605 -0.06111 C 0.02744 -0.07963 0.02518 -0.09236 0.02917 -0.10833 C 0.02882 -0.11852 0.029 -0.1287 0.02813 -0.13889 C 0.02761 -0.14467 0.02431 -0.15278 0.02292 -0.15833 C 0.02014 -0.16944 0.01962 -0.18125 0.01563 -0.19167 C 0.01459 -0.19954 0.01355 -0.20926 0.01146 -0.21667 C 0.00955 -0.22384 0.00833 -0.22315 0.0073 -0.22917 C 0.00365 -0.25092 -0.00452 -0.27245 -0.01459 -0.29028 C -0.01685 -0.29907 -0.02171 -0.30486 -0.02605 -0.31111 C -0.029 -0.31551 -0.0316 -0.32037 -0.03438 -0.325 C -0.03646 -0.32847 -0.03888 -0.33217 -0.04167 -0.33472 C -0.04271 -0.33565 -0.04393 -0.33634 -0.0448 -0.3375 C -0.05053 -0.34514 -0.05573 -0.35648 -0.0625 -0.3625 C -0.06511 -0.36759 -0.06858 -0.3706 -0.07188 -0.375 E">
                                      <p:cBhvr>
                                        <p:cTn id="1528" dur="2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1" dur="1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32" dur="1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33" dur="1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0" dur="1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41" dur="1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42" dur="1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9" dur="1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50" dur="1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51" dur="1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1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59" dur="1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60" dur="1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1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69" dur="1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6" dur="1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77" dur="1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78" dur="1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1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86" dur="1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87" dur="1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4" dur="1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95" dur="1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96" dur="1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3" dur="1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04" dur="1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05" dur="1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1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13" dur="1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14" dur="1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22" dur="1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23" dur="1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1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31" dur="1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32" dur="1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40" dur="1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41" dur="1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1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49" dur="1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50" dur="1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7" dur="1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58" dur="1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59" dur="1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1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67" dur="1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68" dur="1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5" dur="1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76" dur="1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77" dur="1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94" dur="1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95" dur="1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1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03" dur="1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04" dur="1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1" dur="1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12" dur="1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13" dur="1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1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21" dur="1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22" dur="1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30" dur="1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8" dur="1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39" dur="1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40" dur="1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7" dur="1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48" dur="1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49" dur="1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57" dur="1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58" dur="1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-0.37502 C -0.06719 -0.35653 -0.07066 -0.33618 -0.075 -0.31791 C -0.07726 -0.24577 -0.07483 -0.29225 -0.0783 -0.2504 C -0.07882 -0.24323 -0.07986 -0.22913 -0.07986 -0.22913 E">
                                      <p:cBhvr>
                                        <p:cTn id="1767" dur="2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ЕРЕХОД ПО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7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8" dur="2000" fill="hold"/>
                                        <p:tgtEl>
                                          <p:spTgt spid="10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4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0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1031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1870200" y="684000"/>
            <a:ext cx="5410080" cy="5237280"/>
            <a:chOff x="1870200" y="684000"/>
            <a:chExt cx="5410080" cy="5237280"/>
          </a:xfrm>
        </p:grpSpPr>
        <p:grpSp>
          <p:nvGrpSpPr>
            <p:cNvPr id="1048" name=""/>
            <p:cNvGrpSpPr/>
            <p:nvPr/>
          </p:nvGrpSpPr>
          <p:grpSpPr>
            <a:xfrm>
              <a:off x="1870200" y="684000"/>
              <a:ext cx="5410080" cy="5219640"/>
              <a:chOff x="1870200" y="684000"/>
              <a:chExt cx="5410080" cy="5219640"/>
            </a:xfrm>
          </p:grpSpPr>
          <p:sp>
            <p:nvSpPr>
              <p:cNvPr id="1049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3228840" y="1144440"/>
              <a:ext cx="2651040" cy="3714840"/>
              <a:chOff x="3228840" y="1144440"/>
              <a:chExt cx="2651040" cy="3714840"/>
            </a:xfrm>
          </p:grpSpPr>
          <p:sp>
            <p:nvSpPr>
              <p:cNvPr id="1052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3460680" y="308916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441600" y="485928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884320" y="4859280"/>
              <a:ext cx="3338640" cy="1008000"/>
              <a:chOff x="2884320" y="4859280"/>
              <a:chExt cx="3338640" cy="10080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2424240" y="2382840"/>
              <a:ext cx="1150920" cy="706320"/>
              <a:chOff x="2424240" y="2382840"/>
              <a:chExt cx="1150920" cy="706320"/>
            </a:xfrm>
          </p:grpSpPr>
          <p:sp>
            <p:nvSpPr>
              <p:cNvPr id="1060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3805200" y="701640"/>
              <a:ext cx="1496880" cy="442800"/>
              <a:chOff x="3805200" y="701640"/>
              <a:chExt cx="1496880" cy="442800"/>
            </a:xfrm>
          </p:grpSpPr>
          <p:sp>
            <p:nvSpPr>
              <p:cNvPr id="1063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228840" y="485928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805200" y="114444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75160" y="238284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28840" y="246996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28840" y="246996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78440" y="246996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28840" y="256032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28840" y="264780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447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606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35751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907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625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646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8052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211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3524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497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656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79760" y="246996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956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11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7275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420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9575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720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020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861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165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324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1870200" y="684000"/>
              <a:ext cx="5410080" cy="5219640"/>
              <a:chOff x="1870200" y="684000"/>
              <a:chExt cx="5410080" cy="5219640"/>
            </a:xfrm>
          </p:grpSpPr>
          <p:sp>
            <p:nvSpPr>
              <p:cNvPr id="1096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3228840" y="1144440"/>
              <a:ext cx="2651040" cy="3714840"/>
              <a:chOff x="3228840" y="1144440"/>
              <a:chExt cx="2651040" cy="3714840"/>
            </a:xfrm>
          </p:grpSpPr>
          <p:sp>
            <p:nvSpPr>
              <p:cNvPr id="1099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460680" y="308916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41600" y="485928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2884320" y="4859280"/>
              <a:ext cx="3338640" cy="1008000"/>
              <a:chOff x="2884320" y="4859280"/>
              <a:chExt cx="3338640" cy="1008000"/>
            </a:xfrm>
          </p:grpSpPr>
          <p:sp>
            <p:nvSpPr>
              <p:cNvPr id="1104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2424240" y="2382840"/>
              <a:ext cx="1150920" cy="706320"/>
              <a:chOff x="2424240" y="2382840"/>
              <a:chExt cx="1150920" cy="706320"/>
            </a:xfrm>
          </p:grpSpPr>
          <p:sp>
            <p:nvSpPr>
              <p:cNvPr id="1107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3805200" y="701640"/>
              <a:ext cx="1496880" cy="442800"/>
              <a:chOff x="3805200" y="701640"/>
              <a:chExt cx="1496880" cy="442800"/>
            </a:xfrm>
          </p:grpSpPr>
          <p:sp>
            <p:nvSpPr>
              <p:cNvPr id="1110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3228840" y="485928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5200" y="1144440"/>
              <a:ext cx="1496880" cy="14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575160" y="238284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8840" y="246996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28840" y="246996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78440" y="246996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28840" y="256032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28840" y="264780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447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606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35751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07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625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646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052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9211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3524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497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656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79760" y="246996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4956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11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7275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420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9575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0720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020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61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165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324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5148360" y="4941720"/>
            <a:ext cx="504720" cy="503280"/>
            <a:chOff x="5148360" y="4941720"/>
            <a:chExt cx="504720" cy="503280"/>
          </a:xfrm>
        </p:grpSpPr>
        <p:sp>
          <p:nvSpPr>
            <p:cNvPr id="1149" name=""/>
            <p:cNvSpPr/>
            <p:nvPr/>
          </p:nvSpPr>
          <p:spPr>
            <a:xfrm>
              <a:off x="5148360" y="4941720"/>
              <a:ext cx="504720" cy="50328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00560" y="5034600"/>
              <a:ext cx="432000" cy="39024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68520" y="4961880"/>
              <a:ext cx="432000" cy="421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61040" y="4992840"/>
              <a:ext cx="218880" cy="14760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40600" y="4956480"/>
              <a:ext cx="208440" cy="1422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87960" y="5056200"/>
              <a:ext cx="196560" cy="1396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76240" y="5046480"/>
              <a:ext cx="214920" cy="1458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11880" y="5256720"/>
              <a:ext cx="223200" cy="14652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11160" y="5188680"/>
              <a:ext cx="235080" cy="1461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401800" y="5108760"/>
              <a:ext cx="233280" cy="15696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65440" y="5176800"/>
              <a:ext cx="52920" cy="2268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382720" y="538776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68040" y="538344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40760" y="5345640"/>
              <a:ext cx="3456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06400" y="5132520"/>
              <a:ext cx="97560" cy="2800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18920" y="5072040"/>
              <a:ext cx="101880" cy="3506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3780000" y="119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3635280" y="1125360"/>
            <a:ext cx="216000" cy="1366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292720" y="1125360"/>
            <a:ext cx="216000" cy="1366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-0.00313 -0.00625 -0.0073 -0.00926 -0.01042 -0.01527 C -0.01337 -0.03009 -0.01928 -0.04606 -0.02362 -0.06111 C -0.02969 -0.08264 -0.03316 -0.10555 -0.0382 -0.12754 C -0.04098 -0.13958 -0.04532 -0.15162 -0.04705 -0.16365 C -0.04775 -0.16875 -0.04757 -0.17407 -0.04844 -0.17893 C -0.04931 -0.18287 -0.05139 -0.19051 -0.05139 -0.19004 C -0.0573 -0.24352 -0.0691 -0.29514 -0.07483 -0.34838 C -0.07344 -0.5868 -0.07344 -0.50694 -0.07344 -0.58796 E">
                                      <p:cBhvr>
                                        <p:cTn id="1805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ГРА ПРОДОЛЖА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12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1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14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6" dur="20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2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8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16000" y="1773360"/>
            <a:ext cx="3682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19280" y="2565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451640" y="1413000"/>
            <a:ext cx="304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635280" y="4076640"/>
            <a:ext cx="287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32360" y="4005360"/>
            <a:ext cx="43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12000" y="3284640"/>
            <a:ext cx="304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32720" y="2349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484360" y="3429000"/>
            <a:ext cx="287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73080" cy="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6000" y="1773360"/>
            <a:ext cx="3682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619280" y="2565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451640" y="1413000"/>
            <a:ext cx="304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635280" y="4076640"/>
            <a:ext cx="287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32360" y="4005360"/>
            <a:ext cx="43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2000" y="3284640"/>
            <a:ext cx="304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732720" y="2349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84360" y="3429000"/>
            <a:ext cx="287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700280"/>
          <a:ext cx="22338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22338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195640" y="3500280"/>
            <a:ext cx="2117520" cy="165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588000" y="1628640"/>
            <a:ext cx="2189160" cy="1638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292720" y="3429000"/>
            <a:ext cx="2436840" cy="175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635280" y="4508640"/>
            <a:ext cx="2232000" cy="151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843280" y="2060640"/>
            <a:ext cx="35290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ейбол везд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51280" y="4941720"/>
            <a:ext cx="194292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отдых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300720" y="620640"/>
            <a:ext cx="114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зал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867280" y="3860640"/>
            <a:ext cx="17622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ляж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95640" y="3933720"/>
            <a:ext cx="11998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вод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79280" y="630864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763E-006 L 0.13003 -0.2148 E">
                                      <p:cBhvr>
                                        <p:cTn id="5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8" presetSubtype="12">
                                  <p:stCondLst>
                                    <p:cond delay="1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12">
                                  <p:stCondLst>
                                    <p:cond delay="1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79191E-006 L -0.13541 -0.1926 E">
                                      <p:cBhvr>
                                        <p:cTn id="69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1" dur="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82659E-007 L -0.17882 -0.18335 E">
                                      <p:cBhvr>
                                        <p:cTn id="7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3699E-006 L 0.13455 -0.19075 E">
                                      <p:cBhvr>
                                        <p:cTn id="8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56069E-006 C 0.01164 0.03792 0.02917 0.07792 0.04323 0.09411 C 0.06459 0.11977 0.08507 0.12994 0.08907 0.1163 C 0.09237 0.10312 0.07796 0.07168 0.05678 0.04648 C 0.04254 0.03029 0.0165 0.01919 -0.00625 0.01757 C -0.02829 0.01919 -0.0552 0.03029 -0.06927 0.04648 C -0.09062 0.07168 -0.10451 0.10312 -0.10069 0.1163 C -0.0967 0.12994 -0.07638 0.11977 -0.0559 0.09411 C -0.04166 0.07792 -0.02361 0.03792 -0.01267 -1.56069E-006 C -0.00086 -0.04023 0.00712 -0.09248 0.00712 -0.12578 C 0.00712 -0.17711 0.00174 -0.21618 -0.00625 -0.21618 C -0.01336 -0.21618 -0.01979 -0.17711 -0.01979 -0.12578 C -0.01979 -0.09248 -0.01111 -0.04023 -4.44444E-006 -1.56069E-006 Z">
                                      <p:cBhvr>
                                        <p:cTn id="9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0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xit" presetID="3" presetSubtype="10">
                                  <p:stCondLst>
                                    <p:cond delay="2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100"/>
                            </p:stCondLst>
                            <p:childTnLst>
                              <p:par>
                                <p:cTn id="131" nodeType="afterEffect" fill="hold" presetClass="exit" presetID="3" presetSubtype="10">
                                  <p:stCondLst>
                                    <p:cond delay="2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100"/>
                            </p:stCondLst>
                            <p:childTnLst>
                              <p:par>
                                <p:cTn id="140" nodeType="afterEffect" fill="hold" presetClass="exit" presetID="3" presetSubtype="10">
                                  <p:stCondLst>
                                    <p:cond delay="1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7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46821E-007 L 0.09271 -0.17988 E">
                                      <p:cBhvr>
                                        <p:cTn id="148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700"/>
                            </p:stCondLst>
                            <p:childTnLst>
                              <p:par>
                                <p:cTn id="1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2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6 L -0.08924 -0.19237 E">
                                      <p:cBhvr>
                                        <p:cTn id="161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сторическая справ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71640" cy="71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985920" cy="5400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859280" y="1773360"/>
            <a:ext cx="38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Дж. Морган – основатель волейбола. Официальной датой рождения этой игры считается 1895 год.   Волейбол получил свое начало  в США и назывался МИНТО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ейбол в переводе с английского означает «летающий мяч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4000" y="5300640"/>
            <a:ext cx="29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4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4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4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4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4167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403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Фото 1921 г. Студенты СГПУ за игрой в волейбол"/>
          <p:cNvPicPr/>
          <p:nvPr/>
        </p:nvPicPr>
        <p:blipFill>
          <a:blip r:embed="rId3"/>
          <a:stretch/>
        </p:blipFill>
        <p:spPr>
          <a:xfrm>
            <a:off x="4500720" y="2997360"/>
            <a:ext cx="43164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Игра в волейбол 30 k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ужность мяча            с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               г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Волейбол. Подготовка."/>
          <p:cNvPicPr/>
          <p:nvPr/>
        </p:nvPicPr>
        <p:blipFill>
          <a:blip r:embed="rId1"/>
          <a:stretch/>
        </p:blipFill>
        <p:spPr>
          <a:xfrm>
            <a:off x="2411280" y="2060640"/>
            <a:ext cx="4321440" cy="3673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25440" y="189000"/>
            <a:ext cx="129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65-6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692280"/>
            <a:ext cx="180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260-2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2924280"/>
            <a:ext cx="865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00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5:54:01Z</dcterms:created>
  <dc:creator>ОлЬкА</dc:creator>
  <dc:description/>
  <dc:language>en-US</dc:language>
  <cp:lastModifiedBy>Света</cp:lastModifiedBy>
  <dcterms:modified xsi:type="dcterms:W3CDTF">2012-11-10T13:06:15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