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9E80-2A0B-4F1B-88FD-66762B60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82A1-C3AA-4EB5-95AB-6712ACB8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67D7-528E-46EC-9072-A5178989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D9C6-EE21-43B4-8DA4-7C2DD116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133E-E49C-4BD4-8110-C3D43669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4EF0-6DE1-4870-8685-1F458475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C5EF-4819-47B6-9A9E-BA894C9C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D516-2AB7-4D13-90B1-8914AB2C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BDBE-70A7-4F42-932D-BE984F23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A7E5-7FF0-47E0-974A-BBE381AB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D33F-D7B9-41ED-8FD5-C02DDC7F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951F-4414-4D87-9A88-762B193D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DA4F-9BAB-46FD-B447-2F24B4B0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1EE5-4FDC-4967-A8DE-D09C0C53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FE83-C018-43E5-BF51-C4B243D1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4D5B-3906-496F-B529-BF849CB4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1483-8816-47A3-88A6-D899C2E1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76A-99A0-430A-9BB5-F6670215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B457-7ADB-4FB9-8496-5C4DAD3B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D60B-0F37-41BD-8047-0C72731E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859E-A273-42B2-B7BA-DA84DBE3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83ED-EBD7-446B-B539-A0072949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5AA9-D339-4E41-A25C-458969EE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E815-710C-4744-95B6-0BF895B7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78C3-E0B0-4427-8CAC-24DF7458F37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9B16-D0E7-466B-A398-A8DD57D2FF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png"/><Relationship Id="rId1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971640" y="2133720"/>
            <a:ext cx="727236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ИГРОВЫЕ СИТУАЦИИ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 rot="10800000">
            <a:off x="2843280" y="0"/>
            <a:ext cx="3024000" cy="814320"/>
          </a:xfrm>
          <a:custGeom>
            <a:avLst/>
            <a:gdLst>
              <a:gd name="textAreaLeft" fmla="*/ 389520 w 3024000"/>
              <a:gd name="textAreaRight" fmla="*/ 2634480 w 3024000"/>
              <a:gd name="textAreaTop" fmla="*/ 104760 h 814320"/>
              <a:gd name="textAreaBottom" fmla="*/ 709560 h 8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1" y="21600"/>
                </a:lnTo>
                <a:lnTo>
                  <a:pt x="1859" y="21600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rot="10800000">
            <a:off x="1331640" y="764280"/>
            <a:ext cx="6048360" cy="4969080"/>
          </a:xfrm>
          <a:custGeom>
            <a:avLst/>
            <a:gdLst>
              <a:gd name="textAreaLeft" fmla="*/ 1329840 w 6048360"/>
              <a:gd name="textAreaRight" fmla="*/ 4718520 w 6048360"/>
              <a:gd name="textAreaTop" fmla="*/ 1092600 h 4969080"/>
              <a:gd name="textAreaBottom" fmla="*/ 3876480 h 49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10800000">
            <a:off x="755280" y="5733720"/>
            <a:ext cx="7201080" cy="914400"/>
          </a:xfrm>
          <a:custGeom>
            <a:avLst/>
            <a:gdLst>
              <a:gd name="textAreaLeft" fmla="*/ 905760 w 7201080"/>
              <a:gd name="textAreaRight" fmla="*/ 6295320 w 7201080"/>
              <a:gd name="textAreaTop" fmla="*/ 114840 h 914400"/>
              <a:gd name="textAreaBottom" fmla="*/ 7995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8" y="21600"/>
                </a:lnTo>
                <a:lnTo>
                  <a:pt x="1742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763640" y="33336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763640" y="333360"/>
            <a:ext cx="0" cy="1366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732720" y="33336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97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195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411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27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84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06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7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492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708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924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40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356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572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788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003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21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437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53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869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08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30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51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763640" y="105264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763640" y="69228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411280" y="1989000"/>
            <a:ext cx="381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995640" y="141300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700360" y="148428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4000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995640" y="350028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364000" y="256536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72436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3419640" y="1771560"/>
            <a:ext cx="576000" cy="21744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843280" y="2060640"/>
            <a:ext cx="1368360" cy="194472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4356000" y="2060280"/>
            <a:ext cx="0" cy="143964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 flipV="1">
            <a:off x="4500360" y="2133360"/>
            <a:ext cx="1439640" cy="194292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 flipV="1">
            <a:off x="5651640" y="1699920"/>
            <a:ext cx="72720" cy="865080"/>
          </a:xfrm>
          <a:prstGeom prst="line">
            <a:avLst/>
          </a:prstGeom>
          <a:ln w="127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4788000" y="1557000"/>
            <a:ext cx="865080" cy="144360"/>
          </a:xfrm>
          <a:prstGeom prst="line">
            <a:avLst/>
          </a:prstGeom>
          <a:ln w="12708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987640" y="5589720"/>
            <a:ext cx="41054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мяча на связующ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мяча на атакующ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акующий у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908000" y="5734080"/>
            <a:ext cx="936720" cy="0"/>
          </a:xfrm>
          <a:prstGeom prst="line">
            <a:avLst/>
          </a:prstGeom>
          <a:ln w="7632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908000" y="6021360"/>
            <a:ext cx="86364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08000" y="6381720"/>
            <a:ext cx="86364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 rot="10800000">
            <a:off x="2843280" y="0"/>
            <a:ext cx="3024000" cy="814320"/>
          </a:xfrm>
          <a:custGeom>
            <a:avLst/>
            <a:gdLst>
              <a:gd name="textAreaLeft" fmla="*/ 389520 w 3024000"/>
              <a:gd name="textAreaRight" fmla="*/ 2634480 w 3024000"/>
              <a:gd name="textAreaTop" fmla="*/ 104760 h 814320"/>
              <a:gd name="textAreaBottom" fmla="*/ 709560 h 8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1" y="21600"/>
                </a:lnTo>
                <a:lnTo>
                  <a:pt x="1859" y="21600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0800000">
            <a:off x="1331640" y="764280"/>
            <a:ext cx="6048360" cy="4969080"/>
          </a:xfrm>
          <a:custGeom>
            <a:avLst/>
            <a:gdLst>
              <a:gd name="textAreaLeft" fmla="*/ 1329840 w 6048360"/>
              <a:gd name="textAreaRight" fmla="*/ 4718520 w 6048360"/>
              <a:gd name="textAreaTop" fmla="*/ 1092600 h 4969080"/>
              <a:gd name="textAreaBottom" fmla="*/ 3876480 h 49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rot="10800000">
            <a:off x="755280" y="5733720"/>
            <a:ext cx="7201080" cy="914400"/>
          </a:xfrm>
          <a:custGeom>
            <a:avLst/>
            <a:gdLst>
              <a:gd name="textAreaLeft" fmla="*/ 905760 w 7201080"/>
              <a:gd name="textAreaRight" fmla="*/ 6295320 w 7201080"/>
              <a:gd name="textAreaTop" fmla="*/ 114840 h 914400"/>
              <a:gd name="textAreaBottom" fmla="*/ 7995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8" y="21600"/>
                </a:lnTo>
                <a:lnTo>
                  <a:pt x="1742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763640" y="33336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763640" y="333360"/>
            <a:ext cx="0" cy="1366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732720" y="33336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97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195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11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627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84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06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27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92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708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24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140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356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572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788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003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21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437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653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869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08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30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51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763640" y="105264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763640" y="69228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411280" y="1989000"/>
            <a:ext cx="381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556000" y="198900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627280" y="443700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843280" y="314172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219640" y="126828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72436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5724000" y="2060640"/>
            <a:ext cx="287640" cy="194472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3276720" y="2060640"/>
            <a:ext cx="2303280" cy="252072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3419640" y="1773000"/>
            <a:ext cx="1873080" cy="143964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4788000" y="1915920"/>
            <a:ext cx="576000" cy="43308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3203640" y="1773000"/>
            <a:ext cx="2016000" cy="36036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3203640" y="1413000"/>
            <a:ext cx="2016000" cy="0"/>
          </a:xfrm>
          <a:prstGeom prst="line">
            <a:avLst/>
          </a:prstGeom>
          <a:ln w="12708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2987640" y="1484280"/>
            <a:ext cx="216000" cy="43200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067280" y="22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987640" y="5589720"/>
            <a:ext cx="41054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мяча на связующ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мяча на атакующ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акующий у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908000" y="5734080"/>
            <a:ext cx="936720" cy="0"/>
          </a:xfrm>
          <a:prstGeom prst="line">
            <a:avLst/>
          </a:prstGeom>
          <a:ln w="7632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908000" y="6021360"/>
            <a:ext cx="86364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908000" y="6381720"/>
            <a:ext cx="86364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500"/>
                            </p:stCondLst>
                            <p:childTnLst>
                              <p:par>
                                <p:cTn id="4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1692360" y="2421000"/>
            <a:ext cx="6408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"/>
              </a:rPr>
              <a:t>Основные элементы игры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4481640" y="-2293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4479840" y="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4" name=""/>
          <p:cNvGraphicFramePr/>
          <p:nvPr/>
        </p:nvGraphicFramePr>
        <p:xfrm>
          <a:off x="3033720" y="1023840"/>
          <a:ext cx="307656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3720" y="1023840"/>
                    <a:ext cx="307656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6" name=""/>
          <p:cNvGraphicFramePr/>
          <p:nvPr/>
        </p:nvGraphicFramePr>
        <p:xfrm>
          <a:off x="3132000" y="1125360"/>
          <a:ext cx="2808360" cy="422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1125360"/>
                    <a:ext cx="2808360" cy="42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3059280" y="1052640"/>
          <a:ext cx="3025440" cy="476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1052640"/>
                    <a:ext cx="302544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0" name=""/>
          <p:cNvGraphicFramePr/>
          <p:nvPr/>
        </p:nvGraphicFramePr>
        <p:xfrm>
          <a:off x="3059280" y="981000"/>
          <a:ext cx="2952720" cy="483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9280" y="981000"/>
                    <a:ext cx="295272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2" name=""/>
          <p:cNvSpPr/>
          <p:nvPr/>
        </p:nvSpPr>
        <p:spPr>
          <a:xfrm>
            <a:off x="0" y="0"/>
            <a:ext cx="2987640" cy="68580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88e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Верхняя прямая. Исходное положение – высокая стойка лицом к сетке. Мяч удерживается на уровне груди, левая нога впереди. После подбрасывания мяча над головой (несколько впереди себя) игрок выполняет замах вверх-назад, прогибается и отводит плечо бьющей руки назад-вверх. Удар осуществляется чуть согнутой рукой несколько впереди себ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0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3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8" nodeType="afterEffect" fill="hold" presetClass="entr" presetID="10" repeatCount="100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9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3" name=""/>
          <p:cNvGraphicFramePr/>
          <p:nvPr/>
        </p:nvGraphicFramePr>
        <p:xfrm>
          <a:off x="3381480" y="620640"/>
          <a:ext cx="3135240" cy="46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1480" y="620640"/>
                    <a:ext cx="3135240" cy="46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348000" y="620640"/>
          <a:ext cx="3456000" cy="468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620640"/>
                    <a:ext cx="3456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419640" y="765000"/>
          <a:ext cx="3671640" cy="450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9640" y="765000"/>
                    <a:ext cx="3671640" cy="45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"/>
          <p:cNvSpPr/>
          <p:nvPr/>
        </p:nvSpPr>
        <p:spPr>
          <a:xfrm>
            <a:off x="0" y="0"/>
            <a:ext cx="2987640" cy="68580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88e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Нижняя прямая подача. Игрок стоит лицом к сетке, туловище наклонено вперед, ноги согнуты, левая нога впереди. Мяч на левой руке, рука чуть согнута и на уровне пояса. Мяч подбрасывается на 20-30 см. При замахе рука отводится строго назад, удар по мячу наносится снизу-вперед-вверх на уровне поя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85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0" name=""/>
          <p:cNvGraphicFramePr/>
          <p:nvPr/>
        </p:nvGraphicFramePr>
        <p:xfrm>
          <a:off x="3448080" y="1343160"/>
          <a:ext cx="2247840" cy="41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8080" y="1343160"/>
                    <a:ext cx="2247840" cy="41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"/>
          <p:cNvGraphicFramePr/>
          <p:nvPr/>
        </p:nvGraphicFramePr>
        <p:xfrm>
          <a:off x="3348000" y="1271520"/>
          <a:ext cx="2448000" cy="431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1271520"/>
                    <a:ext cx="244800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"/>
          <p:cNvGraphicFramePr/>
          <p:nvPr/>
        </p:nvGraphicFramePr>
        <p:xfrm>
          <a:off x="3132000" y="476280"/>
          <a:ext cx="2876760" cy="528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476280"/>
                    <a:ext cx="287676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3203640" y="549360"/>
          <a:ext cx="2752560" cy="482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3640" y="549360"/>
                    <a:ext cx="275256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203640" y="620640"/>
          <a:ext cx="2663640" cy="504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3640" y="620640"/>
                    <a:ext cx="26636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2700360" y="404640"/>
          <a:ext cx="3543120" cy="5329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00360" y="404640"/>
                    <a:ext cx="354312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2" name=""/>
          <p:cNvSpPr/>
          <p:nvPr/>
        </p:nvSpPr>
        <p:spPr>
          <a:xfrm>
            <a:off x="0" y="0"/>
            <a:ext cx="2843280" cy="68580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88e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Прием мяча двумя руками сверху. Ноги согнуты, одна нога впереди. Руки выполняют встречное движение к мячу. Прием и передача мяча (большие пальцы принимают основную нагрузку, указательные являются основной ударной частью, безымянные и мизинцы удерживают мяч в боковом направлении). Руки сопровождают полет мяча до полного выпрям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45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15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35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55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7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3" name=""/>
          <p:cNvGraphicFramePr/>
          <p:nvPr/>
        </p:nvGraphicFramePr>
        <p:xfrm>
          <a:off x="3166920" y="692280"/>
          <a:ext cx="34927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6920" y="692280"/>
                    <a:ext cx="34927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3203640" y="907920"/>
          <a:ext cx="3516120" cy="525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907920"/>
                    <a:ext cx="3516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203640" y="692280"/>
          <a:ext cx="3384360" cy="554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692280"/>
                    <a:ext cx="338436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>
            <a:off x="0" y="0"/>
            <a:ext cx="2987640" cy="68580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88e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Прием мяча двумя руками снизу. Ноги согнуты, одна впереди. Руки прямые, развернуты немного наружу, кисти сомкнуты и опущены вниз. Прием мяча производится на нижнюю часть предплечий, руки в локтевых суставах прямые (не сгибать!). Нет большого встречного движения, руки чуть-чуть приближаются к мячу. Передача мяча осуществляется за счет небольшого разгибания ног и направляющего движения ру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45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0" name=""/>
          <p:cNvGraphicFramePr/>
          <p:nvPr/>
        </p:nvGraphicFramePr>
        <p:xfrm>
          <a:off x="3203640" y="1241280"/>
          <a:ext cx="3095640" cy="561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241280"/>
                    <a:ext cx="309564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"/>
          <p:cNvGraphicFramePr/>
          <p:nvPr/>
        </p:nvGraphicFramePr>
        <p:xfrm>
          <a:off x="3203640" y="1241280"/>
          <a:ext cx="3095640" cy="561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241280"/>
                    <a:ext cx="309564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4" name=""/>
          <p:cNvGraphicFramePr/>
          <p:nvPr/>
        </p:nvGraphicFramePr>
        <p:xfrm>
          <a:off x="3203640" y="1170000"/>
          <a:ext cx="3240000" cy="568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1170000"/>
                    <a:ext cx="32400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6" name=""/>
          <p:cNvGraphicFramePr/>
          <p:nvPr/>
        </p:nvGraphicFramePr>
        <p:xfrm>
          <a:off x="3203640" y="260280"/>
          <a:ext cx="3240000" cy="659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3640" y="260280"/>
                    <a:ext cx="324000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8" name=""/>
          <p:cNvGrpSpPr/>
          <p:nvPr/>
        </p:nvGrpSpPr>
        <p:grpSpPr>
          <a:xfrm>
            <a:off x="3203640" y="333360"/>
            <a:ext cx="3290760" cy="6524640"/>
            <a:chOff x="3203640" y="333360"/>
            <a:chExt cx="3290760" cy="6524640"/>
          </a:xfrm>
        </p:grpSpPr>
        <p:graphicFrame>
          <p:nvGraphicFramePr>
            <p:cNvPr id="739" name=""/>
            <p:cNvGraphicFramePr/>
            <p:nvPr/>
          </p:nvGraphicFramePr>
          <p:xfrm>
            <a:off x="3203640" y="620640"/>
            <a:ext cx="3290760" cy="6237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4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203640" y="620640"/>
                      <a:ext cx="3290760" cy="62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1" name=""/>
            <p:cNvSpPr/>
            <p:nvPr/>
          </p:nvSpPr>
          <p:spPr>
            <a:xfrm>
              <a:off x="3203640" y="333360"/>
              <a:ext cx="2232000" cy="3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3203640" y="260280"/>
            <a:ext cx="3260160" cy="6597720"/>
            <a:chOff x="3203640" y="260280"/>
            <a:chExt cx="3260160" cy="6597720"/>
          </a:xfrm>
        </p:grpSpPr>
        <p:graphicFrame>
          <p:nvGraphicFramePr>
            <p:cNvPr id="743" name=""/>
            <p:cNvGraphicFramePr/>
            <p:nvPr/>
          </p:nvGraphicFramePr>
          <p:xfrm>
            <a:off x="3203640" y="765000"/>
            <a:ext cx="3260160" cy="6093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4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03640" y="765000"/>
                      <a:ext cx="3260160" cy="609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5" name=""/>
            <p:cNvGraphicFramePr/>
            <p:nvPr/>
          </p:nvGraphicFramePr>
          <p:xfrm>
            <a:off x="3785760" y="260280"/>
            <a:ext cx="1243800" cy="865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4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785760" y="260280"/>
                      <a:ext cx="1243800" cy="86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47" name=""/>
          <p:cNvSpPr/>
          <p:nvPr/>
        </p:nvSpPr>
        <p:spPr>
          <a:xfrm>
            <a:off x="0" y="0"/>
            <a:ext cx="2987640" cy="68580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88e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Блокирование – прием игры, для противодействия атакующим ударам соперника. Прыжок происходит из высокой стойки, с последующим приседанием и выпрыгиванием вверх с помощью взмаха согнутыми руками. Далее руки разгибаются в локтях и поднимаются над сеткой, кисти напряжены, пальцы расставлены, кисти направляют мяч вперед-вниз над сеткой на площадку соперн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5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3500"/>
                            </p:stCondLst>
                            <p:childTnLst>
                              <p:par>
                                <p:cTn id="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550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6000"/>
                            </p:stCondLst>
                            <p:childTnLst>
                              <p:par>
                                <p:cTn id="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8" name=""/>
          <p:cNvGraphicFramePr/>
          <p:nvPr/>
        </p:nvGraphicFramePr>
        <p:xfrm>
          <a:off x="3276720" y="1341360"/>
          <a:ext cx="2590560" cy="55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341360"/>
                    <a:ext cx="259056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3203640" y="1341360"/>
          <a:ext cx="2663640" cy="551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341360"/>
                    <a:ext cx="266364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3203640" y="765000"/>
          <a:ext cx="2663640" cy="561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765000"/>
                    <a:ext cx="266364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4" name=""/>
          <p:cNvGraphicFramePr/>
          <p:nvPr/>
        </p:nvGraphicFramePr>
        <p:xfrm>
          <a:off x="3132000" y="692280"/>
          <a:ext cx="2808360" cy="576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692280"/>
                    <a:ext cx="280836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"/>
          <p:cNvSpPr/>
          <p:nvPr/>
        </p:nvSpPr>
        <p:spPr>
          <a:xfrm>
            <a:off x="0" y="0"/>
            <a:ext cx="2987640" cy="68580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88e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Атакующий удар – эффективный способ завершающих действий команды. Выполняется широкий беговой шаг правой ногой на стопу с пятки, руки отведены назад, ноги сгибаются в коленях. Затем руки делают взмах вперед-вверх, ноги разгибаются в суставах, отрываются от опоры. Одновременно со взлетом выполняется замах правой руки вверх-назад. Совершается резкий удар, кисть накладывается на мяч сзади-сверху. Приземляться на согнутые но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308720" y="1989000"/>
            <a:ext cx="107964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10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45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150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35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5500"/>
                            </p:stCondLst>
                            <p:childTnLst>
                              <p:par>
                                <p:cTn id="62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2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68360" y="832320"/>
            <a:ext cx="8353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трольный опро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овите размеры волейбольной площад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ва высота сетк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е передачи вы знает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выполняется нижняя прямая подач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такое блокировани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выполняется переход команды на площадк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означает слово «волейбол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выполняется атакующий удар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овите вес мяча и его разме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ем мяча снизу опишите, как выполня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выполняется прием мяча сверх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выполняется подача мяч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выполняется верхняя прямая подач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овите способы переда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то является родоначальником игры в волейбо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300720" y="1197000"/>
            <a:ext cx="719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160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 rot="10800000">
            <a:off x="2843280" y="0"/>
            <a:ext cx="3024000" cy="814320"/>
          </a:xfrm>
          <a:custGeom>
            <a:avLst/>
            <a:gdLst>
              <a:gd name="textAreaLeft" fmla="*/ 389520 w 3024000"/>
              <a:gd name="textAreaRight" fmla="*/ 2634480 w 3024000"/>
              <a:gd name="textAreaTop" fmla="*/ 104760 h 814320"/>
              <a:gd name="textAreaBottom" fmla="*/ 709560 h 8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1" y="21600"/>
                </a:lnTo>
                <a:lnTo>
                  <a:pt x="1859" y="21600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0800000">
            <a:off x="1331640" y="764280"/>
            <a:ext cx="6048360" cy="4969080"/>
          </a:xfrm>
          <a:custGeom>
            <a:avLst/>
            <a:gdLst>
              <a:gd name="textAreaLeft" fmla="*/ 1329840 w 6048360"/>
              <a:gd name="textAreaRight" fmla="*/ 4718520 w 6048360"/>
              <a:gd name="textAreaTop" fmla="*/ 1092600 h 4969080"/>
              <a:gd name="textAreaBottom" fmla="*/ 3876480 h 49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0800000">
            <a:off x="755280" y="5733720"/>
            <a:ext cx="7201080" cy="914400"/>
          </a:xfrm>
          <a:custGeom>
            <a:avLst/>
            <a:gdLst>
              <a:gd name="textAreaLeft" fmla="*/ 905760 w 7201080"/>
              <a:gd name="textAreaRight" fmla="*/ 6295320 w 7201080"/>
              <a:gd name="textAreaTop" fmla="*/ 114840 h 914400"/>
              <a:gd name="textAreaBottom" fmla="*/ 7995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8" y="21600"/>
                </a:lnTo>
                <a:lnTo>
                  <a:pt x="1742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63640" y="33336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33360"/>
            <a:ext cx="0" cy="1366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32720" y="33336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7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95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27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4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6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08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24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40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88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03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1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37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53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69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8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0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1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63640" y="105264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63640" y="69228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11280" y="1989000"/>
            <a:ext cx="381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95640" y="1628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71640" y="263700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4000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95640" y="350028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64000" y="256536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2436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780000" y="3284640"/>
            <a:ext cx="1223280" cy="1223640"/>
            <a:chOff x="3780000" y="3284640"/>
            <a:chExt cx="1223280" cy="1223640"/>
          </a:xfrm>
        </p:grpSpPr>
        <p:sp>
          <p:nvSpPr>
            <p:cNvPr id="249" name=""/>
            <p:cNvSpPr/>
            <p:nvPr/>
          </p:nvSpPr>
          <p:spPr>
            <a:xfrm>
              <a:off x="3780000" y="3284640"/>
              <a:ext cx="1223280" cy="122364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06720" y="3510360"/>
              <a:ext cx="1047600" cy="94860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28960" y="3333600"/>
              <a:ext cx="1046880" cy="102456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53600" y="3409560"/>
              <a:ext cx="530280" cy="35928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45840" y="3320280"/>
              <a:ext cx="505800" cy="34560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75760" y="3563640"/>
              <a:ext cx="476280" cy="33948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32600" y="3539160"/>
              <a:ext cx="520920" cy="35460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19000" y="4050720"/>
              <a:ext cx="541440" cy="35676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17200" y="3885120"/>
              <a:ext cx="570240" cy="35532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94880" y="3691080"/>
              <a:ext cx="565920" cy="38160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05960" y="3855960"/>
              <a:ext cx="128520" cy="55116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347720" y="4369680"/>
              <a:ext cx="84600" cy="12276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55080" y="4358520"/>
              <a:ext cx="84600" cy="12276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31480" y="4266720"/>
              <a:ext cx="84240" cy="12276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63040" y="3748680"/>
              <a:ext cx="236160" cy="68076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51000" y="3601440"/>
              <a:ext cx="247320" cy="85320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84360" y="1989000"/>
            <a:ext cx="914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ас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4360" y="2133720"/>
            <a:ext cx="8632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ас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4360" y="1916280"/>
            <a:ext cx="863280" cy="20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ас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40600" y="-15840"/>
            <a:ext cx="1535040" cy="3433680"/>
          </a:xfrm>
          <a:custGeom>
            <a:avLst/>
            <a:gdLst/>
            <a:ahLst/>
            <a:rect l="l" t="t" r="r" b="b"/>
            <a:pathLst>
              <a:path w="831" h="2163">
                <a:moveTo>
                  <a:pt x="831" y="446"/>
                </a:moveTo>
                <a:cubicBezTo>
                  <a:pt x="831" y="453"/>
                  <a:pt x="271" y="1429"/>
                  <a:pt x="196" y="1671"/>
                </a:cubicBezTo>
                <a:cubicBezTo>
                  <a:pt x="121" y="1913"/>
                  <a:pt x="408" y="2163"/>
                  <a:pt x="378" y="1898"/>
                </a:cubicBezTo>
                <a:cubicBezTo>
                  <a:pt x="348" y="1633"/>
                  <a:pt x="30" y="166"/>
                  <a:pt x="15" y="83"/>
                </a:cubicBezTo>
                <a:cubicBezTo>
                  <a:pt x="0" y="0"/>
                  <a:pt x="226" y="1081"/>
                  <a:pt x="287" y="1399"/>
                </a:cubicBezTo>
                <a:cubicBezTo>
                  <a:pt x="348" y="1717"/>
                  <a:pt x="393" y="1914"/>
                  <a:pt x="378" y="1989"/>
                </a:cubicBezTo>
                <a:cubicBezTo>
                  <a:pt x="363" y="2064"/>
                  <a:pt x="226" y="1912"/>
                  <a:pt x="196" y="1852"/>
                </a:cubicBezTo>
                <a:cubicBezTo>
                  <a:pt x="166" y="1792"/>
                  <a:pt x="90" y="1860"/>
                  <a:pt x="196" y="1626"/>
                </a:cubicBezTo>
                <a:cubicBezTo>
                  <a:pt x="302" y="1392"/>
                  <a:pt x="831" y="439"/>
                  <a:pt x="831" y="446"/>
                </a:cubicBezTo>
                <a:close/>
              </a:path>
            </a:pathLst>
          </a:custGeom>
          <a:solidFill>
            <a:srgbClr val="009999"/>
          </a:solidFill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54677 C -0.00226 -0.54214 -0.00937 -0.54723 -0.00208 -0.53566 C 0.00486 -0.52454 0.00972 -0.51505 0.01458 -0.50255 C 0.0184 -0.49191 0.01788 -0.48172 0.02292 -0.472 C 0.03767 -0.35371 0.03767 -0.23218 0.02292 -0.11343 C 0.02135 -0.08218 0.02101 -0.04792 0.00625 -0.022 C 0.00156 -0.00325 0.00399 -0.01042 -1.66667E-006 0.00022 E">
                                      <p:cBhvr>
                                        <p:cTn id="6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6.66667E-006 C -0.01598 -0.01436 -0.00973 -0.0426 0.00208 -0.05834 C 0.00868 -0.0845 0.03368 -0.09839 0.05208 -0.10834 C 0.05607 -0.11042 0.06041 -0.11204 0.06458 -0.1139 C 0.06875 -0.11575 0.07708 -0.11945 0.07708 -0.11945 C 0.08229 -0.11899 0.10139 -0.11992 0.11041 -0.1139 C 0.12205 -0.10603 0.13333 -0.09445 0.14583 -0.0889 C 0.15503 -0.07663 0.16146 -0.06181 0.16875 -0.04723 C 0.17014 -0.04445 0.17152 -0.04167 0.17291 -0.0389 C 0.1743 -0.03612 0.17708 -0.03056 0.17708 -0.03056 C 0.18246 -0.00209 0.17517 -0.03751 0.18333 -0.00834 C 0.18802 0.00809 0.19097 0.02453 0.19375 0.04166 C 0.196 0.05555 0.19583 0.04559 0.19583 0.05277 E">
                                      <p:cBhvr>
                                        <p:cTn id="9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4 0.05277 C 0.18351 0.02823 0.18177 -0.00441 0.16875 -0.03056 C 0.16528 -0.04862 0.15521 -0.06066 0.15 -0.07779 C 0.14132 -0.10649 0.15157 -0.08311 0.1375 -0.11112 C 0.13386 -0.1183 0.1323 -0.12848 0.12917 -0.13612 C 0.12674 -0.14191 0.1224 -0.14654 0.12084 -0.15279 C 0.11945 -0.15834 0.11858 -0.16413 0.11667 -0.16945 C 0.11424 -0.17617 0.11059 -0.18218 0.10834 -0.1889 C 0.09827 -0.21899 0.09045 -0.26135 0.06875 -0.28056 C 0.06407 -0.29931 0.07084 -0.27779 0.05417 -0.30001 C 0.04306 -0.31482 0.03195 -0.32941 0.01667 -0.33612 C 0.00209 -0.33404 -0.00348 -0.33496 -0.01459 -0.32501 C -0.01633 -0.31783 -0.01876 -0.31043 -0.01876 -0.30279 E">
                                      <p:cBhvr>
                                        <p:cTn id="14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75 -0.30278 C -0.01684 -0.47292 -0.03542 -0.44861 0.00208 -0.53611 C 0.0066 -0.54676 0.01163 -0.55648 0.02083 -0.56134 C 0.02309 -0.5625 0.04236 -0.56644 0.04375 -0.56667 C 0.04722 -0.56852 0.05052 -0.57176 0.05417 -0.57222 C 0.06302 -0.57338 0.07049 -0.56412 0.07917 -0.56412 E">
                                      <p:cBhvr>
                                        <p:cTn id="19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 rot="10800000">
            <a:off x="2843280" y="0"/>
            <a:ext cx="3024000" cy="814320"/>
          </a:xfrm>
          <a:custGeom>
            <a:avLst/>
            <a:gdLst>
              <a:gd name="textAreaLeft" fmla="*/ 389520 w 3024000"/>
              <a:gd name="textAreaRight" fmla="*/ 2634480 w 3024000"/>
              <a:gd name="textAreaTop" fmla="*/ 104760 h 814320"/>
              <a:gd name="textAreaBottom" fmla="*/ 709560 h 8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1" y="21600"/>
                </a:lnTo>
                <a:lnTo>
                  <a:pt x="1859" y="21600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0800000">
            <a:off x="1331640" y="764280"/>
            <a:ext cx="6048360" cy="4969080"/>
          </a:xfrm>
          <a:custGeom>
            <a:avLst/>
            <a:gdLst>
              <a:gd name="textAreaLeft" fmla="*/ 1329840 w 6048360"/>
              <a:gd name="textAreaRight" fmla="*/ 4718520 w 6048360"/>
              <a:gd name="textAreaTop" fmla="*/ 1092600 h 4969080"/>
              <a:gd name="textAreaBottom" fmla="*/ 3876480 h 49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0800000">
            <a:off x="755280" y="5733720"/>
            <a:ext cx="7201080" cy="914400"/>
          </a:xfrm>
          <a:custGeom>
            <a:avLst/>
            <a:gdLst>
              <a:gd name="textAreaLeft" fmla="*/ 905760 w 7201080"/>
              <a:gd name="textAreaRight" fmla="*/ 6295320 w 7201080"/>
              <a:gd name="textAreaTop" fmla="*/ 114840 h 914400"/>
              <a:gd name="textAreaBottom" fmla="*/ 7995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8" y="21600"/>
                </a:lnTo>
                <a:lnTo>
                  <a:pt x="1742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33336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63640" y="333360"/>
            <a:ext cx="0" cy="1366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33336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97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195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11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27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4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6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92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08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24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40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56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788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003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1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437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53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69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8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0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51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63640" y="105264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63640" y="69228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11280" y="1989000"/>
            <a:ext cx="381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95640" y="1628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771640" y="263700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4000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95640" y="350028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64000" y="256536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2436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7236000" y="2492280"/>
            <a:ext cx="1223280" cy="1223640"/>
            <a:chOff x="7236000" y="2492280"/>
            <a:chExt cx="1223280" cy="1223640"/>
          </a:xfrm>
        </p:grpSpPr>
        <p:sp>
          <p:nvSpPr>
            <p:cNvPr id="307" name=""/>
            <p:cNvSpPr/>
            <p:nvPr/>
          </p:nvSpPr>
          <p:spPr>
            <a:xfrm>
              <a:off x="7236000" y="2492280"/>
              <a:ext cx="1223280" cy="122364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62720" y="2718000"/>
              <a:ext cx="1047600" cy="94860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84960" y="2541240"/>
              <a:ext cx="1046880" cy="102456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09600" y="2617200"/>
              <a:ext cx="530280" cy="35928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01840" y="2527920"/>
              <a:ext cx="505800" cy="34560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31760" y="2771280"/>
              <a:ext cx="476280" cy="33948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88600" y="2746800"/>
              <a:ext cx="520920" cy="35460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75000" y="3258360"/>
              <a:ext cx="541440" cy="35676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73200" y="3092760"/>
              <a:ext cx="570240" cy="35532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50880" y="2898720"/>
              <a:ext cx="565920" cy="38160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61960" y="3063600"/>
              <a:ext cx="128520" cy="55116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803720" y="3577320"/>
              <a:ext cx="84600" cy="12276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11080" y="3566160"/>
              <a:ext cx="84600" cy="12276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187480" y="3474360"/>
              <a:ext cx="84240" cy="12276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19040" y="2956320"/>
              <a:ext cx="236160" cy="68076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07000" y="2809080"/>
              <a:ext cx="247320" cy="85320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684360" y="1989000"/>
            <a:ext cx="914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ас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4360" y="2205000"/>
            <a:ext cx="8632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ас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4360" y="2060640"/>
            <a:ext cx="86328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ас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55640" y="2133720"/>
            <a:ext cx="7920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ас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010280" y="399960"/>
            <a:ext cx="1943280" cy="2343240"/>
          </a:xfrm>
          <a:custGeom>
            <a:avLst/>
            <a:gdLst/>
            <a:ahLst/>
            <a:rect l="l" t="t" r="r" b="b"/>
            <a:pathLst>
              <a:path w="1224" h="1476">
                <a:moveTo>
                  <a:pt x="0" y="0"/>
                </a:moveTo>
                <a:cubicBezTo>
                  <a:pt x="75" y="50"/>
                  <a:pt x="119" y="107"/>
                  <a:pt x="180" y="168"/>
                </a:cubicBezTo>
                <a:cubicBezTo>
                  <a:pt x="224" y="212"/>
                  <a:pt x="280" y="244"/>
                  <a:pt x="324" y="288"/>
                </a:cubicBezTo>
                <a:cubicBezTo>
                  <a:pt x="363" y="327"/>
                  <a:pt x="383" y="375"/>
                  <a:pt x="432" y="408"/>
                </a:cubicBezTo>
                <a:cubicBezTo>
                  <a:pt x="488" y="492"/>
                  <a:pt x="565" y="553"/>
                  <a:pt x="636" y="624"/>
                </a:cubicBezTo>
                <a:cubicBezTo>
                  <a:pt x="682" y="670"/>
                  <a:pt x="715" y="716"/>
                  <a:pt x="768" y="756"/>
                </a:cubicBezTo>
                <a:cubicBezTo>
                  <a:pt x="800" y="853"/>
                  <a:pt x="755" y="730"/>
                  <a:pt x="876" y="912"/>
                </a:cubicBezTo>
                <a:cubicBezTo>
                  <a:pt x="884" y="924"/>
                  <a:pt x="891" y="937"/>
                  <a:pt x="900" y="948"/>
                </a:cubicBezTo>
                <a:cubicBezTo>
                  <a:pt x="911" y="961"/>
                  <a:pt x="926" y="970"/>
                  <a:pt x="936" y="984"/>
                </a:cubicBezTo>
                <a:cubicBezTo>
                  <a:pt x="946" y="999"/>
                  <a:pt x="950" y="1017"/>
                  <a:pt x="960" y="1032"/>
                </a:cubicBezTo>
                <a:cubicBezTo>
                  <a:pt x="989" y="1073"/>
                  <a:pt x="1032" y="1116"/>
                  <a:pt x="1068" y="1152"/>
                </a:cubicBezTo>
                <a:cubicBezTo>
                  <a:pt x="1084" y="1214"/>
                  <a:pt x="1114" y="1231"/>
                  <a:pt x="1140" y="1284"/>
                </a:cubicBezTo>
                <a:cubicBezTo>
                  <a:pt x="1175" y="1354"/>
                  <a:pt x="1149" y="1377"/>
                  <a:pt x="1212" y="1440"/>
                </a:cubicBezTo>
                <a:cubicBezTo>
                  <a:pt x="1216" y="1452"/>
                  <a:pt x="1224" y="1476"/>
                  <a:pt x="1224" y="1476"/>
                </a:cubicBezTo>
              </a:path>
            </a:pathLst>
          </a:custGeom>
          <a:noFill/>
          <a:ln w="7632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934320" y="533520"/>
            <a:ext cx="1904760" cy="2209680"/>
          </a:xfrm>
          <a:custGeom>
            <a:avLst/>
            <a:gdLst/>
            <a:ahLst/>
            <a:rect l="l" t="t" r="r" b="b"/>
            <a:pathLst>
              <a:path w="1200" h="1392">
                <a:moveTo>
                  <a:pt x="1200" y="0"/>
                </a:moveTo>
                <a:cubicBezTo>
                  <a:pt x="988" y="212"/>
                  <a:pt x="817" y="465"/>
                  <a:pt x="612" y="684"/>
                </a:cubicBezTo>
                <a:cubicBezTo>
                  <a:pt x="393" y="919"/>
                  <a:pt x="147" y="1099"/>
                  <a:pt x="0" y="1392"/>
                </a:cubicBezTo>
              </a:path>
            </a:pathLst>
          </a:custGeom>
          <a:noFill/>
          <a:ln w="7632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566 -0.44977 C -0.37899 -0.42755 -0.40365 -0.46204 -0.38108 -0.41922 C -0.37622 -0.40996 -0.36649 -0.39144 -0.36649 -0.39144 C -0.36389 -0.37778 -0.36042 -0.36945 -0.35399 -0.35834 C -0.35174 -0.34306 -0.35 -0.32639 -0.34358 -0.31366 C -0.33628 -0.24607 -0.34705 -0.33866 -0.33733 -0.27755 C -0.33368 -0.25463 -0.33542 -0.23125 -0.33108 -0.20811 C -0.3316 -0.16551 -0.30972 -0.01158 -0.35399 0.04745 C -0.35469 0.05023 -0.35503 0.05324 -0.35608 0.05578 C -0.35712 0.05879 -0.3592 0.06111 -0.36024 0.06412 C -0.36354 0.07453 -0.36285 0.08287 -0.36858 0.09189 C -0.3717 0.09699 -0.38524 0.11435 -0.38524 0.11967 E">
                                      <p:cBhvr>
                                        <p:cTn id="36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524 0.11967 C -0.39271 0.10971 -0.40139 0.09976 -0.41024 0.09189 C -0.43593 0.10045 -0.46007 0.11203 -0.48524 0.12245 C -0.49548 0.12661 -0.50364 0.13356 -0.51441 0.13633 C -0.52413 0.1449 -0.53489 0.14536 -0.54566 0.153 C -0.55139 0.15717 -0.55642 0.16295 -0.56232 0.16689 C -0.57691 0.17661 -0.59253 0.18541 -0.60607 0.19745 C -0.6033 0.20879 -0.60034 0.21133 -0.59149 0.21133 E">
                                      <p:cBhvr>
                                        <p:cTn id="39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9149 0.21134 C -0.5783 0.20555 -0.58906 0.20139 -0.57482 0.1919 C -0.57083 0.18935 -0.56232 0.18634 -0.56232 0.18634 C -0.54184 0.16597 -0.56545 0.18727 -0.54566 0.17523 C -0.51996 0.15972 -0.54218 0.16666 -0.51857 0.16134 C -0.48281 0.14236 -0.44583 0.1324 -0.40816 0.12245 C -0.40225 0.12083 -0.39722 0.1162 -0.39149 0.11412 C -0.38264 0.11065 -0.37343 0.10879 -0.36441 0.10578 C -0.2743 0.10856 -0.29948 0.10185 -0.25399 0.1169 C -0.2526 0.11828 -0.24097 0.13125 -0.23732 0.13356 C -0.23333 0.13588 -0.22847 0.13588 -0.22482 0.13912 C -0.21736 0.14583 -0.2085 0.15185 -0.19982 0.15578 C -0.19514 0.16528 -0.19739 0.1618 -0.19357 0.1669 E">
                                      <p:cBhvr>
                                        <p:cTn id="44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358 0.16689 C -0.19254 0.15949 -0.18941 0.15231 -0.18941 0.14467 C -0.18941 0.13078 -0.19236 0.12639 -0.19566 0.11412 C -0.19809 0.10509 -0.19914 0.09537 -0.20191 0.08634 C -0.20764 0.06689 -0.2158 0.0493 -0.22275 0.03078 C -0.22605 0.02199 -0.2257 0.0118 -0.229 0.00301 C -0.23212 -0.00556 -0.23629 -0.01343 -0.23941 -0.02199 C -0.24705 -0.0426 -0.25174 -0.06598 -0.26025 -0.08588 C -0.26545 -0.09815 -0.27466 -0.10811 -0.28108 -0.11922 C -0.28455 -0.125 -0.28542 -0.13334 -0.28941 -0.13866 C -0.29289 -0.14329 -0.29792 -0.14584 -0.30191 -0.14977 C -0.30868 -0.15649 -0.31667 -0.16111 -0.32275 -0.16922 C -0.32483 -0.17199 -0.32622 -0.17639 -0.329 -0.17755 C -0.33559 -0.18033 -0.34289 -0.1794 -0.34983 -0.18033 C -0.36216 -0.18588 -0.37032 -0.17755 -0.38108 -0.17755 E">
                                      <p:cBhvr>
                                        <p:cTn id="49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108 -0.17755 C -0.38941 -0.18496 -0.38819 -0.18889 -0.39358 -0.19977 C -0.40052 -0.23681 -0.40052 -0.27755 -0.39149 -0.31389 C -0.38958 -0.34561 -0.38646 -0.36991 -0.37899 -0.4 C -0.3776 -0.40533 -0.37587 -0.42061 -0.37274 -0.42477 C -0.35851 -0.44375 -0.34896 -0.45695 -0.32899 -0.46389 C -0.32483 -0.46737 -0.31649 -0.47477 -0.31649 -0.47477 E">
                                      <p:cBhvr>
                                        <p:cTn id="54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 rot="10800000">
            <a:off x="2843280" y="0"/>
            <a:ext cx="3024000" cy="814320"/>
          </a:xfrm>
          <a:custGeom>
            <a:avLst/>
            <a:gdLst>
              <a:gd name="textAreaLeft" fmla="*/ 389520 w 3024000"/>
              <a:gd name="textAreaRight" fmla="*/ 2634480 w 3024000"/>
              <a:gd name="textAreaTop" fmla="*/ 104760 h 814320"/>
              <a:gd name="textAreaBottom" fmla="*/ 709560 h 8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1" y="21600"/>
                </a:lnTo>
                <a:lnTo>
                  <a:pt x="1859" y="21600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1331640" y="764280"/>
            <a:ext cx="6048360" cy="4969080"/>
          </a:xfrm>
          <a:custGeom>
            <a:avLst/>
            <a:gdLst>
              <a:gd name="textAreaLeft" fmla="*/ 1329840 w 6048360"/>
              <a:gd name="textAreaRight" fmla="*/ 4718520 w 6048360"/>
              <a:gd name="textAreaTop" fmla="*/ 1092600 h 4969080"/>
              <a:gd name="textAreaBottom" fmla="*/ 3876480 h 49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0800000">
            <a:off x="755280" y="5733720"/>
            <a:ext cx="7201080" cy="914400"/>
          </a:xfrm>
          <a:custGeom>
            <a:avLst/>
            <a:gdLst>
              <a:gd name="textAreaLeft" fmla="*/ 905760 w 7201080"/>
              <a:gd name="textAreaRight" fmla="*/ 6295320 w 7201080"/>
              <a:gd name="textAreaTop" fmla="*/ 114840 h 914400"/>
              <a:gd name="textAreaBottom" fmla="*/ 7995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8" y="21600"/>
                </a:lnTo>
                <a:lnTo>
                  <a:pt x="1742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763640" y="33336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63640" y="333360"/>
            <a:ext cx="0" cy="1366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732720" y="33336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7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195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11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627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4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6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92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708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24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40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56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788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003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21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7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53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869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8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0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1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763640" y="105264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63640" y="69228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11280" y="1989000"/>
            <a:ext cx="381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95640" y="1628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71640" y="270828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34000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95640" y="350028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4000" y="256536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72436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780000" y="3284640"/>
            <a:ext cx="1223280" cy="1223640"/>
            <a:chOff x="3780000" y="3284640"/>
            <a:chExt cx="1223280" cy="1223640"/>
          </a:xfrm>
        </p:grpSpPr>
        <p:sp>
          <p:nvSpPr>
            <p:cNvPr id="367" name=""/>
            <p:cNvSpPr/>
            <p:nvPr/>
          </p:nvSpPr>
          <p:spPr>
            <a:xfrm>
              <a:off x="3780000" y="3284640"/>
              <a:ext cx="1223280" cy="122364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06720" y="3510360"/>
              <a:ext cx="1047600" cy="94860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28960" y="3333600"/>
              <a:ext cx="1046880" cy="102456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53600" y="3409560"/>
              <a:ext cx="530280" cy="35928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45840" y="3320280"/>
              <a:ext cx="505800" cy="34560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75760" y="3563640"/>
              <a:ext cx="476280" cy="33948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2600" y="3539160"/>
              <a:ext cx="520920" cy="35460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19000" y="4050720"/>
              <a:ext cx="541440" cy="35676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17200" y="3885120"/>
              <a:ext cx="570240" cy="35532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94880" y="3691080"/>
              <a:ext cx="565920" cy="38160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05960" y="3855960"/>
              <a:ext cx="128520" cy="55116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7720" y="4369680"/>
              <a:ext cx="84600" cy="12276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55080" y="4358520"/>
              <a:ext cx="84600" cy="12276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31480" y="4266720"/>
              <a:ext cx="84240" cy="12276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63040" y="3748680"/>
              <a:ext cx="236160" cy="68076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951000" y="3601440"/>
              <a:ext cx="247320" cy="85320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684360" y="1989000"/>
            <a:ext cx="914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касание-бл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5640" y="2205000"/>
            <a:ext cx="863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ас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55640" y="1989000"/>
            <a:ext cx="86364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ас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140600" y="-15840"/>
            <a:ext cx="1535040" cy="3433680"/>
          </a:xfrm>
          <a:custGeom>
            <a:avLst/>
            <a:gdLst/>
            <a:ahLst/>
            <a:rect l="l" t="t" r="r" b="b"/>
            <a:pathLst>
              <a:path w="831" h="2163">
                <a:moveTo>
                  <a:pt x="831" y="446"/>
                </a:moveTo>
                <a:cubicBezTo>
                  <a:pt x="831" y="453"/>
                  <a:pt x="271" y="1429"/>
                  <a:pt x="196" y="1671"/>
                </a:cubicBezTo>
                <a:cubicBezTo>
                  <a:pt x="121" y="1913"/>
                  <a:pt x="408" y="2163"/>
                  <a:pt x="378" y="1898"/>
                </a:cubicBezTo>
                <a:cubicBezTo>
                  <a:pt x="348" y="1633"/>
                  <a:pt x="30" y="166"/>
                  <a:pt x="15" y="83"/>
                </a:cubicBezTo>
                <a:cubicBezTo>
                  <a:pt x="0" y="0"/>
                  <a:pt x="226" y="1081"/>
                  <a:pt x="287" y="1399"/>
                </a:cubicBezTo>
                <a:cubicBezTo>
                  <a:pt x="348" y="1717"/>
                  <a:pt x="393" y="1914"/>
                  <a:pt x="378" y="1989"/>
                </a:cubicBezTo>
                <a:cubicBezTo>
                  <a:pt x="363" y="2064"/>
                  <a:pt x="226" y="1912"/>
                  <a:pt x="196" y="1852"/>
                </a:cubicBezTo>
                <a:cubicBezTo>
                  <a:pt x="166" y="1792"/>
                  <a:pt x="90" y="1860"/>
                  <a:pt x="196" y="1626"/>
                </a:cubicBezTo>
                <a:cubicBezTo>
                  <a:pt x="302" y="1392"/>
                  <a:pt x="831" y="439"/>
                  <a:pt x="831" y="446"/>
                </a:cubicBezTo>
                <a:close/>
              </a:path>
            </a:pathLst>
          </a:custGeom>
          <a:solidFill>
            <a:srgbClr val="009999"/>
          </a:solidFill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26920" y="1989000"/>
            <a:ext cx="648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ас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76720" y="1341360"/>
            <a:ext cx="381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БЛОК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500"/>
                            </p:stCondLst>
                            <p:childTnLst>
                              <p:par>
                                <p:cTn id="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-0.56806 C 1.66667000000079E-006 -0.54167 -0.00313 -0.50301 -0.00313 -0.46806 E">
                                      <p:cBhvr>
                                        <p:cTn id="89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7037E-007 C -0.00521 -0.02083 0.00451 -0.04722 0.01042 -0.06666 C 0.01198 -0.09722 0.01389 -0.11921 0.02083 -0.14722 C 0.02257 -0.16412 0.02431 -0.17754 0.03125 -0.19166 C 0.0316 -0.19375 0.03351 -0.21018 0.03542 -0.21389 C 0.03698 -0.21713 0.03993 -0.21898 0.04167 -0.22222 C 0.05069 -0.23912 0.05538 -0.26041 0.06875 -0.27222 C 0.08038 -0.29537 0.08663 -0.32245 0.09583 -0.34722 E">
                                      <p:cBhvr>
                                        <p:cTn id="91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81481E-006 C 0.00086 -0.01389 0.00416 -0.02755 0.00416 -0.04167 C 0.00416 -0.08704 0.00208 -0.17778 0.00208 -0.17778 E">
                                      <p:cBhvr>
                                        <p:cTn id="93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500"/>
                            </p:stCondLst>
                            <p:childTnLst>
                              <p:par>
                                <p:cTn id="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-0.46806 C -0.00035 -0.47894 0.00556 -0.48311 0.00938 -0.49306 C 0.01406 -0.50556 0.00816 -0.49769 0.01563 -0.50973 C 0.03143 -0.53496 0.05677 -0.54515 0.08021 -0.5514 C 0.08229 -0.55047 0.0842 -0.54885 0.08646 -0.54862 C 0.09688 -0.547 0.10764 -0.54908 0.11771 -0.54584 C 0.12483 -0.54353 0.13698 -0.52732 0.14271 -0.52084 C 0.15139 -0.51112 0.15729 -0.49723 0.16354 -0.48473 C 0.16493 -0.48195 0.16771 -0.4764 0.16771 -0.4764 C 0.17031 -0.4588 0.17587 -0.44445 0.17813 -0.4264 C 0.18472 -0.28565 0.18021 -0.14538 0.18021 -0.00417 E">
                                      <p:cBhvr>
                                        <p:cTn id="98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19004 C 0.00608 -0.1794 0.01024 -0.16782 0.01528 -0.15671 C 0.01788 -0.14305 0.01997 -0.13194 0.02153 -0.11782 C 0.02083 -0.08356 0.02188 -0.04907 0.01945 -0.01504 C 0.01892 -0.0081 0.0092 0.01065 0.00486 0.01551 C -0.00191 0.02315 -0.00139 0.01736 -0.00139 0.02384 E">
                                      <p:cBhvr>
                                        <p:cTn id="100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583 -0.34723 C 0.09531 -0.33287 0.09774 -0.3044 0.09062 -0.29028 C 0.0868 -0.26968 0.07899 -0.25139 0.07291 -0.23195 C 0.06823 -0.2169 0.06718 -0.19977 0.06041 -0.18611 C 0.05868 -0.17709 0.05625 -0.16852 0.05208 -0.16111 C 0.05052 -0.15463 0.04965 -0.14792 0.04791 -0.14167 C 0.04427 -0.1294 0.03837 -0.1176 0.03437 -0.10556 C 0.03055 -0.09399 0.02795 -0.07801 0.01979 -0.07084 C 0.01857 -0.06829 0.01788 -0.06505 0.01666 -0.0625 C 0.01024 -0.04954 0.00017 -0.03912 -0.00521 -0.025 E">
                                      <p:cBhvr>
                                        <p:cTn id="102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500"/>
                            </p:stCondLst>
                            <p:childTnLst>
                              <p:par>
                                <p:cTn id="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021 0.06527 C 0.17239 0.04953 0.16458 0.03495 0.15312 0.02361 C 0.14878 4.44444000000099E-006 0.15469 0.02407 0.14479 0.00416 C 0.14184 -0.00162 0.14132 -0.00926 0.13854 -0.01528 C 0.13663 -0.01922 0.1342 -0.02246 0.13229 -0.02639 C 0.13073 -0.02987 0.12969 -0.03403 0.12812 -0.0375 C 0.12552 -0.04329 0.12413 -0.0507 0.11979 -0.05417 C 0.10121 -0.06899 0.08281 -0.075 0.06146 -0.07917 C 0.01146 -0.07825 -0.03854 -0.07987 -0.08854 -0.07639 C -0.09375 -0.07593 -0.09827 -0.07061 -0.10313 -0.06806 C -0.11615 -0.06112 -0.13056 -0.05533 -0.14271 -0.04584 C -0.16441 -0.02894 -0.15208 -0.03519 -0.16563 -0.02917 C -0.17986 -0.01505 -0.17969 -0.00903 -0.18438 0.0125 C -0.18524 0.0162 -0.18559 0.0199 -0.18646 0.02361 C -0.18768 0.02916 -0.19063 0.04027 -0.19063 0.04027 C -0.18993 0.05046 -0.18854 0.07083 -0.18854 0.07083 E">
                                      <p:cBhvr>
                                        <p:cTn id="107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854 0.07106 C -0.18594 0.04236 -0.18611 0.05 -0.17812 0.02662 C -0.17535 0.01852 -0.17552 0.00903 -0.17187 0.00162 C -0.16076 -0.0206 -0.15017 -0.04259 -0.13437 -0.05949 C -0.12222 -0.08634 -0.13524 -0.06157 -0.11146 -0.09005 C -0.10278 -0.10046 -0.09705 -0.11435 -0.08646 -0.12338 C -0.07066 -0.13681 -0.05347 -0.14398 -0.03646 -0.15394 C -0.0342 -0.15532 -0.03264 -0.15857 -0.03021 -0.15949 C -0.00486 -0.16968 0.03993 -0.1669 0.05938 -0.16782 C 0.07986 -0.16389 0.0757 -0.16065 0.09271 -0.1456 C 0.09948 -0.13958 0.12031 -0.14282 0.12188 -0.14282 E">
                                      <p:cBhvr>
                                        <p:cTn id="112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375 -0.15093 C 0.14653 -0.15649 0.15105 -0.16089 0.15209 -0.1676 C 0.15382 -0.17871 0.15504 -0.19028 0.15834 -0.2007 C 0.16771 -0.23079 0.17674 -0.25857 0.18542 -0.28959 C 0.18664 -0.29399 0.18681 -0.29908 0.1875 -0.30371 C 0.18889 -0.31482 0.19167 -0.33681 0.19167 -0.33681 C 0.18993 -0.38704 0.19011 -0.39445 0.18125 -0.43426 C 0.18021 -0.43843 0.17865 -0.45394 0.17709 -0.45903 C 0.17448 -0.46737 0.16962 -0.47339 0.16667 -0.48149 C 0.16216 -0.49329 0.15973 -0.50163 0.15209 -0.51204 C 0.14966 -0.51528 0.14636 -0.51737 0.14375 -0.52038 C 0.13594 -0.52964 0.12778 -0.54306 0.11875 -0.55093 C 0.1 -0.5676 0.12587 -0.53751 0.10625 -0.55903 C 0.09375 -0.57315 0.10747 -0.56436 0.0875 -0.57315 C 0.08542 -0.57385 0.08125 -0.5757 0.08125 -0.5757 C 0.07396 -0.58542 0.07639 -0.58056 0.07292 -0.58959 E">
                                      <p:cBhvr>
                                        <p:cTn id="117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 rot="10800000">
            <a:off x="2843280" y="0"/>
            <a:ext cx="3024000" cy="814320"/>
          </a:xfrm>
          <a:custGeom>
            <a:avLst/>
            <a:gdLst>
              <a:gd name="textAreaLeft" fmla="*/ 389520 w 3024000"/>
              <a:gd name="textAreaRight" fmla="*/ 2634480 w 3024000"/>
              <a:gd name="textAreaTop" fmla="*/ 104760 h 814320"/>
              <a:gd name="textAreaBottom" fmla="*/ 709560 h 8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1" y="21600"/>
                </a:lnTo>
                <a:lnTo>
                  <a:pt x="1859" y="21600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0800000">
            <a:off x="1331640" y="764280"/>
            <a:ext cx="6048360" cy="4969080"/>
          </a:xfrm>
          <a:custGeom>
            <a:avLst/>
            <a:gdLst>
              <a:gd name="textAreaLeft" fmla="*/ 1329840 w 6048360"/>
              <a:gd name="textAreaRight" fmla="*/ 4718520 w 6048360"/>
              <a:gd name="textAreaTop" fmla="*/ 1092600 h 4969080"/>
              <a:gd name="textAreaBottom" fmla="*/ 3876480 h 49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10800000">
            <a:off x="755280" y="5733720"/>
            <a:ext cx="7201080" cy="914400"/>
          </a:xfrm>
          <a:custGeom>
            <a:avLst/>
            <a:gdLst>
              <a:gd name="textAreaLeft" fmla="*/ 905760 w 7201080"/>
              <a:gd name="textAreaRight" fmla="*/ 6295320 w 7201080"/>
              <a:gd name="textAreaTop" fmla="*/ 114840 h 914400"/>
              <a:gd name="textAreaBottom" fmla="*/ 7995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8" y="21600"/>
                </a:lnTo>
                <a:lnTo>
                  <a:pt x="1742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63640" y="33336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63640" y="333360"/>
            <a:ext cx="0" cy="1366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732720" y="33336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7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95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411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27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84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6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7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492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708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24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40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356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788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03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1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437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53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869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8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0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51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763640" y="105264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63640" y="69228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411280" y="1989000"/>
            <a:ext cx="381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95640" y="1628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771640" y="263700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34000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95640" y="350028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64000" y="256536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72436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7236000" y="2492280"/>
            <a:ext cx="1223280" cy="1223640"/>
            <a:chOff x="7236000" y="2492280"/>
            <a:chExt cx="1223280" cy="1223640"/>
          </a:xfrm>
        </p:grpSpPr>
        <p:sp>
          <p:nvSpPr>
            <p:cNvPr id="427" name=""/>
            <p:cNvSpPr/>
            <p:nvPr/>
          </p:nvSpPr>
          <p:spPr>
            <a:xfrm>
              <a:off x="7236000" y="2492280"/>
              <a:ext cx="1223280" cy="122364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62720" y="2718000"/>
              <a:ext cx="1047600" cy="94860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284960" y="2541240"/>
              <a:ext cx="1046880" cy="102456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09600" y="2617200"/>
              <a:ext cx="530280" cy="35928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01840" y="2527920"/>
              <a:ext cx="505800" cy="34560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31760" y="2771280"/>
              <a:ext cx="476280" cy="33948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88600" y="2746800"/>
              <a:ext cx="520920" cy="35460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75000" y="3258360"/>
              <a:ext cx="541440" cy="35676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73200" y="3092760"/>
              <a:ext cx="570240" cy="35532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50880" y="2898720"/>
              <a:ext cx="565920" cy="38160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761960" y="3063600"/>
              <a:ext cx="128520" cy="55116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03720" y="3577320"/>
              <a:ext cx="84600" cy="12276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11080" y="3566160"/>
              <a:ext cx="84600" cy="12276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187480" y="3474360"/>
              <a:ext cx="84240" cy="12276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19040" y="2956320"/>
              <a:ext cx="236160" cy="68076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07000" y="2809080"/>
              <a:ext cx="247320" cy="85320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84360" y="1989000"/>
            <a:ext cx="914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асание игрок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4360" y="2205000"/>
            <a:ext cx="8632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касание тем же игрок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010280" y="399960"/>
            <a:ext cx="1943280" cy="2343240"/>
          </a:xfrm>
          <a:custGeom>
            <a:avLst/>
            <a:gdLst/>
            <a:ahLst/>
            <a:rect l="l" t="t" r="r" b="b"/>
            <a:pathLst>
              <a:path w="1224" h="1476">
                <a:moveTo>
                  <a:pt x="0" y="0"/>
                </a:moveTo>
                <a:cubicBezTo>
                  <a:pt x="75" y="50"/>
                  <a:pt x="119" y="107"/>
                  <a:pt x="180" y="168"/>
                </a:cubicBezTo>
                <a:cubicBezTo>
                  <a:pt x="224" y="212"/>
                  <a:pt x="280" y="244"/>
                  <a:pt x="324" y="288"/>
                </a:cubicBezTo>
                <a:cubicBezTo>
                  <a:pt x="363" y="327"/>
                  <a:pt x="383" y="375"/>
                  <a:pt x="432" y="408"/>
                </a:cubicBezTo>
                <a:cubicBezTo>
                  <a:pt x="488" y="492"/>
                  <a:pt x="565" y="553"/>
                  <a:pt x="636" y="624"/>
                </a:cubicBezTo>
                <a:cubicBezTo>
                  <a:pt x="682" y="670"/>
                  <a:pt x="715" y="716"/>
                  <a:pt x="768" y="756"/>
                </a:cubicBezTo>
                <a:cubicBezTo>
                  <a:pt x="800" y="853"/>
                  <a:pt x="755" y="730"/>
                  <a:pt x="876" y="912"/>
                </a:cubicBezTo>
                <a:cubicBezTo>
                  <a:pt x="884" y="924"/>
                  <a:pt x="891" y="937"/>
                  <a:pt x="900" y="948"/>
                </a:cubicBezTo>
                <a:cubicBezTo>
                  <a:pt x="911" y="961"/>
                  <a:pt x="926" y="970"/>
                  <a:pt x="936" y="984"/>
                </a:cubicBezTo>
                <a:cubicBezTo>
                  <a:pt x="946" y="999"/>
                  <a:pt x="950" y="1017"/>
                  <a:pt x="960" y="1032"/>
                </a:cubicBezTo>
                <a:cubicBezTo>
                  <a:pt x="989" y="1073"/>
                  <a:pt x="1032" y="1116"/>
                  <a:pt x="1068" y="1152"/>
                </a:cubicBezTo>
                <a:cubicBezTo>
                  <a:pt x="1084" y="1214"/>
                  <a:pt x="1114" y="1231"/>
                  <a:pt x="1140" y="1284"/>
                </a:cubicBezTo>
                <a:cubicBezTo>
                  <a:pt x="1175" y="1354"/>
                  <a:pt x="1149" y="1377"/>
                  <a:pt x="1212" y="1440"/>
                </a:cubicBezTo>
                <a:cubicBezTo>
                  <a:pt x="1216" y="1452"/>
                  <a:pt x="1224" y="1476"/>
                  <a:pt x="1224" y="1476"/>
                </a:cubicBezTo>
              </a:path>
            </a:pathLst>
          </a:custGeom>
          <a:noFill/>
          <a:ln w="7632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533520"/>
            <a:ext cx="1904760" cy="2209680"/>
          </a:xfrm>
          <a:custGeom>
            <a:avLst/>
            <a:gdLst/>
            <a:ahLst/>
            <a:rect l="l" t="t" r="r" b="b"/>
            <a:pathLst>
              <a:path w="1200" h="1392">
                <a:moveTo>
                  <a:pt x="1200" y="0"/>
                </a:moveTo>
                <a:cubicBezTo>
                  <a:pt x="988" y="212"/>
                  <a:pt x="817" y="465"/>
                  <a:pt x="612" y="684"/>
                </a:cubicBezTo>
                <a:cubicBezTo>
                  <a:pt x="393" y="919"/>
                  <a:pt x="147" y="1099"/>
                  <a:pt x="0" y="1392"/>
                </a:cubicBezTo>
              </a:path>
            </a:pathLst>
          </a:custGeom>
          <a:noFill/>
          <a:ln w="7632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399 -0.43311 C -0.39201 -0.42778 -0.40313 -0.43403 -0.39149 -0.42199 C -0.3691 -0.39885 -0.38698 -0.42153 -0.37274 -0.40255 C -0.36632 -0.37709 -0.37708 -0.41667 -0.36441 -0.38311 C -0.3625 -0.37778 -0.36181 -0.37176 -0.36024 -0.36644 C -0.35486 -0.34838 -0.34983 -0.33287 -0.34774 -0.31366 C -0.34236 -0.2632 -0.34861 -0.31111 -0.34358 -0.28033 C -0.34201 -0.27107 -0.33941 -0.25278 -0.33941 -0.25278 C -0.33403 -0.16736 -0.33646 -0.21806 -0.33941 -0.05556 C -0.33993 -0.02917 -0.33663 0.02939 -0.34983 0.05578 C -0.35278 0.07176 -0.35503 0.07731 -0.36233 0.09189 C -0.38142 0.13009 -0.35694 0.09583 -0.37066 0.11412 E">
                                      <p:cBhvr>
                                        <p:cTn id="132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066 0.11411 C -0.36806 0.10046 -0.36598 0.08934 -0.36441 0.07522 C -0.36528 0.05022 -0.36372 0.0243 -0.36858 0.00022 C -0.3717 -0.01552 -0.37986 -0.02987 -0.38525 -0.04422 C -0.38629 -0.04677 -0.38594 -0.05024 -0.38733 -0.05255 C -0.39202 -0.06019 -0.40504 -0.07153 -0.41233 -0.07478 C -0.42275 -0.07015 -0.42223 -0.06621 -0.42483 -0.05255 C -0.4217 -0.02385 -0.41528 0.00578 -0.404 0.03078 C -0.40139 0.0449 -0.39914 0.05856 -0.39566 0.07245 C -0.3948 0.07569 -0.39254 0.07777 -0.3915 0.08078 C -0.38889 0.08888 -0.38733 0.09745 -0.38525 0.10578 C -0.3842 0.11018 -0.38316 0.11967 -0.38316 0.11967 E">
                                      <p:cBhvr>
                                        <p:cTn id="137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066 0.11412 C -0.375 0.10903 -0.38056 0.10555 -0.38472 0.10069 C -0.38681 0.09838 -0.38733 0.09467 -0.38941 0.09259 C -0.39375 0.08842 -0.40347 0.08194 -0.40347 0.08217 C -0.40625 0.07731 -0.41076 0.06852 -0.41528 0.06597 C -0.42326 0.06157 -0.43281 0.0618 -0.44097 0.05787 C -0.44497 0.05625 -0.44878 0.05417 -0.45278 0.05254 C -0.45747 0.05069 -0.46684 0.04722 -0.46684 0.04745 C -0.50295 0.05417 -0.46285 0.04491 -0.49028 0.05532 C -0.50087 0.05926 -0.51597 0.06042 -0.52535 0.06852 C -0.52969 0.07245 -0.53281 0.07801 -0.53715 0.08194 C -0.54149 0.08588 -0.55122 0.09259 -0.55122 0.09282 C -0.55434 0.10301 -0.5559 0.11412 -0.55816 0.12477 C -0.56007 0.15532 -0.56285 0.17754 -0.56285 0.20764 E">
                                      <p:cBhvr>
                                        <p:cTn id="142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2268360" y="1557360"/>
            <a:ext cx="4751640" cy="28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ЗАМЕНА</a:t>
            </a:r>
            <a:endParaRPr b="0" lang="en-US" sz="96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10800000">
            <a:off x="2843280" y="0"/>
            <a:ext cx="3024000" cy="814320"/>
          </a:xfrm>
          <a:custGeom>
            <a:avLst/>
            <a:gdLst>
              <a:gd name="textAreaLeft" fmla="*/ 389520 w 3024000"/>
              <a:gd name="textAreaRight" fmla="*/ 2634480 w 3024000"/>
              <a:gd name="textAreaTop" fmla="*/ 104760 h 814320"/>
              <a:gd name="textAreaBottom" fmla="*/ 709560 h 8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1" y="21600"/>
                </a:lnTo>
                <a:lnTo>
                  <a:pt x="1859" y="21600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10800000">
            <a:off x="1331640" y="764280"/>
            <a:ext cx="6048360" cy="4969080"/>
          </a:xfrm>
          <a:custGeom>
            <a:avLst/>
            <a:gdLst>
              <a:gd name="textAreaLeft" fmla="*/ 1329840 w 6048360"/>
              <a:gd name="textAreaRight" fmla="*/ 4718520 w 6048360"/>
              <a:gd name="textAreaTop" fmla="*/ 1092600 h 4969080"/>
              <a:gd name="textAreaBottom" fmla="*/ 3876480 h 49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10800000">
            <a:off x="755280" y="5733720"/>
            <a:ext cx="7201080" cy="914400"/>
          </a:xfrm>
          <a:custGeom>
            <a:avLst/>
            <a:gdLst>
              <a:gd name="textAreaLeft" fmla="*/ 905760 w 7201080"/>
              <a:gd name="textAreaRight" fmla="*/ 6295320 w 7201080"/>
              <a:gd name="textAreaTop" fmla="*/ 114840 h 914400"/>
              <a:gd name="textAreaBottom" fmla="*/ 7995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8" y="21600"/>
                </a:lnTo>
                <a:lnTo>
                  <a:pt x="1742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63640" y="33336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763640" y="333360"/>
            <a:ext cx="0" cy="1366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732720" y="33336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97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195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411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627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4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06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27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492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708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24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140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356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788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03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21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437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53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869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8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0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51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63640" y="105264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763640" y="69228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411280" y="1989000"/>
            <a:ext cx="381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995640" y="1628640"/>
            <a:ext cx="720720" cy="7207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771640" y="2637000"/>
            <a:ext cx="720720" cy="7207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340000" y="4076640"/>
            <a:ext cx="720720" cy="7207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e0b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995640" y="350028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364000" y="256536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72436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187280" y="1773360"/>
            <a:ext cx="792360" cy="79200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5640" y="2781360"/>
            <a:ext cx="792000" cy="79200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50920" y="4005360"/>
            <a:ext cx="792000" cy="79200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e0b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971640" y="5589720"/>
            <a:ext cx="6624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ОБРАТНАЯ ЗАМЕ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84360" y="1844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66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763640" y="2852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66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58920" y="414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66"/>
          </a:solidFill>
          <a:ln w="76320">
            <a:solidFill>
              <a:srgbClr val="e0b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187280" y="414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66"/>
          </a:solidFill>
          <a:ln w="76320">
            <a:solidFill>
              <a:srgbClr val="e0b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692360" y="285264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0066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411280" y="18446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66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037E-006 L -0.30712 0.02106 E">
                                      <p:cBhvr>
                                        <p:cTn id="195" dur="2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51 L 0.29948 -0.03125 E">
                                      <p:cBhvr>
                                        <p:cTn id="197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-0.22048 0.02106 E">
                                      <p:cBhvr>
                                        <p:cTn id="204" dur="2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51 L 0.21284 -0.03125 E">
                                      <p:cBhvr>
                                        <p:cTn id="206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500"/>
                            </p:stCondLst>
                            <p:childTnLst>
                              <p:par>
                                <p:cTn id="21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22048 -7.40741E-007 E">
                                      <p:cBhvr>
                                        <p:cTn id="213" dur="2000" fill="hold"/>
                                        <p:tgtEl>
                                          <p:spTgt spid="4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0533 L 0.22882 0.01065 E">
                                      <p:cBhvr>
                                        <p:cTn id="215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5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500"/>
                            </p:stCondLst>
                            <p:childTnLst>
                              <p:par>
                                <p:cTn id="23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948 -0.03125 L 0.00399 -0.00509 E">
                                      <p:cBhvr>
                                        <p:cTn id="240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712 0.02106 L 1.11111E-006 3.7037E-006 E">
                                      <p:cBhvr>
                                        <p:cTn id="242" dur="2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285 -0.03125 L 0.00399 -0.00509 E">
                                      <p:cBhvr>
                                        <p:cTn id="245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048 0.02106 L -0.00798 -0.01065 E">
                                      <p:cBhvr>
                                        <p:cTn id="247" dur="2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82 0.01064 L 0.00417 -0.0051 E">
                                      <p:cBhvr>
                                        <p:cTn id="250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048 -7.40741E-007 L -0.00798 -0.01042 E">
                                      <p:cBhvr>
                                        <p:cTn id="252" dur="2000" fill="hold"/>
                                        <p:tgtEl>
                                          <p:spTgt spid="4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4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 rot="10800000">
            <a:off x="2843280" y="0"/>
            <a:ext cx="3024000" cy="814320"/>
          </a:xfrm>
          <a:custGeom>
            <a:avLst/>
            <a:gdLst>
              <a:gd name="textAreaLeft" fmla="*/ 389520 w 3024000"/>
              <a:gd name="textAreaRight" fmla="*/ 2634480 w 3024000"/>
              <a:gd name="textAreaTop" fmla="*/ 104760 h 814320"/>
              <a:gd name="textAreaBottom" fmla="*/ 709560 h 8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1" y="21600"/>
                </a:lnTo>
                <a:lnTo>
                  <a:pt x="1859" y="21600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0800000">
            <a:off x="1331640" y="764280"/>
            <a:ext cx="6048360" cy="4969080"/>
          </a:xfrm>
          <a:custGeom>
            <a:avLst/>
            <a:gdLst>
              <a:gd name="textAreaLeft" fmla="*/ 1329840 w 6048360"/>
              <a:gd name="textAreaRight" fmla="*/ 4718520 w 6048360"/>
              <a:gd name="textAreaTop" fmla="*/ 1092600 h 4969080"/>
              <a:gd name="textAreaBottom" fmla="*/ 3876480 h 49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10800000">
            <a:off x="755280" y="5733720"/>
            <a:ext cx="7201080" cy="914400"/>
          </a:xfrm>
          <a:custGeom>
            <a:avLst/>
            <a:gdLst>
              <a:gd name="textAreaLeft" fmla="*/ 905760 w 7201080"/>
              <a:gd name="textAreaRight" fmla="*/ 6295320 w 7201080"/>
              <a:gd name="textAreaTop" fmla="*/ 114840 h 914400"/>
              <a:gd name="textAreaBottom" fmla="*/ 7995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8" y="21600"/>
                </a:lnTo>
                <a:lnTo>
                  <a:pt x="1742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763640" y="33336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63640" y="333360"/>
            <a:ext cx="0" cy="1366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732720" y="33336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7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195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411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627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84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06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492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708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924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140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356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788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03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21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37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653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869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08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30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51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63640" y="105264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763640" y="69228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411280" y="1989000"/>
            <a:ext cx="381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95640" y="1628640"/>
            <a:ext cx="720720" cy="7207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771640" y="2637000"/>
            <a:ext cx="720720" cy="7207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40000" y="4076640"/>
            <a:ext cx="720720" cy="7207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95640" y="3500280"/>
            <a:ext cx="720720" cy="7207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364000" y="2565360"/>
            <a:ext cx="720720" cy="7207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724360" y="4076640"/>
            <a:ext cx="720720" cy="7207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1692360" y="4581360"/>
            <a:ext cx="647640" cy="432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3059280" y="3933720"/>
            <a:ext cx="865080" cy="287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716360" y="3860640"/>
            <a:ext cx="1008000" cy="432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443640" y="4581360"/>
            <a:ext cx="576360" cy="432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-360" y="5013360"/>
            <a:ext cx="16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948360" y="5013360"/>
            <a:ext cx="1800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419640" y="2133720"/>
            <a:ext cx="576000" cy="574560"/>
          </a:xfrm>
          <a:prstGeom prst="line">
            <a:avLst/>
          </a:prstGeom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716360" y="2060640"/>
            <a:ext cx="719280" cy="647640"/>
          </a:xfrm>
          <a:prstGeom prst="line">
            <a:avLst/>
          </a:prstGeom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123640" y="3141720"/>
            <a:ext cx="647640" cy="287280"/>
          </a:xfrm>
          <a:prstGeom prst="line">
            <a:avLst/>
          </a:prstGeom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24000" y="335772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50560" y="3429000"/>
            <a:ext cx="1873080" cy="0"/>
          </a:xfrm>
          <a:prstGeom prst="line">
            <a:avLst/>
          </a:prstGeom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084720" y="3141720"/>
            <a:ext cx="432000" cy="142920"/>
          </a:xfrm>
          <a:prstGeom prst="line">
            <a:avLst/>
          </a:prstGeom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516720" y="3284640"/>
            <a:ext cx="2376360" cy="0"/>
          </a:xfrm>
          <a:prstGeom prst="line">
            <a:avLst/>
          </a:prstGeom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5867280" y="1700280"/>
            <a:ext cx="327672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ПАДЕНИЕ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0" y="5445000"/>
            <a:ext cx="298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ЩИТ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 rot="10800000">
            <a:off x="2843280" y="0"/>
            <a:ext cx="3024000" cy="814320"/>
          </a:xfrm>
          <a:custGeom>
            <a:avLst/>
            <a:gdLst>
              <a:gd name="textAreaLeft" fmla="*/ 389520 w 3024000"/>
              <a:gd name="textAreaRight" fmla="*/ 2634480 w 3024000"/>
              <a:gd name="textAreaTop" fmla="*/ 104760 h 814320"/>
              <a:gd name="textAreaBottom" fmla="*/ 709560 h 8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1" y="21600"/>
                </a:lnTo>
                <a:lnTo>
                  <a:pt x="1859" y="21600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rot="10800000">
            <a:off x="1331640" y="764280"/>
            <a:ext cx="6048360" cy="4969080"/>
          </a:xfrm>
          <a:custGeom>
            <a:avLst/>
            <a:gdLst>
              <a:gd name="textAreaLeft" fmla="*/ 1329840 w 6048360"/>
              <a:gd name="textAreaRight" fmla="*/ 4718520 w 6048360"/>
              <a:gd name="textAreaTop" fmla="*/ 1092600 h 4969080"/>
              <a:gd name="textAreaBottom" fmla="*/ 3876480 h 49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rot="10800000">
            <a:off x="755280" y="5733720"/>
            <a:ext cx="7201080" cy="914400"/>
          </a:xfrm>
          <a:custGeom>
            <a:avLst/>
            <a:gdLst>
              <a:gd name="textAreaLeft" fmla="*/ 905760 w 7201080"/>
              <a:gd name="textAreaRight" fmla="*/ 6295320 w 7201080"/>
              <a:gd name="textAreaTop" fmla="*/ 114840 h 914400"/>
              <a:gd name="textAreaBottom" fmla="*/ 7995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8" y="21600"/>
                </a:lnTo>
                <a:lnTo>
                  <a:pt x="1742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763640" y="33336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763640" y="333360"/>
            <a:ext cx="0" cy="1366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732720" y="33336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97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95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411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627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84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06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27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92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708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924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140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356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572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788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003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21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437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53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869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08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30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51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763640" y="105264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63640" y="69228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411280" y="1989000"/>
            <a:ext cx="381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995640" y="134136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556000" y="249228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34000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995640" y="350028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292720" y="1628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72436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403280" y="765000"/>
            <a:ext cx="62643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АНДАРТНЫЕ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РОВЫЕ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ТУАЦИИ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203640" y="2060280"/>
            <a:ext cx="863640" cy="57636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2987640" y="2060280"/>
            <a:ext cx="1224000" cy="216036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356000" y="2133720"/>
            <a:ext cx="0" cy="136656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4500720" y="1989000"/>
            <a:ext cx="1366560" cy="216072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4716360" y="1773000"/>
            <a:ext cx="503280" cy="14292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 flipV="1">
            <a:off x="3203640" y="1483920"/>
            <a:ext cx="792000" cy="144360"/>
          </a:xfrm>
          <a:prstGeom prst="line">
            <a:avLst/>
          </a:prstGeom>
          <a:ln w="12708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3059280" y="1484280"/>
            <a:ext cx="144360" cy="1152720"/>
          </a:xfrm>
          <a:prstGeom prst="line">
            <a:avLst/>
          </a:prstGeom>
          <a:ln w="127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987640" y="5589720"/>
            <a:ext cx="41054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мяча на связующ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мяча на атакующ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акующий у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08000" y="5734080"/>
            <a:ext cx="936720" cy="0"/>
          </a:xfrm>
          <a:prstGeom prst="line">
            <a:avLst/>
          </a:prstGeom>
          <a:ln w="7632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908000" y="6021360"/>
            <a:ext cx="86364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908000" y="6381720"/>
            <a:ext cx="86364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3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7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8000"/>
                            </p:stCondLst>
                            <p:childTnLst>
                              <p:par>
                                <p:cTn id="3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5:54:01Z</dcterms:created>
  <dc:creator>ОлЬкА</dc:creator>
  <dc:description/>
  <dc:language>en-US</dc:language>
  <cp:lastModifiedBy>Света</cp:lastModifiedBy>
  <dcterms:modified xsi:type="dcterms:W3CDTF">2012-11-10T13:14:56Z</dcterms:modified>
  <cp:revision>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