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9C7E3-8E67-46A2-AE08-69FDA68E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05F09-C456-4E74-B015-BBC7E528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A4574-D8BC-4AFB-8E2C-54173809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C27D6-F9BC-40F8-ADF9-7B8AA277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ECCF-48F8-45A6-8770-6ED0EAC0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12B7-CC9E-49F5-84DB-0BE3ECA5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BD91-F3AE-4DBD-8E1F-F71CDE87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1049-419D-4E72-9A97-CF922A14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CB5A-AB95-4E79-B17C-9DD81643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E7FA-E68A-4595-AC4E-FE983F3D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7134-346D-4E6F-96B7-E642F7B9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AE249-F24D-4F1E-8A09-F312C824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398F-F521-473F-B60D-CB117E8E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B29C-D057-4F0B-A278-0491CB6D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0630-13E9-408A-82D3-33E78D75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5567-B36F-4207-B588-B0D51BE8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90D6-C8D8-4F2E-9A3A-295A988C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1A40D-BE9F-407A-9681-8FBDCACA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E89D-8F43-49A5-90E2-D8D10064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6004A-C6EC-4240-8B40-4C477210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DA4FC-30C7-40BB-99D5-0E5DCE47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9EDF8-D03C-47D2-BF78-F66B0BA9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C1D89-85F3-44C4-B8BF-65E7D72F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27A13-AF54-4C26-80A5-0518E626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FC80-8F7A-4E3E-97D1-B074B49258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81CD-F1B8-4E21-8421-D10634BF83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1844640"/>
            <a:ext cx="6789600" cy="20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Реферат </a:t>
            </a:r>
            <a:br>
              <a:rPr sz="25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          «Ей было тысяча сто лет…»</a:t>
            </a:r>
            <a:br>
              <a:rPr sz="25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                             по теме:</a:t>
            </a:r>
            <a:br>
              <a:rPr sz="25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       «Двоичная система счисления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38560" y="4842000"/>
            <a:ext cx="2305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еница 11 класс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олкова Татья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оргунова Р.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890640" y="403920"/>
            <a:ext cx="75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«Дрезненская средняя общеобразовательная школа № 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двоичной системы счислени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ота совершаемых опера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ь осуществлять автоматическую обработку информации, реализуя только два состояния элементов компью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остаток двоичной системы счисл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ый рост числа разрядов в записи, представляющей двоичное чис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43408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пленка и штрих-код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атематика представляет искуснейшие изобретения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способные удовлетворить любознательность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облегчить ремёсла и уменьшить труд людей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Декарт Р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3026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ючение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сятичная система счисления далеко не сразу заняла то господствующее положение, которое она имеет сейчас. В разные исторические периоды многие народы пользовались системами счисления, отличными от десятич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328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надцатеричная система счислен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стидесятер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ер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дцатеричная система счис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362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Занимательные материалы по математике. 7 – 8 классы. / Составитель Галаева Е.А. – Волгоград: Издательско-торговый дом «Корифей», 2006. – 8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истемы счисления и их применение. (Серия: «Библиотека «Математическое просвещение»») / Гашков С.Б. – Москва: Издательство Московского центра непрерывного математического образования, 2004. – 52 с., 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й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http: //www. Infhist. 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Раздел информатика, 2001 – 2007. Теле - школа. Интернет – школа «Просвещени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Биографический словарь деятелей в области математики. / Бородин А.И., Бугай А.С. – Киев: «Радянська школа», 197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Математики, механики. / Богомолов А.Н. – Киев: «Наукова думка», 197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Системы счисления. – 5-е издание. / Фомин С.В. - Москва: «Наука». Главная редакция физико-математической литературы, 1987. – 48 с. – (Популярные лекции по математик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Энциклопедический словарь юного математика. / Составитель Савин А.П. – Москва: Педагогика, 1985. – 352 с., 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ННАЯ ДЕВОЧ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628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й был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ся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Она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 перв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 ходил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ртфеле п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ниг носила -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Всё это правда, а не бре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пыл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г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шагала по дорог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ней всегда бежал щено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востом, за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ног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ловила каждый зву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им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шам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горелых ру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фель и поводок держа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ёмно-синих глаз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атривали мир привычн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станет всё совсем обычны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поймёте мой расска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gif035"/>
          <p:cNvPicPr/>
          <p:nvPr/>
        </p:nvPicPr>
        <p:blipFill>
          <a:blip r:embed="rId1"/>
          <a:stretch/>
        </p:blipFill>
        <p:spPr>
          <a:xfrm>
            <a:off x="7524720" y="5799240"/>
            <a:ext cx="1187640" cy="1058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509080" y="6307920"/>
            <a:ext cx="14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. Стар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209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дение.</a:t>
            </a:r>
            <a:br>
              <a:rPr sz="2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ы… никогда не стали бы разумными,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если бы исключили число из человеческой природы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латон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2555640"/>
            <a:ext cx="828036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оичной системе запись 100101 означа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1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исло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 = 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-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…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едесятичных системах счисления, возможно, выполнять арифметические действия с целыми и дробными числами точно так же, как в привычной десятичной системе. Только для каждой системы счисления – своя таблица сложения и своя таблица умножения. Например, вот эти таблицы в случае двоичной систем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+0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+1=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+0=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+1=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ем следующие вычисления в двоичной системе счисления без перехода к десятич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    100101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11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10111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   1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этого нужно перейти к десятичной системе счисления и выполнить действия. И сравнить результ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1700280"/>
            <a:ext cx="828036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ая история двоичной систем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исло, выраженное десятичным знаком,             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чтёт и немец, и русский, и араб, и янки одинаково.              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енделеев Д.И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67564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ига Перемен,  Азбука Морзе, Шрифт Брайля 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ные ко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зможно, что, если бы люди имели одиннадцать пальцев,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ла бы принята одиннадцатеричная  система счисления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Лебег 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3429000"/>
            <a:ext cx="806436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ий Кит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ль Барб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и Брай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эмюэль Морз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обнее всего задать код Морзе в виде четырё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ярусного двоичного дерев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      Ч       Щ      З      Ы      Ц     Ь       Б      Й       П      Я      Л       Ю    Ф       Ж       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    __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              Г                К              Д                В              Р                 У               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__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__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__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__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                              Н                                  А                              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__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__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                                                                   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                           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 flipV="1">
            <a:off x="900000" y="2204640"/>
            <a:ext cx="1144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 flipH="1" flipV="1">
            <a:off x="610920" y="2204640"/>
            <a:ext cx="114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 flipH="1" flipV="1">
            <a:off x="1618920" y="2204640"/>
            <a:ext cx="114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 flipV="1">
            <a:off x="1908000" y="2204640"/>
            <a:ext cx="1144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 flipH="1" flipV="1">
            <a:off x="7740360" y="2204640"/>
            <a:ext cx="114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 flipH="1" flipV="1">
            <a:off x="6659280" y="2204640"/>
            <a:ext cx="114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 flipH="1" flipV="1">
            <a:off x="5580000" y="2204640"/>
            <a:ext cx="1144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 flipH="1" flipV="1">
            <a:off x="4643280" y="2204640"/>
            <a:ext cx="1144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 flipH="1" flipV="1">
            <a:off x="3563640" y="2204640"/>
            <a:ext cx="114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 flipH="1" flipV="1">
            <a:off x="2627280" y="2204640"/>
            <a:ext cx="1144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8028000" y="2204640"/>
            <a:ext cx="114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 flipV="1">
            <a:off x="6948360" y="2204640"/>
            <a:ext cx="1144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6"/>
          <p:cNvSpPr/>
          <p:nvPr/>
        </p:nvSpPr>
        <p:spPr>
          <a:xfrm flipV="1">
            <a:off x="5867280" y="2204640"/>
            <a:ext cx="1144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7"/>
          <p:cNvSpPr/>
          <p:nvPr/>
        </p:nvSpPr>
        <p:spPr>
          <a:xfrm flipV="1">
            <a:off x="4932360" y="2204640"/>
            <a:ext cx="1144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8"/>
          <p:cNvSpPr/>
          <p:nvPr/>
        </p:nvSpPr>
        <p:spPr>
          <a:xfrm flipV="1">
            <a:off x="3851280" y="2204640"/>
            <a:ext cx="114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9"/>
          <p:cNvSpPr/>
          <p:nvPr/>
        </p:nvSpPr>
        <p:spPr>
          <a:xfrm flipV="1">
            <a:off x="2916360" y="2204640"/>
            <a:ext cx="114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 flipH="1" flipV="1">
            <a:off x="971280" y="2852640"/>
            <a:ext cx="22860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1"/>
          <p:cNvSpPr/>
          <p:nvPr/>
        </p:nvSpPr>
        <p:spPr>
          <a:xfrm flipH="1" flipV="1">
            <a:off x="2916000" y="2852640"/>
            <a:ext cx="22860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H="1" flipV="1">
            <a:off x="5003280" y="2852640"/>
            <a:ext cx="22860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3"/>
          <p:cNvSpPr/>
          <p:nvPr/>
        </p:nvSpPr>
        <p:spPr>
          <a:xfrm flipH="1" flipV="1">
            <a:off x="6948000" y="2781360"/>
            <a:ext cx="22860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4"/>
          <p:cNvSpPr/>
          <p:nvPr/>
        </p:nvSpPr>
        <p:spPr>
          <a:xfrm flipV="1">
            <a:off x="1403280" y="285264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5"/>
          <p:cNvSpPr/>
          <p:nvPr/>
        </p:nvSpPr>
        <p:spPr>
          <a:xfrm flipV="1">
            <a:off x="3348000" y="285264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6"/>
          <p:cNvSpPr/>
          <p:nvPr/>
        </p:nvSpPr>
        <p:spPr>
          <a:xfrm flipV="1">
            <a:off x="5435640" y="285264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7"/>
          <p:cNvSpPr/>
          <p:nvPr/>
        </p:nvSpPr>
        <p:spPr>
          <a:xfrm flipV="1">
            <a:off x="7380360" y="278136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 flipH="1" flipV="1">
            <a:off x="5651640" y="3789360"/>
            <a:ext cx="4572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 flipH="1" flipV="1">
            <a:off x="1619280" y="3789360"/>
            <a:ext cx="4572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0"/>
          <p:cNvSpPr/>
          <p:nvPr/>
        </p:nvSpPr>
        <p:spPr>
          <a:xfrm flipV="1">
            <a:off x="2484360" y="3789360"/>
            <a:ext cx="45720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1"/>
          <p:cNvSpPr/>
          <p:nvPr/>
        </p:nvSpPr>
        <p:spPr>
          <a:xfrm flipV="1">
            <a:off x="6516720" y="3789360"/>
            <a:ext cx="45720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3"/>
          <p:cNvSpPr/>
          <p:nvPr/>
        </p:nvSpPr>
        <p:spPr>
          <a:xfrm flipH="1" flipV="1">
            <a:off x="2556000" y="4869000"/>
            <a:ext cx="1760400" cy="86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4"/>
          <p:cNvSpPr/>
          <p:nvPr/>
        </p:nvSpPr>
        <p:spPr>
          <a:xfrm flipV="1">
            <a:off x="4356000" y="4797000"/>
            <a:ext cx="1656000" cy="90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йбниц Готфрид Вильгель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280" y="2971440"/>
            <a:ext cx="808524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бниц (Leibniz, Leibnitz) Готфрид Вильгельм (21.VI.1646, Лейпциг - 14.XI.1716, Ганновер) - немецкий философ-идеалист, математик, ученый-энциклопедист. Основатель и президент Берлинской Академии На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http://upload.wikimedia.org/wikipedia/ru/thumb/1/1c/Leibniz.jpg/200px-Leibniz.jpg"/>
          <p:cNvPicPr/>
          <p:nvPr/>
        </p:nvPicPr>
        <p:blipFill>
          <a:blip r:embed="rId1"/>
          <a:stretch/>
        </p:blipFill>
        <p:spPr>
          <a:xfrm>
            <a:off x="3443400" y="1197000"/>
            <a:ext cx="18097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1374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ашинные» системы счисления.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ля того, чтобы вывести из ничтожества всё,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достаточно единицы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Г.В. Лейбн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2420640"/>
            <a:ext cx="8569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сты выделили так называемую «машинную» группу систем счисления и разработали способы преобразования чисел этой группы. К «машинной» группе систем счисления относятся: двоичная, восьмеричная, шестнадцатерична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 XX века, века компьютеризации, человечество пользуется двоичной системой ежедневно, так как вся информация, обрабатываемая современными ЭВМ, хранится в них в двоичном виде. Каким же образом осуществляется это хранение? Каждый регистр арифметического устройства ЭВМ, каждая ячейка памяти представляет собой физическую систему, состоящую из некоторого числа однородных элем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9:32:35Z</dcterms:created>
  <dc:creator>АЛЕКСАНДР</dc:creator>
  <dc:description/>
  <dc:language>en-US</dc:language>
  <cp:lastModifiedBy>Таня</cp:lastModifiedBy>
  <dcterms:modified xsi:type="dcterms:W3CDTF">2012-11-09T21:00:03Z</dcterms:modified>
  <cp:revision>10</cp:revision>
  <dc:subject/>
  <dc:title>                               Реферат             «Ей было тысяча сто лет…»                               по теме:         «Двоичная система счисления»</dc:title>
</cp:coreProperties>
</file>