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3868C-A11C-44AF-953F-C370B66BC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39561-5421-4191-A085-E52B75B7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83082-2030-495A-BCA3-043E7FBF3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FF531-4B17-44E2-98BA-6FF6EAEA7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D68D-15FB-4FF9-92C6-49BDDB0EA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5D83-16FD-4CD2-A4D1-C2992FE2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E2A9-EF5E-4C01-A52C-74C869E7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AB2C-EDB6-4C4C-B115-2F632077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67B8-C36C-4DCC-95A2-4E7BE89D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8B54-782B-4431-AB6F-554C019B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645E-30B9-4242-87D8-0DCB4E52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B1BE2-1A01-4F5C-8BF3-A40DB25A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0E65-58A3-4FED-9EBE-CA6B48E6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D4CE-8729-478D-B0AF-423353C0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CC83-B3ED-4FF2-9D49-C23939EF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CEC2-4BD0-4AAA-863A-9158DB9B5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8713-E627-4B9B-901C-F6AC42A9D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F593F-8EDB-438A-AAE7-0C3680DD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C0CB4-C864-4A73-A108-E1A0E527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B1082-D06E-49BA-9DEA-D14D8E3C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E1869-DAA9-4CC7-A34E-9AEC35A8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813E5-052F-436C-AD62-4AE3F3D7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9487C-6135-4241-8111-224BACA8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E6ED5-6AA7-43E9-928E-9D98CEA4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0534-0949-45E9-AF38-BDE41CB47DC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48C0-E7D2-441B-AF36-98B7DBE1F1E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19280" y="1844640"/>
            <a:ext cx="6789600" cy="202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Реферат </a:t>
            </a:r>
            <a:br>
              <a:rPr sz="2500"/>
            </a:b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           «Ей было тысяча сто лет…»</a:t>
            </a:r>
            <a:br>
              <a:rPr sz="2500"/>
            </a:b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                              по теме:</a:t>
            </a:r>
            <a:br>
              <a:rPr sz="2500"/>
            </a:b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        «Двоичная система счисления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38560" y="4842000"/>
            <a:ext cx="23050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ченица 11 класс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олкова Татья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уководитель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оргунова Р.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890640" y="403920"/>
            <a:ext cx="75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ОУ «Дрезненская средняя общеобразовательная школа № 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а двоичной системы счисления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тота совершаемых операц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сть осуществлять автоматическую обработку информации, реализуя только два состояния элементов компьют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достаток двоичной системы счисле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ый рост числа разрядов в записи, представляющей двоичное чис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843408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топленка и штрих-код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атематика представляет искуснейшие изобретения,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способные удовлетворить любознательность,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облегчить ремёсла и уменьшить труд людей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Декарт Р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830268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лючение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сятичная система счисления далеко не сразу заняла то господствующее положение, которое она имеет сейчас. В разные исторические периоды многие народы пользовались системами счисления, отличными от десятич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328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енадцатеричная система счислени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стидесятеричная система счис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ятеричная система счис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адцатеричная система счис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исок литературы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3628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Занимательные материалы по математике. 7 – 8 классы. / Составитель Галаева Е.А. – Волгоград: Издательско-торговый дом «Корифей», 2006. – 80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Системы счисления и их применение. (Серия: «Библиотека «Математическое просвещение»») / Гашков С.Б. – Москва: Издательство Московского центра непрерывного математического образования, 2004. – 52 с., 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й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http: //www. Infhist. 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Раздел информатика, 2001 – 2007. Теле - школа. Интернет – школа «Просвещение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Биографический словарь деятелей в области математики. / Бородин А.И., Бугай А.С. – Киев: «Радянська школа», 197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Математики, механики. / Богомолов А.Н. – Киев: «Наукова думка», 197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Системы счисления. – 5-е издание. / Фомин С.В. - Москва: «Наука». Главная редакция физико-математической литературы, 1987. – 48 с. – (Популярные лекции по математик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Энциклопедический словарь юного математика. / Составитель Савин А.П. – Москва: Педагогика, 1985. – 352 с., 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3534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пасибо за внимание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ННАЯ ДЕВОЧ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628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й был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ысяч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Она 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 первы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 ходил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ртфеле п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ниг носила -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Всё это правда, а не бред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пыл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сят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ог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 шагала по дорог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ней всегда бежал щенок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и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хвостом, зат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ног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 ловила каждый звук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им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сят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шам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ся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горелых рук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фель и поводок держал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ся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ёмно-синих глаз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атривали мир привычн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станет всё совсем обычны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поймёте мой расска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gif035"/>
          <p:cNvPicPr/>
          <p:nvPr/>
        </p:nvPicPr>
        <p:blipFill>
          <a:blip r:embed="rId1"/>
          <a:stretch/>
        </p:blipFill>
        <p:spPr>
          <a:xfrm>
            <a:off x="7524720" y="5799240"/>
            <a:ext cx="1187640" cy="10587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5509080" y="6307920"/>
            <a:ext cx="14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. Стар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2090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дение.</a:t>
            </a:r>
            <a:br>
              <a:rPr sz="2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ы… никогда не стали бы разумными, 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если бы исключили число из человеческой природы.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латон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4920" y="2555640"/>
            <a:ext cx="828036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воичной системе запись 100101 означае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1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исло 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5 = 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е.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k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k-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…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9280" y="691920"/>
            <a:ext cx="8280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едесятичных системах счисления, возможно, выполнять арифметические действия с целыми и дробными числами точно так же, как в привычной десятичной системе. Только для каждой системы счисления – своя таблица сложения и своя таблица умножения. Например, вот эти таблицы в случае двоичной системы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+0=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+1=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+0=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+1=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яем следующие вычисления в двоичной системе счисления без перехода к десятичн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    100101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11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10111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   1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этого нужно перейти к десятичной системе счисления и выполнить действия. И сравнить результ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1700280"/>
            <a:ext cx="8280360" cy="25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ткая история двоичной систем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Число, выраженное десятичным знаком,             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очтёт и немец, и русский, и араб, и янки одинаково.              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енделеев Д.И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8920" y="476280"/>
            <a:ext cx="867564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ига Перемен,  Азбука Морзе, Шрифт Брайля 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фавитные код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озможно, что, если бы люди имели одиннадцать пальцев,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ыла бы принята одиннадцатеричная  система счисления.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Лебег 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4920" y="3429000"/>
            <a:ext cx="806436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евний Кит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рль Барб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и Брай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эмюэль Морз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обнее всего задать код Морзе в виде четырёх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ярусного двоичного дерева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8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      Ч       Щ      З      Ы      Ц     Ь       Б      Й       П      Я      Л       Ю    Ф       Ж       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    __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               Г                К              Д                В              Р                 У                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__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__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__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__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                              Н                                  А                              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__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__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                                                                   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                           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"/>
          <p:cNvSpPr/>
          <p:nvPr/>
        </p:nvSpPr>
        <p:spPr>
          <a:xfrm flipV="1">
            <a:off x="900000" y="2204640"/>
            <a:ext cx="11448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 flipH="1" flipV="1">
            <a:off x="610920" y="2204640"/>
            <a:ext cx="11412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6"/>
          <p:cNvSpPr/>
          <p:nvPr/>
        </p:nvSpPr>
        <p:spPr>
          <a:xfrm flipH="1" flipV="1">
            <a:off x="1618920" y="2204640"/>
            <a:ext cx="11412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7"/>
          <p:cNvSpPr/>
          <p:nvPr/>
        </p:nvSpPr>
        <p:spPr>
          <a:xfrm flipV="1">
            <a:off x="1908000" y="2204640"/>
            <a:ext cx="11448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8"/>
          <p:cNvSpPr/>
          <p:nvPr/>
        </p:nvSpPr>
        <p:spPr>
          <a:xfrm flipH="1" flipV="1">
            <a:off x="7740360" y="2204640"/>
            <a:ext cx="11412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9"/>
          <p:cNvSpPr/>
          <p:nvPr/>
        </p:nvSpPr>
        <p:spPr>
          <a:xfrm flipH="1" flipV="1">
            <a:off x="6659280" y="2204640"/>
            <a:ext cx="11412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0"/>
          <p:cNvSpPr/>
          <p:nvPr/>
        </p:nvSpPr>
        <p:spPr>
          <a:xfrm flipH="1" flipV="1">
            <a:off x="5580000" y="2204640"/>
            <a:ext cx="11448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1"/>
          <p:cNvSpPr/>
          <p:nvPr/>
        </p:nvSpPr>
        <p:spPr>
          <a:xfrm flipH="1" flipV="1">
            <a:off x="4643280" y="2204640"/>
            <a:ext cx="11448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 flipH="1" flipV="1">
            <a:off x="3563640" y="2204640"/>
            <a:ext cx="11412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3"/>
          <p:cNvSpPr/>
          <p:nvPr/>
        </p:nvSpPr>
        <p:spPr>
          <a:xfrm flipH="1" flipV="1">
            <a:off x="2627280" y="2204640"/>
            <a:ext cx="11448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8028000" y="2204640"/>
            <a:ext cx="11412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5"/>
          <p:cNvSpPr/>
          <p:nvPr/>
        </p:nvSpPr>
        <p:spPr>
          <a:xfrm flipV="1">
            <a:off x="6948360" y="2204640"/>
            <a:ext cx="11448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6"/>
          <p:cNvSpPr/>
          <p:nvPr/>
        </p:nvSpPr>
        <p:spPr>
          <a:xfrm flipV="1">
            <a:off x="5867280" y="2204640"/>
            <a:ext cx="11448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7"/>
          <p:cNvSpPr/>
          <p:nvPr/>
        </p:nvSpPr>
        <p:spPr>
          <a:xfrm flipV="1">
            <a:off x="4932360" y="2204640"/>
            <a:ext cx="11448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8"/>
          <p:cNvSpPr/>
          <p:nvPr/>
        </p:nvSpPr>
        <p:spPr>
          <a:xfrm flipV="1">
            <a:off x="3851280" y="2204640"/>
            <a:ext cx="11412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9"/>
          <p:cNvSpPr/>
          <p:nvPr/>
        </p:nvSpPr>
        <p:spPr>
          <a:xfrm flipV="1">
            <a:off x="2916360" y="2204640"/>
            <a:ext cx="11412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0"/>
          <p:cNvSpPr/>
          <p:nvPr/>
        </p:nvSpPr>
        <p:spPr>
          <a:xfrm flipH="1" flipV="1">
            <a:off x="971280" y="2852640"/>
            <a:ext cx="228600" cy="4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1"/>
          <p:cNvSpPr/>
          <p:nvPr/>
        </p:nvSpPr>
        <p:spPr>
          <a:xfrm flipH="1" flipV="1">
            <a:off x="2916000" y="2852640"/>
            <a:ext cx="228600" cy="4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2"/>
          <p:cNvSpPr/>
          <p:nvPr/>
        </p:nvSpPr>
        <p:spPr>
          <a:xfrm flipH="1" flipV="1">
            <a:off x="5003280" y="2852640"/>
            <a:ext cx="228600" cy="4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3"/>
          <p:cNvSpPr/>
          <p:nvPr/>
        </p:nvSpPr>
        <p:spPr>
          <a:xfrm flipH="1" flipV="1">
            <a:off x="6948000" y="2781360"/>
            <a:ext cx="228600" cy="4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4"/>
          <p:cNvSpPr/>
          <p:nvPr/>
        </p:nvSpPr>
        <p:spPr>
          <a:xfrm flipV="1">
            <a:off x="1403280" y="285264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5"/>
          <p:cNvSpPr/>
          <p:nvPr/>
        </p:nvSpPr>
        <p:spPr>
          <a:xfrm flipV="1">
            <a:off x="3348000" y="285264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6"/>
          <p:cNvSpPr/>
          <p:nvPr/>
        </p:nvSpPr>
        <p:spPr>
          <a:xfrm flipV="1">
            <a:off x="5435640" y="285264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7"/>
          <p:cNvSpPr/>
          <p:nvPr/>
        </p:nvSpPr>
        <p:spPr>
          <a:xfrm flipV="1">
            <a:off x="7380360" y="278136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8"/>
          <p:cNvSpPr/>
          <p:nvPr/>
        </p:nvSpPr>
        <p:spPr>
          <a:xfrm flipH="1" flipV="1">
            <a:off x="5651640" y="3789360"/>
            <a:ext cx="457200" cy="59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9"/>
          <p:cNvSpPr/>
          <p:nvPr/>
        </p:nvSpPr>
        <p:spPr>
          <a:xfrm flipH="1" flipV="1">
            <a:off x="1619280" y="3789360"/>
            <a:ext cx="457200" cy="59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0"/>
          <p:cNvSpPr/>
          <p:nvPr/>
        </p:nvSpPr>
        <p:spPr>
          <a:xfrm flipV="1">
            <a:off x="2484360" y="3789360"/>
            <a:ext cx="45720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1"/>
          <p:cNvSpPr/>
          <p:nvPr/>
        </p:nvSpPr>
        <p:spPr>
          <a:xfrm flipV="1">
            <a:off x="6516720" y="3789360"/>
            <a:ext cx="45720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3"/>
          <p:cNvSpPr/>
          <p:nvPr/>
        </p:nvSpPr>
        <p:spPr>
          <a:xfrm flipH="1" flipV="1">
            <a:off x="2556000" y="4869000"/>
            <a:ext cx="1760400" cy="86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4"/>
          <p:cNvSpPr/>
          <p:nvPr/>
        </p:nvSpPr>
        <p:spPr>
          <a:xfrm flipV="1">
            <a:off x="4356000" y="4797000"/>
            <a:ext cx="1656000" cy="90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йбниц Готфрид Вильгельм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9280" y="2971440"/>
            <a:ext cx="8085240" cy="32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йбниц (Leibniz, Leibnitz) Готфрид Вильгельм (21.VI.1646, Лейпциг - 14.XI.1716, Ганновер) - немецкий философ-идеалист, математик, ученый-энциклопедист. Основатель и президент Берлинской Академии Нау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http://upload.wikimedia.org/wikipedia/ru/thumb/1/1c/Leibniz.jpg/200px-Leibniz.jpg"/>
          <p:cNvPicPr/>
          <p:nvPr/>
        </p:nvPicPr>
        <p:blipFill>
          <a:blip r:embed="rId1"/>
          <a:stretch/>
        </p:blipFill>
        <p:spPr>
          <a:xfrm>
            <a:off x="3443400" y="1197000"/>
            <a:ext cx="180972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1374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Машинные» системы счисления.</a:t>
            </a: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ля того, чтобы вывести из ничтожества всё, 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достаточно единицы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Г.В. Лейбни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2420640"/>
            <a:ext cx="85694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циалисты выделили так называемую «машинную» группу систем счисления и разработали способы преобразования чисел этой группы. К «машинной» группе систем счисления относятся: двоичная, восьмеричная, шестнадцатерична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це XX века, века компьютеризации, человечество пользуется двоичной системой ежедневно, так как вся информация, обрабатываемая современными ЭВМ, хранится в них в двоичном виде. Каким же образом осуществляется это хранение? Каждый регистр арифметического устройства ЭВМ, каждая ячейка памяти представляет собой физическую систему, состоящую из некоторого числа однородных элемен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9:32:35Z</dcterms:created>
  <dc:creator>АЛЕКСАНДР</dc:creator>
  <dc:description/>
  <dc:language>en-US</dc:language>
  <cp:lastModifiedBy>Таня</cp:lastModifiedBy>
  <dcterms:modified xsi:type="dcterms:W3CDTF">2012-11-09T21:00:03Z</dcterms:modified>
  <cp:revision>10</cp:revision>
  <dc:subject/>
  <dc:title>                               Реферат             «Ей было тысяча сто лет…»                               по теме:         «Двоичная система счисления»</dc:title>
</cp:coreProperties>
</file>