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BC22-A2A0-4559-B0B2-7807E8F1A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EC21-CA8E-4F57-9830-7A03195FF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0068-A46B-4030-8D77-EFD818AEF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8B3F-9F1F-430F-BE2B-E81452C49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5A3EC3-6159-4757-B8B6-8669328F6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FAB4AA-AF8A-405E-832B-45DC4F90A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73A774-1165-4F40-8BC8-C311EC3DA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ED8630-73CE-4940-BB88-2EEF08DC3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8BE8B6-B33F-472C-BC2B-6EDA540AB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A80BE1-DC2E-4E2D-9E89-8E255F0DD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CC929F-03BF-45FC-B01D-7946CBDA0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23A7-3AC8-4721-A88C-8D7AF4FCA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9C338F-D196-4678-A814-AA6C40D3C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86676E-CBD3-4BAB-BEC9-76AD1B61E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C712BA-C788-43A4-AA51-34138D68B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753348-B742-4C43-AAA7-93445614E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52350F-C34B-416D-B631-507C0D381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96E4-01B8-45D0-B15E-0E29E6954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F927-0684-434F-8317-B594EDE4C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CC27-D08A-486A-BDA4-2E1044E8E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7939-10A2-4E47-8924-46DA50F7E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433E-534B-492A-95AF-200B3DD7E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D776-7451-409A-92C1-7A3BF05E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834C-4C66-42D3-AD23-AFBEF362B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48FA3-DB87-4DD0-9757-1848A7BEBD6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73AC6-C2D4-45C9-B3FF-83444865175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8760" y="57168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3edff"/>
                </a:solidFill>
                <a:latin typeface="Arial"/>
              </a:rPr>
              <a:t>Тема: «Секреты знакомых предметов»</a:t>
            </a:r>
            <a:endParaRPr b="0" lang="en-US" sz="36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643040" y="2428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«Обыкновенное чудо…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F:\фото эксперимент\P2160234.JPG"/>
          <p:cNvPicPr/>
          <p:nvPr/>
        </p:nvPicPr>
        <p:blipFill>
          <a:blip r:embed="rId1"/>
          <a:stretch/>
        </p:blipFill>
        <p:spPr>
          <a:xfrm>
            <a:off x="468360" y="260280"/>
            <a:ext cx="2030400" cy="1522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F:\фото эксперимент\P2160237.JPG"/>
          <p:cNvPicPr/>
          <p:nvPr/>
        </p:nvPicPr>
        <p:blipFill>
          <a:blip r:embed="rId2"/>
          <a:stretch/>
        </p:blipFill>
        <p:spPr>
          <a:xfrm>
            <a:off x="2050920" y="1301760"/>
            <a:ext cx="2008440" cy="1508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"/>
          <p:cNvPicPr/>
          <p:nvPr/>
        </p:nvPicPr>
        <p:blipFill>
          <a:blip r:embed="rId3"/>
          <a:stretch/>
        </p:blipFill>
        <p:spPr>
          <a:xfrm>
            <a:off x="6659640" y="5102280"/>
            <a:ext cx="2154240" cy="14796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"/>
          <p:cNvPicPr/>
          <p:nvPr/>
        </p:nvPicPr>
        <p:blipFill>
          <a:blip r:embed="rId4"/>
          <a:stretch/>
        </p:blipFill>
        <p:spPr>
          <a:xfrm>
            <a:off x="1990800" y="3714840"/>
            <a:ext cx="1873080" cy="1404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"/>
          <p:cNvPicPr/>
          <p:nvPr/>
        </p:nvPicPr>
        <p:blipFill>
          <a:blip r:embed="rId5"/>
          <a:stretch/>
        </p:blipFill>
        <p:spPr>
          <a:xfrm>
            <a:off x="3678120" y="2460600"/>
            <a:ext cx="1997280" cy="1498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"/>
          <p:cNvPicPr/>
          <p:nvPr/>
        </p:nvPicPr>
        <p:blipFill>
          <a:blip r:embed="rId6"/>
          <a:stretch/>
        </p:blipFill>
        <p:spPr>
          <a:xfrm>
            <a:off x="5364000" y="3716280"/>
            <a:ext cx="2089440" cy="15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3edff"/>
                </a:solidFill>
                <a:latin typeface="Arial"/>
              </a:rPr>
              <a:t>Девиз: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 я слышу – я забываю.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 я вижу – я помн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 я делаю – я понима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нфуц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57200" y="34290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 этими предметами связано очень много суеверий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 них говорят: «…Они не лгут, они говорят полуправду…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3" descr="C:\Documents and Settings\sem\Рабочий стол\черный ящик.jpg"/>
          <p:cNvPicPr/>
          <p:nvPr/>
        </p:nvPicPr>
        <p:blipFill>
          <a:blip r:embed="rId1"/>
          <a:stretch/>
        </p:blipFill>
        <p:spPr>
          <a:xfrm>
            <a:off x="2554200" y="596880"/>
            <a:ext cx="340200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2689200" y="549360"/>
            <a:ext cx="2879640" cy="209052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1"/>
          <p:cNvSpPr/>
          <p:nvPr/>
        </p:nvSpPr>
        <p:spPr>
          <a:xfrm>
            <a:off x="2286000" y="3105000"/>
            <a:ext cx="66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 время носить их за пазухой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 кидай их в чужой огоро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b3edff"/>
                </a:solidFill>
                <a:latin typeface="Arial"/>
              </a:rPr>
              <a:t>«Драгоценные камни»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териалы:                                                 морская соль – 1 чайная ложка, пищевой краситель – 1 чайная ложка, клей ПВА - 1 чайная ложка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57200" y="713880"/>
            <a:ext cx="822960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бенок живет, и его образное, эмоциональное мышление развивается независимо от внимания или невнимания родителей. А вот способность к интеллектуальным усилиям, исследовательские умения, логика и смекалка сами по себе не окрепнут. Тут могут помочь или родители, или педагог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Желаем Вам успехов и творческого поиска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5:24:14Z</dcterms:created>
  <dc:creator>sem</dc:creator>
  <dc:description/>
  <dc:language>en-US</dc:language>
  <cp:lastModifiedBy>777</cp:lastModifiedBy>
  <dcterms:modified xsi:type="dcterms:W3CDTF">2012-11-10T12:11:42Z</dcterms:modified>
  <cp:revision>22</cp:revision>
  <dc:subject/>
  <dc:title>Слайд 1</dc:title>
</cp:coreProperties>
</file>