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D42-3372-4744-9BA1-A5ECB764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BDA-1823-41AB-99C0-BC0FC3CF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C02-B348-43FE-A160-F02E732E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D5B-5FB9-43F6-98A0-EFD32D1F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05789-1147-40EE-BBF1-85D3F6EB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20964-B645-4636-837E-62D421F5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D96F6-2790-4314-9DD2-EFF8C91D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E6A27-9837-4EF6-B80F-D017678D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C4DA6-67CC-4A25-A0FE-04322EE8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B342B-90D4-4CDD-98DA-13CFECD8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34643-9F70-421D-B5F3-4F13E695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807-873B-45DD-AE94-3571BCED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E21FD-E19D-4187-B370-5331A8B7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7F61E-CD90-489B-AB1E-CA5E587A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C36BE-09F6-4EAA-9FC7-21CBBB26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A716E-BC4B-4C86-A2FF-8FE11766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A3704-941D-484D-9F47-40EFBBA9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65E-B164-49BD-B826-08327C2B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029-D04C-4DED-9B99-147A10A6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5A6-57E0-4850-91CA-8C1F4E0D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BA1-C848-4DE5-B6CE-23FA0716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871-AE6C-4FF0-90DB-158F6877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CDD-D6C2-4A46-A966-9E268931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764-6BD1-451F-B7A3-774166AD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D457-94AE-4BC2-9BE9-56B4496A09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F2CC-25C0-4758-A135-E0245C0EF5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edff"/>
                </a:solidFill>
                <a:latin typeface="Arial"/>
              </a:rPr>
              <a:t>Тема: «Секреты знакомых предметов»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430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Обыкновенное чудо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F:\фото эксперимент\P2160234.JPG"/>
          <p:cNvPicPr/>
          <p:nvPr/>
        </p:nvPicPr>
        <p:blipFill>
          <a:blip r:embed="rId1"/>
          <a:stretch/>
        </p:blipFill>
        <p:spPr>
          <a:xfrm>
            <a:off x="468360" y="260280"/>
            <a:ext cx="2030400" cy="1522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F:\фото эксперимент\P2160237.JPG"/>
          <p:cNvPicPr/>
          <p:nvPr/>
        </p:nvPicPr>
        <p:blipFill>
          <a:blip r:embed="rId2"/>
          <a:stretch/>
        </p:blipFill>
        <p:spPr>
          <a:xfrm>
            <a:off x="2050920" y="1301760"/>
            <a:ext cx="2008440" cy="1508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6659640" y="5102280"/>
            <a:ext cx="2154240" cy="1479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1990800" y="3714840"/>
            <a:ext cx="1873080" cy="14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5"/>
          <a:stretch/>
        </p:blipFill>
        <p:spPr>
          <a:xfrm>
            <a:off x="3678120" y="2460600"/>
            <a:ext cx="1997280" cy="1498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6"/>
          <a:stretch/>
        </p:blipFill>
        <p:spPr>
          <a:xfrm>
            <a:off x="5364000" y="3716280"/>
            <a:ext cx="2089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3edff"/>
                </a:solidFill>
                <a:latin typeface="Arial"/>
              </a:rPr>
              <a:t>Девиз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я слышу – я забываю.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я вижу – я помн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я делаю – я понима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фу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3429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этими предметами связано очень много суевери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них говорят: «…Они не лгут, они говорят полуправду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C:\Documents and Settings\sem\Рабочий стол\черный ящик.jpg"/>
          <p:cNvPicPr/>
          <p:nvPr/>
        </p:nvPicPr>
        <p:blipFill>
          <a:blip r:embed="rId1"/>
          <a:stretch/>
        </p:blipFill>
        <p:spPr>
          <a:xfrm>
            <a:off x="2554200" y="596880"/>
            <a:ext cx="34020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689200" y="549360"/>
            <a:ext cx="2879640" cy="20905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"/>
          <p:cNvSpPr/>
          <p:nvPr/>
        </p:nvSpPr>
        <p:spPr>
          <a:xfrm>
            <a:off x="2286000" y="3105000"/>
            <a:ext cx="66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время носить их за пазухой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кидай их в чужой ог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3edff"/>
                </a:solidFill>
                <a:latin typeface="Arial"/>
              </a:rPr>
              <a:t>«Драгоценные камни»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ы:                                                 морская соль – 1 чайная ложка, пищевой краситель – 1 чайная ложка, клей ПВА - 1 чайная ложка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71388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 живет, и его образное, эмоциональное мышление развивается независимо от внимания или невнимания родителей. А вот способность к интеллектуальным усилиям, исследовательские умения, логика и смекалка сами по себе не окрепнут. Тут могут помочь или родители, или педаго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ем Вам успехов и творческого поиск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24:14Z</dcterms:created>
  <dc:creator>sem</dc:creator>
  <dc:description/>
  <dc:language>en-US</dc:language>
  <cp:lastModifiedBy>777</cp:lastModifiedBy>
  <dcterms:modified xsi:type="dcterms:W3CDTF">2012-11-10T12:11:42Z</dcterms:modified>
  <cp:revision>22</cp:revision>
  <dc:subject/>
  <dc:title>Слайд 1</dc:title>
</cp:coreProperties>
</file>