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1CD-0909-48E4-899A-910B5952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9DA-81BE-4340-B18C-5451552A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16B-6CD6-4464-BEA6-B0D7954F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E75-F8E5-4C34-870B-89232612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892-1929-442A-B224-B20FB133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C59-6C47-48A2-B442-596FB144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349-5E1D-4FA2-BE1F-C27E38F7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24F6-961D-4B33-A926-C72DA8A2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8708-C8F1-413A-B083-246164E5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4328-A15F-4B82-B862-50447ADF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F395-BEB2-4973-BB69-459C64A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8AE-0FDF-4019-9F34-AC6DC689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6199-95DA-4377-8267-1AF880D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5379-CCF3-4011-BD27-2B5EC65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797C-BF36-488B-97A9-F3AECAD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C31A-5661-478C-8944-9B0D9442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F6DB-1C5C-450F-9BF5-21CA1B4A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164-79FA-4629-9E9E-6903FDF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806-44A4-462B-BD99-9F2869F8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CFD-83E7-4524-8B37-9A77AAD8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7D1-BDDD-4AC7-9ACE-FBE949C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44C-3CE3-4AD6-93CC-005029C1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DCC-445E-4E5C-8E4E-977CF95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C34-B6FA-4526-9712-EC486478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4365-7399-48E3-A95F-4D3B9D973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065A-6AF9-42E8-BEF8-D7ACAA104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itaphane.tatarstan.ru/tinch/biogr.htm" TargetMode="External"/><Relationship Id="rId2" Type="http://schemas.openxmlformats.org/officeDocument/2006/relationships/hyperlink" Target="http://rus.tinchurinteatr.ru/news/?id=123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ople.su/29287" TargetMode="External"/><Relationship Id="rId2" Type="http://schemas.openxmlformats.org/officeDocument/2006/relationships/hyperlink" Target="http://www.people.su/47290" TargetMode="External"/><Relationship Id="rId3" Type="http://schemas.openxmlformats.org/officeDocument/2006/relationships/hyperlink" Target="http://www.people.su/47290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 u="sng">
                <a:solidFill>
                  <a:srgbClr val="ffffb7"/>
                </a:solidFill>
                <a:uFillTx/>
                <a:latin typeface="Arial Black"/>
              </a:rPr>
              <a:t>Туган көнең </a:t>
            </a:r>
            <a:br>
              <a:rPr sz="5400"/>
            </a:br>
            <a:r>
              <a:rPr b="1" lang="tt-RU" sz="5400" spc="-1" strike="noStrike" u="sng">
                <a:solidFill>
                  <a:srgbClr val="ffffb7"/>
                </a:solidFill>
                <a:uFillTx/>
                <a:latin typeface="Arial Black"/>
              </a:rPr>
              <a:t>белән, </a:t>
            </a:r>
            <a:br>
              <a:rPr sz="5400"/>
            </a:br>
            <a:r>
              <a:rPr b="1" lang="tt-RU" sz="5400" spc="-1" strike="noStrike" u="sng">
                <a:solidFill>
                  <a:srgbClr val="ffffb7"/>
                </a:solidFill>
                <a:uFillTx/>
                <a:latin typeface="Arial Black"/>
              </a:rPr>
              <a:t>Кәрим Тинчурин 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105160"/>
            <a:ext cx="6781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рисова Рузалия Султангали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татар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гимназии №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Интересные ресурс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http://slovari.yandex.ru/%D0%BA%D0%B0%D1%80%D0%B8%D0%BC%20%D1%82%D0%B8%D0%BD%D1%87%D1%83%D1%80%D0%B8%D0%BD/%D0%91%D0%A1%D0%AD/%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D0%A2%D0%B8%D0%BD%D1%87%D1%83%D1%80%D0%B8%D0%BD%20%D0%9A%D0%B0%D1%80%D0%B8%D0%BC%20%D0%93%D0%B0%D0%BB%D0%B8%D0%B5%D0%B2%D0%B8%D1%87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kitaphane.tatarstan.ru/tinch/biogr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rus.tinchurinteatr.ru/news/?id=1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http://kitaphane.tatarstan.ru/tinch/pixf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29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Кәрим Тинчурин күпкырлы талант иясе булуы белән замандашларыннан аерылып тора. Ул – актер, ре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ж</a:t>
            </a: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иссер, драмматург буларак татар театрын ныгыткан сәнгат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ь</a:t>
            </a: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кәр, әмма шулар өстенә Кәрим Тинчурин проза остасы да, ул “Мәрҗәннәр” романы белән әдәбиятыбызның олы класигы булып тарихта калган зат. </a:t>
            </a:r>
            <a:br>
              <a:rPr sz="1800"/>
            </a:br>
            <a:r>
              <a:rPr b="1" lang="tt-RU" sz="1800" spc="-1" strike="noStrike">
                <a:solidFill>
                  <a:srgbClr val="ffffb7"/>
                </a:solidFill>
                <a:latin typeface="Arial Black"/>
              </a:rPr>
              <a:t>Минтимер Шәймиев.</a:t>
            </a:r>
            <a:r>
              <a:rPr b="1" lang="tt-RU" sz="1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2" descr="Scan10160"/>
          <p:cNvPicPr/>
          <p:nvPr/>
        </p:nvPicPr>
        <p:blipFill>
          <a:blip r:embed="rId1"/>
          <a:stretch/>
        </p:blipFill>
        <p:spPr>
          <a:xfrm>
            <a:off x="4343400" y="1905120"/>
            <a:ext cx="3173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РОИЗВЕД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Ил» («Рой») — 192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Хәләл кәсеп» («Честный труд») — 191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Кандыр буе» («На Кандре») — 193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Сүнгән йолдызлар» («Потухшие звёзды») —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Беренче чәчәкләр» («Первые цветы») — 191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Ач гашыйк» («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Голод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влюблённый») — 19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Җилкуарлар» («Ветрогоны») —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Шомлы адым» («Роковой шаг») — 19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Соңгы сәлам» («Последний привет») —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Назлы кияү» («Привередливый жених») — 19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Алар өчәү иде» («Их было трое») — 193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Зәңгәр шәл» («Голубая шаль») — 192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Каз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сөлгесе» («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Каз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е полотенце») — 192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ьеса «Моназара» («Диспут») — 190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Иң кадерле кешеләр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2" descr="74"/>
          <p:cNvPicPr/>
          <p:nvPr/>
        </p:nvPicPr>
        <p:blipFill>
          <a:blip r:embed="rId1"/>
          <a:stretch/>
        </p:blipFill>
        <p:spPr>
          <a:xfrm>
            <a:off x="609480" y="1295280"/>
            <a:ext cx="3505320" cy="533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52"/>
          <p:cNvPicPr/>
          <p:nvPr/>
        </p:nvPicPr>
        <p:blipFill>
          <a:blip r:embed="rId2"/>
          <a:stretch/>
        </p:blipFill>
        <p:spPr>
          <a:xfrm>
            <a:off x="5257800" y="1295280"/>
            <a:ext cx="3529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Кәрим Тинчурин исемендәге татар театр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7 из 102"/>
          <p:cNvPicPr/>
          <p:nvPr/>
        </p:nvPicPr>
        <p:blipFill>
          <a:blip r:embed="rId1"/>
          <a:stretch/>
        </p:blipFill>
        <p:spPr>
          <a:xfrm>
            <a:off x="838080" y="190512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Зәңгәр шәл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Картинка 12 из 104"/>
          <p:cNvPicPr/>
          <p:nvPr/>
        </p:nvPicPr>
        <p:blipFill>
          <a:blip r:embed="rId1"/>
          <a:stretch/>
        </p:blipFill>
        <p:spPr>
          <a:xfrm>
            <a:off x="152280" y="243828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105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Картинка 23 из 104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...Исемеңне сәхнә пәрдәсен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Чигеп куям ,Кәрим Тинчурин!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Хәтерләтеп торсын Театрны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Шомлы чынбарлыкка тиң чорын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Лена Шагый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2-11-10T07:53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