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ACC-3BA9-41AC-B6BA-8BD4C146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AB9-D14E-4C6E-99CC-96FA772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E25-D385-49B1-849D-3F853B4E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5CC-E67B-46A8-B311-C8DD1E04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52AB-342E-43CF-B68E-E5C37D78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F324-EF2C-47D7-914D-5D9DBBB2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F02-432B-4DA5-A922-6538BECA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81BD-36E2-4FBB-A6A4-BEDB2C37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A07-742B-4326-8123-9A9CC7AB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BC11-A855-426A-B1A7-5F639898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FF63-3BCC-4A77-9742-E8A9EA5A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542-2C3C-456B-94C0-A92A0D64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6186-F853-4C06-8B83-0AB4549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3E1C-B9A7-45AE-8BA8-556EE45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3DC0-FF2C-443E-A9AC-13E815D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FA37-4B9A-48A0-A145-5FF58FB3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AFA2-A7A1-44A2-9975-A17E1ED9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C74-A40E-4AC1-A463-929A1D8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E3E-CC52-4736-8CCE-C85DB86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0C8-2C30-4A9D-A16E-AE3A8A3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9DD-BCCF-47B6-9A9A-4E4B57BE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EA8-54D2-468B-ABDD-CCD99DF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562-3F92-4B12-89BB-B396AAE8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51C-A4DA-417F-A4BD-BD05C50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A787-5446-4535-82F3-ED57E698F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FF5-27F8-4FB7-8B97-3A75DCD32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itaphane.tatarstan.ru/tinch/biogr.htm" TargetMode="External"/><Relationship Id="rId2" Type="http://schemas.openxmlformats.org/officeDocument/2006/relationships/hyperlink" Target="http://rus.tinchurinteatr.ru/news/?id=123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ople.su/29287" TargetMode="External"/><Relationship Id="rId2" Type="http://schemas.openxmlformats.org/officeDocument/2006/relationships/hyperlink" Target="http://www.people.su/47290" TargetMode="External"/><Relationship Id="rId3" Type="http://schemas.openxmlformats.org/officeDocument/2006/relationships/hyperlink" Target="http://www.people.su/47290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 u="sng">
                <a:solidFill>
                  <a:srgbClr val="ffffb7"/>
                </a:solidFill>
                <a:uFillTx/>
                <a:latin typeface="Arial Black"/>
              </a:rPr>
              <a:t>Туган көнең </a:t>
            </a:r>
            <a:br>
              <a:rPr sz="5400"/>
            </a:br>
            <a:r>
              <a:rPr b="1" lang="tt-RU" sz="5400" spc="-1" strike="noStrike" u="sng">
                <a:solidFill>
                  <a:srgbClr val="ffffb7"/>
                </a:solidFill>
                <a:uFillTx/>
                <a:latin typeface="Arial Black"/>
              </a:rPr>
              <a:t>белән, </a:t>
            </a:r>
            <a:br>
              <a:rPr sz="5400"/>
            </a:br>
            <a:r>
              <a:rPr b="1" lang="tt-RU" sz="5400" spc="-1" strike="noStrike" u="sng">
                <a:solidFill>
                  <a:srgbClr val="ffffb7"/>
                </a:solidFill>
                <a:uFillTx/>
                <a:latin typeface="Arial Black"/>
              </a:rPr>
              <a:t>Кәрим Тинчурин 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105160"/>
            <a:ext cx="6781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рисова Рузалия Султангали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татар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гимназии №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нтересные ресурс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http://slovari.yandex.ru/%D0%BA%D0%B0%D1%80%D0%B8%D0%BC%20%D1%82%D0%B8%D0%BD%D1%87%D1%83%D1%80%D0%B8%D0%BD/%D0%91%D0%A1%D0%AD/%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D0%A2%D0%B8%D0%BD%D1%87%D1%83%D1%80%D0%B8%D0%BD%20%D0%9A%D0%B0%D1%80%D0%B8%D0%BC%20%D0%93%D0%B0%D0%BB%D0%B8%D0%B5%D0%B2%D0%B8%D1%87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kitaphane.tatarstan.ru/tinch/biogr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rus.tinchurinteatr.ru/news/?id=1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http://kitaphane.tatarstan.ru/tinch/pixf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29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Кәрим Тинчурин күпкырлы талант иясе булуы белән замандашларыннан аерылып тора. Ул – актер, ре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ж</a:t>
            </a: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иссер, драмматург буларак татар театрын ныгыткан сәнгат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ь</a:t>
            </a: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кәр, әмма шулар өстенә Кәрим Тинчурин проза остасы да, ул “Мәрҗәннәр” романы белән әдәбиятыбызның олы класигы булып тарихта калган зат. </a:t>
            </a:r>
            <a:br>
              <a:rPr sz="1800"/>
            </a:b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Минтимер Шәймиев.</a:t>
            </a:r>
            <a:r>
              <a:rPr b="1" lang="tt-RU" sz="1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2" descr="Scan10160"/>
          <p:cNvPicPr/>
          <p:nvPr/>
        </p:nvPicPr>
        <p:blipFill>
          <a:blip r:embed="rId1"/>
          <a:stretch/>
        </p:blipFill>
        <p:spPr>
          <a:xfrm>
            <a:off x="4343400" y="1905120"/>
            <a:ext cx="3173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РОИЗВЕД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Ил» («Рой») — 192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Хәләл кәсеп» («Честный труд») — 191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Кандыр буе» («На Кандре») — 193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Сүнгән йолдызлар» («Потухшие звёзды») —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Беренче чәчәкләр» («Первые цветы») — 191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Ач гашыйк» («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Голод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влюблённый») — 19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Җилкуарлар» («Ветрогоны») —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Шомлы адым» («Роковой шаг») — 19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Соңгы сәлам» («Последний привет») —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Назлы кияү» («Привередливый жених») — 19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Алар өчәү иде» («Их было трое») — 193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Зәңгәр шәл» («Голубая шаль») — 192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Каз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сөлгесе» («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Каз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е полотенце») — 192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Моназара» («Диспут») — 190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Иң кадерле кешеләр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2" descr="74"/>
          <p:cNvPicPr/>
          <p:nvPr/>
        </p:nvPicPr>
        <p:blipFill>
          <a:blip r:embed="rId1"/>
          <a:stretch/>
        </p:blipFill>
        <p:spPr>
          <a:xfrm>
            <a:off x="609480" y="1295280"/>
            <a:ext cx="3505320" cy="533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52"/>
          <p:cNvPicPr/>
          <p:nvPr/>
        </p:nvPicPr>
        <p:blipFill>
          <a:blip r:embed="rId2"/>
          <a:stretch/>
        </p:blipFill>
        <p:spPr>
          <a:xfrm>
            <a:off x="5257800" y="1295280"/>
            <a:ext cx="3529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Кәрим Тинчурин исемендәге татар театр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7 из 102"/>
          <p:cNvPicPr/>
          <p:nvPr/>
        </p:nvPicPr>
        <p:blipFill>
          <a:blip r:embed="rId1"/>
          <a:stretch/>
        </p:blipFill>
        <p:spPr>
          <a:xfrm>
            <a:off x="838080" y="190512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Зәңгәр шәл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Картинка 12 из 104"/>
          <p:cNvPicPr/>
          <p:nvPr/>
        </p:nvPicPr>
        <p:blipFill>
          <a:blip r:embed="rId1"/>
          <a:stretch/>
        </p:blipFill>
        <p:spPr>
          <a:xfrm>
            <a:off x="152280" y="243828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105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Картинка 23 из 104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...Исемеңне сәхнә пәрдәсен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Чигеп куям ,Кәрим Тинчурин!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Хәтерләтеп торсын Театрны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Шомлы чынбарлыкка тиң чорын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Лена Шагый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2-11-10T07:53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