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FE9-3EEA-4D95-96A2-877D043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9B4-D591-4363-AC23-CDCE181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69F-AD33-4020-8B67-B396B722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8A8-B333-49CB-B915-4C42C999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549-D997-4135-BC65-C211C841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FC2-C037-4559-A972-BB652CB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C3A-651D-4A39-9977-797B7DD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F76-8568-4DFC-BDD1-7A344D56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C94-9F1E-418B-BB77-2F57AB2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D1E-9CAE-4151-860E-0C62EE0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8CF-FF8F-4867-815C-FA2E9B5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B21-C9DF-4B4B-BF11-F4D2061E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6DD-5A67-410A-90A1-5EB3925216C0}" type="slidenum">
              <a:rPr b="0" lang="ru-RU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0628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566e"/>
                </a:solidFill>
                <a:latin typeface="Chiller"/>
              </a:rPr>
              <a:t>ВНЕУРОЧНАЯ ДЕЯТЕЛЬНОСТЬ ШКОЛЬНИКОВ</a:t>
            </a:r>
            <a:endParaRPr b="0" lang="en-US" sz="4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02520" y="5230800"/>
            <a:ext cx="239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-70560"/>
            <a:ext cx="822636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476280"/>
            <a:ext cx="82263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Для организации внеурочной деятельности возможно привлечение сотрудников ОУ среднего и старшего звена и доп. образования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может  проводиться как с разным количеством учащихся: от всех учеников начального звена до подгруппы в количестве до 12 человек. Наполняемость групп зависит от формы организации и состава участников внеурочной деятельности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рганизация внеурочной деятельности проводится при наличии образовательных потребностей, зафиксированных в Договоре ОУ с родителями (законными представителями) обучающихся и в Приложении к нему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, наряду с другими, должна отражать целостность и единство ООП ОУ, гармоничное сочетание и взаимосвязь ее компонентов, являясь неотъемлемой ее частью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Программа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3300"/>
                </a:solidFill>
                <a:latin typeface="Tahoma"/>
              </a:rPr>
              <a:t>должна быть направлена на реализацию различных направлений развития и воспитания младших школьников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5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79240"/>
            <a:ext cx="8147160" cy="1409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Направления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2421000"/>
            <a:ext cx="8148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спортивно-оздоровительного,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художественно-эстетическ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научно-познавательн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военно-патриотического,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общественно полезная деятельность.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91520" cy="61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a566e"/>
                </a:solidFill>
                <a:latin typeface="Tahoma"/>
              </a:rPr>
              <a:t>Формы внеурочной деятельности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26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экскурсии, кружки, секции, студии, театры, мастерские, конференции, диспуты, круглые столы, школьные научные общества, олимпиады, соревнования, поисковые и научные исследования, общественно полезные практики.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075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равнительная характеристика урочных и внеурочных форм организации деятельности учащихся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араметры сравнения: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оответствие программ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бязательность посещения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пределенность во времени и пространств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остав участников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Учет при расчете максимальной учебной нагрузк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Финансирование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меры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86800" y="-2992320"/>
            <a:ext cx="457200" cy="68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476280"/>
          <a:ext cx="8856720" cy="60483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331164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ответствие программ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оответствуют ООП, раздел 5 Программы отдельных учебных предметов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оответствуют ООП, раздел 3 Учебный план НОО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Обязательность посещения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бязательны для посещения всеми учащими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акультативны, при наличии соответствующих образовательных потребностей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Определенность во времени и пространств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Жестко определены во времени и пространстве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роизвольны по времени и месту проведени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став участников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писочный состав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Вариативный состав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ет при расчете максимальной учебной нагрузки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Учитывают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е учитываютс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инансирование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ОП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ОП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566e"/>
                </a:solidFill>
                <a:latin typeface="Tahoma"/>
              </a:rPr>
              <a:t>Цель инновационных процессов</a:t>
            </a:r>
            <a:r>
              <a:rPr b="1" lang="ru-RU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a566e"/>
                </a:solidFill>
                <a:latin typeface="Tahoma"/>
              </a:rPr>
              <a:t>   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заключается не только в повышении качества образования, но и в </a:t>
            </a: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креплении здоровья учащихся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 и в </a:t>
            </a: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создании психологического комфорта</a:t>
            </a: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 участникам образовательного процесса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644400"/>
            <a:ext cx="79833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I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Требования к структуре …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9. Требования к разделам основной образовательной программы начального общего образования: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9.3. Учебный план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Внеурочная деятельность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организуется по направлениям развития личности (спортивно-оздоровительное, духовно-нравственное, социальное, общеинтеллектуальное, общекультурное) в таких формах, как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9520" y="64404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I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Требования к структуре …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ahoma"/>
              </a:rPr>
              <a:t>Внеурочная деятельность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 … 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в таких формах, как экскурсии, кружки, секции, круглые столы, конференции, диспуты, школьные научные общества, олимпиады, соревнования, поисковые и научные исследования, общественно полезные практики и т.д.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Время, отводимое на внеурочную деятельность, составляет </a:t>
            </a: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до 1350 часов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1504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В чем новизна гигиенических требований?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Требования к организации ежедневной внеурочной деятельности учащихс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85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Включены требования к новому виду школ - школам полного дн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492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МИНИСТЕРСТВО ОБРАЗОВАНИЯ И НАУКИ</a:t>
            </a:r>
            <a:br>
              <a:rPr sz="1900"/>
            </a:b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РОССИЙСКОЙ ФЕДЕРАЦИИ</a:t>
            </a:r>
            <a:br>
              <a:rPr sz="1900"/>
            </a:b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(МИНОБРНАУКИ РОССИИ)</a:t>
            </a:r>
            <a:br>
              <a:rPr sz="1900"/>
            </a:br>
            <a:r>
              <a:rPr b="1" lang="ru-RU" sz="1900" spc="-1" strike="noStrike">
                <a:solidFill>
                  <a:srgbClr val="003300"/>
                </a:solidFill>
                <a:latin typeface="Tahoma"/>
              </a:rPr>
              <a:t>П Р И К А З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700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«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26 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»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ноября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a566e"/>
                </a:solidFill>
                <a:latin typeface="Tahoma"/>
              </a:rPr>
              <a:t>20</a:t>
            </a:r>
            <a:r>
              <a:rPr b="1" lang="ru-RU" sz="2000" spc="-1" strike="noStrike">
                <a:solidFill>
                  <a:srgbClr val="3a566e"/>
                </a:solidFill>
                <a:latin typeface="Tahoma"/>
              </a:rPr>
              <a:t>10 г.             Москва                           </a:t>
            </a:r>
            <a:r>
              <a:rPr b="1" lang="ru-RU" sz="2000" spc="-1" strike="noStrike" u="sng">
                <a:solidFill>
                  <a:srgbClr val="3a566e"/>
                </a:solidFill>
                <a:uFillTx/>
                <a:latin typeface="Tahoma"/>
              </a:rPr>
              <a:t> № 1241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которые вносятся в федеральный государственный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бразовательный стандарт начального общего образования,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утверждённый приказом Министерства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бразования и науки Российской Федерации 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от 6 октября 2009 г. № 373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566e"/>
                </a:solidFill>
                <a:latin typeface="Tahoma"/>
              </a:rPr>
              <a:t>Министр                                                   А. А. Фурсенко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1000" y="984240"/>
            <a:ext cx="64483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Внеурочная деятельность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744560"/>
            <a:ext cx="8686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1. Занятия по выбору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2. Форма занятий должна   отличаться от урочной (</a:t>
            </a:r>
            <a:r>
              <a:rPr b="1" lang="ru-RU" sz="2600" spc="-1" strike="noStrike">
                <a:solidFill>
                  <a:srgbClr val="003300"/>
                </a:solidFill>
                <a:latin typeface="Tahoma"/>
              </a:rPr>
              <a:t>кружки секции, олимпиады, экскурсии, проектная деятельность и др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.)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3. Баланс между занятиями 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двигательного и статического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2600" spc="-1" strike="noStrike">
                <a:solidFill>
                  <a:srgbClr val="003300"/>
                </a:solidFill>
                <a:latin typeface="Tahoma"/>
              </a:rPr>
              <a:t>характера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Примерный учебный план образовательного учреждения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0920" y="1628640"/>
          <a:ext cx="8497800" cy="4969080"/>
        </p:xfrm>
        <a:graphic>
          <a:graphicData uri="http://schemas.openxmlformats.org/drawingml/2006/table">
            <a:tbl>
              <a:tblPr/>
              <a:tblGrid>
                <a:gridCol w="2160360"/>
                <a:gridCol w="809640"/>
                <a:gridCol w="1382760"/>
                <a:gridCol w="1381320"/>
                <a:gridCol w="1382760"/>
                <a:gridCol w="1380960"/>
              </a:tblGrid>
              <a:tr h="35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ебный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едмет                     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Количество часов в неделю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II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IV</a:t>
                      </a:r>
                      <a:endParaRPr b="0" lang="en-US" sz="26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неурочная деятельность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портивные кружки, секции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Растим патриотов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едметные кружки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Музыкальные кружки, театральная студия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8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Социальная работа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Проектная деятельность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сего к финансированию</a:t>
                      </a:r>
                      <a:endParaRPr b="0" lang="en-US" sz="1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0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34,5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132,5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 flipV="1">
            <a:off x="250920" y="1628640"/>
            <a:ext cx="2160360" cy="93672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ВНЕУРОЧНАЯ ДЕЯТЕЛЬНОСТЬ</a:t>
            </a:r>
            <a:br>
              <a:rPr sz="1900"/>
            </a:b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28760" y="765000"/>
          <a:ext cx="8229600" cy="6021720"/>
        </p:xfrm>
        <a:graphic>
          <a:graphicData uri="http://schemas.openxmlformats.org/drawingml/2006/table">
            <a:tbl>
              <a:tblPr/>
              <a:tblGrid>
                <a:gridCol w="3927240"/>
                <a:gridCol w="43023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f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bf73"/>
                    </a:solidFill>
                  </a:tcPr>
                </a:tc>
              </a:tr>
              <a:tr h="51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портивно -оздоровительное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1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уристско-краеведческая деятельность.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Arial"/>
              </a:rPr>
              <a:t>ВОСПИТАНИЕ - это не специальные мероприятия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300040"/>
            <a:ext cx="821844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В</a:t>
            </a:r>
            <a:r>
              <a:rPr b="0" lang="ru-RU" sz="3000" spc="-1" strike="noStrike">
                <a:solidFill>
                  <a:srgbClr val="1304a4"/>
                </a:solidFill>
                <a:latin typeface="Arial"/>
              </a:rPr>
              <a:t>оспитание</a:t>
            </a: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 в школе должно идти только через </a:t>
            </a:r>
            <a:r>
              <a:rPr b="1" lang="ru-RU" sz="3000" spc="-1" strike="noStrike">
                <a:solidFill>
                  <a:srgbClr val="1304a4"/>
                </a:solidFill>
                <a:latin typeface="Tahoma"/>
              </a:rPr>
              <a:t>совместную деятельность 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304a4"/>
                </a:solidFill>
                <a:latin typeface="Tahoma"/>
              </a:rPr>
              <a:t>взрослых и детей, детей друг с другом,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304a4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1304a4"/>
                </a:solidFill>
                <a:latin typeface="Tahoma"/>
              </a:rPr>
              <a:t> которой единственно возможно присвоение (а не просто узнавание) детьми ценностей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РЕЗУЛЬТАТ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- это то, что стало непосредственным итогом участия школьника в деятельности (фактический, воспитательный…)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ВОСПИТАТЕЛЬНЫЙ РЕЗУЛЬТАТ</a:t>
            </a:r>
            <a:r>
              <a:rPr b="1" lang="ru-RU" sz="33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ВНЕУРОЧНОЙ ДЕЯТЕЛЬНОСТИ – непосредственное духовно-нравственное приобретение ребенка благодаря его участию в том или ином виде деятельности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ЭФФЕКТ - 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последствие результата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ВОСПИТАТЕЛЬНЫЙ ЭФФЕКТ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 ВНЕУРОЧНОЙ ДЕЯТЕЛЬНОСТИ – влияние того или иного духовно-нравственного приобретения на процесс развития личности ребенка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a566e"/>
                </a:solidFill>
                <a:latin typeface="Tahoma"/>
              </a:rPr>
              <a:t>РЕЗУЛЬТАТ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  </a:t>
            </a: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это то, что стало непосредственным итогом участия школьника в деятельности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a566e"/>
                </a:solidFill>
                <a:latin typeface="Tahoma"/>
              </a:rPr>
              <a:t>ЭФФЕКТ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последствие результат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9768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5329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Первый уровень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61824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i="1" lang="ru-RU" sz="2900" spc="-1" strike="noStrike">
                <a:solidFill>
                  <a:srgbClr val="003300"/>
                </a:solidFill>
                <a:latin typeface="Times New Roman"/>
              </a:rPr>
              <a:t>Второй уровень </a:t>
            </a:r>
            <a:r>
              <a:rPr b="0" lang="ru-RU" sz="2900" spc="-1" strike="noStrike">
                <a:solidFill>
                  <a:srgbClr val="0033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29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5600" y="861480"/>
            <a:ext cx="66164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Уровни воспитательных результатов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360" y="2342880"/>
            <a:ext cx="395280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Третий уровень 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16360" y="2201760"/>
            <a:ext cx="3816360" cy="37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280" y="333360"/>
            <a:ext cx="81723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ровни воспитательных результатов</a:t>
            </a:r>
            <a:endParaRPr b="0" lang="en-US" sz="3600" spc="-1" strike="noStrike">
              <a:solidFill>
                <a:srgbClr val="3a566e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2637000"/>
            <a:ext cx="8207280" cy="3887640"/>
            <a:chOff x="468360" y="2637000"/>
            <a:chExt cx="8207280" cy="3887640"/>
          </a:xfrm>
        </p:grpSpPr>
        <p:pic>
          <p:nvPicPr>
            <p:cNvPr id="106" name="Rectangle 3" descr=""/>
            <p:cNvPicPr/>
            <p:nvPr/>
          </p:nvPicPr>
          <p:blipFill>
            <a:blip r:embed="rId1"/>
            <a:stretch/>
          </p:blipFill>
          <p:spPr>
            <a:xfrm>
              <a:off x="468360" y="2637000"/>
              <a:ext cx="82072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468360" y="2637000"/>
              <a:ext cx="820728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a566e"/>
                </a:solidFill>
                <a:latin typeface="Tahom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56000" y="3357720"/>
            <a:ext cx="31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уровень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724280"/>
            <a:ext cx="461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1-й уровень</a:t>
            </a: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407664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ahoma"/>
              </a:rPr>
              <a:t>2-й уровень</a:t>
            </a:r>
            <a:endParaRPr b="0" lang="en-US" sz="3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047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В начальной школе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приоритет 1 уровня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190476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a566e"/>
                </a:solidFill>
                <a:latin typeface="Tahoma"/>
              </a:rPr>
              <a:t>Опасно форсировать процесс воспитания!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2492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01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00"/>
                </a:solidFill>
                <a:latin typeface="Tahoma"/>
              </a:rPr>
              <a:t>III.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Требования к структуре основной образовательной программы начального общего образования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Пункт 16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изложить в следующей редакции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ОП НОО реализуется образовательным учреждением через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учебный план и внеурочную деятельность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13924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628640"/>
          <a:ext cx="8208720" cy="4680000"/>
        </p:xfrm>
        <a:graphic>
          <a:graphicData uri="http://schemas.openxmlformats.org/drawingml/2006/table">
            <a:tbl>
              <a:tblPr/>
              <a:tblGrid>
                <a:gridCol w="2050920"/>
                <a:gridCol w="2052720"/>
                <a:gridCol w="2052720"/>
                <a:gridCol w="2052360"/>
              </a:tblGrid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8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Игровая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олев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0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лов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23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333360"/>
            <a:ext cx="82170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268280"/>
          <a:ext cx="8713800" cy="4861080"/>
        </p:xfrm>
        <a:graphic>
          <a:graphicData uri="http://schemas.openxmlformats.org/drawingml/2006/table">
            <a:tbl>
              <a:tblPr/>
              <a:tblGrid>
                <a:gridCol w="2176200"/>
                <a:gridCol w="2178360"/>
                <a:gridCol w="2179440"/>
                <a:gridCol w="2179800"/>
              </a:tblGrid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547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706320"/>
            <a:ext cx="79264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341360"/>
          <a:ext cx="8353440" cy="483084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0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200" y="635040"/>
            <a:ext cx="79916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1413000"/>
          <a:ext cx="8282160" cy="478476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70000"/>
                <a:gridCol w="2071800"/>
              </a:tblGrid>
              <a:tr h="203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130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4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6560" y="615960"/>
            <a:ext cx="8079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1413000"/>
          <a:ext cx="8569080" cy="522576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3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4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615960"/>
            <a:ext cx="80791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0920" y="1413000"/>
          <a:ext cx="8893080" cy="5270400"/>
        </p:xfrm>
        <a:graphic>
          <a:graphicData uri="http://schemas.openxmlformats.org/drawingml/2006/table">
            <a:tbl>
              <a:tblPr/>
              <a:tblGrid>
                <a:gridCol w="2220840"/>
                <a:gridCol w="2224080"/>
                <a:gridCol w="2224080"/>
                <a:gridCol w="22240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03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</a:t>
                      </a: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21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413000"/>
          <a:ext cx="8785080" cy="5160960"/>
        </p:xfrm>
        <a:graphic>
          <a:graphicData uri="http://schemas.openxmlformats.org/drawingml/2006/table">
            <a:tbl>
              <a:tblPr/>
              <a:tblGrid>
                <a:gridCol w="2376360"/>
                <a:gridCol w="2197080"/>
                <a:gridCol w="2014560"/>
                <a:gridCol w="219708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82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0600" y="259920"/>
            <a:ext cx="8123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280" y="1268280"/>
          <a:ext cx="8569440" cy="513252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64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913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3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946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ahoma"/>
              </a:rPr>
              <a:t>Методический конструктор внеурочной деятельности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79280" y="1268280"/>
          <a:ext cx="8569440" cy="4897440"/>
        </p:xfrm>
        <a:graphic>
          <a:graphicData uri="http://schemas.openxmlformats.org/drawingml/2006/table">
            <a:tbl>
              <a:tblPr/>
              <a:tblGrid>
                <a:gridCol w="2232000"/>
                <a:gridCol w="2051280"/>
                <a:gridCol w="2143080"/>
                <a:gridCol w="214308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735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lang="ru-RU" sz="24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Туристско-краеведческая деятельность</a:t>
                      </a:r>
                      <a:endParaRPr b="0" lang="en-US" sz="24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7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581040"/>
            <a:ext cx="827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00"/>
                </a:solidFill>
                <a:latin typeface="Tahoma"/>
              </a:rPr>
              <a:t>Ресурсы</a:t>
            </a:r>
            <a:br>
              <a:rPr sz="3400"/>
            </a:b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(для реализации внеурочной деятельности)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7620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дополнительного образовани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культур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Учреждения спорт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Специализированные лагер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Тематические лагерные смен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Летние школы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1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4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3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2492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2636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ункт 17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 дополнить следующим содержанием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 отсутствии возможности для реализации внеурочной деятельности образовательное учреждение в рамках соответствующих государственных (муниципальных) заданий, формируемых учредителем, использует возможности ОУ дополнительного образования детей, организаций культуры и спорта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256536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комплексные образовательные программы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тематические образовательные программы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;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428760" y="15717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00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1-2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2-3-го класса – образовательная программа, формирующая позитивное отношение к базовым ценностям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3300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428760" y="1571760"/>
            <a:ext cx="82296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5010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разработка и осуществление совместных программ и проектов, отдельных дел и акций, направленных на решение воспитательных задач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ооперация ресурсов и обмен ресурсами (интеллектуальными, кадровыми, информационными, финансовыми, материально-техническими и др.);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едоставление услуг (консультативных, информационных, технических и др.)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заимообучение специалистов, обмен передовым опытом;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совместная экспертиза качества внеурочной деятельности.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28760" y="1628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Механизмы интеграции: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1600" y="475920"/>
            <a:ext cx="82152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Tahoma"/>
              </a:rPr>
              <a:t>Задачи: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Использовать туристско-краеведческую деятельность как средство экологического воспитания младших школьников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Способствовать не только расширению представлений детей об окружающем мире, но и реализации деятельностного подход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  <a:ea typeface="Times New Roman"/>
              </a:rPr>
              <a:t>Обеспечить формирование умений и навыков, применение которых способствует организации разнообразной деятельности ребенка в окружающей среде, не наносит ей вреда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5600" y="806040"/>
            <a:ext cx="661644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уристско-краеведческая деятельность</a:t>
            </a:r>
            <a:endParaRPr b="0" lang="en-US" sz="3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Цель:</a:t>
            </a: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 воспитание у детей чувства бережного отношения к природе.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Tahoma"/>
              </a:rPr>
              <a:t>Формы туристской деятельности: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Экскурси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Прогулка с отдыхом в лесу (парке)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Походы выходного дня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a566e"/>
                </a:solidFill>
                <a:latin typeface="Tahoma"/>
              </a:rPr>
              <a:t>Игры-соревнования на местности (игра-путешествие)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00"/>
                </a:solidFill>
                <a:latin typeface="Tahoma"/>
              </a:rPr>
              <a:t>Внеурочная деятельность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24000" y="1905120"/>
          <a:ext cx="8640720" cy="4224240"/>
        </p:xfrm>
        <a:graphic>
          <a:graphicData uri="http://schemas.openxmlformats.org/drawingml/2006/table">
            <a:tbl>
              <a:tblPr/>
              <a:tblGrid>
                <a:gridCol w="1223640"/>
                <a:gridCol w="1584360"/>
                <a:gridCol w="1800360"/>
                <a:gridCol w="1295280"/>
                <a:gridCol w="1440000"/>
                <a:gridCol w="129708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заняти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Внеурочное занятие (тема, название)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ормы организации внеурочной деятельности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Деятель-ность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ителя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Деятель-ность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учащихс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Форми-руемые умения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654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ИЗМЕНЕНИЯ,</a:t>
            </a:r>
            <a:br>
              <a:rPr sz="2500"/>
            </a:br>
            <a:r>
              <a:rPr b="1" lang="ru-RU" sz="2500" spc="-1" strike="noStrike">
                <a:solidFill>
                  <a:srgbClr val="003300"/>
                </a:solidFill>
                <a:latin typeface="Tahoma"/>
              </a:rPr>
              <a:t>которые вносятся в ФГОС НОО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Пункт 19.3. Учебный план начального общего образования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…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Формы организации образовательного процесса, чередование учебной и внеурочной деятельности в рамках реализации ООП определяет образовательное учреждение…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(часть </a:t>
            </a:r>
            <a:r>
              <a:rPr b="1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(стр.18)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олностью исключена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4920" cy="22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Исходя из региональных особенностей образовательных учреждений Московской области, инновационным компонентом образовательной программы ОУ должна стать Программа внеурочной деятельности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8640" y="2781000"/>
            <a:ext cx="822816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должна обеспечивать достижение планируемых результатов освоения ООП НОО. 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разрабатываются  на основе: требований к результатам освоения ООП НОО и программы формирования универсальных учебных действий</a:t>
            </a:r>
            <a:r>
              <a:rPr b="0" lang="ru-RU" sz="25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рограмма должна содержать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907560"/>
            <a:ext cx="82263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ояснительную записку, в ней отражены цели и задачи взаимодействия педагогов и учащихся во внеурочной деятельности, описание основных подходов (прежде всего, системно-деятельностного), взаимосвязь содержания урочной и внеурочной деятельности учащихся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ланируемые результаты внеурочной деятельности учащихся: метапредметные и личностные, показатели уровней и степени владения ими, их взаимосвязь с другими результатами освоения ООП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сновные направления содержания работы, описание технологий и типологии развивающих задач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Указание времени, места  и форм организации внеурочных занятий;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Тематическое планирование;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Описание материально-технического обеспечения внеурочной деятельности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24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142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внеурочной деятельности самостоятельно разрабатывается и утверждается ОУ. Варианты проведения внеурочной деятельности могут быть самые разнообразные: комплексные, по направлениям, по формам и т.д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Программа является структурным компонентом ООП. Фиксация содержания, форм и фактов проведения внеурочной деятельности происходит в отдельном журнале. 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3300"/>
                </a:solidFill>
                <a:latin typeface="Tahoma"/>
              </a:rPr>
              <a:t>Внеурочная деятельность должна финансироваться на региональном уровне. Один час внеурочной деятельности должен финансироваться как один час урочной деятельности. Для всех категорий педагогических работников финансирование часов внеурочной деятельности осуществляется в соответствии с тарифными требованиями начального образования, а именно: почасовая оплата учителя начальных классов.</a:t>
            </a: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724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836280"/>
            <a:ext cx="82263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Время, отводимое на внеурочную деятельность должно составлять до 10 часов в неделю, до 1350 часов на все 4 года обучения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Основная образовательная программа начального общего образования реализуется образовательным учреждением через учебный план и внеурочную деятельность, рекомендуем, разработать Приложение к Учебному плану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Приложение к Учебному плану должно включать в себя: цели, задачи и направления деятельности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53:38Z</dcterms:created>
  <dc:creator>Svet</dc:creator>
  <dc:description/>
  <cp:keywords/>
  <dc:language>en-US</dc:language>
  <cp:lastModifiedBy>Филиппова</cp:lastModifiedBy>
  <dcterms:modified xsi:type="dcterms:W3CDTF">2011-02-02T09:54:07Z</dcterms:modified>
  <cp:revision>55</cp:revision>
  <dc:subject/>
  <dc:title>ВНЕУРОЧНАЯ ДЕЯТЕЛЬНОСТЬ ШКОЛЬ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49</vt:lpwstr>
  </property>
</Properties>
</file>