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42A-8D25-4F5A-8053-5F2A0FE1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0EF-7365-4401-8102-1F6A75A7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B01-C9FC-4181-A258-70E32024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55B-68ED-45D2-9D39-8DCAFC56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5B2-3252-4C22-A1DF-DA007DF1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971-CE1B-4BC8-B11E-CF13B0B2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273-872D-42A2-9B69-C9046D7D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FD4-B303-4C96-8B4F-C21C5871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714-E294-4C69-B9A5-14617700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E48-C743-45F9-AC15-9DABB29F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EE1-0566-43B3-A7C1-8146A5C9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3EF-AFD2-4862-8A8F-F7EDB9FD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73A4-A75E-4AB5-83A2-1AB44F8AC51A}" type="slidenum">
              <a:rPr b="0" lang="ru-RU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06280"/>
            <a:ext cx="8229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566e"/>
                </a:solidFill>
                <a:latin typeface="Chiller"/>
              </a:rPr>
              <a:t>ВНЕУРОЧНАЯ ДЕЯТЕЛЬНОСТЬ ШКОЛЬНИКОВ</a:t>
            </a:r>
            <a:endParaRPr b="0" lang="en-US" sz="4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02520" y="5230800"/>
            <a:ext cx="2397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-70560"/>
            <a:ext cx="82263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476280"/>
            <a:ext cx="82263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Для организации внеурочной деятельности возможно привлечение сотрудников ОУ среднего и старшего звена и доп. образования. 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Внеурочная деятельность может  проводиться как с разным количеством учащихся: от всех учеников начального звена до подгруппы в количестве до 12 человек. Наполняемость групп зависит от формы организации и состава участников внеурочной деятельности.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Организация внеурочной деятельности проводится при наличии образовательных потребностей, зафиксированных в Договоре ОУ с родителями (законными представителями) обучающихся и в Приложении к нему.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Программа внеурочной деятельности, наряду с другими, должна отражать целостность и единство ООП ОУ, гармоничное сочетание и взаимосвязь ее компонентов, являясь неотъемлемой ее частью.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a566e"/>
                </a:solidFill>
                <a:latin typeface="Tahoma"/>
              </a:rPr>
              <a:t>Программа внеурочной деятельности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3300"/>
                </a:solidFill>
                <a:latin typeface="Tahoma"/>
              </a:rPr>
              <a:t>должна быть направлена на реализацию различных направлений развития и воспитания младших школьников</a:t>
            </a:r>
            <a:endParaRPr b="0" lang="en-US" sz="32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5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79240"/>
            <a:ext cx="8147160" cy="1409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a566e"/>
                </a:solidFill>
                <a:latin typeface="Tahoma"/>
              </a:rPr>
              <a:t>Направления внеурочной деятельности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2421000"/>
            <a:ext cx="8148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спортивно-оздоровительного,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художественно-эстетического, 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научно-познавательного, 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военно-патриотического, 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общественно полезная деятельность.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91520" cy="61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a566e"/>
                </a:solidFill>
                <a:latin typeface="Tahoma"/>
              </a:rPr>
              <a:t>Формы внеурочной деятельности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2636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экскурсии, кружки, секции, студии, театры, мастерские, конференции, диспуты, круглые столы, школьные научные общества, олимпиады, соревнования, поисковые и научные исследования, общественно полезные практики. 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0755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Сравнительная характеристика урочных и внеурочных форм организации деятельности учащихся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Параметры сравнения: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Соответствие программе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Обязательность посещения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Определенность во времени и пространстве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Состав участников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Учет при расчете максимальной учебной нагрузки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Финансирование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Примеры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86800" y="-2992320"/>
            <a:ext cx="457200" cy="68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3a566e"/>
              </a:solidFill>
              <a:latin typeface="Tahom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476280"/>
          <a:ext cx="8856720" cy="604836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331164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Соответствие программе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Соответствуют ООП, раздел 5 Программы отдельных учебных предметов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Соответствуют ООП, раздел 3 Учебный план НОО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Обязательность посещения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Обязательны для посещения всеми учащимися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Факультативны, при наличии соответствующих образовательных потребностей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Определенность во времени и пространстве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Жестко определены во времени и пространстве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Произвольны по времени и месту проведения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Состав участников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Списочный состав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Вариативный состав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Учет при расчете максимальной учебной нагрузки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Учитываются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Не учитываются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Финансирование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ООП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ООП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566e"/>
                </a:solidFill>
                <a:latin typeface="Tahoma"/>
              </a:rPr>
              <a:t>Цель инновационных процессов</a:t>
            </a:r>
            <a:r>
              <a:rPr b="1" lang="ru-RU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a566e"/>
                </a:solidFill>
                <a:latin typeface="Tahoma"/>
              </a:rPr>
              <a:t>   </a:t>
            </a: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заключается не только в повышении качества образования, но и в </a:t>
            </a: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укреплении здоровья учащихся</a:t>
            </a: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 и в </a:t>
            </a: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создании психологического комфорта</a:t>
            </a: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 участникам образовательного процесса 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644400"/>
            <a:ext cx="798336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II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Требования к структуре …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19. Требования к разделам основной образовательной программы начального общего образования: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19.3. Учебный план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Tahoma"/>
              </a:rPr>
              <a:t>Внеурочная деятельность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организуется по направлениям развития личности (спортивно-оздоровительное, духовно-нравственное, социальное, общеинтеллектуальное, общекультурное) в таких формах, как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9520" y="64404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II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Требования к структуре …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ahoma"/>
              </a:rPr>
              <a:t>Внеурочная деятельность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  … </a:t>
            </a: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в таких формах, как экскурсии, кружки, секции, круглые столы, конференции, диспуты, школьные научные общества, олимпиады, соревнования, поисковые и научные исследования, общественно полезные практики и т.д.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Время, отводимое на внеурочную деятельность, составляет </a:t>
            </a: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до 1350 часов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1504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ahoma"/>
              </a:rPr>
              <a:t>В чем новизна гигиенических требований?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85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Требования к организации ежедневной внеурочной деятельности учащихся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85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Включены требования к новому виду школ - школам полного дня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2492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МИНИСТЕРСТВО ОБРАЗОВАНИЯ И НАУКИ</a:t>
            </a:r>
            <a:br>
              <a:rPr sz="1900"/>
            </a:b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РОССИЙСКОЙ ФЕДЕРАЦИИ</a:t>
            </a:r>
            <a:br>
              <a:rPr sz="1900"/>
            </a:b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(МИНОБРНАУКИ РОССИИ)</a:t>
            </a:r>
            <a:br>
              <a:rPr sz="1900"/>
            </a:br>
            <a:r>
              <a:rPr b="1" lang="ru-RU" sz="1900" spc="-1" strike="noStrike">
                <a:solidFill>
                  <a:srgbClr val="003300"/>
                </a:solidFill>
                <a:latin typeface="Tahoma"/>
              </a:rPr>
              <a:t>П Р И К А З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7000"/>
            <a:ext cx="82296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566e"/>
                </a:solidFill>
                <a:latin typeface="Tahoma"/>
              </a:rPr>
              <a:t>« </a:t>
            </a:r>
            <a:r>
              <a:rPr b="1" lang="ru-RU" sz="2000" spc="-1" strike="noStrike" u="sng">
                <a:solidFill>
                  <a:srgbClr val="3a566e"/>
                </a:solidFill>
                <a:uFillTx/>
                <a:latin typeface="Tahoma"/>
              </a:rPr>
              <a:t>26 </a:t>
            </a:r>
            <a:r>
              <a:rPr b="1" lang="ru-RU" sz="2000" spc="-1" strike="noStrike">
                <a:solidFill>
                  <a:srgbClr val="3a566e"/>
                </a:solidFill>
                <a:latin typeface="Tahoma"/>
              </a:rPr>
              <a:t>» </a:t>
            </a:r>
            <a:r>
              <a:rPr b="1" lang="ru-RU" sz="2000" spc="-1" strike="noStrike" u="sng">
                <a:solidFill>
                  <a:srgbClr val="3a566e"/>
                </a:solidFill>
                <a:uFillTx/>
                <a:latin typeface="Tahoma"/>
              </a:rPr>
              <a:t>ноября</a:t>
            </a:r>
            <a:r>
              <a:rPr b="1" lang="ru-RU" sz="20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a566e"/>
                </a:solidFill>
                <a:latin typeface="Tahoma"/>
              </a:rPr>
              <a:t>20</a:t>
            </a:r>
            <a:r>
              <a:rPr b="1" lang="ru-RU" sz="2000" spc="-1" strike="noStrike">
                <a:solidFill>
                  <a:srgbClr val="3a566e"/>
                </a:solidFill>
                <a:latin typeface="Tahoma"/>
              </a:rPr>
              <a:t>10 г.             Москва                           </a:t>
            </a:r>
            <a:r>
              <a:rPr b="1" lang="ru-RU" sz="2000" spc="-1" strike="noStrike" u="sng">
                <a:solidFill>
                  <a:srgbClr val="3a566e"/>
                </a:solidFill>
                <a:uFillTx/>
                <a:latin typeface="Tahoma"/>
              </a:rPr>
              <a:t> № 1241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ИЗМЕНЕНИЯ,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которые вносятся в федеральный государственный 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образовательный стандарт начального общего образования,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утверждённый приказом Министерства 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образования и науки Российской Федерации 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от 6 октября 2009 г. № 373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Министр                                                   А. А. Фурсенко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51000" y="984240"/>
            <a:ext cx="64483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Внеурочная деятельность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744560"/>
            <a:ext cx="86868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1. Занятия по выбору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2. Форма занятий должна   отличаться от урочной (</a:t>
            </a:r>
            <a:r>
              <a:rPr b="1" lang="ru-RU" sz="2600" spc="-1" strike="noStrike">
                <a:solidFill>
                  <a:srgbClr val="003300"/>
                </a:solidFill>
                <a:latin typeface="Tahoma"/>
              </a:rPr>
              <a:t>кружки секции, олимпиады, экскурсии, проектная деятельность и др</a:t>
            </a: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.)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3. Баланс между занятиями 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двигательного и статического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характера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Примерный учебный план образовательного учреждения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1628640"/>
          <a:ext cx="8497800" cy="4969080"/>
        </p:xfrm>
        <a:graphic>
          <a:graphicData uri="http://schemas.openxmlformats.org/drawingml/2006/table">
            <a:tbl>
              <a:tblPr/>
              <a:tblGrid>
                <a:gridCol w="2160360"/>
                <a:gridCol w="809640"/>
                <a:gridCol w="1382760"/>
                <a:gridCol w="1381320"/>
                <a:gridCol w="1382760"/>
                <a:gridCol w="1380960"/>
              </a:tblGrid>
              <a:tr h="35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Учебный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предмет                     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                          </a:t>
                      </a: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классы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Количество часов в неделю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I</a:t>
                      </a:r>
                      <a:endParaRPr b="0" lang="en-US" sz="26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II</a:t>
                      </a:r>
                      <a:endParaRPr b="0" lang="en-US" sz="26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III</a:t>
                      </a:r>
                      <a:endParaRPr b="0" lang="en-US" sz="26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IV</a:t>
                      </a:r>
                      <a:endParaRPr b="0" lang="en-US" sz="26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Внеурочная деятельность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40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Спортивные кружки, секции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8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Растим патриотов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8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Предметные кружки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8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Музыкальные кружки, театральная студия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8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Социальная работа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4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Проектная деятельность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4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Всего к финансированию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30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34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34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34,5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32,5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 flipV="1">
            <a:off x="250920" y="1628640"/>
            <a:ext cx="2160360" cy="93672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ВНЕУРОЧНАЯ ДЕЯТЕЛЬНОСТЬ</a:t>
            </a:r>
            <a:br>
              <a:rPr sz="1900"/>
            </a:b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28760" y="765000"/>
          <a:ext cx="8229600" cy="6021720"/>
        </p:xfrm>
        <a:graphic>
          <a:graphicData uri="http://schemas.openxmlformats.org/drawingml/2006/table">
            <a:tbl>
              <a:tblPr/>
              <a:tblGrid>
                <a:gridCol w="3927240"/>
                <a:gridCol w="430236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ЫЕ НАПРАВЛЕН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bf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bf73"/>
                    </a:solidFill>
                  </a:tcPr>
                </a:tc>
              </a:tr>
              <a:tr h="51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портивно -оздоровительное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аучно-познавательное 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оенно-патриотическое 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щественно-полезная   деятельность 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оектная деятельность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Игровая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Познавательная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Проблемно-ценностное общение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Досугово-развлекательная деятельность (досуговое общение)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Художественное творчество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Социальное творчество (социально преобразующая добровольческая деятельность)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Техническое творчество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Трудовая (производственная) деятельность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Спортивно-оздоровительная деятельность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Туристско-краеведческая деятельность.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Arial"/>
              </a:rPr>
              <a:t>ВОСПИТАНИЕ - это не специальные мероприятия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300040"/>
            <a:ext cx="821844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304a4"/>
                </a:solidFill>
                <a:latin typeface="Tahoma"/>
              </a:rPr>
              <a:t>В</a:t>
            </a:r>
            <a:r>
              <a:rPr b="0" lang="ru-RU" sz="3000" spc="-1" strike="noStrike">
                <a:solidFill>
                  <a:srgbClr val="1304a4"/>
                </a:solidFill>
                <a:latin typeface="Arial"/>
              </a:rPr>
              <a:t>оспитание</a:t>
            </a:r>
            <a:r>
              <a:rPr b="0" lang="ru-RU" sz="3000" spc="-1" strike="noStrike">
                <a:solidFill>
                  <a:srgbClr val="1304a4"/>
                </a:solidFill>
                <a:latin typeface="Tahoma"/>
              </a:rPr>
              <a:t> в школе должно идти только через </a:t>
            </a:r>
            <a:r>
              <a:rPr b="1" lang="ru-RU" sz="3000" spc="-1" strike="noStrike">
                <a:solidFill>
                  <a:srgbClr val="1304a4"/>
                </a:solidFill>
                <a:latin typeface="Tahoma"/>
              </a:rPr>
              <a:t>совместную деятельность 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304a4"/>
                </a:solidFill>
                <a:latin typeface="Tahoma"/>
              </a:rPr>
              <a:t>взрослых и детей, детей друг с другом,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304a4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1304a4"/>
                </a:solidFill>
                <a:latin typeface="Tahoma"/>
              </a:rPr>
              <a:t> которой единственно возможно присвоение (а не просто узнавание) детьми ценностей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1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566e"/>
                </a:solidFill>
                <a:latin typeface="Tahoma"/>
              </a:rPr>
              <a:t>РЕЗУЛЬТАТ </a:t>
            </a:r>
            <a:r>
              <a:rPr b="0" lang="ru-RU" sz="2500" spc="-1" strike="noStrike">
                <a:solidFill>
                  <a:srgbClr val="3a566e"/>
                </a:solidFill>
                <a:latin typeface="Tahoma"/>
              </a:rPr>
              <a:t>- это то, что стало непосредственным итогом участия школьника в деятельности (фактический, воспитательный…)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566e"/>
                </a:solidFill>
                <a:latin typeface="Tahoma"/>
              </a:rPr>
              <a:t>ВОСПИТАТЕЛЬНЫЙ РЕЗУЛЬТАТ</a:t>
            </a:r>
            <a:r>
              <a:rPr b="1" lang="ru-RU" sz="33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3a566e"/>
                </a:solidFill>
                <a:latin typeface="Tahoma"/>
              </a:rPr>
              <a:t>ВНЕУРОЧНОЙ ДЕЯТЕЛЬНОСТИ – непосредственное духовно-нравственное приобретение ребенка благодаря его участию в том или ином виде деятельности.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566e"/>
                </a:solidFill>
                <a:latin typeface="Tahoma"/>
              </a:rPr>
              <a:t>ЭФФЕКТ - </a:t>
            </a:r>
            <a:r>
              <a:rPr b="0" lang="ru-RU" sz="2500" spc="-1" strike="noStrike">
                <a:solidFill>
                  <a:srgbClr val="3a566e"/>
                </a:solidFill>
                <a:latin typeface="Tahoma"/>
              </a:rPr>
              <a:t>последствие результата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566e"/>
                </a:solidFill>
                <a:latin typeface="Tahoma"/>
              </a:rPr>
              <a:t>ВОСПИТАТЕЛЬНЫЙ ЭФФЕКТ</a:t>
            </a:r>
            <a:r>
              <a:rPr b="0" lang="ru-RU" sz="2500" spc="-1" strike="noStrike">
                <a:solidFill>
                  <a:srgbClr val="3a566e"/>
                </a:solidFill>
                <a:latin typeface="Tahoma"/>
              </a:rPr>
              <a:t> ВНЕУРОЧНОЙ ДЕЯТЕЛЬНОСТИ – влияние того или иного духовно-нравственного приобретения на процесс развития личности ребенка.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a566e"/>
                </a:solidFill>
                <a:latin typeface="Tahoma"/>
              </a:rPr>
              <a:t>РЕЗУЛЬТАТ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   </a:t>
            </a: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это то, что стало непосредственным итогом участия школьника в деятельности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a566e"/>
                </a:solidFill>
                <a:latin typeface="Tahoma"/>
              </a:rPr>
              <a:t>ЭФФЕКТ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последствие результата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69768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Уровни воспитательных результатов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53290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Первый уровень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ервичного понимания социальной реальности и повседневной жизни. 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155736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40360" y="2205000"/>
            <a:ext cx="3024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661824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Уровни воспитательных результатов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453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i="1" lang="ru-RU" sz="2900" spc="-1" strike="noStrike">
                <a:solidFill>
                  <a:srgbClr val="003300"/>
                </a:solidFill>
                <a:latin typeface="Times New Roman"/>
              </a:rPr>
              <a:t>Второй уровень </a:t>
            </a:r>
            <a:r>
              <a:rPr b="0" lang="ru-RU" sz="2900" spc="-1" strike="noStrike">
                <a:solidFill>
                  <a:srgbClr val="003300"/>
                </a:solidFill>
                <a:latin typeface="Times New Roman"/>
              </a:rPr>
              <a:t>– получение школьником опыта переживания и  позитивного отношения к базовым ценностям общества, ценностного отношения к социальной реальности в целом. </a:t>
            </a:r>
            <a:endParaRPr b="0" lang="en-US" sz="29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8894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5600" y="861480"/>
            <a:ext cx="66164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Уровни воспитательных результатов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360" y="2342880"/>
            <a:ext cx="395280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Третий уровень 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– получение школьником опыта самостоятельного общественного действия</a:t>
            </a:r>
            <a:endParaRPr b="0" lang="en-US" sz="32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16360" y="2201760"/>
            <a:ext cx="3816360" cy="37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280" y="333360"/>
            <a:ext cx="81723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Уровни воспитательных результатов</a:t>
            </a:r>
            <a:endParaRPr b="0" lang="en-US" sz="3600" spc="-1" strike="noStrike">
              <a:solidFill>
                <a:srgbClr val="3a566e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68360" y="2637000"/>
            <a:ext cx="8207280" cy="3887640"/>
            <a:chOff x="468360" y="2637000"/>
            <a:chExt cx="8207280" cy="3887640"/>
          </a:xfrm>
        </p:grpSpPr>
        <p:pic>
          <p:nvPicPr>
            <p:cNvPr id="106" name="Rectangle 3" descr=""/>
            <p:cNvPicPr/>
            <p:nvPr/>
          </p:nvPicPr>
          <p:blipFill>
            <a:blip r:embed="rId1"/>
            <a:stretch/>
          </p:blipFill>
          <p:spPr>
            <a:xfrm>
              <a:off x="468360" y="2637000"/>
              <a:ext cx="820728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468360" y="2637000"/>
              <a:ext cx="8207280" cy="38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a566e"/>
                </a:solidFill>
                <a:latin typeface="Tahoma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56000" y="3357720"/>
            <a:ext cx="31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000" spc="-1" strike="noStrike">
                <a:solidFill>
                  <a:srgbClr val="003300"/>
                </a:solidFill>
                <a:latin typeface="Tahoma"/>
              </a:rPr>
              <a:t>уровень</a:t>
            </a:r>
            <a:endParaRPr b="0" lang="en-US" sz="3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4724280"/>
            <a:ext cx="4619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ahoma"/>
              </a:rPr>
              <a:t>1-й уровень</a:t>
            </a: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407664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ahoma"/>
              </a:rPr>
              <a:t>2-й уровень</a:t>
            </a:r>
            <a:endParaRPr b="0" lang="en-US" sz="3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90476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566e"/>
                </a:solidFill>
                <a:latin typeface="Tahoma"/>
              </a:rPr>
              <a:t>В начальной школе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566e"/>
                </a:solidFill>
                <a:latin typeface="Tahoma"/>
              </a:rPr>
              <a:t>приоритет 1 уровня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190476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a566e"/>
                </a:solidFill>
                <a:latin typeface="Tahoma"/>
              </a:rPr>
              <a:t>Опасно форсировать процесс воспитания!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2492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ИЗМЕНЕНИЯ,</a:t>
            </a:r>
            <a:br>
              <a:rPr sz="2500"/>
            </a:br>
            <a:r>
              <a:rPr b="1" lang="ru-RU" sz="2500" spc="-1" strike="noStrike">
                <a:solidFill>
                  <a:srgbClr val="003300"/>
                </a:solidFill>
                <a:latin typeface="Tahoma"/>
              </a:rPr>
              <a:t>которые вносятся в ФГОС НОО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301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00"/>
                </a:solidFill>
                <a:latin typeface="Tahoma"/>
              </a:rPr>
              <a:t>III. </a:t>
            </a:r>
            <a:r>
              <a:rPr b="1" lang="ru-RU" sz="2300" spc="-1" strike="noStrike">
                <a:solidFill>
                  <a:srgbClr val="003300"/>
                </a:solidFill>
                <a:latin typeface="Tahoma"/>
              </a:rPr>
              <a:t>Требования к структуре основной образовательной программы начального общего образования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00"/>
                </a:solidFill>
                <a:latin typeface="Tahoma"/>
              </a:rPr>
              <a:t>Пункт 16 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изложить в следующей редакции…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ООП НОО реализуется образовательным учреждением через </a:t>
            </a:r>
            <a:r>
              <a:rPr b="1" lang="ru-RU" sz="2300" spc="-1" strike="noStrike">
                <a:solidFill>
                  <a:srgbClr val="003300"/>
                </a:solidFill>
                <a:latin typeface="Tahoma"/>
              </a:rPr>
              <a:t>учебный план и внеурочную деятельность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…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13924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1628640"/>
          <a:ext cx="8208720" cy="4680000"/>
        </p:xfrm>
        <a:graphic>
          <a:graphicData uri="http://schemas.openxmlformats.org/drawingml/2006/table">
            <a:tbl>
              <a:tblPr/>
              <a:tblGrid>
                <a:gridCol w="2050920"/>
                <a:gridCol w="2052720"/>
                <a:gridCol w="2052720"/>
                <a:gridCol w="2052360"/>
              </a:tblGrid>
              <a:tr h="21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89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3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Игровая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олевая игра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90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ловая игра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57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оциально моделирующая игра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333360"/>
            <a:ext cx="8217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268280"/>
          <a:ext cx="8713800" cy="4861080"/>
        </p:xfrm>
        <a:graphic>
          <a:graphicData uri="http://schemas.openxmlformats.org/drawingml/2006/table">
            <a:tbl>
              <a:tblPr/>
              <a:tblGrid>
                <a:gridCol w="2176200"/>
                <a:gridCol w="2178360"/>
                <a:gridCol w="2179440"/>
                <a:gridCol w="2179800"/>
              </a:tblGrid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547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. Познавательна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знавательные беседы, предметные факультативы, олимпиад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96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идактический театр, общественный смотр знаний, интеллектуальный клуб «Что? Где? Когда?»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96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тские исследовательские проекты, внешкольные акции познавательной направленности (конференции учащихся, интеллектуальные марафоны и т.п.), школьный музей-клуб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6560" y="706320"/>
            <a:ext cx="792648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341360"/>
          <a:ext cx="8353440" cy="4830840"/>
        </p:xfrm>
        <a:graphic>
          <a:graphicData uri="http://schemas.openxmlformats.org/drawingml/2006/table">
            <a:tbl>
              <a:tblPr/>
              <a:tblGrid>
                <a:gridCol w="2085840"/>
                <a:gridCol w="2089080"/>
                <a:gridCol w="2090880"/>
                <a:gridCol w="208764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34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. Проблемно-ценностное общение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Этическая беседа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0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баты, тематический диспут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3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облемно-ценностная дискуссия с участием внешних экспертов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6200" y="635040"/>
            <a:ext cx="79916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1413000"/>
          <a:ext cx="8282160" cy="4784760"/>
        </p:xfrm>
        <a:graphic>
          <a:graphicData uri="http://schemas.openxmlformats.org/drawingml/2006/table">
            <a:tbl>
              <a:tblPr/>
              <a:tblGrid>
                <a:gridCol w="2068560"/>
                <a:gridCol w="2071800"/>
                <a:gridCol w="2070000"/>
                <a:gridCol w="2071800"/>
              </a:tblGrid>
              <a:tr h="203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130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. Досугово-развлекательная деятельность (досуговое общение)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ультпоходы в театры, музеи, концертные залы, выставк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4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онцерты, инсценировки, праздничные «огоньки» на уровне класса и школ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87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осугово-развлекательные акции школьников в окружающем школу социуме (благотворительные концерты, гастроли школьной самодеятельности и т.п.)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6560" y="615960"/>
            <a:ext cx="80791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24000" y="1413000"/>
          <a:ext cx="8569080" cy="5225760"/>
        </p:xfrm>
        <a:graphic>
          <a:graphicData uri="http://schemas.openxmlformats.org/drawingml/2006/table">
            <a:tbl>
              <a:tblPr/>
              <a:tblGrid>
                <a:gridCol w="2141280"/>
                <a:gridCol w="2140200"/>
                <a:gridCol w="2143080"/>
                <a:gridCol w="2144520"/>
              </a:tblGrid>
              <a:tr h="23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54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. Художественное творчество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ружки художественного творчества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5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Художественные выставки, фестивали искусств, спектакли в классе, школе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3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Художественные акции школьников в окружающем школу социуме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6560" y="615960"/>
            <a:ext cx="80791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0920" y="1413000"/>
          <a:ext cx="8893080" cy="5270400"/>
        </p:xfrm>
        <a:graphic>
          <a:graphicData uri="http://schemas.openxmlformats.org/drawingml/2006/table">
            <a:tbl>
              <a:tblPr/>
              <a:tblGrid>
                <a:gridCol w="2220840"/>
                <a:gridCol w="2224080"/>
                <a:gridCol w="2224080"/>
                <a:gridCol w="222408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03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. Социальное творчество (социально преобразующая добровольческая деятельность)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оциальные пробы (инициативное участие ребенка в социальных акциях, организованных взрослыми</a:t>
                      </a: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3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ТД (коллективное творческое дело)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оциально-образовательный проект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1413000"/>
          <a:ext cx="8785080" cy="5160960"/>
        </p:xfrm>
        <a:graphic>
          <a:graphicData uri="http://schemas.openxmlformats.org/drawingml/2006/table">
            <a:tbl>
              <a:tblPr/>
              <a:tblGrid>
                <a:gridCol w="2376360"/>
                <a:gridCol w="2197080"/>
                <a:gridCol w="2014560"/>
                <a:gridCol w="2197080"/>
              </a:tblGrid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822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7. Трудовая (производственная) деятельность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Занятия по конструированию, кружки технического творчества, домашних ремесел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46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Трудовые десанты, сюжетно-ролевые продуктивные игры («Почта», «Город мастеров», «Фабрика»), детская производственная бригада под руководством взрослого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тско-взрослое образовательное производство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0600" y="259920"/>
            <a:ext cx="8123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95280" y="1268280"/>
          <a:ext cx="8569440" cy="5132520"/>
        </p:xfrm>
        <a:graphic>
          <a:graphicData uri="http://schemas.openxmlformats.org/drawingml/2006/table">
            <a:tbl>
              <a:tblPr/>
              <a:tblGrid>
                <a:gridCol w="2139840"/>
                <a:gridCol w="2143080"/>
                <a:gridCol w="2144880"/>
                <a:gridCol w="214164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913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8. Спортивно-оздоровительная деятельность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Занятия спортивных секций, беседы о ЗОЖ, участие в оздоровительных процедурах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83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Школьные спортивные турниры и оздоровительные акци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3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портивные и оздоровительные акции школьников в окружающем школу социуме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946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303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33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046920" y="33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79280" y="1268280"/>
          <a:ext cx="8569440" cy="4897440"/>
        </p:xfrm>
        <a:graphic>
          <a:graphicData uri="http://schemas.openxmlformats.org/drawingml/2006/table">
            <a:tbl>
              <a:tblPr/>
              <a:tblGrid>
                <a:gridCol w="2232000"/>
                <a:gridCol w="2051280"/>
                <a:gridCol w="2143080"/>
                <a:gridCol w="2143080"/>
              </a:tblGrid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735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9. </a:t>
                      </a:r>
                      <a:r>
                        <a:rPr b="1" lang="ru-RU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Туристско-краеведческая деятельность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бразовательная экскурсия, туристическая поездка, краеведческий кружок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5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Туристский поход, краеведческий клуб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Туристско-краеведческая экспедиц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исково-краеведческая экспедиц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Школьный краеведческий музе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581040"/>
            <a:ext cx="827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Ресурсы</a:t>
            </a:r>
            <a:br>
              <a:rPr sz="3400"/>
            </a:b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(для реализации внеурочной деятельности)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17620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Учреждения дополнительного образования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Учреждения культуры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Учреждения спорта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Специализированные лагеря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Тематические лагерные смены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Летние школы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7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3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6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9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2492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ИЗМЕНЕНИЯ,</a:t>
            </a:r>
            <a:br>
              <a:rPr sz="2500"/>
            </a:br>
            <a:r>
              <a:rPr b="1" lang="ru-RU" sz="2500" spc="-1" strike="noStrike">
                <a:solidFill>
                  <a:srgbClr val="003300"/>
                </a:solidFill>
                <a:latin typeface="Tahoma"/>
              </a:rPr>
              <a:t>которые вносятся в ФГОС НОО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22636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Пункт 17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 дополнить следующим содержанием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При отсутствии возможности для реализации внеурочной деятельности образовательное учреждение в рамках соответствующих государственных (муниципальных) заданий, формируемых учредителем, использует возможности ОУ дополнительного образования детей, организаций культуры и спорта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0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28760" y="2565360"/>
            <a:ext cx="822960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imes New Roman"/>
              </a:rPr>
              <a:t>комплексные образовательные программы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редполагающие последовательный переход от воспитательных результатов первого к результатам третьего уровня в различных видах внеурочной деятельности;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imes New Roman"/>
              </a:rPr>
              <a:t>тематические образовательные программы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направленные на получение воспитательных результатов в определенном проблемном поле и использующие при этом возможности различных видов внеурочной деятельности (например, образовательная программа патриотического воспитания, образовательная программа воспитания толерантности и т.п.);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428760" y="157176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Типы образовательных программ: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0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2876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00"/>
                </a:solidFill>
                <a:latin typeface="Times New Roman"/>
              </a:rPr>
              <a:t>образовательные программы, ориентированные на достижение результатов определенного уровня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Такие программы могут иметь возрастную привязку, например: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для 1-2-го класса – образовательная программа, ориентированная на приобретение школьником социальных знаний в различных видах деятельности;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для 2-3-го класса – образовательная программа, формирующая позитивное отношение к базовым ценностям;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для 4-го класса – образовательная программа, дающая ребенку опыт самостоятельного общественного действия;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428760" y="1571760"/>
            <a:ext cx="82296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Типы образовательных программ: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0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28760" y="2428920"/>
            <a:ext cx="85010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разработка и осуществление совместных программ и проектов, отдельных дел и акций, направленных на решение воспитательных задач;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кооперация ресурсов и обмен ресурсами (интеллектуальными, кадровыми, информационными, финансовыми, материально-техническими и др.);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предоставление услуг (консультативных, информационных, технических и др.);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взаимообучение специалистов, обмен передовым опытом;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совместная экспертиза качества внеурочной деятельности.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428760" y="162864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Механизмы интеграции: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71600" y="475920"/>
            <a:ext cx="82152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Задачи: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  <a:ea typeface="Times New Roman"/>
              </a:rPr>
              <a:t>Использовать туристско-краеведческую деятельность как средство экологического воспитания младших школьников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  <a:ea typeface="Times New Roman"/>
              </a:rPr>
              <a:t>Способствовать не только расширению представлений детей об окружающем мире, но и реализации деятельностного подхода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  <a:ea typeface="Times New Roman"/>
              </a:rPr>
              <a:t>Обеспечить формирование умений и навыков, применение которых способствует организации разнообразной деятельности ребенка в окружающей среде, не наносит ей вреда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55600" y="806040"/>
            <a:ext cx="661644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уристско-краеведческая деятельность</a:t>
            </a:r>
            <a:endParaRPr b="0" lang="en-US" sz="3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Цель:</a:t>
            </a: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 воспитание у детей чувства бережного отношения к природе.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Формы туристской деятельности: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Экскурсия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Прогулка с отдыхом в лесу (парке)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Походы выходного дня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Игры-соревнования на местности (игра-путешествие)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9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1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00"/>
                </a:solidFill>
                <a:latin typeface="Tahoma"/>
              </a:rPr>
              <a:t>Внеурочная деятельность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24000" y="1905120"/>
          <a:ext cx="8640720" cy="4224240"/>
        </p:xfrm>
        <a:graphic>
          <a:graphicData uri="http://schemas.openxmlformats.org/drawingml/2006/table">
            <a:tbl>
              <a:tblPr/>
              <a:tblGrid>
                <a:gridCol w="1223640"/>
                <a:gridCol w="1584360"/>
                <a:gridCol w="1800360"/>
                <a:gridCol w="1295280"/>
                <a:gridCol w="1440000"/>
                <a:gridCol w="129708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занятия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Внеурочное занятие (тема, название)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Формы организации внеурочной деятельности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Деятель-ность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учителя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Деятель-ность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учащихся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Форми-руемые умения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654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00"/>
                </a:solidFill>
                <a:latin typeface="Arial"/>
              </a:rPr>
              <a:t>СПАСИБО ЗА ВНИМАНИЕ!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ИЗМЕНЕНИЯ,</a:t>
            </a:r>
            <a:br>
              <a:rPr sz="2500"/>
            </a:br>
            <a:r>
              <a:rPr b="1" lang="ru-RU" sz="2500" spc="-1" strike="noStrike">
                <a:solidFill>
                  <a:srgbClr val="003300"/>
                </a:solidFill>
                <a:latin typeface="Tahoma"/>
              </a:rPr>
              <a:t>которые вносятся в ФГОС НОО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6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00"/>
                </a:solidFill>
                <a:latin typeface="Tahoma"/>
              </a:rPr>
              <a:t>Пункт 19.3. Учебный план начального общего образования 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…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Формы организации образовательного процесса, чередование учебной и внеурочной деятельности в рамках реализации ООП определяет образовательное учреждение…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(часть </a:t>
            </a:r>
            <a:r>
              <a:rPr b="1" lang="ru-RU" sz="2300" spc="-1" strike="noStrike">
                <a:solidFill>
                  <a:srgbClr val="003300"/>
                </a:solidFill>
                <a:latin typeface="Tahoma"/>
              </a:rPr>
              <a:t>Внеурочная деятельность (стр.18) 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полностью исключена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4920" cy="22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Исходя из региональных особенностей образовательных учреждений Московской области, инновационным компонентом образовательной программы ОУ должна стать Программа внеурочной деятельности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8640" y="2781000"/>
            <a:ext cx="822816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00"/>
                </a:solidFill>
                <a:latin typeface="Tahoma"/>
              </a:rPr>
              <a:t>Программа внеурочной деятельности должна обеспечивать достижение планируемых результатов освоения ООП НОО. 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00"/>
                </a:solidFill>
                <a:latin typeface="Tahoma"/>
              </a:rPr>
              <a:t>Программа внеурочной деятельности разрабатываются  на основе: требований к результатам освоения ООП НОО и программы формирования универсальных учебных действий</a:t>
            </a:r>
            <a:r>
              <a:rPr b="0" lang="ru-RU" sz="2500" spc="-1" strike="noStrike">
                <a:solidFill>
                  <a:srgbClr val="3a566e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Программа должна содержать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907560"/>
            <a:ext cx="82263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Пояснительную записку, в ней отражены цели и задачи взаимодействия педагогов и учащихся во внеурочной деятельности, описание основных подходов (прежде всего, системно-деятельностного), взаимосвязь содержания урочной и внеурочной деятельности учащихся;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Планируемые результаты внеурочной деятельности учащихся: метапредметные и личностные, показатели уровней и степени владения ими, их взаимосвязь с другими результатами освоения ООП;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Основные направления содержания работы, описание технологий и типологии развивающих задач;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Указание времени, места  и форм организации внеурочных занятий; 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Тематическое планирование;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Описание материально-технического обеспечения внеурочной деятельности.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724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8142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Программа внеурочной деятельности самостоятельно разрабатывается и утверждается ОУ. Варианты проведения внеурочной деятельности могут быть самые разнообразные: комплексные, по направлениям, по формам и т.д. 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Программа является структурным компонентом ООП. Фиксация содержания, форм и фактов проведения внеурочной деятельности происходит в отдельном журнале. 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Внеурочная деятельность должна финансироваться на региональном уровне. Один час внеурочной деятельности должен финансироваться как один час урочной деятельности. Для всех категорий педагогических работников финансирование часов внеурочной деятельности осуществляется в соответствии с тарифными требованиями начального образования, а именно: почасовая оплата учителя начальных классов.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724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836280"/>
            <a:ext cx="82263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Время, отводимое на внеурочную деятельность должно составлять до 10 часов в неделю, до 1350 часов на все 4 года обучения. 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Основная образовательная программа начального общего образования реализуется образовательным учреждением через учебный план и внеурочную деятельность, рекомендуем, разработать Приложение к Учебному плану. 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Приложение к Учебному плану должно включать в себя: цели, задачи и направления деятельности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9:53:38Z</dcterms:created>
  <dc:creator>Svet</dc:creator>
  <dc:description/>
  <cp:keywords/>
  <dc:language>en-US</dc:language>
  <cp:lastModifiedBy>Филиппова</cp:lastModifiedBy>
  <dcterms:modified xsi:type="dcterms:W3CDTF">2011-02-02T09:54:07Z</dcterms:modified>
  <cp:revision>55</cp:revision>
  <dc:subject/>
  <dc:title>ВНЕУРОЧНАЯ ДЕЯТЕЛЬНОСТЬ ШКОЛЬ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51049</vt:lpwstr>
  </property>
</Properties>
</file>