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41E-3DC1-47BB-8E95-99EA3FC9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3EB-E616-46BA-AE8B-F168304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A87-CDCF-4177-9EE2-44A83C77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993-C2B6-4CC6-B7AB-74F4D9C1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1421-8015-4C3D-8436-46DCCA1C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82F1-2F7F-41FA-9B6C-37624F1B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DBD2-DFFD-4FA3-94AD-D4EC503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7157-E3D4-463B-97B6-E741952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519-1600-4EB7-8C9F-61C689E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2BD-BCFC-4786-BB01-65FF7F1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14D8-7B3D-405E-B0AE-2D58E58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601-88A9-4181-A805-74A11EC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CDF-E59C-483F-8BC1-0D5C00E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A7D-756C-454E-A6A4-C5C9F89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EDC-0BF7-4950-B44D-BF618698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B055-DDCA-4ACE-935D-B5C770AB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3C4-47D0-42C0-A17C-7DD454AC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7B2-F86E-43B1-9359-4E3CEE14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E21-F067-4F4F-AFB1-6FAA904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452-FEA6-44BC-BA9A-1CE69CA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AC3-30AB-49EE-99EE-18DCE740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EAD-4D78-41E5-9698-46444F1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EDE-0536-465D-AB2C-73CFE31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B1B-44DA-49EA-8507-1BA7293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5AD-1AEF-4515-80EA-6AC4BD3B4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7E6-B0B0-4CAC-958D-BBB14B20D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973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Blackadder ITC"/>
              </a:rPr>
              <a:t>Животные и окружающая среда.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31640" y="5870160"/>
            <a:ext cx="373716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Никитенко О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учитель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МОУ СОШ №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21360" y="4948200"/>
            <a:ext cx="22226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680" y="879120"/>
            <a:ext cx="807876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unstler Script"/>
              </a:rPr>
              <a:t>Приспособительные особенности животных к наземно-воздушной среде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е в наземно-воздушной среде имеют разнообразное строение и по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вязи с этим, у животных появились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егкие и трахе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16720" y="4076640"/>
            <a:ext cx="230652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305080" cy="2225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419640" y="4437000"/>
            <a:ext cx="2195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ильное развитие получили скелетные органы, обеспечивающие автономность передвижения по суше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9690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ги одних приспособлены к бегу (страус, гепард, зеб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пард – самый быстроногий из зверей. Он развивает скорость до 110 км/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4394160"/>
            <a:ext cx="3854160" cy="246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08720" y="4433760"/>
            <a:ext cx="3456000" cy="2424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08720" y="1773360"/>
            <a:ext cx="345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очвен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547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очвен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lackadder ITC"/>
              </a:rPr>
              <a:t>Табл. Взаимосвязи животных в природ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413000"/>
          <a:ext cx="8229600" cy="531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Тип взаимоотнош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Хищнич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Одни добывают других, умерщвляют  и питаются 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Щука ловит плотв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аук ловит мух в ловчую сеть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Парази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Живут в теле других животных и питаются 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Человеческая аскар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Конкуре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Питаются одной и той же пищ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Горностаи и хорь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Chiller"/>
                          <a:ea typeface="Arial"/>
                        </a:rPr>
                        <a:t>Симби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Взаимовыгодные отно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Рак-отшельник и акт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lackadder ITC"/>
              </a:rPr>
              <a:t>Место и роль животных в природных сообщества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тающие вместе живые организмы образую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ческие сообщества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иоцено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Животные взаимосвязаны  в биоценозах. Основные отношения –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lackadder ITC"/>
              </a:rPr>
              <a:t>пищевые (трофические связ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lackadder ITC"/>
              </a:rPr>
              <a:t>Цепи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Растение – насекомо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насекомоядное животное 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Хищное живот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воды по уроку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. В природе существуют цепи питания: наземно-воздушная, почвенная, водная, орга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. Каждый организм приспособлен к определенной среде об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. Между организмами существуют взаимоотношения различн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2592360" cy="1994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906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. 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учить записи в тетра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епь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unstler Script"/>
              </a:rPr>
              <a:t>Цели и задачи: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Изучить возможные  среды обитания животных и их приспособленность к среде об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Научиться определять взаимосвязи животных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Определить место и роль животных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88000" y="4664160"/>
            <a:ext cx="2556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26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Работа в пара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lackadder ITC"/>
              </a:rPr>
              <a:t>Изучите материал п.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Blackadder ITC"/>
              </a:rPr>
              <a:t>2,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lackadder ITC"/>
              </a:rPr>
              <a:t> выполните зад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оставьте схему «Среды жизни животных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Как животные приспособлены к своей среде обитания? Приведите приме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оставьте таблицу «Взаимосвязи животных в природе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Как животные взаимосвязаны с другими царствами и  окружающей сред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00280"/>
          <a:ext cx="8118720" cy="1683000"/>
        </p:xfrm>
        <a:graphic>
          <a:graphicData uri="http://schemas.openxmlformats.org/drawingml/2006/table">
            <a:tbl>
              <a:tblPr/>
              <a:tblGrid>
                <a:gridCol w="2984760"/>
                <a:gridCol w="2503440"/>
                <a:gridCol w="2630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Тип взаимоотнош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333360"/>
            <a:ext cx="655344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Kunstler Script"/>
              </a:rPr>
              <a:t>Среды жизн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84280"/>
            <a:ext cx="3995640" cy="1346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Вод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полувод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581360"/>
            <a:ext cx="37450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lackadder ITC"/>
              </a:rPr>
              <a:t>Поч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4365720"/>
            <a:ext cx="451476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lackadder ITC"/>
              </a:rPr>
              <a:t>Наземно-воздуш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484280"/>
            <a:ext cx="4932360" cy="1203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Blackadder ITC"/>
              </a:rPr>
              <a:t>Тела друг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Blackadder ITC"/>
              </a:rPr>
              <a:t>организ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6024" t="2713" r="2645" b="6142"/>
          <a:stretch/>
        </p:blipFill>
        <p:spPr>
          <a:xfrm>
            <a:off x="0" y="2852640"/>
            <a:ext cx="1655640" cy="163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6000" y="5241960"/>
            <a:ext cx="2303280" cy="161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332000" y="5357880"/>
            <a:ext cx="1800000" cy="150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79640" y="2924280"/>
            <a:ext cx="1944720" cy="139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2016360" cy="158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332000" y="5357880"/>
            <a:ext cx="1800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23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408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Kunstler Script"/>
              </a:rPr>
              <a:t>Вод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Kunstler Script"/>
              </a:rPr>
              <a:t>Рыбы и раки дышат жабрами. Это специальные органы, которые извлекают из воды растворенный в ней кислород. Лягушка, находясь под водой, дышит кожей. А вот освоившие водную среду звери дышат легкими, поднимаясь к поверхности воды для вдоха. Подобным образом ведут себя и водные жуки.  Только у них, как и у других насекомых, не легкие, а особые дыхательные трубочки – трахе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способления организмов к жизни в водной среде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96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Обтекаемая форма те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тречается у различных групп организмов, обитающих в воде – для снижения лобового сопротивления, что приводит к снижению энергозатрат на пла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36957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3780000"/>
            <a:ext cx="4516200" cy="307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79640" y="0"/>
            <a:ext cx="4421160" cy="295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2468520" cy="29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79640" y="31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моржей и тюленей – ла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2303280" cy="237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975280" y="4221000"/>
            <a:ext cx="3168720" cy="2505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08000" y="414972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771640" y="4221000"/>
            <a:ext cx="3024360" cy="233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292428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бобров, выдр, водоплавающих птиц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ягушек – перепонки между пальцами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2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765000"/>
            <a:ext cx="4562280" cy="54669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всех медведей земного шара только белый медведь ведет полуводный образ жизни. Об этом свидетельствует его строение: узкое обтекаемой формы туловище, широкие лапы-«весла», узкая голова со спрямленным профилем, приподнятыми глазницами и высоко расположенными глазами, удлиненная подвижная шея. Все это характеризует его как хорошего пловца и ныряльщика. Мореплаватели, путешествуя по северным морям, неоднократно встречали белых медведей плавающими в открытом море за сотню миль от ближайшей суши или льдин. Под водой медведь держит глаза открытыми, а ноздри и ушные раковины сжим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87280"/>
            <a:ext cx="36972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6:06:38Z</dcterms:created>
  <dc:creator>Admin</dc:creator>
  <dc:description/>
  <dc:language>en-US</dc:language>
  <cp:lastModifiedBy>Сергей</cp:lastModifiedBy>
  <dcterms:modified xsi:type="dcterms:W3CDTF">2012-03-14T15:38:03Z</dcterms:modified>
  <cp:revision>16</cp:revision>
  <dc:subject/>
  <dc:title>Животные и окружающая среда.</dc:title>
</cp:coreProperties>
</file>