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E09-0BB5-48BE-ABB0-A1B7766A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9F2D-8EB4-4286-8043-1CC74B76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79BB-3478-4BE3-B785-D7C91023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F7B3-76E2-4CC5-ADBD-F62E959E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2F73-E35C-49A0-B6FC-CBCB998A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438B-5983-4909-8295-1B35B85B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0F65-32CC-4201-9D03-21C297E5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58AC-1652-417F-9630-A464B49B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76B3-979E-4CB5-8DC8-E73AD740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C621-1D64-4319-9FB5-DBA7CF83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7232-69E5-43A1-A13C-EC08E076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E16-1E58-4898-B139-A7BE7D3E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3317-B859-4096-9355-FDC3700A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3706-F594-43AD-85A3-602280D9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EF62-6DCC-4A4C-BC8A-DEFC4159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3AC1-DAF8-405B-A235-94567740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BDDF-0AD5-4BB2-9EBE-91D1D388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0DA3-0871-4F81-BC36-F6C9086D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553-D134-45BC-B5BF-22238B5D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59C-36E9-4659-BB8C-43781A8D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262-D128-4A69-A4FB-5EB3A523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F42-8866-4B3E-8514-DB78C819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E518-3384-49C1-AE43-DD2D4255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3902-16E0-4C3C-8AAD-182EFBBE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7CCB-41FA-4DE4-89C5-CA22BBA05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2FD7-A3C1-4EAE-882A-026029128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19731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ff"/>
                </a:solidFill>
                <a:latin typeface="Blackadder ITC"/>
              </a:rPr>
              <a:t>Животные и окружающая среда.</a:t>
            </a:r>
            <a:endParaRPr b="0" lang="en-US" sz="5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131640" y="5870160"/>
            <a:ext cx="3737160" cy="987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lackadder ITC"/>
              </a:rPr>
              <a:t>Никитенко О.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lackadder ITC"/>
              </a:rPr>
              <a:t>учитель биоло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lackadder IT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lackadder ITC"/>
              </a:rPr>
              <a:t>МОУ СОШ №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921360" y="4948200"/>
            <a:ext cx="222264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7680" y="879120"/>
            <a:ext cx="807876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unstler Script"/>
              </a:rPr>
              <a:t>Приспособительные особенности животных к наземно-воздушной среде: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вотные в наземно-воздушной среде имеют разнообразное строение и повед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связи с этим, у животных появились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легкие и трахе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516720" y="4076640"/>
            <a:ext cx="2306520" cy="244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2305080" cy="2225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419640" y="4437000"/>
            <a:ext cx="2195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lackadder ITC"/>
              </a:rPr>
              <a:t>Сильное развитие получили скелетные органы, обеспечивающие автономность передвижения по суше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496908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ги одних приспособлены к бегу (страус, гепард, зебр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епард – самый быстроногий из зверей. Он развивает скорость до 110 км/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24000" y="4394160"/>
            <a:ext cx="3854160" cy="2463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508720" y="4433760"/>
            <a:ext cx="3456000" cy="2424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508720" y="1773360"/>
            <a:ext cx="34560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Почвенная сре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Для почвенных организмов характерны специфические органы и типы движения (роющие конечности у млекопитающи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пособность к изменению толщины тела; наличие специализированных головных капсул у некоторых вид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Формы тела (оклуглая, вольковатая, червеобразна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Редукция глаз и исчезновение пиг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Среди почвенных обитателей широко развита сапрофагия – поедание трупов других животных, гниющих остатк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5476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Почвенная сре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почвенных организмов характерны специфические органы и типы движения (роющие конечности у млекопитающи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ность к изменению толщины тела; наличие специализированных головных капсул у некоторых вид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ы тела (оклуглая, вольковатая, червеобразна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дукция глаз и исчезновение пиг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еди почвенных обитателей широко развита сапрофагия – поедание трупов других животных, гниющих остатк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lackadder ITC"/>
              </a:rPr>
              <a:t>Табл. Взаимосвязи животных в природе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413000"/>
          <a:ext cx="8229600" cy="5313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lackadder ITC"/>
                          <a:ea typeface="Arial"/>
                        </a:rPr>
                        <a:t>Тип взаимоотноше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lackadder ITC"/>
                          <a:ea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lackadder ITC"/>
                          <a:ea typeface="Arial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Хищничест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lackadder ITC"/>
                          <a:ea typeface="Arial"/>
                        </a:rPr>
                        <a:t>Одни добывают других, умерщвляют  и питаются и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lackadder ITC"/>
                          <a:ea typeface="Arial"/>
                        </a:rPr>
                        <a:t>Щука ловит плотв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lackadder ITC"/>
                          <a:ea typeface="Arial"/>
                        </a:rPr>
                        <a:t>Паук ловит мух в ловчую сеть и д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Kunstler Script"/>
                          <a:ea typeface="Arial"/>
                        </a:rPr>
                        <a:t>Паразитиз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Kunstler Script"/>
                          <a:ea typeface="Arial"/>
                        </a:rPr>
                        <a:t>Живут в теле других животных и питаются и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Kunstler Script"/>
                          <a:ea typeface="Arial"/>
                        </a:rPr>
                        <a:t>Человеческая аскари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Kunstler Script"/>
                          <a:ea typeface="Arial"/>
                        </a:rPr>
                        <a:t>Конкурен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Kunstler Script"/>
                          <a:ea typeface="Arial"/>
                        </a:rPr>
                        <a:t>Питаются одной и той же пищ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Kunstler Script"/>
                          <a:ea typeface="Arial"/>
                        </a:rPr>
                        <a:t>Горностаи и хорь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86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Chiller"/>
                          <a:ea typeface="Arial"/>
                        </a:rPr>
                        <a:t>Симбио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Kunstler Script"/>
                          <a:ea typeface="Arial"/>
                        </a:rPr>
                        <a:t>Взаимовыгодные отно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Kunstler Script"/>
                          <a:ea typeface="Arial"/>
                        </a:rPr>
                        <a:t>Рак-отшельник и акти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lackadder ITC"/>
              </a:rPr>
              <a:t>Место и роль животных в природных сообщества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итающие вместе живые организмы образуют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ологические сообщества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биоценоз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lackadder ITC"/>
              </a:rPr>
              <a:t>Животные взаимосвязаны  в биоценозах. Основные отношения –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Blackadder ITC"/>
              </a:rPr>
              <a:t>пищевые (трофические связ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Blackadder ITC"/>
              </a:rPr>
              <a:t>Цепи п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ackadder ITC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Blackadder ITC"/>
              </a:rPr>
              <a:t>Растение – насекомое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ackadder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lackadder ITC"/>
              </a:rPr>
              <a:t>насекомоядное животное 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ackadder ITC"/>
              </a:rPr>
              <a:t>Хищное животно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3024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ыводы по уроку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. В природе существуют цепи питания: наземно-воздушная, почвенная, водная, организ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. Каждый организм приспособлен к определенной среде об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. Между организмами существуют взаимоотношения различного характе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780000" y="4653000"/>
            <a:ext cx="2592360" cy="1994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012000" y="3645000"/>
            <a:ext cx="29066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омашнее задание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. 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учить записи в тетрад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ставить цепь 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Kunstler Script"/>
              </a:rPr>
              <a:t>Цели и задачи: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Kunstler Script"/>
              </a:rPr>
              <a:t>Изучить возможные  среды обитания животных и их приспособленность к среде об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Kunstler Script"/>
              </a:rPr>
              <a:t>Научиться определять взаимосвязи животных в прир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Kunstler Script"/>
              </a:rPr>
              <a:t>Определить место и роль животных в прир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588000" y="4664160"/>
            <a:ext cx="25560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268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lackadder ITC"/>
              </a:rPr>
              <a:t>Работа в парах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620640"/>
            <a:ext cx="843588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Blackadder ITC"/>
              </a:rPr>
              <a:t>Изучите материал п.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Blackadder ITC"/>
              </a:rPr>
              <a:t>2,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Blackadder ITC"/>
              </a:rPr>
              <a:t> выполните зад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lackadder ITC"/>
              </a:rPr>
              <a:t>Составьте схему «Среды жизни животных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lackadder ITC"/>
              </a:rPr>
              <a:t>Как животные приспособлены к своей среде обитания? Приведите приме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lackadder ITC"/>
              </a:rPr>
              <a:t>Составьте таблицу «Взаимосвязи животных в природе»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lackadder ITC"/>
              </a:rPr>
              <a:t>Как животные взаимосвязаны с другими царствами и  окружающей сред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3500280"/>
          <a:ext cx="8118720" cy="1683000"/>
        </p:xfrm>
        <a:graphic>
          <a:graphicData uri="http://schemas.openxmlformats.org/drawingml/2006/table">
            <a:tbl>
              <a:tblPr/>
              <a:tblGrid>
                <a:gridCol w="2984760"/>
                <a:gridCol w="2503440"/>
                <a:gridCol w="2630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lackadder ITC"/>
                          <a:ea typeface="Arial"/>
                        </a:rPr>
                        <a:t>Тип взаимоотноше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lackadder ITC"/>
                          <a:ea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lackadder ITC"/>
                          <a:ea typeface="Arial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87280" y="333360"/>
            <a:ext cx="655344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Kunstler Script"/>
              </a:rPr>
              <a:t>Среды жизни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484280"/>
            <a:ext cx="3995640" cy="1346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lackadder ITC"/>
              </a:rPr>
              <a:t>Водная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lackadder ITC"/>
              </a:rPr>
              <a:t> </a:t>
            </a:r>
            <a:r>
              <a:rPr b="1" lang="en-US" sz="3600" spc="-1" strike="noStrike">
                <a:solidFill>
                  <a:srgbClr val="336699"/>
                </a:solidFill>
                <a:latin typeface="Blackadder ITC"/>
              </a:rPr>
              <a:t>полувод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4581360"/>
            <a:ext cx="374508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Blackadder ITC"/>
              </a:rPr>
              <a:t>Почве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4365720"/>
            <a:ext cx="451476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Blackadder ITC"/>
              </a:rPr>
              <a:t>Наземно-воздуш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1484280"/>
            <a:ext cx="4932360" cy="12034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Blackadder ITC"/>
              </a:rPr>
              <a:t>Тела друг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Blackadder ITC"/>
              </a:rPr>
              <a:t>организм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6024" t="2713" r="2645" b="6142"/>
          <a:stretch/>
        </p:blipFill>
        <p:spPr>
          <a:xfrm>
            <a:off x="0" y="2852640"/>
            <a:ext cx="1655640" cy="1636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796000" y="5241960"/>
            <a:ext cx="2303280" cy="1616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332000" y="5357880"/>
            <a:ext cx="1800000" cy="1500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979640" y="2924280"/>
            <a:ext cx="1944720" cy="139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724360" y="2708280"/>
            <a:ext cx="2016360" cy="1589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332000" y="5357880"/>
            <a:ext cx="18000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9231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408"/>
                </a:solidFill>
                <a:latin typeface="Tahoma"/>
              </a:rPr>
              <a:t>            </a:t>
            </a:r>
            <a:r>
              <a:rPr b="1" lang="en-US" sz="4400" spc="-1" strike="noStrike">
                <a:solidFill>
                  <a:srgbClr val="ffffff"/>
                </a:solidFill>
                <a:latin typeface="Kunstler Script"/>
              </a:rPr>
              <a:t>Водная сре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616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Kunstler Script"/>
              </a:rPr>
              <a:t>Рыбы и раки дышат жабрами. Это специальные органы, которые извлекают из воды растворенный в ней кислород. Лягушка, находясь под водой, дышит кожей. А вот освоившие водную среду звери дышат легкими, поднимаясь к поверхности воды для вдоха. Подобным образом ведут себя и водные жуки.  Только у них, как и у других насекомых, не легкие, а особые дыхательные трубочки – трахе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испособления организмов к жизни в водной среде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96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Обтекаемая форма те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стречается у различных групп организмов, обитающих в воде – для снижения лобового сопротивления, что приводит к снижению энергозатрат на пла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948360" y="443700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924360" y="443700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788000" y="1484280"/>
            <a:ext cx="36957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00720" y="3780000"/>
            <a:ext cx="4516200" cy="307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979640" y="0"/>
            <a:ext cx="4421160" cy="295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68360" y="3789360"/>
            <a:ext cx="2468520" cy="2924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79640" y="31417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 моржей и тюленей – лас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564000" y="333360"/>
            <a:ext cx="2303280" cy="2376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227640" y="333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975280" y="4221000"/>
            <a:ext cx="3168720" cy="2505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08000" y="414972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2771640" y="4221000"/>
            <a:ext cx="3024360" cy="2333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03280" y="2924280"/>
            <a:ext cx="74898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 бобров, выдр, водоплавающих птиц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ягушек – перепонки между пальцами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5292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765000"/>
            <a:ext cx="4562280" cy="54669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 всех медведей земного шара только белый медведь ведет полуводный образ жизни. Об этом свидетельствует его строение: узкое обтекаемой формы туловище, широкие лапы-«весла», узкая голова со спрямленным профилем, приподнятыми глазницами и высоко расположенными глазами, удлиненная подвижная шея. Все это характеризует его как хорошего пловца и ныряльщика. Мореплаватели, путешествуя по северным морям, неоднократно встречали белых медведей плавающими в открытом море за сотню миль от ближайшей суши или льдин. Под водой медведь держит глаза открытыми, а ноздри и ушные раковины сжима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0920" y="287280"/>
            <a:ext cx="36972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6:06:38Z</dcterms:created>
  <dc:creator>Admin</dc:creator>
  <dc:description/>
  <dc:language>en-US</dc:language>
  <cp:lastModifiedBy>Сергей</cp:lastModifiedBy>
  <dcterms:modified xsi:type="dcterms:W3CDTF">2012-03-14T15:38:03Z</dcterms:modified>
  <cp:revision>16</cp:revision>
  <dc:subject/>
  <dc:title>Животные и окружающая среда.</dc:title>
</cp:coreProperties>
</file>