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20E-F41F-4BCD-8014-74EF3A1A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BDA-B142-4134-ABB0-BFB21AC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CDD-79FF-41BF-820F-A945057E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18D-30C6-4D77-9954-454F7A64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AB9-A875-4D16-9092-F0FBD993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965-BB5F-4110-838F-B47A5A6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005-6CBE-48A8-A4D3-A85674B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69B-64BE-417E-9FC9-50AFC59B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CCB-64C8-4D86-BA88-5B76C3C9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C4B-0A9D-4C9C-A7F3-BA17DBA3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BBD-7E9B-4A5C-9462-7E169F5B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09E-F354-4D48-81B0-FE92C90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d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3452-C16A-4DC3-A0C7-0C3B7A6AB21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4"/>
          <p:cNvGrpSpPr/>
          <p:nvPr/>
        </p:nvGrpSpPr>
        <p:grpSpPr>
          <a:xfrm>
            <a:off x="250920" y="5661000"/>
            <a:ext cx="2743200" cy="504720"/>
            <a:chOff x="250920" y="5661000"/>
            <a:chExt cx="2743200" cy="504720"/>
          </a:xfrm>
        </p:grpSpPr>
        <p:pic>
          <p:nvPicPr>
            <p:cNvPr id="42" name="Заголовок 4" descr=""/>
            <p:cNvPicPr/>
            <p:nvPr/>
          </p:nvPicPr>
          <p:blipFill>
            <a:blip r:embed="rId2"/>
            <a:stretch/>
          </p:blipFill>
          <p:spPr>
            <a:xfrm>
              <a:off x="250920" y="5661000"/>
              <a:ext cx="27432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55960" y="5664240"/>
              <a:ext cx="273204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9d9d9"/>
                  </a:solidFill>
                  <a:latin typeface="Arial"/>
                </a:rPr>
                <a:t>Выпуск № 1 сентябрь 2011 г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Содержимое 5"/>
          <p:cNvGrpSpPr/>
          <p:nvPr/>
        </p:nvGrpSpPr>
        <p:grpSpPr>
          <a:xfrm>
            <a:off x="213840" y="1040760"/>
            <a:ext cx="8357400" cy="3267000"/>
            <a:chOff x="213840" y="1040760"/>
            <a:chExt cx="8357400" cy="3267000"/>
          </a:xfrm>
        </p:grpSpPr>
        <p:pic>
          <p:nvPicPr>
            <p:cNvPr id="45" name="Содержимое 5" descr=""/>
            <p:cNvPicPr/>
            <p:nvPr/>
          </p:nvPicPr>
          <p:blipFill>
            <a:blip r:embed="rId3"/>
            <a:stretch/>
          </p:blipFill>
          <p:spPr>
            <a:xfrm rot="21154200">
              <a:off x="324000" y="1557360"/>
              <a:ext cx="81370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21154200">
              <a:off x="333000" y="1558800"/>
              <a:ext cx="81223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50b3d"/>
                  </a:solidFill>
                  <a:latin typeface="Arial"/>
                </a:rPr>
                <a:t>Информационно-методический журнал для взрослых и дет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ea157a"/>
                  </a:solidFill>
                  <a:latin typeface="Arial"/>
                </a:rPr>
                <a:t>« ЗЕБРА »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227640" y="3860640"/>
            <a:ext cx="2633760" cy="273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196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униципальное Дошкольное Образовательное Учреждение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етский сад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№ 50</a:t>
            </a:r>
            <a:endParaRPr b="1" lang="en-US" sz="2400" spc="-1" strike="noStrike">
              <a:solidFill>
                <a:srgbClr val="d9d9d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2"/>
          <p:cNvGrpSpPr/>
          <p:nvPr/>
        </p:nvGrpSpPr>
        <p:grpSpPr>
          <a:xfrm>
            <a:off x="4859280" y="260280"/>
            <a:ext cx="3834000" cy="792360"/>
            <a:chOff x="4859280" y="260280"/>
            <a:chExt cx="3834000" cy="792360"/>
          </a:xfrm>
        </p:grpSpPr>
        <p:pic>
          <p:nvPicPr>
            <p:cNvPr id="94" name="Rectangle 2" descr=""/>
            <p:cNvPicPr/>
            <p:nvPr/>
          </p:nvPicPr>
          <p:blipFill>
            <a:blip r:embed="rId2"/>
            <a:stretch/>
          </p:blipFill>
          <p:spPr>
            <a:xfrm>
              <a:off x="4859280" y="260280"/>
              <a:ext cx="383400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862160" y="264600"/>
              <a:ext cx="382788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9280" y="274680"/>
            <a:ext cx="3827520" cy="7063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ети рисуют</a:t>
            </a: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pic>
        <p:nvPicPr>
          <p:cNvPr id="97" name="Текст 2" descr=""/>
          <p:cNvPicPr/>
          <p:nvPr/>
        </p:nvPicPr>
        <p:blipFill>
          <a:blip r:embed="rId3"/>
          <a:stretch/>
        </p:blipFill>
        <p:spPr>
          <a:xfrm>
            <a:off x="108000" y="1628640"/>
            <a:ext cx="4824360" cy="3418200"/>
          </a:xfrm>
          <a:prstGeom prst="rect">
            <a:avLst/>
          </a:prstGeom>
          <a:ln w="0">
            <a:noFill/>
          </a:ln>
        </p:spPr>
      </p:pic>
      <p:pic>
        <p:nvPicPr>
          <p:cNvPr id="98" name="Текст 2" descr=""/>
          <p:cNvPicPr/>
          <p:nvPr/>
        </p:nvPicPr>
        <p:blipFill>
          <a:blip r:embed="rId4"/>
          <a:stretch/>
        </p:blipFill>
        <p:spPr>
          <a:xfrm>
            <a:off x="5003640" y="1125360"/>
            <a:ext cx="36784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96000" y="274320"/>
            <a:ext cx="2890800" cy="63324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Раскрась</a:t>
            </a: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pic>
        <p:nvPicPr>
          <p:cNvPr id="100" name="" descr="Картинка 3 из 523"/>
          <p:cNvPicPr/>
          <p:nvPr/>
        </p:nvPicPr>
        <p:blipFill>
          <a:blip r:embed="rId2"/>
          <a:stretch/>
        </p:blipFill>
        <p:spPr>
          <a:xfrm>
            <a:off x="250920" y="692280"/>
            <a:ext cx="4537080" cy="583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17 из 523"/>
          <p:cNvPicPr/>
          <p:nvPr/>
        </p:nvPicPr>
        <p:blipFill>
          <a:blip r:embed="rId3"/>
          <a:stretch/>
        </p:blipFill>
        <p:spPr>
          <a:xfrm>
            <a:off x="4932360" y="1557360"/>
            <a:ext cx="38336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2000" y="188640"/>
            <a:ext cx="4041720" cy="56196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Arial"/>
              </a:rPr>
              <a:t>Музыкальная страничка</a:t>
            </a:r>
            <a:endParaRPr b="1" lang="en-US" sz="24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537080" cy="583236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есня «Светофор» (слова Ю.Забутов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.Светофоры на дорог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Установлены везде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Чтобы был порядок строгий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е случилось чтоб бед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Что такое светофор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аш дорожный контролер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Он цвета переключа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И движеньем управля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2.Вот зажегся красный свет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ерехода людям н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 тротуара не сойд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остоим и подожд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усть троллейбусы проедут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И трамваи пусть пройдут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И машины легковы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Пусть промчатся, пробегу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3.Вот и желтый загорелс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Требует вним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Это ведь для нас с тобо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Легкое зада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аконец, горит зеленый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у, в дорогу, пешех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И опять по переход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мело двинулся нар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900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5280" y="259920"/>
            <a:ext cx="4845240" cy="64764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d9d9"/>
                </a:solidFill>
                <a:latin typeface="Arial"/>
              </a:rPr>
              <a:t>Очумелые ручки</a:t>
            </a:r>
            <a:endParaRPr b="1" lang="en-US" sz="36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5640" y="1125360"/>
            <a:ext cx="4897440" cy="464040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«Светофор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Вам понадобится: Коробочка из-под крема , клей-карандаш, салфетка, клеенка для намазывания клеем, цветная бумаг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.Вам необходимо обклеить коробочку черной бумаг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.Затем из цветной бумаги вырезать три кружочка одинакового размера и приклеить на черную основ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!!!Так же вы можете изготовить подставочку для светофора. Для этого можно использовать тонкую небольшую палочку и кусочек пеноплас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Очень легко и просто вместе с ребенком дома изготовить такой светофор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979640" y="4221000"/>
            <a:ext cx="20304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Rectangle 2"/>
          <p:cNvGrpSpPr/>
          <p:nvPr/>
        </p:nvGrpSpPr>
        <p:grpSpPr>
          <a:xfrm>
            <a:off x="3419640" y="268200"/>
            <a:ext cx="5273640" cy="568440"/>
            <a:chOff x="3419640" y="268200"/>
            <a:chExt cx="5273640" cy="568440"/>
          </a:xfrm>
        </p:grpSpPr>
        <p:pic>
          <p:nvPicPr>
            <p:cNvPr id="111" name="Rectangle 2" descr=""/>
            <p:cNvPicPr/>
            <p:nvPr/>
          </p:nvPicPr>
          <p:blipFill>
            <a:blip r:embed="rId2"/>
            <a:stretch/>
          </p:blipFill>
          <p:spPr>
            <a:xfrm>
              <a:off x="3419640" y="268200"/>
              <a:ext cx="527364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423600" y="271080"/>
              <a:ext cx="52653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3"/>
          <p:cNvGrpSpPr/>
          <p:nvPr/>
        </p:nvGrpSpPr>
        <p:grpSpPr>
          <a:xfrm>
            <a:off x="179280" y="981000"/>
            <a:ext cx="8513640" cy="5687640"/>
            <a:chOff x="179280" y="981000"/>
            <a:chExt cx="8513640" cy="5687640"/>
          </a:xfrm>
        </p:grpSpPr>
        <p:pic>
          <p:nvPicPr>
            <p:cNvPr id="114" name="Rectangle 3" descr=""/>
            <p:cNvPicPr/>
            <p:nvPr/>
          </p:nvPicPr>
          <p:blipFill>
            <a:blip r:embed="rId3"/>
            <a:stretch/>
          </p:blipFill>
          <p:spPr>
            <a:xfrm>
              <a:off x="179280" y="981000"/>
              <a:ext cx="8513640" cy="56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85760" y="984960"/>
              <a:ext cx="8500320" cy="56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19280" y="188640"/>
            <a:ext cx="5267160" cy="56196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Для родителей</a:t>
            </a: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496360" cy="587700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Светофор и ребен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памятка родителям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Ваш малыш стал совсем большой и самостоятельный. Он ходит в школу и гордит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Этим. Но существует опасность, которая чаще других подстерегает ребят. Это движущийся транспор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Есть детские книжки, детский театр, детское кино, детские игрушки. Но нет и быть не может "детского дорожного движения"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Безопасному поведению на дороге надо учить. Но заученные, как стихи, Правила не уберегут ребенка от беды. Поэтому наряду с изучением Правил дорожного движения надо действовать личным примеро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Надо объяснять ребенку, что Зеленый сигнал светофора не означает, что дорогу можно переходить без огляд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н лишь РАЗРЕШАЕТ переход дороги. Безопасность пешеход должен обеспечить себе сам. Для этого нужно узнать, как переходить дорогу по зеленому сигналу светофора и научиться это делать на практик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Правила перехода дороги на регулируемом пешеходном переходе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становись на краю тротуара, не наступай на бордюрный камен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Дождись зеленого сигнала. Если он мигает, переходить не следует, хотя переход и разрешен - можно попасть в опасную ситуац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Посмотри по сторонам. Транспортные средства стоят и водители пропускают пешеходов? Переходи дорогу, придерживаясь правой стороны переход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Иди быстро, но не бег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Если при подходе к середине проезжей части загорается красный сигнал, остановись. Не делай лишних шагов ни вперед, ни назад. Следи за проезжающим транспортом слева и спра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Заканчивай переход, только убедившись, что снова горит зеленый сигнал и транспортные средства стоя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d9d9d9"/>
                </a:solidFill>
                <a:latin typeface="Arial"/>
              </a:rPr>
              <a:t>В следующем выпуске…</a:t>
            </a:r>
            <a:br>
              <a:rPr sz="4000"/>
            </a:b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ы узнаете, где и когда появились первые машин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то придумал машину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ие машины называются «Службой спас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d9"/>
                </a:solidFill>
                <a:latin typeface="Verdana"/>
              </a:rPr>
              <a:t>Над выпуском работали:</a:t>
            </a:r>
            <a:endParaRPr b="1" lang="en-US" sz="4000" spc="-1" strike="noStrike">
              <a:solidFill>
                <a:srgbClr val="d9d9d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лавный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редактор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рмакова А.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Редактор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дина Е.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Корреспонденты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Хромова Н.Н., Куклина Е.А., Нуждова О.В., Зуйкова М.А., Тараканова О.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Rectangle 2"/>
          <p:cNvGrpSpPr/>
          <p:nvPr/>
        </p:nvGrpSpPr>
        <p:grpSpPr>
          <a:xfrm>
            <a:off x="5435640" y="189000"/>
            <a:ext cx="3448080" cy="863640"/>
            <a:chOff x="5435640" y="189000"/>
            <a:chExt cx="3448080" cy="863640"/>
          </a:xfrm>
        </p:grpSpPr>
        <p:pic>
          <p:nvPicPr>
            <p:cNvPr id="50" name="Rectangle 2" descr=""/>
            <p:cNvPicPr/>
            <p:nvPr/>
          </p:nvPicPr>
          <p:blipFill>
            <a:blip r:embed="rId2"/>
            <a:stretch/>
          </p:blipFill>
          <p:spPr>
            <a:xfrm>
              <a:off x="5435640" y="189000"/>
              <a:ext cx="3448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438160" y="193680"/>
              <a:ext cx="344268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9d9d9"/>
                  </a:solidFill>
                  <a:latin typeface="Arial"/>
                </a:rPr>
                <a:t>От редакто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450720" y="1773360"/>
            <a:ext cx="7865640" cy="4750920"/>
            <a:chOff x="450720" y="1773360"/>
            <a:chExt cx="7865640" cy="4750920"/>
          </a:xfrm>
        </p:grpSpPr>
        <p:pic>
          <p:nvPicPr>
            <p:cNvPr id="53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1773360"/>
              <a:ext cx="7865640" cy="47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64040" y="1778760"/>
              <a:ext cx="7838640" cy="47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Verdana"/>
                </a:rPr>
                <a:t>Мы приветствуем вас на страницах нашего журнала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Verdana"/>
                </a:rPr>
                <a:t>«Зебр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66"/>
                  </a:solidFill>
                  <a:latin typeface="Verdana"/>
                </a:rPr>
                <a:t>Главная цель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Verdana"/>
                </a:rPr>
                <a:t> создания журнала– формирование самостоятельного, творческого типа мышления, обеспечивающего ребенку возможность правильно оценить дорожную ситуацию и не стать причиной или, более того, жертвой дорожного происшествия.</a:t>
              </a: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Verdana"/>
                </a:rPr>
                <a:t>Первый выпуск журнала посвящен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Verdana"/>
                </a:rPr>
                <a:t>светофору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Verdana"/>
                </a:rPr>
                <a:t>.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2"/>
          <p:cNvGrpSpPr/>
          <p:nvPr/>
        </p:nvGrpSpPr>
        <p:grpSpPr>
          <a:xfrm>
            <a:off x="1763640" y="260280"/>
            <a:ext cx="5992920" cy="568440"/>
            <a:chOff x="1763640" y="260280"/>
            <a:chExt cx="5992920" cy="568440"/>
          </a:xfrm>
        </p:grpSpPr>
        <p:pic>
          <p:nvPicPr>
            <p:cNvPr id="56" name="Rectangle 2" descr=""/>
            <p:cNvPicPr/>
            <p:nvPr/>
          </p:nvPicPr>
          <p:blipFill>
            <a:blip r:embed="rId2"/>
            <a:stretch/>
          </p:blipFill>
          <p:spPr>
            <a:xfrm>
              <a:off x="1763640" y="260280"/>
              <a:ext cx="59929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768320" y="263160"/>
              <a:ext cx="59835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Verdana"/>
                </a:rPr>
                <a:t>Содержани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Rectangle 3"/>
          <p:cNvGrpSpPr/>
          <p:nvPr/>
        </p:nvGrpSpPr>
        <p:grpSpPr>
          <a:xfrm>
            <a:off x="395280" y="981000"/>
            <a:ext cx="8297640" cy="5000400"/>
            <a:chOff x="395280" y="981000"/>
            <a:chExt cx="8297640" cy="5000400"/>
          </a:xfrm>
        </p:grpSpPr>
        <p:pic>
          <p:nvPicPr>
            <p:cNvPr id="59" name="Rectangle 3" descr=""/>
            <p:cNvPicPr/>
            <p:nvPr/>
          </p:nvPicPr>
          <p:blipFill>
            <a:blip r:embed="rId3"/>
            <a:stretch/>
          </p:blipFill>
          <p:spPr>
            <a:xfrm>
              <a:off x="395280" y="981000"/>
              <a:ext cx="8297640" cy="50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01760" y="984240"/>
              <a:ext cx="8284680" cy="49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Это интересно!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0000ff"/>
                  </a:solidFill>
                  <a:latin typeface="Verdana"/>
                </a:rPr>
                <a:t>Кто придумал светофор?...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4-5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Читайка.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0000ff"/>
                  </a:solidFill>
                  <a:latin typeface="Verdana"/>
                </a:rPr>
                <a:t>Светофор……………………………………………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6-7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Игротека  </a:t>
              </a:r>
              <a:r>
                <a:rPr b="0" lang="ru-RU" sz="2000" spc="-1" strike="noStrike">
                  <a:solidFill>
                    <a:srgbClr val="0000ff"/>
                  </a:solidFill>
                  <a:latin typeface="Verdana"/>
                </a:rPr>
                <a:t>Исправь ошибку…………………………….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8-9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Дети рисуют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……………………………………………10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Раскрась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 Светофор……………………………….11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Verdana"/>
                </a:rPr>
                <a:t>Музыкальная страничка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Verdana"/>
                </a:rPr>
                <a:t>     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Песня «Светофор»…………………………………….12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Очумелые ручки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 Делаем светофор…..13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Verdana"/>
                </a:rPr>
                <a:t>Для родителей.</a:t>
              </a:r>
              <a:r>
                <a:rPr b="0" lang="ru-RU" sz="2400" spc="-1" strike="noStrike">
                  <a:solidFill>
                    <a:srgbClr val="0000ff"/>
                  </a:solidFill>
                  <a:latin typeface="Verdana"/>
                </a:rPr>
                <a:t> Памятка «Ребенок и светофор»………………………………………………….14 с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Rectangle 2"/>
          <p:cNvGrpSpPr/>
          <p:nvPr/>
        </p:nvGrpSpPr>
        <p:grpSpPr>
          <a:xfrm>
            <a:off x="900000" y="836640"/>
            <a:ext cx="7145280" cy="936720"/>
            <a:chOff x="900000" y="836640"/>
            <a:chExt cx="7145280" cy="936720"/>
          </a:xfrm>
        </p:grpSpPr>
        <p:pic>
          <p:nvPicPr>
            <p:cNvPr id="62" name="Rectangle 2" descr=""/>
            <p:cNvPicPr/>
            <p:nvPr/>
          </p:nvPicPr>
          <p:blipFill>
            <a:blip r:embed="rId2"/>
            <a:stretch/>
          </p:blipFill>
          <p:spPr>
            <a:xfrm>
              <a:off x="900000" y="836640"/>
              <a:ext cx="71452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05400" y="841680"/>
              <a:ext cx="713376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3300"/>
                  </a:solidFill>
                  <a:latin typeface="Arial"/>
                </a:rPr>
                <a:t>Кто придумал светофор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3"/>
          <p:cNvGrpSpPr/>
          <p:nvPr/>
        </p:nvGrpSpPr>
        <p:grpSpPr>
          <a:xfrm>
            <a:off x="324000" y="1700280"/>
            <a:ext cx="8297280" cy="4935240"/>
            <a:chOff x="324000" y="1700280"/>
            <a:chExt cx="8297280" cy="4935240"/>
          </a:xfrm>
        </p:grpSpPr>
        <p:pic>
          <p:nvPicPr>
            <p:cNvPr id="65" name="Rectangle 3" descr=""/>
            <p:cNvPicPr/>
            <p:nvPr/>
          </p:nvPicPr>
          <p:blipFill>
            <a:blip r:embed="rId3"/>
            <a:stretch/>
          </p:blipFill>
          <p:spPr>
            <a:xfrm>
              <a:off x="324000" y="1700280"/>
              <a:ext cx="8297280" cy="49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30480" y="1703520"/>
              <a:ext cx="8284320" cy="49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00" y="171648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уличный светофор появился в Лондоне в 1868 году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умал его английский инженер Найт. Прототипом уличного, по всей видимости, послужил железнодорожный светофор, который к тому времени уже достаточно давно применялся для регулирования железнодорожных перевозок. Установленный перед зданием английского парламента, первый светофор был механическим: цветные сигналы менялись в нем с помощью системы приводных ремней. Для этого рядом дежурил специальный полицейский. Прежде чем ввести светофор в действие, в газетах Лондона были опубликованы подробные правила, из которых люди впервые узнали, что означает зеленый цвет, что — красный и т.д. Вскоре устройство оснастили газовым фонарем, чтобы изменения цветов были видны и в темное время суток. Однако это нововведение оказалось роковым для судьбы первого уличного светофора. Фонарь однажды взорвался и смертельно ранил находившегося поблизости полисмена. С тех пор история светофора прервалась почти на полве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3640" y="189000"/>
            <a:ext cx="5111640" cy="5032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Verdana"/>
              </a:rPr>
              <a:t>Это интересно!</a:t>
            </a:r>
            <a:endParaRPr b="1" lang="en-US" sz="3200" spc="-1" strike="noStrike">
              <a:solidFill>
                <a:srgbClr val="d9d9d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250920" y="333360"/>
            <a:ext cx="5473440" cy="5182920"/>
            <a:chOff x="250920" y="333360"/>
            <a:chExt cx="5473440" cy="5182920"/>
          </a:xfrm>
        </p:grpSpPr>
        <p:pic>
          <p:nvPicPr>
            <p:cNvPr id="70" name="Rectangle 3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5473440" cy="51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54880" y="336960"/>
              <a:ext cx="5464800" cy="51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24000" y="404640"/>
            <a:ext cx="54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вое рождение автоматического регулятора уличного движения состоялось в 1914 году в американском Кливленде, а чуть позже в Чикаго и Нью-Йорке. Светофоры были на сей раз электрическими, но так же, как и лондонский, имели лишь два сигнала - красный и зеленый. Желтый цвет появился только в 1918 году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России первый светофор был установлен в 1924 году в Москве на пересечении улиц Кузнецкий мост и Петровка. Длительное время эти устройства были ручными, но с развитием техники постепенно внедрялось автоматическое управление. Так, в 1955 году в столице на Садовом кольце появилась первая «зеленая волна», состоящая из пяти светофоров: автомобиль, попадавший на первом регуляторе на зеленый свет, беспрепятственно проезжал все оста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98620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Rectangle 2"/>
          <p:cNvGrpSpPr/>
          <p:nvPr/>
        </p:nvGrpSpPr>
        <p:grpSpPr>
          <a:xfrm>
            <a:off x="5435640" y="260280"/>
            <a:ext cx="3473280" cy="568440"/>
            <a:chOff x="5435640" y="260280"/>
            <a:chExt cx="3473280" cy="568440"/>
          </a:xfrm>
        </p:grpSpPr>
        <p:pic>
          <p:nvPicPr>
            <p:cNvPr id="75" name="Rectangle 2" descr=""/>
            <p:cNvPicPr/>
            <p:nvPr/>
          </p:nvPicPr>
          <p:blipFill>
            <a:blip r:embed="rId2"/>
            <a:stretch/>
          </p:blipFill>
          <p:spPr>
            <a:xfrm>
              <a:off x="5435640" y="260280"/>
              <a:ext cx="347328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438160" y="263160"/>
              <a:ext cx="34678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9d9d9"/>
                  </a:solidFill>
                  <a:latin typeface="Verdana"/>
                </a:rPr>
                <a:t>Читай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ectangle 3"/>
          <p:cNvGrpSpPr/>
          <p:nvPr/>
        </p:nvGrpSpPr>
        <p:grpSpPr>
          <a:xfrm>
            <a:off x="4500720" y="880920"/>
            <a:ext cx="4120920" cy="5716440"/>
            <a:chOff x="4500720" y="880920"/>
            <a:chExt cx="4120920" cy="5716440"/>
          </a:xfrm>
        </p:grpSpPr>
        <p:pic>
          <p:nvPicPr>
            <p:cNvPr id="78" name="Rectangle 3" descr=""/>
            <p:cNvPicPr/>
            <p:nvPr/>
          </p:nvPicPr>
          <p:blipFill>
            <a:blip r:embed="rId3"/>
            <a:stretch/>
          </p:blipFill>
          <p:spPr>
            <a:xfrm>
              <a:off x="4500720" y="880920"/>
              <a:ext cx="4120920" cy="57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503600" y="884880"/>
              <a:ext cx="4114440" cy="57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500720" y="902520"/>
            <a:ext cx="403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ит дедушка Ег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оворить со светофором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У него язык простой –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мотрит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красным глазом – стой!</a:t>
            </a:r>
            <a:br>
              <a:rPr sz="2400"/>
            </a:br>
            <a:r>
              <a:rPr b="0" i="1" lang="en-US" sz="2400" spc="-1" strike="noStrike">
                <a:solidFill>
                  <a:srgbClr val="d9d9d9"/>
                </a:solidFill>
                <a:latin typeface="Arial"/>
              </a:rPr>
              <a:t>А зажжет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 зеленый глаз</a:t>
            </a:r>
            <a:r>
              <a:rPr b="0" i="1" lang="en-US" sz="2400" spc="-1" strike="noStrike">
                <a:solidFill>
                  <a:srgbClr val="d9d9d9"/>
                </a:solidFill>
                <a:latin typeface="Arial"/>
              </a:rPr>
              <a:t> –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начит, пропускает нас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, пока не смотрит красным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дороге безопасно»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ртит головой Егор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Где же дядя-светофор?»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ы его узнаем сразу –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дноногий и двуглазы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39640" y="620640"/>
            <a:ext cx="3514680" cy="4392720"/>
          </a:xfrm>
          <a:prstGeom prst="rect">
            <a:avLst/>
          </a:prstGeom>
          <a:ln w="507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4033800" cy="23767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Встало с краю улицы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В длинном сапоге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Чучело трехглазое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На одной ног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Ответ: Светоф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34920" y="3860640"/>
            <a:ext cx="3887640" cy="21607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Я глазищами моргаю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Неустанно день и ночь.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И машинам помогаю,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И тебе хочу помоч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Ответ: Светоф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Картинка 5 из 480"/>
          <p:cNvPicPr/>
          <p:nvPr/>
        </p:nvPicPr>
        <p:blipFill>
          <a:blip r:embed="rId2"/>
          <a:stretch/>
        </p:blipFill>
        <p:spPr>
          <a:xfrm>
            <a:off x="5867280" y="260280"/>
            <a:ext cx="29577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2"/>
          <p:cNvGrpSpPr/>
          <p:nvPr/>
        </p:nvGrpSpPr>
        <p:grpSpPr>
          <a:xfrm>
            <a:off x="5364000" y="268200"/>
            <a:ext cx="3329280" cy="639720"/>
            <a:chOff x="5364000" y="268200"/>
            <a:chExt cx="3329280" cy="639720"/>
          </a:xfrm>
        </p:grpSpPr>
        <p:pic>
          <p:nvPicPr>
            <p:cNvPr id="86" name="Rectangle 2" descr=""/>
            <p:cNvPicPr/>
            <p:nvPr/>
          </p:nvPicPr>
          <p:blipFill>
            <a:blip r:embed="rId2"/>
            <a:stretch/>
          </p:blipFill>
          <p:spPr>
            <a:xfrm>
              <a:off x="5364000" y="268200"/>
              <a:ext cx="33292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366520" y="271440"/>
              <a:ext cx="332424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9d9d9"/>
                  </a:solidFill>
                  <a:latin typeface="Verdana"/>
                </a:rPr>
                <a:t>Игроте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Рисунок 1" descr=""/>
          <p:cNvPicPr/>
          <p:nvPr/>
        </p:nvPicPr>
        <p:blipFill>
          <a:blip r:embed="rId3"/>
          <a:stretch/>
        </p:blipFill>
        <p:spPr>
          <a:xfrm>
            <a:off x="1187280" y="1125360"/>
            <a:ext cx="6264360" cy="3794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08000" y="5445000"/>
            <a:ext cx="5113440" cy="5032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справь ошиб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1197000"/>
            <a:ext cx="5327640" cy="540072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креплять представление детей о назначении светофора, о его сигнал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атериал: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ветные картонные кружки (желтый, зеленый, красный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акет светофо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Ход иг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едущий, раздав детям кружки зеленого, желтого, красного цветов, последовательно переключает светофор, а дети (ребенок) показывают соответствующие кружки и объясняют, что означает каждый из ни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ыигрывает тот, кто правильно покажет все кружки и расскажет о значении цве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174840" cy="3980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484000" y="115560"/>
            <a:ext cx="6202440" cy="865080"/>
          </a:xfrm>
          <a:prstGeom prst="rect">
            <a:avLst/>
          </a:prstGeom>
          <a:gradFill rotWithShape="0">
            <a:gsLst>
              <a:gs pos="0">
                <a:srgbClr val="fed46c">
                  <a:alpha val="31372"/>
                </a:srgbClr>
              </a:gs>
              <a:gs pos="100000">
                <a:srgbClr val="d9d9d9">
                  <a:alpha val="50196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Дидактическая игра</a:t>
            </a:r>
            <a:r>
              <a:rPr b="1" lang="en-US" sz="36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93913"/>
                </a:solidFill>
                <a:latin typeface="Arial"/>
              </a:rPr>
              <a:t>«Светофор»</a:t>
            </a:r>
            <a:endParaRPr b="1" lang="en-US" sz="3600" spc="-1" strike="noStrike">
              <a:solidFill>
                <a:srgbClr val="d9d9d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6:56:34Z</dcterms:created>
  <dc:creator>Александра</dc:creator>
  <dc:description/>
  <cp:keywords/>
  <dc:language>en-US</dc:language>
  <cp:lastModifiedBy>Александра</cp:lastModifiedBy>
  <dcterms:modified xsi:type="dcterms:W3CDTF">2012-11-10T12:50:59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6679</vt:lpwstr>
  </property>
</Properties>
</file>