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481-735E-44F2-BE75-68B483CC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FD2-2DA3-411A-88FC-BCF6E60C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39B-273B-436C-82A9-E28CDED8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8CD-8A51-4474-83A7-71C6F9B1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670-9A6D-4778-9000-61FAFA3D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230-BEF8-4C02-A599-B4249F52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812-EB94-483C-B5F8-85FB752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F07-0E9D-4705-8973-87CB9FB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7B7-196D-46B6-969C-7C94DBB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F40-C434-4EFB-9486-2AA4366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0C2-5074-42BA-B25F-0186FA9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8B6-3A83-4CF2-9B41-602CF1EB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0F8-8522-422E-BCC1-2107EDC4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48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170028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852640"/>
            <a:ext cx="483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ff"/>
                </a:solidFill>
                <a:latin typeface="Sylfaen"/>
              </a:rPr>
              <a:t>“</a:t>
            </a:r>
            <a:r>
              <a:rPr b="1" i="1" lang="en-US" sz="4800" spc="-1" strike="noStrike">
                <a:solidFill>
                  <a:srgbClr val="6600ff"/>
                </a:solidFill>
                <a:latin typeface="Sylfaen"/>
              </a:rPr>
              <a:t>STAR    HOUR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052640"/>
            <a:ext cx="867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ИНТЕЛЛЕКТУАЛЬН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20320" y="3860640"/>
            <a:ext cx="46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i="1" lang="ru-RU" sz="4000" spc="-1" strike="noStrike">
                <a:solidFill>
                  <a:srgbClr val="6666ff"/>
                </a:solidFill>
                <a:latin typeface="Arial"/>
              </a:rPr>
              <a:t>ЗВЕЗДНЫЙ  ЧАС</a:t>
            </a:r>
            <a:r>
              <a:rPr b="0" i="1" lang="en-US" sz="4000" spc="-1" strike="noStrike">
                <a:solidFill>
                  <a:srgbClr val="6666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19162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205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602136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78936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205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3336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869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494172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5516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42900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85080" y="4762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4605800">
            <a:off x="8496000" y="418392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7236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66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75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189000"/>
            <a:ext cx="77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5640" y="3573360"/>
            <a:ext cx="777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capital of Cana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What is the capital of the U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What is the capit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89000"/>
            <a:ext cx="2640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Bookman Old Style"/>
              </a:rPr>
              <a:t>CITI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1700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NEW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1700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33040" y="169704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3493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2349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. OT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2349360"/>
            <a:ext cx="19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.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7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5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92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3840" y="171360"/>
            <a:ext cx="3465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Bookman Old Style"/>
              </a:rPr>
              <a:t>COUNTRIES</a:t>
            </a: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5840" y="3284640"/>
            <a:ext cx="776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 what country is Big Ben sit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n what country is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Where  is the White House sit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05264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4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9120" y="237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20500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05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.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05000"/>
            <a:ext cx="41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.NOTHERN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3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5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09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5480" y="220680"/>
            <a:ext cx="2440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Bookman Old Style"/>
              </a:rPr>
              <a:t>RIV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1640" y="3429000"/>
            <a:ext cx="71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hat’s the longest river in Eng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What’s river does London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What’s the longest river in the U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6520" y="14637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THE TH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2160" y="146376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THE SEV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20500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234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20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THE  CL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2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32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24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33360"/>
            <a:ext cx="752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MAKE UP THE LONGEST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FROM THESE LET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2720" y="2349360"/>
            <a:ext cx="5833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D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 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A  O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 M  N  E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       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N  G  Y  R  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34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9160" y="343080"/>
            <a:ext cx="3047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Bookman Old Style"/>
              </a:rPr>
              <a:t>HOLIDAY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48428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ST.VALENTINE’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28360" y="2771640"/>
            <a:ext cx="682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December 2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October 3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February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hich holiday is on January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148428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 NEW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39440" y="14842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HALLO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2133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CHRIST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03840" y="21272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5.THANKSGIV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2160" y="2133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6. E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67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8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97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12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50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3520" y="260280"/>
            <a:ext cx="595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Bookman Old Style"/>
              </a:rPr>
              <a:t>COLOURS AND NUMB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7080" y="191628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lours of the American 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ur are the stripes on the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4581360"/>
            <a:ext cx="82090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many stars are there on the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many stripes are there on the Ame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4360" y="1197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2160" y="1197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19700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11970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378936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78936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3789360"/>
            <a:ext cx="12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4)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26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3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38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3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9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500"/>
                            </p:stCondLst>
                            <p:childTnLst>
                              <p:par>
                                <p:cTn id="3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4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07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4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22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70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6680" y="412920"/>
            <a:ext cx="5029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Bookman Old Style"/>
              </a:rPr>
              <a:t>FINAL  GAM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45120" y="2997360"/>
            <a:ext cx="5845320" cy="1008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 Black"/>
              </a:rPr>
              <a:t>UNDER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54072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6360" y="1557360"/>
            <a:ext cx="55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CONGRATUL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9:03:26Z</dcterms:created>
  <dc:creator>Admin</dc:creator>
  <dc:description/>
  <dc:language>en-US</dc:language>
  <cp:lastModifiedBy>Admin</cp:lastModifiedBy>
  <dcterms:modified xsi:type="dcterms:W3CDTF">2006-11-19T18:11:10Z</dcterms:modified>
  <cp:revision>15</cp:revision>
  <dc:subject/>
  <dc:title>Слайд 1</dc:title>
</cp:coreProperties>
</file>