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4CE-7FB8-450B-9A95-E9F4D394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6AC-5690-464E-9D12-052E029B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CE28-F81E-4624-BC41-CCECD2B3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AA8-2426-4BBE-918C-BF4A5CD4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B1A-12AB-4D1D-83F8-C373170E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D27-176F-42AD-A7A7-00DB2FD3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486-6C79-47F8-B8A3-92CC083C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F34-698B-4297-8CE9-B6EA663A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3562-8380-4D71-BEE5-61CF6B0A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C0D-0A46-4824-91FF-94B0E52B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6D63-80C1-46E7-895E-57E40DA2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0EC0-EA5F-41B4-A967-6BD010EC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6A3D-623D-41F2-9672-7F0FA601D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170028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0" y="515772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</p:grpSp>
      <p:sp>
        <p:nvSpPr>
          <p:cNvPr id="48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d5dd7">
                  <a:alpha val="9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1700280"/>
            <a:ext cx="395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2852640"/>
            <a:ext cx="4838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ff"/>
                </a:solidFill>
                <a:latin typeface="Sylfaen"/>
              </a:rPr>
              <a:t>“</a:t>
            </a:r>
            <a:r>
              <a:rPr b="1" i="1" lang="en-US" sz="4800" spc="-1" strike="noStrike">
                <a:solidFill>
                  <a:srgbClr val="6600ff"/>
                </a:solidFill>
                <a:latin typeface="Sylfaen"/>
              </a:rPr>
              <a:t>STAR    HOUR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1052640"/>
            <a:ext cx="8677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ИНТЕЛЛЕКТУАЛЬНАЯ 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ПО АНГЛИЙ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20320" y="3860640"/>
            <a:ext cx="468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ff"/>
                </a:solidFill>
                <a:latin typeface="Arial"/>
              </a:rPr>
              <a:t>“</a:t>
            </a:r>
            <a:r>
              <a:rPr b="0" i="1" lang="ru-RU" sz="4000" spc="-1" strike="noStrike">
                <a:solidFill>
                  <a:srgbClr val="6666ff"/>
                </a:solidFill>
                <a:latin typeface="Arial"/>
              </a:rPr>
              <a:t>ЗВЕЗДНЫЙ  ЧАС</a:t>
            </a:r>
            <a:r>
              <a:rPr b="0" i="1" lang="en-US" sz="4000" spc="-1" strike="noStrike">
                <a:solidFill>
                  <a:srgbClr val="6666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459640" y="191628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20500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6021360"/>
            <a:ext cx="35856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8000" y="378936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220500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40000" y="33336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96360" y="486900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8000" y="494172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40464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0360" y="551664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342900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885080" y="47628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4605800">
            <a:off x="8496000" y="418392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72360" y="595008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566100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0" y="170028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0" y="515772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</p:grpSp>
      <p:sp>
        <p:nvSpPr>
          <p:cNvPr id="75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d5dd7">
                  <a:alpha val="9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7640" y="189000"/>
            <a:ext cx="779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65640" y="3573360"/>
            <a:ext cx="777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capital of Canad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What is the capital of the US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What is the capital of Austral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5280" y="189000"/>
            <a:ext cx="26402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ff"/>
                </a:solidFill>
                <a:latin typeface="Bookman Old Style"/>
              </a:rPr>
              <a:t>CITIE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1700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. NEW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7280" y="1700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. LO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33040" y="169704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. CANB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234936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4.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67280" y="234936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5. OTTA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27640" y="2349360"/>
            <a:ext cx="19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6. BO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7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79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9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92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10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05" dur="3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0" y="170028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0" y="515772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</p:grpSp>
      <p:sp>
        <p:nvSpPr>
          <p:cNvPr id="92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d5dd7">
                  <a:alpha val="9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63840" y="171360"/>
            <a:ext cx="3465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Bookman Old Style"/>
              </a:rPr>
              <a:t>COUNTRIES</a:t>
            </a:r>
            <a:r>
              <a:rPr b="0" i="1" lang="en-US" sz="4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7640" y="141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.SCOT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5840" y="3284640"/>
            <a:ext cx="776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In what country is Big Ben situ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In what country is the Statue of Libe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Where  is the White House situ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1052640"/>
            <a:ext cx="217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.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141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.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9120" y="237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2205000"/>
            <a:ext cx="18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4.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2205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5. W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2205000"/>
            <a:ext cx="41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6.NOTHERN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1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23" dur="3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13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39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1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55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0" y="170028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0" y="515772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</p:grpSp>
      <p:sp>
        <p:nvSpPr>
          <p:cNvPr id="109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d5dd7">
                  <a:alpha val="97254"/>
                </a:srgbClr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5480" y="220680"/>
            <a:ext cx="24408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ff"/>
                </a:solidFill>
                <a:latin typeface="Bookman Old Style"/>
              </a:rPr>
              <a:t>RIVER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1640" y="3429000"/>
            <a:ext cx="715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What’s the longest river in Eng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What’s river does London st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What’s the longest river in the U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6520" y="146376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. THE TH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22160" y="146376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. THE SEV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2205000"/>
            <a:ext cx="36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.THE MISSISSI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59640" y="234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08720" y="2205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4.THE  CL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18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82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2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207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23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232" dur="3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0" y="170028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0" y="515772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</p:grpSp>
      <p:sp>
        <p:nvSpPr>
          <p:cNvPr id="124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d5dd7">
                  <a:alpha val="97254"/>
                </a:srgbClr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ff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333360"/>
            <a:ext cx="752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Tahoma"/>
              </a:rPr>
              <a:t>MAKE UP THE LONGEST 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en-US" sz="3600" spc="-1" strike="noStrike">
                <a:solidFill>
                  <a:srgbClr val="0000ff"/>
                </a:solidFill>
                <a:latin typeface="Tahoma"/>
              </a:rPr>
              <a:t>FROM THESE LETT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42720" y="2349360"/>
            <a:ext cx="583344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 Black"/>
              </a:rPr>
              <a:t>  </a:t>
            </a:r>
            <a:r>
              <a:rPr b="0" lang="en-US" sz="6000" spc="-1" strike="noStrike">
                <a:solidFill>
                  <a:srgbClr val="ff0066"/>
                </a:solidFill>
                <a:latin typeface="Arial Black"/>
              </a:rPr>
              <a:t>D</a:t>
            </a:r>
            <a:r>
              <a:rPr b="0" lang="en-US" sz="1800" spc="-1" strike="noStrike">
                <a:solidFill>
                  <a:srgbClr val="ff0066"/>
                </a:solidFill>
                <a:latin typeface="Arial Black"/>
              </a:rPr>
              <a:t>     </a:t>
            </a:r>
            <a:r>
              <a:rPr b="0" lang="en-US" sz="6000" spc="-1" strike="noStrike">
                <a:solidFill>
                  <a:srgbClr val="ff0066"/>
                </a:solidFill>
                <a:latin typeface="Arial Black"/>
              </a:rPr>
              <a:t>A  O</a:t>
            </a:r>
            <a:r>
              <a:rPr b="0" lang="en-US" sz="1800" spc="-1" strike="noStrike">
                <a:solidFill>
                  <a:srgbClr val="ff0066"/>
                </a:solidFill>
                <a:latin typeface="Arial Black"/>
              </a:rPr>
              <a:t>  </a:t>
            </a:r>
            <a:r>
              <a:rPr b="0" lang="en-US" sz="6000" spc="-1" strike="noStrike">
                <a:solidFill>
                  <a:srgbClr val="ff0066"/>
                </a:solidFill>
                <a:latin typeface="Arial Black"/>
              </a:rPr>
              <a:t> M  N  E</a:t>
            </a:r>
            <a:r>
              <a:rPr b="0" lang="en-US" sz="1800" spc="-1" strike="noStrike">
                <a:solidFill>
                  <a:srgbClr val="ff0066"/>
                </a:solidFill>
                <a:latin typeface="Arial Black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 Black"/>
              </a:rPr>
              <a:t>           </a:t>
            </a:r>
            <a:r>
              <a:rPr b="0" lang="en-US" sz="6000" spc="-1" strike="noStrike">
                <a:solidFill>
                  <a:srgbClr val="ff0066"/>
                </a:solidFill>
                <a:latin typeface="Arial Black"/>
              </a:rPr>
              <a:t>N  G  Y  R  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0" y="170028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33" name="" descr=""/>
            <p:cNvPicPr/>
            <p:nvPr/>
          </p:nvPicPr>
          <p:blipFill>
            <a:blip r:embed="rId4"/>
            <a:stretch/>
          </p:blipFill>
          <p:spPr>
            <a:xfrm>
              <a:off x="0" y="515772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</p:grpSp>
      <p:sp>
        <p:nvSpPr>
          <p:cNvPr id="134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d5dd7">
                  <a:alpha val="9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49160" y="343080"/>
            <a:ext cx="3047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Bookman Old Style"/>
              </a:rPr>
              <a:t>HOLIDAY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9280" y="1484280"/>
            <a:ext cx="32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.ST.VALENTINE’S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28360" y="2771640"/>
            <a:ext cx="6827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holiday is on December 2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holiday is on October 3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holiday is on February 1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Which holiday is on January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1484280"/>
            <a:ext cx="19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2. NEW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39440" y="148428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3.HALLOW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19280" y="213372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4.CHRIST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03840" y="212724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5.THANKSGIVING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2160" y="21337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6. E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26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267" dur="3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28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282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29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297" dur="3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9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31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12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1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0" y="170028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0" y="515772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</p:grpSp>
      <p:sp>
        <p:nvSpPr>
          <p:cNvPr id="150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d5dd7">
                  <a:alpha val="9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43520" y="260280"/>
            <a:ext cx="595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Bookman Old Style"/>
              </a:rPr>
              <a:t>COLOURS AND NUMB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7080" y="1916280"/>
            <a:ext cx="757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olours of the American fla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lour are the stripes on the Ameri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4581360"/>
            <a:ext cx="820908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ow many stars are there on the Ameri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ow many stripes are there on the Ameri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4360" y="11970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.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2160" y="11970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.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80000" y="1197000"/>
            <a:ext cx="15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. 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119700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4.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63640" y="3789360"/>
            <a:ext cx="10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4005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3789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3789360"/>
            <a:ext cx="10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3789360"/>
            <a:ext cx="12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4)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3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26" dur="3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33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32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35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33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38" dur="3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35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53" dur="3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35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59" dur="3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7500"/>
                            </p:stCondLst>
                            <p:childTnLst>
                              <p:par>
                                <p:cTn id="3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4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407" dur="3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4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422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0"/>
            <a:ext cx="1547640" cy="6858000"/>
            <a:chOff x="0" y="0"/>
            <a:chExt cx="1547640" cy="685800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0" y="170028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1547640" cy="172872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0" y="5157720"/>
              <a:ext cx="1547640" cy="1700280"/>
            </a:xfrm>
            <a:prstGeom prst="rect">
              <a:avLst/>
            </a:prstGeom>
            <a:ln w="9360">
              <a:solidFill>
                <a:srgbClr val="6a35ff"/>
              </a:solidFill>
              <a:miter/>
            </a:ln>
          </p:spPr>
        </p:pic>
      </p:grpSp>
      <p:sp>
        <p:nvSpPr>
          <p:cNvPr id="170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d5dd7">
                  <a:alpha val="9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6680" y="412920"/>
            <a:ext cx="50299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Bookman Old Style"/>
              </a:rPr>
              <a:t>FINAL  GAME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45120" y="2997360"/>
            <a:ext cx="5845320" cy="10083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66"/>
                </a:solidFill>
                <a:latin typeface="Arial Black"/>
              </a:rPr>
              <a:t>UNDERG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540720" cy="6877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6360" y="1557360"/>
            <a:ext cx="555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Arial"/>
              </a:rPr>
              <a:t>CONGRATULA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7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7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9:03:26Z</dcterms:created>
  <dc:creator>Admin</dc:creator>
  <dc:description/>
  <dc:language>en-US</dc:language>
  <cp:lastModifiedBy>Admin</cp:lastModifiedBy>
  <dcterms:modified xsi:type="dcterms:W3CDTF">2006-11-19T18:11:10Z</dcterms:modified>
  <cp:revision>15</cp:revision>
  <dc:subject/>
  <dc:title>Слайд 1</dc:title>
</cp:coreProperties>
</file>