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5B7-F81C-49B1-B80B-DAD7102B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5AB-5DA2-446E-A853-EFAAFDA2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BEB-7F24-4412-9C93-7316DB89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AE6-C31B-475E-B1D7-C0ED24F1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AAB-4FCA-42A9-962E-42CEC884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338-6922-46DF-9F97-A424290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BA0-4118-4553-B24C-24A181F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9E2-0FAE-446B-9AF0-ABC0D766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BF6-80F8-46DF-BC45-10C117D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CB9-7921-45EE-8DD1-5DA5696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D9E-6FAC-40AF-8885-7AE9766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CAB-FCDE-49CC-BC1B-269A3D9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CA3-8179-45A5-A0DE-2DA4F4167C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" TargetMode="External"/><Relationship Id="rId2" Type="http://schemas.openxmlformats.org/officeDocument/2006/relationships/hyperlink" Target="http://ru.wikipedia.org/wiki/&#1061;&#1080;&#1084;&#1080;&#1095;&#1077;&#1089;&#1082;&#1086;&#1077;_&#1074;&#1077;&#1097;&#1077;&#1089;&#1090;&#1074;&#1086;" TargetMode="External"/><Relationship Id="rId3" Type="http://schemas.openxmlformats.org/officeDocument/2006/relationships/hyperlink" Target="http://ru.wikipedia.org/wiki/&#1061;&#1080;&#1084;&#1080;&#1095;&#1077;&#1089;&#1082;&#1080;&#1081;_&#1101;&#1083;&#1077;&#1084;&#1077;&#1085;&#1090;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 1. Важнейшие химические понятия и зако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1. Атом, Химический элемент. Изотопы. Простые и сложные вещества.   Основные зак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хи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Какое количество вещества ( моль) содержит 12,0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²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томов натр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Какова масса  2 моль азо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ой объем занимают  1,5 моль кисл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ова масса  3 литров гел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539640" y="404640"/>
            <a:ext cx="80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 = N/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12, 04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²³ /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02 · 10²³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= 2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моль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11280" y="170028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 = n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·  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ь · 28 г/ моль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= 56 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68436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= 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·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V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 22,4 л/моль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= 33,6 л.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83000" y="4076640"/>
            <a:ext cx="8414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= n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· M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=  V/Vm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· M(He)= 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4л/мол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· 4г/моль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=  0,5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 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4. Основные положения атомно-молекулярного 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1612800"/>
            <a:ext cx="845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о-молекулярное теория базируется на следующих законах и утвержд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ества состоят из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ато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ы одног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химического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химический эле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адают одинаковыми свойствами, но отличаются от атомов другого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заимодействии атомов образуются молекулы (гомоядерные — простые вещества, гетероядерные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жны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физических явлениях молекулы не изменяются, при химических происходит изменение их сост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е реакции заключаются в образовании новых веществ из тех же самых атомов, из которых состояли исходн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407664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i"/>
          <p:cNvPicPr/>
          <p:nvPr/>
        </p:nvPicPr>
        <p:blipFill>
          <a:blip r:embed="rId1"/>
          <a:stretch/>
        </p:blipFill>
        <p:spPr>
          <a:xfrm>
            <a:off x="6076800" y="0"/>
            <a:ext cx="3067200" cy="3095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.Строение ат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68360" y="1484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: протоны и 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атомные частицы и их св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строение ат2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_1_~1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. Химический элемент, изото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1125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й элемент – совокупность атомов с одинак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ом ядра ( числом протонов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4000" y="1916280"/>
            <a:ext cx="639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-  разновидность атомов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го элемента с раз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нейтронов в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изотопв кислорода"/>
          <p:cNvPicPr/>
          <p:nvPr/>
        </p:nvPicPr>
        <p:blipFill>
          <a:blip r:embed="rId1"/>
          <a:stretch/>
        </p:blipFill>
        <p:spPr>
          <a:xfrm>
            <a:off x="1692360" y="2997360"/>
            <a:ext cx="6048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042920" y="1197000"/>
            <a:ext cx="65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Каков порядковый номер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Сколько протонов в его яд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Сколько электронов в атоме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Сколько нейтронов в ядре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Чему равно массовое число атома ка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химик.jpg"/>
          <p:cNvPicPr/>
          <p:nvPr/>
        </p:nvPicPr>
        <p:blipFill>
          <a:blip r:embed="rId1"/>
          <a:stretch/>
        </p:blipFill>
        <p:spPr>
          <a:xfrm>
            <a:off x="1619280" y="4508640"/>
            <a:ext cx="2592360" cy="2125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223600" y="3860640"/>
            <a:ext cx="222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 =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 =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r(K) =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7400" y="105264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Ве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0240" y="155736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ид материи; физическая субстанция со специф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скими химически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вещ2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Простые и сложные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9" descr="972"/>
          <p:cNvPicPr/>
          <p:nvPr/>
        </p:nvPicPr>
        <p:blipFill>
          <a:blip r:embed="rId1"/>
          <a:stretch/>
        </p:blipFill>
        <p:spPr>
          <a:xfrm>
            <a:off x="2232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химия"/>
          <p:cNvPicPr/>
          <p:nvPr/>
        </p:nvPicPr>
        <p:blipFill>
          <a:blip r:embed="rId1"/>
          <a:stretch/>
        </p:blipFill>
        <p:spPr>
          <a:xfrm>
            <a:off x="5508720" y="1197000"/>
            <a:ext cx="3384360" cy="424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7120" y="1792440"/>
            <a:ext cx="43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Что изучает хим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12920" y="3573360"/>
            <a:ext cx="504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ука о веществ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свойствах и превращ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34400" y="1574640"/>
            <a:ext cx="8022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льчайшая химически неделимая  электронейтрал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я частица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элементарных част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массовым чис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атомов с одинаковым зарядом яд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видность атомов с одинаковым зарядом яд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разной масс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09280" y="2079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табл6"/>
          <p:cNvPicPr/>
          <p:nvPr/>
        </p:nvPicPr>
        <p:blipFill>
          <a:blip r:embed="rId1"/>
          <a:stretch/>
        </p:blipFill>
        <p:spPr>
          <a:xfrm>
            <a:off x="5796000" y="3860640"/>
            <a:ext cx="3108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0" y="765000"/>
            <a:ext cx="9151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соответстви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й элемент                    А) состоит из атомов одного вида, облад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Простое вещество                            постоянными  физическими  св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Сложное вещество                      Б) состоит из атомов разных видов,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месь                                                 постоян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состоит из разных веществ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аются по свойст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дин вид атомов, физиче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обычно не характери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сложные вещества перечислены в ряду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, вода, кислород                             2) серная кислота, водород, о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аренная соль, вода, сероводород      4) кислород, азот, 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простые вещества перечислены в ря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железо, кислород, соляная кислота         2) оксид натрия,  вода, аз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фтор, кислород, сера                                4)  углерод, вода,  с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7" descr="химик.jpg"/>
          <p:cNvPicPr/>
          <p:nvPr/>
        </p:nvPicPr>
        <p:blipFill>
          <a:blip r:embed="rId1"/>
          <a:stretch/>
        </p:blipFill>
        <p:spPr>
          <a:xfrm>
            <a:off x="2843280" y="4941720"/>
            <a:ext cx="2376360" cy="1916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550080" y="2349360"/>
            <a:ext cx="311148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 – Г;  2 -  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Б; 4 -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516640" y="5157720"/>
            <a:ext cx="19774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1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659200" y="6093000"/>
            <a:ext cx="15354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постоянства состава веществ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ждое химически чистое вещество с молекулярным строением независимо от места нахождения и способа получения имеет один и тот же постоянный качественный и количественный соста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5" descr="6.png"/>
          <p:cNvPicPr/>
          <p:nvPr/>
        </p:nvPicPr>
        <p:blipFill>
          <a:blip r:embed="rId1"/>
          <a:stretch/>
        </p:blipFill>
        <p:spPr>
          <a:xfrm>
            <a:off x="7308720" y="54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карт зпсв.jpg"/>
          <p:cNvPicPr/>
          <p:nvPr/>
        </p:nvPicPr>
        <p:blipFill>
          <a:blip r:embed="rId2"/>
          <a:stretch/>
        </p:blipFill>
        <p:spPr>
          <a:xfrm>
            <a:off x="1692360" y="4869000"/>
            <a:ext cx="604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сохранения массы веществ в реакц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плакат зсмасс.jp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строение атома"/>
          <p:cNvPicPr/>
          <p:nvPr/>
        </p:nvPicPr>
        <p:blipFill>
          <a:blip r:embed="rId1"/>
          <a:stretch/>
        </p:blipFill>
        <p:spPr>
          <a:xfrm>
            <a:off x="6230880" y="2058840"/>
            <a:ext cx="2374920" cy="20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040" y="1413000"/>
            <a:ext cx="76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 Что называют атомом и молекул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94640" y="2924280"/>
            <a:ext cx="5968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лектронейтраль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ующих элемента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, состоящая из ядра и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95640" y="5084640"/>
            <a:ext cx="49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 наимень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ца  вещества, облад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и его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молекула воды"/>
          <p:cNvPicPr/>
          <p:nvPr/>
        </p:nvPicPr>
        <p:blipFill>
          <a:blip r:embed="rId2"/>
          <a:stretch/>
        </p:blipFill>
        <p:spPr>
          <a:xfrm>
            <a:off x="755640" y="436572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Что такое абсолютная и относительная атомная и молекулярная масс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абс масса ато ма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ая атомная м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м. атомная масса химического элемента)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ая молекулярная масса ( сумма относительных атомных масс всех атомов, образующих молекулу веществ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ВЕЩЕСТВ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атомов, молекул или других формульных единиц ве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ь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ярная масс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а 1 моль веще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 моль, кг моль)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ярный объем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1 моль газа при н.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 = 22,4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/м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табл4"/>
          <p:cNvPicPr/>
          <p:nvPr/>
        </p:nvPicPr>
        <p:blipFill>
          <a:blip r:embed="rId1"/>
          <a:stretch/>
        </p:blipFill>
        <p:spPr>
          <a:xfrm>
            <a:off x="0" y="1268280"/>
            <a:ext cx="896472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табл8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табл3"/>
          <p:cNvPicPr/>
          <p:nvPr/>
        </p:nvPicPr>
        <p:blipFill>
          <a:blip r:embed="rId1"/>
          <a:stretch/>
        </p:blipFill>
        <p:spPr>
          <a:xfrm>
            <a:off x="539640" y="1052640"/>
            <a:ext cx="8604360" cy="580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табл3"/>
          <p:cNvPicPr/>
          <p:nvPr/>
        </p:nvPicPr>
        <p:blipFill>
          <a:blip r:embed="rId2"/>
          <a:stretch/>
        </p:blipFill>
        <p:spPr>
          <a:xfrm>
            <a:off x="539640" y="1052640"/>
            <a:ext cx="8604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9:04:17Z</dcterms:created>
  <dc:creator>Гость</dc:creator>
  <dc:description/>
  <dc:language>en-US</dc:language>
  <cp:lastModifiedBy>RockNRolf</cp:lastModifiedBy>
  <dcterms:modified xsi:type="dcterms:W3CDTF">2012-09-06T13:30:28Z</dcterms:modified>
  <cp:revision>32</cp:revision>
  <dc:subject/>
  <dc:title>ТЕМА1: Важнейшие химические понятия и законы</dc:title>
</cp:coreProperties>
</file>