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2659-9E7D-490E-9D6B-EE151B2FC1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C160-FB70-459B-9DE8-940F5DE793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5BA5-673A-4B7C-86FF-D700971923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C1ED-6705-4F0B-BFCC-9B827ACB7C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4A6C-A8B8-4A34-A85A-AF4A57704C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E5E9-B348-40FE-B4F8-F3AA955B05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64FD-F7AA-4FB9-AE4D-3A1D6F189E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9DCA-E13C-44D5-9404-B3E2F6CC46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D19D-D0C6-48FD-B10B-0874ED1FD0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D520-2EF7-43FD-9614-7F9281A167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0A49-5056-434B-B7CB-5D5A25E8A6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2F36-401A-4B28-8F57-587E942E98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EA4D-C2DF-4FE5-A435-890FAD6757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7F4E-398D-46FA-A82A-D1B20C675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8888-9F7E-406C-827F-11087B3B2E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84C9-0F78-47AF-AA5B-A044955330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1AD7-5087-4B22-A6F1-50B7BEA293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629E-53A9-4808-A15F-B9C70F9B11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E7C7-E141-44BE-A340-5F13C5D5FD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5665-F610-4E58-86C7-73932D8821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CD1E-47EB-4216-96E6-D1F1386FE4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3DCB-A25F-4DF6-891E-80C03665A8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7864-8BBA-4810-9DE3-66166584C2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9977-2376-42C3-8A91-A0450176EA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5898-3602-44AB-B2FA-B109F45D05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9303-F1CA-49BF-B807-464B3E2AD7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DC9A-5885-4511-918D-C03B80C308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0631-F8B4-4B42-AA7A-0E0A669F15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1235-1A2C-4F79-9119-F23C2A11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0DA-D5C8-4052-B627-38FE56A2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216-0CA4-4810-90C3-5A54EE74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8B26-0AD8-4B80-8D05-4F31001D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8ADE-4140-4480-A9EE-82B50AAE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05AF-1D3C-49D3-B4A2-037BE6FC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4578-29B5-48D2-AC3A-F6C1D4A8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5642-D23C-4297-B841-F4CAA0C8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989C-23AF-479D-987C-ECE6773C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B40D-345B-46E3-9F58-D3A6E373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B7C9-0869-45BD-AF95-4F9260F2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326-4C98-41A0-8ABD-7B7013B2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9904-1BD3-453C-8C1A-FB766565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FCC7-2AED-410F-95DD-F27FB56F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91B6-9383-4E71-B80C-07FE6EF0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FA2D-53EC-4B16-86F7-82DE1F51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4FCE-47A2-48FD-960A-96848915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22BDF-2B72-4AB0-B80F-795310C1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0858-D3EE-4531-A9B3-85D163E8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287A9-2827-4671-984E-77672E2B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D2309-2D11-4506-B878-4C960DEE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41E0D-8177-44A9-84BD-A40E2772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F46-2B37-45B3-850B-2217D39E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E66D3-F982-4819-9043-9D87B498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9E2F5-3ED2-40FA-A31E-E3876233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42F3C-6532-4DC1-AABE-25C08086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B6E5-E604-4A8C-A914-270545D9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E5D74-D585-4988-87D0-46BAE070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641E7-A407-4435-91AF-0C5F7C95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12C95-EDD5-4FF5-94BF-0448F338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23964-C2ED-4A89-B201-B18DD06E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7BA65-33CD-419F-86B6-8B14D0D9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17FDB-829A-4E3B-B076-7877A4DC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F9A3-E90B-4F20-A2AE-EEC9610A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DF84D-4B71-4BC5-ADC6-768AA5FB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A5DC1-0054-4D77-AE1E-351049F2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691C5-07C0-4E87-A772-C4A24B43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4AF04-71AD-406F-96A5-A4B9DF6B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2E285-7AF4-4236-931B-FF08070F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EDF40-14E5-4533-B9C1-5093AFEC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0BC70-113B-4C55-BA86-73156CE6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248C8-D2A1-4824-89CB-3650CFCF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C9DD5-E98F-4DE5-BDF2-4CC75FDE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7DA0C-D6F6-414D-B934-1B54E5A9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B9EA-BECA-4217-8FA3-578EADE3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BE066-B434-4E45-ACD5-5AA56853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65639-9452-4FCA-86AD-760600B9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2B315-32E4-4A75-92C8-ABBC04E5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77E3E-A4C9-4DA7-8CB4-7A8C5AC1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E827A-A1A6-46E3-A7AA-E4192820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8B824-C614-4DA5-8868-3CB9FF86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E2BEE-4FA0-45CA-9DC9-276F2468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C1C1D-06FC-462C-8BA3-2490D6C7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3248E-A032-4769-90A5-5417AF5E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0CCFC-D4A1-4678-B259-9810AE31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9D4-1156-4ADB-AA8C-189A7689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F81C3-5CBE-4621-8816-2D19E328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AE3A8-8AE3-4E25-AF66-E7E25908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9F689-5AF6-479B-A0C5-A477B2BD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B1BBC-02CB-4E37-857B-86200609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D2C1D-532D-407C-8F39-495ADC93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2AECF-7B13-44E5-862F-24CF6869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FE5A5-6501-49FF-8AEC-6109F870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A4692-4EED-43EA-AE74-2126CBE5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DD221-3FDA-4E82-AF3F-0170E253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CB24A-3F2D-4D27-B7DC-3542FA37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E867-4A11-4A5C-B203-03E54565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19C58-EA78-484F-B713-E4D680BC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59161-4DE0-43F3-968E-A410F154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CA178-E9E7-4098-AFF3-C97AF578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96C88-98D4-4420-AA16-3991ADED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877D5-4AA4-4C91-973C-4C05EBE8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AD510-8ACA-478A-B694-557A8A09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9FACF-96A2-4527-B1EB-152B126D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D886E-8E85-4F90-93D7-A564E7B1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E2A8E-3C84-4856-80A4-7C03DE48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1CE16-2C2A-4A35-9860-7733D9BE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592-922C-456B-A6FF-D14F4594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A7AB7-4FED-4609-8667-467E3573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203AF-9D91-4683-890F-3711B4A8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0CE31-0C80-4142-833B-0D8F0909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1A6BE-2F6C-41EB-B3EC-148A2A80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7AE01-764F-45AE-A6D7-6F7723E1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5E3-107C-4734-B6B5-0B294457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9175-B09E-431B-A66B-7C1AA348C93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48AB-4988-4CA9-A919-EFB31C00B33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3119-9985-47C2-A910-50E3B81AE7E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44CE-65AA-4372-ACFB-0F72F88789E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621D-A86F-4EAA-9F42-BDA5F3C1040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D1FB-8B7F-4483-9609-A68E6699ED1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B462-898A-4E6C-A15E-54365B61189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4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Готовимся к ЕГЭ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304920" y="1371600"/>
            <a:ext cx="847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Учебный тренажёр и провероч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по теме:</a:t>
            </a:r>
            <a:r>
              <a:rPr b="1" lang="en-US" sz="3200" spc="-1" strike="noStrike">
                <a:solidFill>
                  <a:srgbClr val="505050"/>
                </a:solidFill>
                <a:latin typeface="Stencil"/>
              </a:rPr>
              <a:t> A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45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461160" y="5715000"/>
            <a:ext cx="77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харова Т.А.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тодист Рязанского института развития образов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кушина О.Н.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Павд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8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Rectangle 7"/>
          <p:cNvSpPr/>
          <p:nvPr/>
        </p:nvSpPr>
        <p:spPr>
          <a:xfrm>
            <a:off x="106200" y="228600"/>
            <a:ext cx="88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Найдите правильное объяснение пунктуации в предложении: Воздух совершенно прозрачен( )и простым глазом заметны его переливы в ярком свете сол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8"/>
          <p:cNvSpPr/>
          <p:nvPr/>
        </p:nvSpPr>
        <p:spPr>
          <a:xfrm>
            <a:off x="992160" y="142884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9"/>
          <p:cNvSpPr/>
          <p:nvPr/>
        </p:nvSpPr>
        <p:spPr>
          <a:xfrm>
            <a:off x="468360" y="17175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502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Rectangle 7"/>
          <p:cNvSpPr/>
          <p:nvPr/>
        </p:nvSpPr>
        <p:spPr>
          <a:xfrm>
            <a:off x="228600" y="228600"/>
            <a:ext cx="84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Найдите правильное объяснение пунктуации в предложении: Настя проснулась( ) и пошла к себе наверх, легла и тотчас усну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8"/>
          <p:cNvSpPr/>
          <p:nvPr/>
        </p:nvSpPr>
        <p:spPr>
          <a:xfrm>
            <a:off x="992160" y="144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9"/>
          <p:cNvSpPr/>
          <p:nvPr/>
        </p:nvSpPr>
        <p:spPr>
          <a:xfrm>
            <a:off x="468360" y="173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682" nodeType="clickEffect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706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730" nodeType="clickEffect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2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Rectangle 7"/>
          <p:cNvSpPr/>
          <p:nvPr/>
        </p:nvSpPr>
        <p:spPr>
          <a:xfrm>
            <a:off x="228600" y="228600"/>
            <a:ext cx="881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Найдите правильное объяснение пунктуации в предложении: Наконец лучи солнца погасли ( )и окутали город плотные тум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8"/>
          <p:cNvSpPr/>
          <p:nvPr/>
        </p:nvSpPr>
        <p:spPr>
          <a:xfrm>
            <a:off x="1028880" y="1428840"/>
            <a:ext cx="72720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9"/>
          <p:cNvSpPr/>
          <p:nvPr/>
        </p:nvSpPr>
        <p:spPr>
          <a:xfrm>
            <a:off x="468360" y="16095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6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8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803" nodeType="clickEffect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4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Rectangle 7"/>
          <p:cNvSpPr/>
          <p:nvPr/>
        </p:nvSpPr>
        <p:spPr>
          <a:xfrm>
            <a:off x="228600" y="228600"/>
            <a:ext cx="84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Найдите правильное объяснение пунктуации в предложении: Стало совсем темно ( )и улица мало-помалу опус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8"/>
          <p:cNvSpPr/>
          <p:nvPr/>
        </p:nvSpPr>
        <p:spPr>
          <a:xfrm>
            <a:off x="1015920" y="141912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9"/>
          <p:cNvSpPr/>
          <p:nvPr/>
        </p:nvSpPr>
        <p:spPr>
          <a:xfrm>
            <a:off x="468360" y="1708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8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19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876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900" nodeType="clickEffect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5">
            <a:hlinkClick r:id="rId1" action="ppaction://hlinksldjump"/>
          </p:cNvPr>
          <p:cNvSpPr/>
          <p:nvPr/>
        </p:nvSpPr>
        <p:spPr>
          <a:xfrm>
            <a:off x="1295280" y="1882800"/>
            <a:ext cx="69343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я отличные! Перехожу к те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6">
            <a:hlinkClick r:id="rId2" action="ppaction://hlinksldjump"/>
          </p:cNvPr>
          <p:cNvSpPr/>
          <p:nvPr/>
        </p:nvSpPr>
        <p:spPr>
          <a:xfrm>
            <a:off x="1295280" y="3330720"/>
            <a:ext cx="7010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о много ошибок, необходимо поработать с прави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8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63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568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4"/>
          <p:cNvSpPr/>
          <p:nvPr/>
        </p:nvSpPr>
        <p:spPr>
          <a:xfrm>
            <a:off x="380880" y="91440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рочный тест состоит из 10 заданий. Каждое задание имеет 4 варианта ответа, один из которых - правиль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Чтобы узнать свой результат, нажми на кнопку «Результат». Ты увидишь общее число верных ответов, отметку за тест и таблицу результатов по каждому вопро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14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7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Rectangle 7"/>
          <p:cNvSpPr/>
          <p:nvPr/>
        </p:nvSpPr>
        <p:spPr>
          <a:xfrm>
            <a:off x="106200" y="228600"/>
            <a:ext cx="90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Найдите правильное объяснение пунктуации в предложении: По морю шла волна ( )и пена, облизывая борта парохода, тотчас тая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5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16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7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21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2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24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973" nodeType="clickEffect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997" nodeType="clickEffect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021" nodeType="clickEffect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045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9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Rectangle 7"/>
          <p:cNvSpPr/>
          <p:nvPr/>
        </p:nvSpPr>
        <p:spPr>
          <a:xfrm>
            <a:off x="106200" y="228600"/>
            <a:ext cx="926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Найдите правильное объяснение пунктуации в предложении : Незаметно зажглась ( )и начала разгораться в небе оранжевая полоска за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457200" y="1714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5"/>
          <p:cNvSpPr/>
          <p:nvPr/>
        </p:nvSpPr>
        <p:spPr>
          <a:xfrm>
            <a:off x="957240" y="142704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070" nodeType="clickEffect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118" nodeType="clickEffect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142" nodeType="clickEffect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1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Rectangle 7"/>
          <p:cNvSpPr/>
          <p:nvPr/>
        </p:nvSpPr>
        <p:spPr>
          <a:xfrm>
            <a:off x="0" y="228600"/>
            <a:ext cx="896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Найдите правильное объяснение пунктуации в предложении: Солнце то появлялось, то исчезало ( )и к вечеру снова пошел дожд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167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191" nodeType="clickEffect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215" nodeType="clickEffect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3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Rectangle 7"/>
          <p:cNvSpPr/>
          <p:nvPr/>
        </p:nvSpPr>
        <p:spPr>
          <a:xfrm>
            <a:off x="0" y="228600"/>
            <a:ext cx="90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Найдите правильное объяснение пунктуации в предложении: Ветер, разогнав тучи, дал простор солнцу ( )и тайга ожи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264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288" nodeType="clickEffect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312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336" nodeType="clickEffect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352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9"/>
          <p:cNvSpPr/>
          <p:nvPr/>
        </p:nvSpPr>
        <p:spPr>
          <a:xfrm>
            <a:off x="228600" y="228600"/>
            <a:ext cx="86104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орогой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году тебе предстоит сдавать Единый государственный экзамен по русскому я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ся к нему тебе поможет данный образовательный ресурс. Его первый уровень представляет собой тренажёр, с помощью которого ты можешь вспомнить определённое правило из курса русского языка  и усовершенствовать свои умения и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 – проверочный тест по данной теме, за который ты получишь отме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еемся, что эти занятия помогут тебе успешно подготовиться к ЕГЭ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елаем удачи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0">
            <a:hlinkClick r:id="rId1" action="ppaction://hlinksldjump"/>
          </p:cNvPr>
          <p:cNvSpPr/>
          <p:nvPr/>
        </p:nvSpPr>
        <p:spPr>
          <a:xfrm>
            <a:off x="1066680" y="6019920"/>
            <a:ext cx="350532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1">
            <a:hlinkClick r:id="rId2" action="ppaction://hlinksldjump"/>
          </p:cNvPr>
          <p:cNvSpPr/>
          <p:nvPr/>
        </p:nvSpPr>
        <p:spPr>
          <a:xfrm>
            <a:off x="5029200" y="6019920"/>
            <a:ext cx="33526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5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Rectangle 7"/>
          <p:cNvSpPr/>
          <p:nvPr/>
        </p:nvSpPr>
        <p:spPr>
          <a:xfrm>
            <a:off x="106200" y="228600"/>
            <a:ext cx="893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Найдите правильное объяснение пунктуации в предложении: Подхватил меня резкий ветер, закружил ( )и забросил в тай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8"/>
          <p:cNvSpPr/>
          <p:nvPr/>
        </p:nvSpPr>
        <p:spPr>
          <a:xfrm>
            <a:off x="98748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658"/>
                    </p:tgtEl>
                  </p:cond>
                </p:stCondLst>
                <p:childTnLst>
                  <p:par>
                    <p:cTn id="1361" nodeType="clickEffect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1385" nodeType="clickEffect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409" nodeType="clickEffect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1433" nodeType="clickEffect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7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Rectangle 7"/>
          <p:cNvSpPr/>
          <p:nvPr/>
        </p:nvSpPr>
        <p:spPr>
          <a:xfrm>
            <a:off x="106200" y="228600"/>
            <a:ext cx="90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Найдите правильное объяснение пунктуации в предложении : Может быть снова грянут морозы( )и затрещат от них закоченевшие са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12"/>
          <p:cNvSpPr/>
          <p:nvPr/>
        </p:nvSpPr>
        <p:spPr>
          <a:xfrm>
            <a:off x="468360" y="1700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15"/>
          <p:cNvSpPr/>
          <p:nvPr/>
        </p:nvSpPr>
        <p:spPr>
          <a:xfrm>
            <a:off x="99216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1458" nodeType="clickEffect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1482" nodeType="clickEffect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1506" nodeType="clickEffect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1530" nodeType="clickEffect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9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Rectangle 7"/>
          <p:cNvSpPr/>
          <p:nvPr/>
        </p:nvSpPr>
        <p:spPr>
          <a:xfrm>
            <a:off x="0" y="228600"/>
            <a:ext cx="896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Найдите правильное объяснение пунктуации в предложении: Сквозь дождь лучило солнце ( )и раскидывалась радуга от края до кр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12"/>
          <p:cNvSpPr/>
          <p:nvPr/>
        </p:nvSpPr>
        <p:spPr>
          <a:xfrm>
            <a:off x="430200" y="1773360"/>
            <a:ext cx="360360" cy="3618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15"/>
          <p:cNvSpPr/>
          <p:nvPr/>
        </p:nvSpPr>
        <p:spPr>
          <a:xfrm>
            <a:off x="99216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1555" nodeType="clickEffect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1579" nodeType="clickEffect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698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698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1627" nodeType="clickEffect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68400" y="100080"/>
            <a:ext cx="8937000" cy="6668640"/>
            <a:chOff x="68400" y="100080"/>
            <a:chExt cx="8937000" cy="6668640"/>
          </a:xfrm>
        </p:grpSpPr>
        <p:sp>
          <p:nvSpPr>
            <p:cNvPr id="709" name="Line 3"/>
            <p:cNvSpPr/>
            <p:nvPr/>
          </p:nvSpPr>
          <p:spPr>
            <a:xfrm>
              <a:off x="68400" y="10008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4"/>
            <p:cNvSpPr/>
            <p:nvPr/>
          </p:nvSpPr>
          <p:spPr>
            <a:xfrm>
              <a:off x="684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5"/>
            <p:cNvSpPr/>
            <p:nvPr/>
          </p:nvSpPr>
          <p:spPr>
            <a:xfrm>
              <a:off x="68400" y="67687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6"/>
            <p:cNvSpPr/>
            <p:nvPr/>
          </p:nvSpPr>
          <p:spPr>
            <a:xfrm>
              <a:off x="90054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Rectangle 7"/>
          <p:cNvSpPr/>
          <p:nvPr/>
        </p:nvSpPr>
        <p:spPr>
          <a:xfrm>
            <a:off x="0" y="228600"/>
            <a:ext cx="8967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Найдите правильное объяснение пунктуации в предложении: Лёля присела на узкую лавочку ( )и стала глядеть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1652" nodeType="clickEffect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1676" nodeType="clickEffect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1700" nodeType="clickEffect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1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1724" nodeType="clickEffect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72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Rectangle 7"/>
          <p:cNvSpPr/>
          <p:nvPr/>
        </p:nvSpPr>
        <p:spPr>
          <a:xfrm>
            <a:off x="0" y="228600"/>
            <a:ext cx="896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Найдите правильное объяснение пунктуации в предложении: У Сурикова была феноменальная художественная память ( )и священника он написал по памя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8"/>
          <p:cNvSpPr/>
          <p:nvPr/>
        </p:nvSpPr>
        <p:spPr>
          <a:xfrm>
            <a:off x="992160" y="142884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9"/>
          <p:cNvSpPr/>
          <p:nvPr/>
        </p:nvSpPr>
        <p:spPr>
          <a:xfrm>
            <a:off x="468360" y="17175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19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2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734"/>
                    </p:tgtEl>
                  </p:cond>
                </p:stCondLst>
                <p:childTnLst>
                  <p:par>
                    <p:cTn id="1749" nodeType="clickEffect" fill="hold">
                      <p:stCondLst>
                        <p:cond evt="onClick">
                          <p:tgtEl>
                            <p:spTgt spid="734"/>
                          </p:tgtEl>
                        </p:cond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1773" nodeType="clickEffect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797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821" nodeType="clickEffect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74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Rectangle 7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Найдите правильное объяснение пунктуации в предложении:    Рябина шуршала листвой по стеклам, загораживая все остальное ( ) и создавая в комнате полумр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15"/>
          <p:cNvSpPr/>
          <p:nvPr/>
        </p:nvSpPr>
        <p:spPr>
          <a:xfrm>
            <a:off x="963720" y="136512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753"/>
                    </p:tgtEl>
                  </p:cond>
                </p:stCondLst>
                <p:childTnLst>
                  <p:par>
                    <p:cTn id="1846" nodeType="clickEffect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754"/>
                    </p:tgtEl>
                  </p:cond>
                </p:stCondLst>
                <p:childTnLst>
                  <p:par>
                    <p:cTn id="1870" nodeType="clickEffect" fill="hold">
                      <p:stCondLst>
                        <p:cond evt="onClick">
                          <p:tgtEl>
                            <p:spTgt spid="754"/>
                          </p:tgtEl>
                        </p:cond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755"/>
                    </p:tgtEl>
                  </p:cond>
                </p:stCondLst>
                <p:childTnLst>
                  <p:par>
                    <p:cTn id="1894" nodeType="clickEffect" fill="hold">
                      <p:stCondLst>
                        <p:cond evt="onClick">
                          <p:tgtEl>
                            <p:spTgt spid="755"/>
                          </p:tgtEl>
                        </p:cond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756"/>
                    </p:tgtEl>
                  </p:cond>
                </p:stCondLst>
                <p:childTnLst>
                  <p:par>
                    <p:cTn id="1918" nodeType="clickEffect" fill="hold">
                      <p:stCondLst>
                        <p:cond evt="onClick">
                          <p:tgtEl>
                            <p:spTgt spid="756"/>
                          </p:tgtEl>
                        </p:cond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766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00"/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193"/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94"/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95"/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196"/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198"/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810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вторим 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10"/>
          <p:cNvSpPr/>
          <p:nvPr/>
        </p:nvSpPr>
        <p:spPr>
          <a:xfrm>
            <a:off x="609480" y="5943600"/>
            <a:ext cx="358164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13"/>
          <p:cNvSpPr/>
          <p:nvPr/>
        </p:nvSpPr>
        <p:spPr>
          <a:xfrm>
            <a:off x="6019920" y="5943600"/>
            <a:ext cx="28191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60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"/>
          <p:cNvSpPr/>
          <p:nvPr/>
        </p:nvSpPr>
        <p:spPr>
          <a:xfrm>
            <a:off x="228600" y="12193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Если ты выбрал правильный ответ, появится     «плю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Если ты выбрал неверный ответ, появится «мину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Желаем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69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9"/>
          <p:cNvSpPr/>
          <p:nvPr/>
        </p:nvSpPr>
        <p:spPr>
          <a:xfrm>
            <a:off x="228600" y="228600"/>
            <a:ext cx="84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Найдите правильное объяснение пунктуации в предложении: Грачи давно расхаживали по двору( ) и начинали вить гнёзда в Грачёвой ро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9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88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Rectangle 9"/>
          <p:cNvSpPr/>
          <p:nvPr/>
        </p:nvSpPr>
        <p:spPr>
          <a:xfrm>
            <a:off x="106200" y="228600"/>
            <a:ext cx="88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Найдите правильное объяснение пунктуации в предложении: Снежинок становится всё больше и больше( )и в снежном хороводе не видно ни падающих листьев, ни т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0"/>
          <p:cNvSpPr/>
          <p:nvPr/>
        </p:nvSpPr>
        <p:spPr>
          <a:xfrm>
            <a:off x="957240" y="1550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468360" y="1913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2"/>
          <p:cNvSpPr/>
          <p:nvPr/>
        </p:nvSpPr>
        <p:spPr>
          <a:xfrm>
            <a:off x="468360" y="3033720"/>
            <a:ext cx="360360" cy="3589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3"/>
          <p:cNvSpPr/>
          <p:nvPr/>
        </p:nvSpPr>
        <p:spPr>
          <a:xfrm>
            <a:off x="479520" y="4265640"/>
            <a:ext cx="360360" cy="3618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479520" y="5638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7"/>
          <p:cNvSpPr/>
          <p:nvPr/>
        </p:nvSpPr>
        <p:spPr>
          <a:xfrm>
            <a:off x="992160" y="2666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8"/>
          <p:cNvSpPr/>
          <p:nvPr/>
        </p:nvSpPr>
        <p:spPr>
          <a:xfrm>
            <a:off x="992160" y="3978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9"/>
          <p:cNvSpPr/>
          <p:nvPr/>
        </p:nvSpPr>
        <p:spPr>
          <a:xfrm>
            <a:off x="1001880" y="5264280"/>
            <a:ext cx="72720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22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4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07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Rectangle 9"/>
          <p:cNvSpPr/>
          <p:nvPr/>
        </p:nvSpPr>
        <p:spPr>
          <a:xfrm>
            <a:off x="106200" y="228600"/>
            <a:ext cx="873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Найдите правильное объяснение пунктуации в предложении: Светало( ) и свет ещё не погашенных фонарей был уже не нуж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0"/>
          <p:cNvSpPr/>
          <p:nvPr/>
        </p:nvSpPr>
        <p:spPr>
          <a:xfrm>
            <a:off x="992160" y="142884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1"/>
          <p:cNvSpPr/>
          <p:nvPr/>
        </p:nvSpPr>
        <p:spPr>
          <a:xfrm>
            <a:off x="468360" y="17175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23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24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26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Rectangle 9"/>
          <p:cNvSpPr/>
          <p:nvPr/>
        </p:nvSpPr>
        <p:spPr>
          <a:xfrm>
            <a:off x="228600" y="228600"/>
            <a:ext cx="84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Найдите правильное объяснение пунктуации в предложении: Все окна в домах были открыты( ) и всюду слышалась му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981000" y="142884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11"/>
          <p:cNvSpPr/>
          <p:nvPr/>
        </p:nvSpPr>
        <p:spPr>
          <a:xfrm>
            <a:off x="450720" y="1716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445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7"/>
          <p:cNvSpPr/>
          <p:nvPr/>
        </p:nvSpPr>
        <p:spPr>
          <a:xfrm>
            <a:off x="130320" y="228600"/>
            <a:ext cx="88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Найдите правильное объяснение пунктуации в предложении: Людям ничего не дается даром( )и к некоторым обязанностям их надо приучать с дет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8"/>
          <p:cNvSpPr/>
          <p:nvPr/>
        </p:nvSpPr>
        <p:spPr>
          <a:xfrm>
            <a:off x="992160" y="144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9"/>
          <p:cNvSpPr/>
          <p:nvPr/>
        </p:nvSpPr>
        <p:spPr>
          <a:xfrm>
            <a:off x="458640" y="173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6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Rectangle 7"/>
          <p:cNvSpPr/>
          <p:nvPr/>
        </p:nvSpPr>
        <p:spPr>
          <a:xfrm>
            <a:off x="228600" y="228600"/>
            <a:ext cx="873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Найдите правильное объяснение пунктуации в предложении: Раннее утро ( )и всё кругом просып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536" nodeType="clickEffect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Toshiba</dc:creator>
  <dc:description/>
  <dc:language>en-US</dc:language>
  <cp:lastModifiedBy>User</cp:lastModifiedBy>
  <dcterms:modified xsi:type="dcterms:W3CDTF">2012-04-01T04:30:0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