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73CE-A7B5-41C8-95B6-E395CFCAD7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7DA-0A53-4577-B732-2E1FEE4AA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BEE-5870-4B2D-ACE7-83BBD11C5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194-EF3D-45C0-8BE0-526117E8F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80C9-EA23-47A4-A3DD-605564C97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4682-F45B-4791-B973-4AE0B4898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68E4-8F61-46E7-B521-CFF7A7D92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443-66A8-49FC-BE30-22F56C45C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6C9-30BD-4CEB-A26E-362263550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330-A4C7-4DBA-B200-68E06E325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E7D-A911-46D5-ACD4-253137963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B84A-5E55-467A-A3BB-477E776C2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E15-77EA-45DC-8749-5F2C49D00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EABE-19F7-4120-AACD-9F199C76F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B81-526B-48F3-A652-E405EDC9E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EF74-FCEC-4748-A4ED-3789323DE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BDCF-E2A3-4C8C-A3EF-497269F67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F9D0-A6DC-45A3-B8E8-91F6F95A0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FCA2-7D02-4451-90C8-81C60D966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D2A-E707-4236-8A56-BC544B26C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DF0-DA5C-4D56-9D98-DB55A0965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741-6E92-48AC-BEA4-0F3E85787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762-0646-4E7B-BF18-36C43262E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6815-C3F6-463A-A00A-51ABCE97F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AF9-5950-4ECC-8E8B-BA58E7BF8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B43-2619-4942-873C-E0E16DDEE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444-236A-41A3-A39B-D3B8D2A18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6078-A056-4CBE-95F8-4634A7E5D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1B6-9AA7-4565-B39F-B39670C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2E6-3779-431A-9645-D316B25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89C-B27C-4515-B861-7D73AA5C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02F-1005-4666-B2CF-45327276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B634-3C08-4F2A-BB67-6456B43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06F-003B-42C1-A461-AFDA8A30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D4D0-A2DB-403B-AB18-D129BB3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F1E-3DDC-4C79-B780-B7DB38E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9917-5CA0-4FC8-BFCA-D4E5785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075-6D53-4749-82AE-A98158BB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EF64-B0C4-4CDA-96AF-E922798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124-EBB6-401F-AB43-4391436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B136-E36C-4715-9868-817A0E91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6721-0BAB-4A04-8244-F4E9722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F30B-1715-4E03-A3C0-C9AE2A9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18B-0281-49AB-A1D4-F338F910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91E-8A49-469F-810D-27193EA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EB8B-F45D-4631-9277-693A85CF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D28E-9331-482A-A7A0-C52A62E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4775-21CD-418B-9A9E-23ED077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DF8A-8278-4AB4-B073-5D9ED8A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7E3FF-2238-40C8-95AB-19A51A85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365-D337-441F-A93C-92D8335B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7BE6-FD44-4F5B-8EF0-EC7D3FA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BE48-A291-4674-B3F4-820F4C8B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6A2F-F630-4555-B9B2-F4B04C5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F1D5-1ECF-407B-9419-7CBECCD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55D2-6718-4FEA-9BBB-DA0F628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A088-0A54-4566-AAE4-4AFC8401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D3FC-5063-4526-B99D-30E1A0CA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83A1-F5FB-43DD-87B8-BAD6AD40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A408-B441-4D1E-9877-0AFF1A8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1B2E5-5032-42BC-AD34-4138C15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65F-7D10-4B26-AEBA-B245010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46A50-7338-408B-ABAB-923EF6B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966A-91F6-40C1-A017-5CCF824F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E94DF-6BA6-49CF-B128-07268BF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24230-A255-4354-8130-A41DE34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749A-B213-491C-926F-7A932DF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7532-8286-4B28-A080-5D55A33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3673-EEF0-4229-AEEF-9C4751D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1993-3B2E-4A53-96A4-1283BDEB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8E5C-C91A-411C-BC7E-EF4C368C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E10F5-9FE6-4A25-A915-29002377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D78-C89D-42C4-9DD8-61E1080C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3871-3EE2-4DAF-A2C1-340C7F2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C89A-2008-43A0-92B3-B714D59A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1B63-B96A-4207-933C-BC030A37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88EA-D469-4B49-82B3-7185C54B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BED17-B4F1-41B5-A02B-B6A42494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7E4E-7AB6-4353-80A5-BBC9D713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49D4-1E49-4940-BAF3-C3A4EFD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03C9-8A00-4082-86D7-59234F9E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B4F8-F2D1-4122-8860-36016D73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590A-9672-4B7F-996D-CBD828CF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594-D9E9-4E81-9665-499D4F7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1EFE6-3DAC-4B3D-A769-2664EE72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473A-8B79-4D96-B6CD-1ABA0BC2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D5F2-B2F6-43AF-A5BF-A264AA15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AC70C-4150-4E8A-9B49-A0D3FC6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20BA-2529-4761-9156-21EE02F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CFBB6-72E7-4D27-ABBE-0D5A2598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EF63-88FF-46CB-B427-1B3E46E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E77F2-BC3B-446F-B1F4-308887A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94638-175C-45E9-868A-9D967CD8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317A-1FDF-4F9D-ABDF-8776E87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429-75A9-4EC8-8482-5DEE434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37FE-DC6E-4324-82CA-30350C0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9EAA-E3F2-4AE5-B501-16600CFB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C03CF-7444-4EDA-806A-18443731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7102-A8C1-4EF1-BEAA-46A147B0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2A53-E1CC-4513-AF04-FDCAAE4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CA5A-DBF4-4A9B-ADEE-125DC85E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F1C7-2E32-4525-9A52-AA5A9AA1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FDE84-1928-42FB-89B1-F930A96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2A02-592C-469E-9ECD-0AA79DF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0F778-527F-4C9B-B286-01D4436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440-5188-4EAD-BD8D-269C2C86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E965C-0E43-492D-AF8F-4B636B9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2BB6E-ECCE-4F32-991D-AAA01A96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8F10-BA68-4B4E-B02D-DC9922B8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B995-0946-40FB-B5DE-B87E0D90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FD7E-3140-4BA8-A9F4-C53F03F2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87E-B6D0-49BC-96DE-EB91590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9C70-D152-4D3E-B520-EAC0889B8F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5F00-032F-499F-9628-3CAB7C33F5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E800-E2EA-43E6-8BE0-71800789D6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900-34E3-4A34-AC0F-2E50CEF180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639-4518-4B09-B0F4-64C9861F37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0B05-9CB5-401A-87D5-274A89FF3A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2BB4-E11A-4A3E-A594-78D5C2387D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1371600"/>
            <a:ext cx="84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 A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461160" y="5715000"/>
            <a:ext cx="77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арова Т.А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ист Рязанского института развития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7"/>
          <p:cNvSpPr/>
          <p:nvPr/>
        </p:nvSpPr>
        <p:spPr>
          <a:xfrm>
            <a:off x="106200" y="228600"/>
            <a:ext cx="88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Найдите правильное объяснение пунктуации в предложении: Воздух совершенно прозрачен( )и простым глазом заметны его переливы в ярком свете сол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9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502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Найдите правильное объяснение пунктуации в предложении: Настя проснулась( ) и пошла к себе наверх, легла и тотчас ус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992160" y="144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468360" y="173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228600" y="228600"/>
            <a:ext cx="88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Найдите правильное объяснение пунктуации в предложении: Наконец лучи солнца погасли ( )и окутали город плотные тум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8"/>
          <p:cNvSpPr/>
          <p:nvPr/>
        </p:nvSpPr>
        <p:spPr>
          <a:xfrm>
            <a:off x="1028880" y="1428840"/>
            <a:ext cx="7272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468360" y="1609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Найдите правильное объяснение пунктуации в предложении: Стало совсем темно ( )и улица мало-помалу опус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1015920" y="141912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468360" y="1708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3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68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ctangle 7"/>
          <p:cNvSpPr/>
          <p:nvPr/>
        </p:nvSpPr>
        <p:spPr>
          <a:xfrm>
            <a:off x="106200" y="22860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айдите правильное объяснение пунктуации в предложении: По морю шла волна ( )и пена, облизывая борта парохода, тотчас тая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106200" y="228600"/>
            <a:ext cx="926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айдите правильное объяснение пунктуации в предложении : Незаметно зажглась ( )и начала разгораться в небе оранжевая полоска за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457200" y="1714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957240" y="142704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Найдите правильное объяснение пунктуации в предложении: Солнце то появлялось, то исчезало ( )и к вечеру снова пошел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Rectangle 7"/>
          <p:cNvSpPr/>
          <p:nvPr/>
        </p:nvSpPr>
        <p:spPr>
          <a:xfrm>
            <a:off x="0" y="228600"/>
            <a:ext cx="90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Найдите правильное объяснение пунктуации в предложении: Ветер, разогнав тучи, дал простор солнцу ( )и тайга ож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35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Rectangle 7"/>
          <p:cNvSpPr/>
          <p:nvPr/>
        </p:nvSpPr>
        <p:spPr>
          <a:xfrm>
            <a:off x="106200" y="2286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йдите правильное объяснение пунктуации в предложении: Подхватил меня резкий ветер, закружил ( )и забросил в тай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8"/>
          <p:cNvSpPr/>
          <p:nvPr/>
        </p:nvSpPr>
        <p:spPr>
          <a:xfrm>
            <a:off x="98748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7"/>
          <p:cNvSpPr/>
          <p:nvPr/>
        </p:nvSpPr>
        <p:spPr>
          <a:xfrm>
            <a:off x="106200" y="22860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Найдите правильное объяснение пунктуации в предложении : Может быть снова грянут морозы( )и затрещат от них закоченевшие с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2"/>
          <p:cNvSpPr/>
          <p:nvPr/>
        </p:nvSpPr>
        <p:spPr>
          <a:xfrm>
            <a:off x="468360" y="1700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5"/>
          <p:cNvSpPr/>
          <p:nvPr/>
        </p:nvSpPr>
        <p:spPr>
          <a:xfrm>
            <a:off x="99216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Найдите правильное объяснение пунктуации в предложении: Сквозь дождь лучило солнце ( )и раскидывалась радуга от края до кр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2"/>
          <p:cNvSpPr/>
          <p:nvPr/>
        </p:nvSpPr>
        <p:spPr>
          <a:xfrm>
            <a:off x="430200" y="1773360"/>
            <a:ext cx="36036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5"/>
          <p:cNvSpPr/>
          <p:nvPr/>
        </p:nvSpPr>
        <p:spPr>
          <a:xfrm>
            <a:off x="99216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68400" y="100080"/>
            <a:ext cx="8937000" cy="6668640"/>
            <a:chOff x="68400" y="100080"/>
            <a:chExt cx="8937000" cy="6668640"/>
          </a:xfrm>
        </p:grpSpPr>
        <p:sp>
          <p:nvSpPr>
            <p:cNvPr id="709" name="Line 3"/>
            <p:cNvSpPr/>
            <p:nvPr/>
          </p:nvSpPr>
          <p:spPr>
            <a:xfrm>
              <a:off x="68400" y="1000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4"/>
            <p:cNvSpPr/>
            <p:nvPr/>
          </p:nvSpPr>
          <p:spPr>
            <a:xfrm>
              <a:off x="684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"/>
            <p:cNvSpPr/>
            <p:nvPr/>
          </p:nvSpPr>
          <p:spPr>
            <a:xfrm>
              <a:off x="68400" y="67687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6"/>
            <p:cNvSpPr/>
            <p:nvPr/>
          </p:nvSpPr>
          <p:spPr>
            <a:xfrm>
              <a:off x="90054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Rectangle 7"/>
          <p:cNvSpPr/>
          <p:nvPr/>
        </p:nvSpPr>
        <p:spPr>
          <a:xfrm>
            <a:off x="0" y="228600"/>
            <a:ext cx="8967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Найдите правильное объяснение пунктуации в предложении: Лёля присела на узкую лавочку ( )и стала глядеть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2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7"/>
          <p:cNvSpPr/>
          <p:nvPr/>
        </p:nvSpPr>
        <p:spPr>
          <a:xfrm>
            <a:off x="0" y="228600"/>
            <a:ext cx="896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Найдите правильное объяснение пунктуации в предложении: У Сурикова была феноменальная художественная память ( )и священника он написал по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8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9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4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7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Найдите правильное объяснение пунктуации в предложении:    Рябина шуршала листвой по стеклам, загораживая все остальное ( ) и создавая в комнате полумр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5"/>
          <p:cNvSpPr/>
          <p:nvPr/>
        </p:nvSpPr>
        <p:spPr>
          <a:xfrm>
            <a:off x="963720" y="136512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6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8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9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Найдите правильное объяснение пунктуации в предложении: Грачи давно расхаживали по двору( ) и начинали вить гнёзда в Грачёвой ро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106200" y="228600"/>
            <a:ext cx="88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Найдите правильное объяснение пунктуации в предложении: Снежинок становится всё больше и больше( )и в снежном хороводе не видно ни падающих листьев, ни т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0"/>
          <p:cNvSpPr/>
          <p:nvPr/>
        </p:nvSpPr>
        <p:spPr>
          <a:xfrm>
            <a:off x="957240" y="1550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468360" y="1913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2"/>
          <p:cNvSpPr/>
          <p:nvPr/>
        </p:nvSpPr>
        <p:spPr>
          <a:xfrm>
            <a:off x="468360" y="303372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3"/>
          <p:cNvSpPr/>
          <p:nvPr/>
        </p:nvSpPr>
        <p:spPr>
          <a:xfrm>
            <a:off x="479520" y="4265640"/>
            <a:ext cx="360360" cy="361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479520" y="5638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7"/>
          <p:cNvSpPr/>
          <p:nvPr/>
        </p:nvSpPr>
        <p:spPr>
          <a:xfrm>
            <a:off x="992160" y="2666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8"/>
          <p:cNvSpPr/>
          <p:nvPr/>
        </p:nvSpPr>
        <p:spPr>
          <a:xfrm>
            <a:off x="992160" y="3978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9"/>
          <p:cNvSpPr/>
          <p:nvPr/>
        </p:nvSpPr>
        <p:spPr>
          <a:xfrm>
            <a:off x="1001880" y="5264280"/>
            <a:ext cx="7272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9"/>
          <p:cNvSpPr/>
          <p:nvPr/>
        </p:nvSpPr>
        <p:spPr>
          <a:xfrm>
            <a:off x="106200" y="22860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Найдите правильное объяснение пунктуации в предложении: Светало( ) и свет ещё не погашенных фонарей был уже не ну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99216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468360" y="1717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9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Найдите правильное объяснение пунктуации в предложении: Все окна в домах были открыты( ) и всюду слышалась му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981000" y="142884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50720" y="1716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45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"/>
          <p:cNvSpPr/>
          <p:nvPr/>
        </p:nvSpPr>
        <p:spPr>
          <a:xfrm>
            <a:off x="130320" y="228600"/>
            <a:ext cx="88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йдите правильное объяснение пунктуации в предложении: Людям ничего не дается даром( )и к некоторым обязанностям их надо приучать с де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992160" y="144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9"/>
          <p:cNvSpPr/>
          <p:nvPr/>
        </p:nvSpPr>
        <p:spPr>
          <a:xfrm>
            <a:off x="458640" y="173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>
            <a:off x="228600" y="22860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Найдите правильное объяснение пунктуации в предложении: Раннее утро ( )и всё кругом просып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очиненное предложение, запятая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жносочиненное предложение, запятая не ну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4-01T04:30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