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BA78-B560-4174-86A5-7C3B5AFD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5B0-C458-45E1-8654-CEB419A7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52B-5F9B-4F26-9CFF-4779787F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8F88-DD27-4265-863C-CB1B10B5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844E-79D1-442C-9971-B29BAE1E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359-D15C-4B53-B257-D7FD442C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0F2-2EDE-4398-B571-7D9DEC5B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9C5-D372-4BD0-A5FE-698FA6B4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B42-7B51-4C1A-8803-F14AC689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353-7C6A-45FD-8EDC-6C164E32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DFD9-4097-4884-ABF1-1C8491B4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318-0488-482F-B4CC-50BE64BE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558D-0722-43B1-B5A5-0B60431E8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4;&#1072;&#1088;&#1082;&#1072;" TargetMode="External"/><Relationship Id="rId2" Type="http://schemas.openxmlformats.org/officeDocument/2006/relationships/hyperlink" Target="http://ru.wikipedia.org/wiki/&#1052;&#1077;&#1090;&#1072;&#1083;&#1083;" TargetMode="External"/><Relationship Id="rId3" Type="http://schemas.openxmlformats.org/officeDocument/2006/relationships/hyperlink" Target="http://ru.wikipedia.org/wiki/&#1059;&#1082;&#1089;&#1091;&#1089;&#1085;&#1072;&#1103;_&#1082;&#1080;&#1089;&#1083;&#1086;&#1090;&#1072;" TargetMode="External"/><Relationship Id="rId4" Type="http://schemas.openxmlformats.org/officeDocument/2006/relationships/hyperlink" Target="http://ru.wikipedia.org/wiki/&#1069;&#1090;&#1080;&#1083;&#1086;&#1074;&#1099;&#1081;_&#1089;&#1087;&#1080;&#1088;&#1090;" TargetMode="External"/><Relationship Id="rId5" Type="http://schemas.openxmlformats.org/officeDocument/2006/relationships/hyperlink" Target="http://ru.wikipedia.org/wiki/&#1056;&#1072;&#1089;&#1090;&#1074;&#1086;&#1088;&#1080;&#1090;&#1077;&#1083;&#1100;" TargetMode="External"/><Relationship Id="rId6" Type="http://schemas.openxmlformats.org/officeDocument/2006/relationships/hyperlink" Target="http://ru.wikipedia.org/wiki/&#1055;&#1083;&#1072;&#1089;&#1090;&#1084;&#1072;&#1089;&#1089;&#1072;" TargetMode="External"/><Relationship Id="rId7" Type="http://schemas.openxmlformats.org/officeDocument/2006/relationships/hyperlink" Target="http://ru.wikipedia.org/wiki/&#1050;&#1072;&#1091;&#1095;&#1091;&#1082;" TargetMode="Externa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9;&#1075;&#1083;&#1077;&#1074;&#1086;&#1076;&#1086;&#1088;&#1086;&#1076;" TargetMode="External"/><Relationship Id="rId2" Type="http://schemas.openxmlformats.org/officeDocument/2006/relationships/hyperlink" Target="http://ru.wikipedia.org/wiki/&#1040;&#1090;&#1086;&#1084;" TargetMode="External"/><Relationship Id="rId3" Type="http://schemas.openxmlformats.org/officeDocument/2006/relationships/hyperlink" Target="http://ru.wikipedia.org/wiki/&#1059;&#1075;&#1083;&#1077;&#1088;&#1086;&#1076;" TargetMode="External"/><Relationship Id="rId4" Type="http://schemas.openxmlformats.org/officeDocument/2006/relationships/hyperlink" Target="http://ru.wikipedia.org/wiki/&#1040;&#1083;&#1082;&#1080;&#1085;&#1099;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36" TargetMode="External"/><Relationship Id="rId2" Type="http://schemas.openxmlformats.org/officeDocument/2006/relationships/hyperlink" Target="http://ru.wikipedia.org/wiki/&#1044;&#1101;&#1074;&#1080;,_&#1069;&#1076;&#1084;&#1091;&#1085;&#1076;" TargetMode="External"/><Relationship Id="rId3" Type="http://schemas.openxmlformats.org/officeDocument/2006/relationships/hyperlink" Target="http://ru.wikipedia.org/wiki/&#1059;&#1075;&#1086;&#1083;&#1100;" TargetMode="External"/><Relationship Id="rId4" Type="http://schemas.openxmlformats.org/officeDocument/2006/relationships/hyperlink" Target="http://ru.wikipedia.org/wiki/&#1042;&#1086;&#1076;&#1086;&#1088;&#1086;&#1076;" TargetMode="External"/><Relationship Id="rId5" Type="http://schemas.openxmlformats.org/officeDocument/2006/relationships/hyperlink" Target="http://ru.wikipedia.org/w/index.php?title=&#1069;&#1083;&#1077;&#1082;&#1090;&#1086;&#1076;&amp;action=edit&amp;redlink=1" TargetMode="External"/><Relationship Id="rId6" Type="http://schemas.openxmlformats.org/officeDocument/2006/relationships/hyperlink" Target="http://ru.wikipedia.org/wiki/&#1041;&#1077;&#1088;&#1090;&#1083;&#1086;,_&#1055;&#1100;&#1077;&#1088;_&#1069;&#1078;&#1077;&#1085;_&#1052;&#1072;&#1088;&#1089;&#1077;&#1083;&#1077;&#1085;" TargetMode="External"/><Relationship Id="rId7" Type="http://schemas.openxmlformats.org/officeDocument/2006/relationships/hyperlink" Target="http://ru.wikipedia.org/wiki/1862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hyschem.chimfak.rsu.ru/Source/History/Addition_16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6121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рганическая хим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3573360"/>
            <a:ext cx="871380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Ацетиле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еакция окис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123"/>
          <p:cNvPicPr/>
          <p:nvPr/>
        </p:nvPicPr>
        <p:blipFill>
          <a:blip r:embed="rId1"/>
          <a:stretch/>
        </p:blipFill>
        <p:spPr>
          <a:xfrm>
            <a:off x="457200" y="1484280"/>
            <a:ext cx="8686800" cy="2959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5286240" y="4571640"/>
            <a:ext cx="340056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 rot="10800000">
            <a:off x="785160" y="4500720"/>
            <a:ext cx="29257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637236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имен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цетилен использу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вар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резки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еталл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источник очень яркого, белого света в автономных светильниках, где он получается реакцией карбида кальция и во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оизводстве взрывчатых вещест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олучени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уксусной кисло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этилового спир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растворител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пластических ма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каучу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ароматических углевод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Рисунок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505116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помнит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кольку ацетилен растворим в воде и его смеси с кислородом могут взрываться в очень широком диапазоне концентраций, его нельзя собирать в газомет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цетилен взрывается при температуре около 500 °C, температура самовоспламенения 335 °C. Взрывоопасность уменьшается при разбавлении ацетилена другими газами, например N2, метаном или пропан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цетилен обладает слабым токсическим действием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ранят    и перевозят   его   в заполненных   инертной пористой массой (например, древесным углем) стальных баллонах белого цвета (с красной надписью «А») в виде раствора в ацетоне под давлением 1,5-2,5 МП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98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98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98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14716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Строение ацетилена</a:t>
            </a: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660066"/>
                </a:solidFill>
                <a:uFillTx/>
                <a:latin typeface="Arial"/>
              </a:rPr>
              <a:t>Строение   молекулы </a:t>
            </a:r>
            <a:br>
              <a:rPr sz="3200"/>
            </a:br>
            <a:r>
              <a:rPr b="1" i="1" lang="ru-RU" sz="3200" spc="-1" strike="noStrike" u="sng">
                <a:solidFill>
                  <a:srgbClr val="660066"/>
                </a:solidFill>
                <a:uFillTx/>
                <a:latin typeface="Arial"/>
              </a:rPr>
              <a:t>ацетилен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щая формула – 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лекулярная формула -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цетилен -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 ненасыщенный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углеводород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меет тройную связь между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томам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углерод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надлежит к классу-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алкинов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2268360" y="-892080"/>
            <a:ext cx="1008000" cy="81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252360" y="2743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660066"/>
                </a:solidFill>
                <a:uFillTx/>
                <a:latin typeface="Arial"/>
              </a:rPr>
              <a:t>Строение молекулы ацетил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2" descr="400px-Spbond"/>
          <p:cNvPicPr/>
          <p:nvPr/>
        </p:nvPicPr>
        <p:blipFill>
          <a:blip r:embed="rId1"/>
          <a:stretch/>
        </p:blipFill>
        <p:spPr>
          <a:xfrm>
            <a:off x="1908000" y="1844640"/>
            <a:ext cx="5256360" cy="2298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3" descr="ыувпроь"/>
          <p:cNvPicPr/>
          <p:nvPr/>
        </p:nvPicPr>
        <p:blipFill>
          <a:blip r:embed="rId2"/>
          <a:stretch/>
        </p:blipFill>
        <p:spPr>
          <a:xfrm>
            <a:off x="250920" y="4437000"/>
            <a:ext cx="8569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4720" y="1599840"/>
            <a:ext cx="4402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леродные атомы в молекуле ацетилена находятся в состоянии sp-гибрид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екула ацетилена линейная; все 4 атома расположены на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нергия тройной связи 836 кДж/м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тояние С ≡ С и С-Н равно соответствию 0,1205 и 0,1059 н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te030040803"/>
          <p:cNvPicPr/>
          <p:nvPr/>
        </p:nvPicPr>
        <p:blipFill>
          <a:blip r:embed="rId1"/>
          <a:stretch/>
        </p:blipFill>
        <p:spPr>
          <a:xfrm>
            <a:off x="611280" y="2637000"/>
            <a:ext cx="3600360" cy="158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Ацетилен открыт 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 Black"/>
                <a:hlinkClick r:id="rId1"/>
              </a:rPr>
              <a:t>1836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 г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Э. Дэви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, синтезирован из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угля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 Black"/>
                <a:hlinkClick r:id="rId4"/>
              </a:rPr>
              <a:t>водорода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(дуговой разряд между двумя угольным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 Black"/>
                <a:hlinkClick r:id="rId5"/>
              </a:rPr>
              <a:t>электродами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в атмосфере водорода)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 Black"/>
                <a:hlinkClick r:id="rId6"/>
              </a:rPr>
              <a:t>М. Бертло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 Black"/>
                <a:hlinkClick r:id="rId7"/>
              </a:rPr>
              <a:t>1862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 г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Название этого соединения уже более ста лет знакомо не только химикам. С конца 19 в., когда был разработан дешевый способ получения ацетилена из карбида кальция (СаС2 + 2Н2О ® С2Н2 + Са(ОН)2), этот газ стали использовать для освещения. В пламени при высокой температуре ацетилен, содержащий 92,3% углерода (это своеобразный химический рекорд), разлагается с образованием твердых частичек углерода, которые могут иметь в своем составе от нескольких до миллионов атомов углерода. Сильно накаливаясь во внутреннем конусе пламени, эти частички обуславливают яркое свечение пламени – от желтого до белого, в зависимости от температуры (чем горячее пламя, тем ближе его цвет к белому). Ацетиленовые горелки давали в 15 раз больше света, чем обычные газовые фонари, которыми освещали улицы. Постепенно они были вытеснены электрическим освещением, но еще долго использовались в небольших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фонарях на велосипедах, мотоциклах, в конных экипажах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660066"/>
                </a:solidFill>
                <a:uFillTx/>
                <a:latin typeface="Arial"/>
              </a:rPr>
              <a:t>Получение ацетил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промышленности ацетилен получают действием воды на карбид кальц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цукенw"/>
          <p:cNvPicPr/>
          <p:nvPr/>
        </p:nvPicPr>
        <p:blipFill>
          <a:blip r:embed="rId1"/>
          <a:stretch/>
        </p:blipFill>
        <p:spPr>
          <a:xfrm>
            <a:off x="4648320" y="2322360"/>
            <a:ext cx="4038480" cy="739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429080" y="37857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550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Физические свой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нормальных условиях — бесцветный газ, малорастворим в воде, легче воздуха. Температура кипения −83,8 °C. При сжатии разлагается со взрывом, хранят в баллонах, заполненных кизельгуром или активированным углем, пропитанным ацетоном, в котором ацетилен растворяется под давлением в больших количествах. Взрывоопасный. Нельзя выпускать на открытый воздух. Частицы C2H2 есть на Уране и Нептун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Рисунок2"/>
          <p:cNvPicPr/>
          <p:nvPr/>
        </p:nvPicPr>
        <p:blipFill>
          <a:blip r:embed="rId1"/>
          <a:stretch/>
        </p:blipFill>
        <p:spPr>
          <a:xfrm>
            <a:off x="3840120" y="1600200"/>
            <a:ext cx="14619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5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Химические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Присоеди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C≡CH + Cl2 -&gt; СlСН=СНС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Гидрирование ацетилена в присутствии катализатора и 25 °C.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C≡CH + Н2 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2С=СН2  (этил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2С=СН2+Н2 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Н3-Н3С (эт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дратация ацетиле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реакция Кучер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u641_5a"/>
          <p:cNvPicPr/>
          <p:nvPr/>
        </p:nvPicPr>
        <p:blipFill>
          <a:blip r:embed="rId1"/>
          <a:stretch/>
        </p:blipFill>
        <p:spPr>
          <a:xfrm>
            <a:off x="1116000" y="4941720"/>
            <a:ext cx="676764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ихаил Григорьевич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УЧЕРОВ</a:t>
            </a:r>
            <a:br>
              <a:rPr sz="32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3 июня 1850 г. – 26 июня 1911 г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42920" y="1341000"/>
            <a:ext cx="6048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Михаил Григорьевич Кучер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русский химик-органик. Родился в имении отца под Полтавой. Окончил Петербургский земледельческий институт (1871). До 1910 г. работал в том же институте (с 1877 – Лесной институт), с 1902 г. – професс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ые работы посвящены органическому синтезу. Получил (1873) дифенил и некоторые его производные. Исследовал (1875) условия превращения бромвинила в ацетилен. Открыл (1881) реакцию каталитической гидратации ацетиленовых углеводородов с образованием карбонильных соединений, в частности, превращения ацетилена в ацетальдегид в присутствии солей ртути (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еакция Кучеров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). За это открытие был удостоен (1885) премии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усского физико-химического обществ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Реакция Кучерова была положена в основу промышленного способа получения ацетальдегида и уксусной кислоты. Показал (1909), что гидратацию ацетиленовых углеводородов можно проводить в присутствии солей магния, цинка, кадмия. Исследовал механизм этой реакции. Установил промежуточное образование металлорганических комплексов за счёт неполновалентного взаимодействия атомов металла соли и углеродных атомов с тройной связ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Kucherov"/>
          <p:cNvPicPr/>
          <p:nvPr/>
        </p:nvPicPr>
        <p:blipFill>
          <a:blip r:embed="rId2"/>
          <a:stretch/>
        </p:blipFill>
        <p:spPr>
          <a:xfrm>
            <a:off x="395280" y="1341360"/>
            <a:ext cx="241920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2:36:18Z</dcterms:created>
  <dc:creator>XTreme</dc:creator>
  <dc:description/>
  <dc:language>en-US</dc:language>
  <cp:lastModifiedBy>XTreme</cp:lastModifiedBy>
  <dcterms:modified xsi:type="dcterms:W3CDTF">2009-11-28T16:30:43Z</dcterms:modified>
  <cp:revision>8</cp:revision>
  <dc:subject/>
  <dc:title>Органическая химия.</dc:title>
</cp:coreProperties>
</file>