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983F-2EB6-467F-B396-FDAC1733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B161-AC1E-40DB-8AC4-D5D03A34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35DF-CF5B-4E1B-ADC0-59A12BA9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50DA-B929-4937-9193-3DD7D8D6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70DF-C517-48AD-AC1D-FDCA0BB8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2703-69C6-4DF1-8E8C-A98AC867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A345-5F89-4618-8883-EC90A3AF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FB93-AF15-4373-B6F5-B09FF8AE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FEE1-1E74-4555-BD73-0BAA7556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9A13-D244-4F74-8B61-AC0A34E2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FD4D-6FA6-4B25-8865-7F89E6A7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ED68-F042-4E50-B257-C3D3F683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82E6-C400-471A-A36C-F292D0531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тонио Виваль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92360" y="1125360"/>
            <a:ext cx="56163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056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90480" y="728640"/>
            <a:ext cx="77630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064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7770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не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193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70400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8520" y="285840"/>
            <a:ext cx="888696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6408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201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190440" y="-57240"/>
            <a:ext cx="952488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840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696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12:39:15Z</dcterms:created>
  <dc:creator>Анатолий</dc:creator>
  <dc:description/>
  <dc:language>en-US</dc:language>
  <cp:lastModifiedBy>Анатолий</cp:lastModifiedBy>
  <dcterms:modified xsi:type="dcterms:W3CDTF">2012-03-09T13:39:09Z</dcterms:modified>
  <cp:revision>2</cp:revision>
  <dc:subject/>
  <dc:title>Антонио Вивальди</dc:title>
</cp:coreProperties>
</file>