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87B-5B66-4026-85D4-7E460817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0E3B-D2CD-4342-AEB2-82AD213A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79A9-258F-4D1C-95E1-6F733429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FEF9-211D-4A5D-B204-5B43C278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C5EE-5E86-43D5-9A80-3DE6873B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3254-9AF2-4AA5-907E-A89BDD5E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18F2-F1D1-4690-9766-021E39CD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4198-6E91-4B7A-A36C-C639FA0F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37BD-4069-4ADE-8836-50A4E40B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FADD-29FA-4854-8B7A-C6D55F8E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70FF-F5BB-49B6-8EAA-D2F1E41C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D9A-C656-4CAA-BE17-F88F3CCA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3ED3-8F80-4BFA-8ECC-982FB4B7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66C7-D61E-448E-B7BC-9BCC80F6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198B-E9C6-4A24-9DF1-ED64E124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A059-62E2-4D1F-B00E-626CE02F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6915-703C-4E9C-B83E-B9AD3CE5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AC25-4A3D-4546-A11F-930E7AFB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D5D-FF98-4C6A-ACB8-6F5014B5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225E-C544-4723-90BA-9AD2B662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9DF-99CD-4265-AC5D-851AD464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2155-4EB9-466D-B5BF-57E42F8B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629-68A5-41FE-AC14-3058ADA2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6490-2848-4DDD-A683-76977254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50000">
              <a:srgbClr val="ccecff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F77F-1392-4B49-AE4A-4D89B70939C5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50000">
              <a:srgbClr val="ccecff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6A89-72A7-46FD-B311-AA26A7A3FE3D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50000">
              <a:srgbClr val="ccecff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26920" y="1268280"/>
            <a:ext cx="7561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К 200-летию Бородинского сражения посвящается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Arial"/>
              </a:rPr>
              <a:t>Подготовил Куцоконь Дмитрий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50000">
              <a:srgbClr val="ccecff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entury Gothic"/>
              </a:rPr>
              <a:t>Начало войны</a:t>
            </a: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3789360"/>
            <a:ext cx="821844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В ночь на 12 июня 1812 года войска Наполеона численностью 608 тысяч человек вторглись в пределы России. Их возглавляли сам император и его  полководцы, покорившие всю Европу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Русская армия состояла лишь из 210 тысяч солдат и офицеров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716360" y="1413000"/>
            <a:ext cx="3745080" cy="2160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3529080" cy="2160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50000">
              <a:srgbClr val="ccecff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Подготовка к решительному сражению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186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В первые месяцы войны русская армия отступала под натиском врага, тяжело переживала неудачи.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Враг подошел к Москве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Кутузов начал подготовку к сражению. Оно произошло на  широком, просторном поле у села Бородино, в 110 км от Москвы, 26 августа 1812г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42920" y="5660640"/>
            <a:ext cx="381636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М.И. Кутузов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3671640" cy="4032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003640" y="5661000"/>
            <a:ext cx="36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50000">
              <a:srgbClr val="ccecff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М.Лермонтов «Бородино»</a:t>
            </a: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716360" y="1484280"/>
            <a:ext cx="39657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«…И вот нашли большое поле: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Есть разгуляться где на воле!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Построили редут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У наших ушки на макушке!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Чуть утро осветило пушки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И леса синие верхушки - 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Французы тут как тут…»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М.Лермонтов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6" name="Rectangle 3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1749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50000">
              <a:srgbClr val="ccecff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Бой</a:t>
            </a: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360" y="1196640"/>
            <a:ext cx="8229600" cy="28083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Самым тяжелым моментом боя была оборона Курганской высоты. В течение нескольких часов высоту обстреливали 400 французских пушек. Но после ожесточенных атак врагу удалось занять высоту…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6561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50000">
              <a:srgbClr val="ccecff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entury Gothic"/>
              </a:rPr>
              <a:t>Великий поэт о битве</a:t>
            </a: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«…Вам не видать таких сражений!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Носились знамена, как тени,    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В дыму огонь блестел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Звучал булат, картечь визжала,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Рука бойцов колоть устала,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И ядрам пролетать мешала    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Гора кровавых тел…»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М.Лермонтов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9592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50000">
              <a:srgbClr val="ccecff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Решается судьба России</a:t>
            </a: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89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Бородинское сражение продолжалось 12 часов. Потери армий были огромны. Под покровом ночи русские и французы оставили Бородинское поле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забрав раненых и убитых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В этом сражении не было победителей. Но русская армия доказала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что она может сражаться на равных с «непобедимой» армией Наполеона.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148360" y="1599840"/>
            <a:ext cx="34560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456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50000">
              <a:srgbClr val="ccecff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 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Бородино 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— величайшая битва в истории, в которой решалась  судьба  России,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Бородино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— самый важный момент в ходе Отечественной войны 1812 года. В этом сражении  проявился патриотический дух русской армии и всего русского народа.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Бородино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— великое поражение Наполеона, начало его заката и окончательной гибели его «непобедимой» армии.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«В этом сражении французы снискали себе славу быть победителям, а русские - быть непобедимыми»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Наполеон Бонапарт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50000">
              <a:srgbClr val="ccecff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340000" y="2276640"/>
            <a:ext cx="433368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5:21:21Z</dcterms:created>
  <dc:creator>1</dc:creator>
  <dc:description/>
  <cp:keywords/>
  <dc:language>en-US</dc:language>
  <cp:lastModifiedBy>Y</cp:lastModifiedBy>
  <dcterms:modified xsi:type="dcterms:W3CDTF">2012-10-18T17:50:47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49</vt:lpwstr>
  </property>
</Properties>
</file>