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C81-86DC-4617-93EA-78A26F4C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109-E8FA-4680-B7F7-117CD07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939-07B3-4B28-808D-6CCC80E5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7E4-BE66-4ECF-899F-273D4B73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430-5049-4F45-AF35-3F9A3A7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303-8197-4061-B890-A961302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BD8-A171-4D9F-A972-8B347A0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F7B-5120-480E-9BD1-0BF8F16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478-274B-4152-9141-04D48472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BE7-FFE6-44BE-B10B-F7E7AFE3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782-CE2F-4C15-B60D-754A464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1AF-D8D1-4227-82C5-8E58B95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4972-166F-45E7-9383-A29681AD1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200-летию Бородинского с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933360"/>
            <a:ext cx="4425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ицы 6п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БУ «Агалатовская СОШ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иреу Анастас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3480" y="1916280"/>
            <a:ext cx="3744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родинское сражение явилось важнейшим событием Отечественной войны, которое подготовило и предопределило поражение наполеоновской Фра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3996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"/>
          <p:cNvSpPr/>
          <p:nvPr/>
        </p:nvSpPr>
        <p:spPr>
          <a:xfrm>
            <a:off x="179280" y="27860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кавалергарда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конной армии. Арх.Верещ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940360" y="309600"/>
            <a:ext cx="2121120" cy="2352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5148360" y="278460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ый монумент русским войнам. Бород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804600" y="609300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Смоленск. Бюст Кутуз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89560" y="593424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Кутузову. Бороди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х.Воронцов-Во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843120" y="525600"/>
            <a:ext cx="1928520" cy="215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6045120" y="3432240"/>
            <a:ext cx="2016360" cy="224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4"/>
          <a:stretch/>
        </p:blipFill>
        <p:spPr>
          <a:xfrm>
            <a:off x="1231920" y="3668760"/>
            <a:ext cx="19749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19680" y="1609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ечественная война 1812 г. – од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 кровопролитнейши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стории Росси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йна была развязана в 1804 г французским император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полеоном Бонапартом , уроженцем Корс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1391040" y="61657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ллерман «Ата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4162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341360"/>
            <a:ext cx="4038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был решительный, строгий военачальник, вел победоносные захватнические войн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активной военной деятельности сумел значительно расширить территорию французской республики, поставил в зависимость от Франции большинство государств Западной и Центральной Европ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мия Наполеона составляла 610 тысяч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Российская армия в начале войны насчитывала 240 тысяч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4572000" y="60930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ещагин «Наполеон и Лористон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фрагмен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5076720" y="2158920"/>
            <a:ext cx="2664000" cy="348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3008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леоновской армии в этой войне не удалось окружить и уничтожить русскую армию. Французам противодействовала не только русская армия , но и весь на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4294440" y="551664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сс «Переправа через Березин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3257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3008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ая армия терпела пораж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тобы максимально уменьшить потери, командующий войсками генерал-фельдмаршал Михаи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ларион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туз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менил тактику изматывающих бое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менно это позволило завлечь французскую армию вглубь страны, растянуть обозы врага по дорогам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292720" y="602136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расимов «Кутуз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7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12840" y="333360"/>
            <a:ext cx="40399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ающее сражение было дано на поле около села Бородина, что в Можайском районе Московской област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ражение вошло в историю под названием «Бородинская бит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8920" y="404640"/>
            <a:ext cx="4041720" cy="184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сражением французам был зачитан приказ Наполеона, чтобы поднять их боевой дух, он обещал богатую добычу, удобные квартиры в Москве и громкую славу в случае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26800" y="5894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есс, Петер фон «Бородинское сраж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5541480" y="6012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пелюк «Кутуз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195640" y="2606760"/>
            <a:ext cx="4203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усской армии отслужили молебен и понесли вдоль линии войс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удотворную икону Смоленс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жьей Мате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понимали, что решается судьба Мос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635280" y="836640"/>
            <a:ext cx="4727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лы сторон накануне Бородинской битв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и примерно равны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6000" y="1036440"/>
            <a:ext cx="3473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 французской -   около 135 тыс. чел., 587 оруд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51640" y="1060200"/>
            <a:ext cx="3303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усской армии - около 132 тыс. чел., 624 оруд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3276720" y="1989000"/>
            <a:ext cx="2868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два месяца военных действий первоначальный план Наполеона был сорван, а его войска понесли значительные потери. Он жаждет генерального сражения и победы. С целью ослабить противника и преградить путь к Москве, Кутузов решает дать генеральное с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6523560" y="594684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пелюк «Кутуз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фрагмен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38240" y="5789520"/>
            <a:ext cx="31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ещагин «Наполеон I на Бородинских высотах» (фрагмен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590400" y="1919160"/>
            <a:ext cx="223380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6485040" y="2152800"/>
            <a:ext cx="22287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ак, Бородинское сражение проиграно. Потери у французов – около 50 тысяч человек, у русских – 44 тысячи челове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сква была оставлена русскими. Наполеон несколько часов  ждал ключи от покоренной столицы, которые так и не были ему вруче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жить холодную зиму в пустом городе врагу не удалость. Французы стали отступать. Наполеон бежал. Война была выиграна всем русским народ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кончилась она в 1814 г. в Пари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250920" y="602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ещаги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Конец Бородинского сра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5292720" y="5981760"/>
            <a:ext cx="24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нишник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 1812 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88000" y="3363840"/>
            <a:ext cx="3921120" cy="245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50920" y="3363840"/>
            <a:ext cx="379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21:09Z</dcterms:created>
  <dc:creator>Настя</dc:creator>
  <dc:description/>
  <dc:language>en-US</dc:language>
  <cp:lastModifiedBy>Марина</cp:lastModifiedBy>
  <dcterms:modified xsi:type="dcterms:W3CDTF">2012-11-11T06:51:00Z</dcterms:modified>
  <cp:revision>17</cp:revision>
  <dc:subject/>
  <dc:title>Заглянем в прошлое…</dc:title>
</cp:coreProperties>
</file>