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3D0BB-EA97-40B7-AFD4-4F345F83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0615-CD8E-4CAA-88DE-DAEBAAAF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4AC44-C7CF-4346-942E-3DCF02FE2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DA88B-EBE8-4722-91C4-5D4123C23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A9FC4-D71A-4447-8C3C-B64F1F6DD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2966E-9441-4ACE-AEC6-876FD47A9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EEAD9-15C3-4E12-AAE8-C06793449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6305E-F830-4A2C-BA0D-49ABCAB6F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5D9E8-7D1C-46E3-8D70-CAAEEB1A5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FE1F6-AFF4-45E3-A91B-CD267F326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2619E-1562-4322-A21F-3003F9688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4FDE-311A-4BFA-92FC-7DFD7942D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EEE3C-DD74-4AF6-B11C-538C35DAE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10E92-77D7-4259-9272-B1B911397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F949-9EB7-4A0A-B1FB-409F5DC7F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B2B20-2E28-431F-9FF6-4B86FBA91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FC796-4ACB-4E44-835F-0EBD82CD6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8DF8-B4CB-4397-97D1-65EB7F07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4D2CE-27E7-431E-9BDE-DAFB95E5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6B01-E4FC-4C5E-9A40-FB2D89BC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9020-1312-4658-A78E-89DF5A90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2BE7-BE4B-4C22-9D6A-E78968DB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B15A-4108-4185-9D4D-EA065AC4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11BC-3204-4ADC-84E3-84800C1A4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A5CC-5D60-4C31-BB9C-4B9E2438A8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39C1-569E-4CCC-B2B7-61ADDBDED6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33360"/>
            <a:ext cx="7772400" cy="1442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История буквы «ё»</a:t>
            </a:r>
            <a:endParaRPr b="0" lang="en-US" sz="4800" spc="-1" strike="noStrike">
              <a:solidFill>
                <a:srgbClr val="b2b2b2"/>
              </a:solidFill>
              <a:latin typeface="Arial"/>
            </a:endParaRPr>
          </a:p>
        </p:txBody>
      </p:sp>
      <p:pic>
        <p:nvPicPr>
          <p:cNvPr id="99" name="Picture 5" descr=""/>
          <p:cNvPicPr/>
          <p:nvPr/>
        </p:nvPicPr>
        <p:blipFill>
          <a:blip r:embed="rId1"/>
          <a:stretch/>
        </p:blipFill>
        <p:spPr>
          <a:xfrm>
            <a:off x="611280" y="2060640"/>
            <a:ext cx="1666800" cy="2448000"/>
          </a:xfrm>
          <a:prstGeom prst="rect">
            <a:avLst/>
          </a:prstGeom>
          <a:ln w="0">
            <a:noFill/>
          </a:ln>
        </p:spPr>
      </p:pic>
      <p:pic>
        <p:nvPicPr>
          <p:cNvPr id="100" name="Picture 6" descr=""/>
          <p:cNvPicPr/>
          <p:nvPr/>
        </p:nvPicPr>
        <p:blipFill>
          <a:blip r:embed="rId2"/>
          <a:stretch/>
        </p:blipFill>
        <p:spPr>
          <a:xfrm>
            <a:off x="3203640" y="3213000"/>
            <a:ext cx="1325520" cy="2476440"/>
          </a:xfrm>
          <a:prstGeom prst="rect">
            <a:avLst/>
          </a:prstGeom>
          <a:ln w="0">
            <a:noFill/>
          </a:ln>
        </p:spPr>
      </p:pic>
      <p:pic>
        <p:nvPicPr>
          <p:cNvPr id="101" name="Picture 7" descr=""/>
          <p:cNvPicPr/>
          <p:nvPr/>
        </p:nvPicPr>
        <p:blipFill>
          <a:blip r:embed="rId3"/>
          <a:stretch/>
        </p:blipFill>
        <p:spPr>
          <a:xfrm>
            <a:off x="4716360" y="1989000"/>
            <a:ext cx="1728720" cy="1712880"/>
          </a:xfrm>
          <a:prstGeom prst="rect">
            <a:avLst/>
          </a:prstGeom>
          <a:ln w="0">
            <a:noFill/>
          </a:ln>
        </p:spPr>
      </p:pic>
      <p:pic>
        <p:nvPicPr>
          <p:cNvPr id="102" name="Picture 8" descr=""/>
          <p:cNvPicPr/>
          <p:nvPr/>
        </p:nvPicPr>
        <p:blipFill>
          <a:blip r:embed="rId4"/>
          <a:stretch/>
        </p:blipFill>
        <p:spPr>
          <a:xfrm>
            <a:off x="6372360" y="3645000"/>
            <a:ext cx="2411280" cy="18176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Times New Roman"/>
              </a:rPr>
              <a:t>История</a:t>
            </a:r>
            <a:endParaRPr b="0" lang="en-US" sz="4400" spc="-1" strike="noStrike">
              <a:solidFill>
                <a:srgbClr val="b2b2b2"/>
              </a:solidFill>
              <a:latin typeface="Arial"/>
            </a:endParaRPr>
          </a:p>
        </p:txBody>
      </p:sp>
      <p:sp>
        <p:nvSpPr>
          <p:cNvPr id="104" name="PlaceHolder 2"/>
          <p:cNvSpPr>
            <a:spLocks noGrp="1"/>
          </p:cNvSpPr>
          <p:nvPr>
            <p:ph/>
          </p:nvPr>
        </p:nvSpPr>
        <p:spPr>
          <a:xfrm>
            <a:off x="179280" y="1267920"/>
            <a:ext cx="8964720" cy="4862520"/>
          </a:xfrm>
          <a:prstGeom prst="rect">
            <a:avLst/>
          </a:prstGeom>
          <a:noFill/>
          <a:ln w="0">
            <a:noFill/>
          </a:ln>
        </p:spPr>
        <p:txBody>
          <a:bodyPr anchor="t">
            <a:normAutofit fontScale="98000"/>
          </a:bodyPr>
          <a:p>
            <a:pPr marL="335880" indent="-335880">
              <a:lnSpc>
                <a:spcPct val="8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уква "ё" появилась в русской письменности, как считают, благодаря директору Петербургской академии наук княгине Екатерине Романовне Дашковой. На одном из первых заседаний Российской академии 29 ноября (18 ноября по старому стилю) 1783 года, которое проходило в ее доме, княгиня указала академикам, что неверно употреблять две буквы для обозначения одного звука (ранее писалось "io"). Дашкова предложила использовать новую букву "ё" "для выражения слов и выговоров, с сего согласия начинающихся, как матiорый, iолка, iож". </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333360"/>
            <a:ext cx="8229600" cy="57261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800" spc="-1" strike="noStrike">
                <a:solidFill>
                  <a:srgbClr val="ffffff"/>
                </a:solidFill>
                <a:latin typeface="Times New Roman"/>
              </a:rPr>
              <a:t>Известной буква "ё" стала благодаря                Н.М. Карамзину, в связи с чем он часто (даже в таких авторитетных источниках, как "Большая советская энциклопедия") ошибочно указывается её автором. В 1796 году, в первой книжке издаваемого Карамзиным стихотворного альманаха "Аониды", выходившего из той же университетской типографии, с буквой "ё" были напечатаны слова "зарёю", "орёлъ", "мотылёкъ", "слёзы", а также первый глагол "потёкъ". Однако неизвестно, была ли то собственная идея Карамзина или же инициатива кого-то из сотрудников издательства. Следует отметить, что в научных работах (например, в знаменитой "Истории государства Российского", 1816-29) Карамзин букву "ё" не использовал. </a:t>
            </a:r>
            <a:endParaRPr b="0" lang="en-US" sz="2800" spc="-1" strike="noStrike">
              <a:solidFill>
                <a:srgbClr val="ffffff"/>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91920"/>
            <a:ext cx="8229600" cy="5438520"/>
          </a:xfrm>
          <a:prstGeom prst="rect">
            <a:avLst/>
          </a:prstGeom>
          <a:noFill/>
          <a:ln w="0">
            <a:noFill/>
          </a:ln>
        </p:spPr>
        <p:txBody>
          <a:bodyPr anchor="t">
            <a:normAutofit fontScale="91000"/>
          </a:bodyPr>
          <a:p>
            <a:pPr marL="312120" indent="-31212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Формально буквы "ё" и "й" вошли в алфавит (и получили порядковые номера) только в советское время (если не считать "Новой азбуки" Льва Толстого (1875), в которой буква "ё" стояла на 31-м месте, между ятем и "э"). 24 декабря 1942 года приказом народного комиссара просвещения РСФСР было введено обязательное употребление буквы "ё" в школьной практике, и с этого времени (иногда, впрочем, упоминают о 1943 годе) она официально считается входящей в русский алфавит. Последующие лет десять художественная и научная литература выходила с практически сплошным использованием буквы "ё", но затем издатели вернулись к прошлой практике: употреблять ее только в случае крайней необходимости.</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728352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Мнение защитников</a:t>
            </a:r>
            <a:endParaRPr b="0" lang="en-US" sz="4400" spc="-1" strike="noStrike">
              <a:solidFill>
                <a:srgbClr val="b2b2b2"/>
              </a:solidFill>
              <a:latin typeface="Arial"/>
            </a:endParaRPr>
          </a:p>
        </p:txBody>
      </p:sp>
      <p:sp>
        <p:nvSpPr>
          <p:cNvPr id="108" name="PlaceHolder 2"/>
          <p:cNvSpPr>
            <a:spLocks noGrp="1"/>
          </p:cNvSpPr>
          <p:nvPr>
            <p:ph/>
          </p:nvPr>
        </p:nvSpPr>
        <p:spPr>
          <a:xfrm>
            <a:off x="-360" y="1196640"/>
            <a:ext cx="6227640" cy="4933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Times New Roman"/>
              </a:rPr>
              <a:t>Случилось так, что с 1917 г. в итоге 12 лет работы Комиссии по русскому правописанию в нашей азбуке закрепилось и, думается, навсегда 33 буквы. Именно тридцать три, а число это священное. И мы берём на себя смелость сказать, что среди этого благословенного числа звёздочек-литер нашего алфавита буква Ё заняла седьмую и, безусловно, освящённую позицию. Что это — игра случая или воля Провидения? Не нам судить. Просто такова Истина.</a:t>
            </a:r>
            <a:endParaRPr b="0" lang="en-US" sz="2400" spc="-1" strike="noStrike">
              <a:solidFill>
                <a:srgbClr val="ffffff"/>
              </a:solidFill>
              <a:latin typeface="Arial"/>
            </a:endParaRPr>
          </a:p>
        </p:txBody>
      </p:sp>
      <p:pic>
        <p:nvPicPr>
          <p:cNvPr id="109" name="Picture 6" descr=""/>
          <p:cNvPicPr/>
          <p:nvPr/>
        </p:nvPicPr>
        <p:blipFill>
          <a:blip r:embed="rId1"/>
          <a:stretch/>
        </p:blipFill>
        <p:spPr>
          <a:xfrm>
            <a:off x="6227640" y="2421000"/>
            <a:ext cx="2573640" cy="3120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Мнение противников</a:t>
            </a:r>
            <a:endParaRPr b="0" lang="en-US" sz="4400" spc="-1" strike="noStrike">
              <a:solidFill>
                <a:srgbClr val="b2b2b2"/>
              </a:solidFill>
              <a:latin typeface="Arial"/>
            </a:endParaRPr>
          </a:p>
        </p:txBody>
      </p:sp>
      <p:sp>
        <p:nvSpPr>
          <p:cNvPr id="11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Мы говорим и пишем Депардье (вместо Депардьё), Рерих (а он чистый Рёрих) и Рентген (который на самом деле Рёнтген), не страдая ни секунды. В то же время все знают, что Гете — это Гёте.»</a:t>
            </a:r>
            <a:endParaRPr b="0" lang="en-US" sz="36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640" y="1844640"/>
            <a:ext cx="8064720" cy="44640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4800" spc="-1" strike="noStrike">
                <a:solidFill>
                  <a:srgbClr val="ffffff"/>
                </a:solidFill>
                <a:latin typeface="Times New Roman"/>
              </a:rPr>
              <a:t>Спасибо за внимание!!!</a:t>
            </a:r>
            <a:endParaRPr b="0" lang="en-US" sz="4800" spc="-1" strike="noStrike">
              <a:solidFill>
                <a:srgbClr val="ffffff"/>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6:56:03Z</dcterms:created>
  <dc:creator>Soloviev</dc:creator>
  <dc:description/>
  <dc:language>en-US</dc:language>
  <cp:lastModifiedBy>Оксана</cp:lastModifiedBy>
  <dcterms:modified xsi:type="dcterms:W3CDTF">2012-11-11T14:43:31Z</dcterms:modified>
  <cp:revision>4</cp:revision>
  <dc:subject/>
  <dc:title>История буквы «ё»</dc:title>
</cp:coreProperties>
</file>