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12.png" ContentType="image/png"/>
  <Override PartName="/ppt/media/image20.jpeg" ContentType="image/jpeg"/>
  <Override PartName="/ppt/media/image33.png" ContentType="image/png"/>
  <Override PartName="/ppt/media/image13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41.png" ContentType="image/png"/>
  <Override PartName="/ppt/media/image37.png" ContentType="image/png"/>
  <Override PartName="/ppt/media/image7.png" ContentType="image/png"/>
  <Override PartName="/ppt/media/image34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4FB4-1F57-47EB-A1FB-4D66722013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41D4-FFCB-40C8-9CCA-2C6EFA1FAD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D327-7CD5-4CAA-9ADB-81A5CC2D5E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j;lkkljklj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C52A-258D-4B11-8916-10D290D64B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C47-0728-4466-BB30-860F39B7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058-8B3B-44AE-B7A4-791D4C8F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ABE-9004-41EB-8022-CFD21A9B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54A7-D7DD-4FA1-83EE-DC961E64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10EC-24B0-412A-B4C4-E6266E23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6821-11F6-4F66-A01F-F5AAC7D9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0EA7-3802-458A-9577-09771E99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9C22-88A5-479B-A888-CE15EB37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ADBA-B977-417B-842F-178DF0A4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AFC2-358C-4B8E-8DEF-4B7BED9F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A4FC-39A9-44E8-A2DF-EFD83A61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E93-3A89-4B16-89F2-8925C42F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56D2-D072-4A32-8172-D40BBAEE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A7FC-2D0D-4E0A-813E-95FCE495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B6C6-CADD-43B2-BC28-4FF7C19E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5A5C-A6A8-4DA3-BFEC-103BCB91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25DA-B44D-4E4D-B2B6-DEA25AC3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A49D-0CF8-4DAC-AEB3-E9FFF883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BE50-4F7B-4933-8D0D-2519AF74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960-01AE-4DE5-BA4D-F3922EF1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602-7656-4D74-8F9B-5EC6C2DC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DB7D-8057-47DC-BCEC-C789613F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AA6-56D8-4721-8726-0150B99A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969-C3FB-4D16-ACCF-65986491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ffd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9D46-B338-40AE-9EED-DD0BEB4CB2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ffd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09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830D-74CD-4EB3-A121-CE3A57DE6B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624852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«Действия с многозначными числам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 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У СОШ №1 п. Селижаро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омилина Наталья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нкета будущего акционер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8360" y="1628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640" y="2708280"/>
          <a:ext cx="8064720" cy="2232000"/>
        </p:xfrm>
        <a:graphic>
          <a:graphicData uri="http://schemas.openxmlformats.org/drawingml/2006/table">
            <a:tbl>
              <a:tblPr/>
              <a:tblGrid>
                <a:gridCol w="1008000"/>
                <a:gridCol w="1008360"/>
                <a:gridCol w="1008000"/>
                <a:gridCol w="1008000"/>
                <a:gridCol w="1008000"/>
                <a:gridCol w="1008000"/>
                <a:gridCol w="1008360"/>
                <a:gridCol w="1008000"/>
              </a:tblGrid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</a:tbl>
          </a:graphicData>
        </a:graphic>
      </p:graphicFrame>
      <p:pic>
        <p:nvPicPr>
          <p:cNvPr id="215" name="Прямоугольник 4" descr=""/>
          <p:cNvPicPr/>
          <p:nvPr/>
        </p:nvPicPr>
        <p:blipFill>
          <a:blip r:embed="rId1"/>
          <a:stretch/>
        </p:blipFill>
        <p:spPr>
          <a:xfrm>
            <a:off x="414360" y="3602160"/>
            <a:ext cx="1243080" cy="111600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5" descr=""/>
          <p:cNvPicPr/>
          <p:nvPr/>
        </p:nvPicPr>
        <p:blipFill>
          <a:blip r:embed="rId2"/>
          <a:stretch/>
        </p:blipFill>
        <p:spPr>
          <a:xfrm>
            <a:off x="1487520" y="3602160"/>
            <a:ext cx="1109520" cy="111600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6" descr=""/>
          <p:cNvPicPr/>
          <p:nvPr/>
        </p:nvPicPr>
        <p:blipFill>
          <a:blip r:embed="rId3"/>
          <a:stretch/>
        </p:blipFill>
        <p:spPr>
          <a:xfrm>
            <a:off x="2425680" y="3602160"/>
            <a:ext cx="1255680" cy="111600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7" descr=""/>
          <p:cNvPicPr/>
          <p:nvPr/>
        </p:nvPicPr>
        <p:blipFill>
          <a:blip r:embed="rId4"/>
          <a:stretch/>
        </p:blipFill>
        <p:spPr>
          <a:xfrm>
            <a:off x="6473880" y="3602160"/>
            <a:ext cx="1225440" cy="111600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8" descr=""/>
          <p:cNvPicPr/>
          <p:nvPr/>
        </p:nvPicPr>
        <p:blipFill>
          <a:blip r:embed="rId5"/>
          <a:stretch/>
        </p:blipFill>
        <p:spPr>
          <a:xfrm>
            <a:off x="3432240" y="3602160"/>
            <a:ext cx="1255680" cy="111600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9" descr=""/>
          <p:cNvPicPr/>
          <p:nvPr/>
        </p:nvPicPr>
        <p:blipFill>
          <a:blip r:embed="rId6"/>
          <a:stretch/>
        </p:blipFill>
        <p:spPr>
          <a:xfrm>
            <a:off x="4529160" y="3602160"/>
            <a:ext cx="1225440" cy="111600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10" descr=""/>
          <p:cNvPicPr/>
          <p:nvPr/>
        </p:nvPicPr>
        <p:blipFill>
          <a:blip r:embed="rId7"/>
          <a:stretch/>
        </p:blipFill>
        <p:spPr>
          <a:xfrm>
            <a:off x="5456160" y="3602160"/>
            <a:ext cx="1243080" cy="111600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11" descr=""/>
          <p:cNvPicPr/>
          <p:nvPr/>
        </p:nvPicPr>
        <p:blipFill>
          <a:blip r:embed="rId8"/>
          <a:stretch/>
        </p:blipFill>
        <p:spPr>
          <a:xfrm>
            <a:off x="7473960" y="3602160"/>
            <a:ext cx="12430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Comic Sans MS"/>
              </a:rPr>
              <a:t>Бизнес-пла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сти помещ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монтировать помещение и купить новую мебел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хорошее оформлени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ить угощение для посетител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рекламу в средствах массовой информ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64087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Monotype Corsiva"/>
              </a:rPr>
              <a:t>Приобретение  помещения: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932360" y="907920"/>
            <a:ext cx="39607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связаны между собой числа  верхней и нижней стро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2     3     4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8    27   64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C:\Documents and Settings\Наташа\Мои документы\К открытому уроку 5 класс матем\помещение.bmp"/>
          <p:cNvPicPr/>
          <p:nvPr/>
        </p:nvPicPr>
        <p:blipFill>
          <a:blip r:embed="rId1"/>
          <a:stretch/>
        </p:blipFill>
        <p:spPr>
          <a:xfrm>
            <a:off x="324000" y="907920"/>
            <a:ext cx="4591080" cy="570096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6" descr=""/>
          <p:cNvPicPr/>
          <p:nvPr/>
        </p:nvPicPr>
        <p:blipFill>
          <a:blip r:embed="rId2"/>
          <a:stretch/>
        </p:blipFill>
        <p:spPr>
          <a:xfrm>
            <a:off x="1646280" y="1633680"/>
            <a:ext cx="1981080" cy="85392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7" descr=""/>
          <p:cNvPicPr/>
          <p:nvPr/>
        </p:nvPicPr>
        <p:blipFill>
          <a:blip r:embed="rId3"/>
          <a:stretch/>
        </p:blipFill>
        <p:spPr>
          <a:xfrm>
            <a:off x="7967520" y="3548160"/>
            <a:ext cx="84168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8" descr=""/>
          <p:cNvPicPr/>
          <p:nvPr/>
        </p:nvPicPr>
        <p:blipFill>
          <a:blip r:embed="rId4"/>
          <a:stretch/>
        </p:blipFill>
        <p:spPr>
          <a:xfrm>
            <a:off x="7772400" y="4200480"/>
            <a:ext cx="137808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e9ce8"/>
              </a:gs>
            </a:gsLst>
            <a:lin ang="189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Comic Sans MS"/>
              </a:rPr>
              <a:t>РЕМОНТ ПОМЕЩ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62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 ремонт малого зала кафе строители запросили 40 075 руб., за фойе – 54 925 руб., банкетного зала – 120 000 руб. Из этих денег 86 000 руб. уходит на ремонтные материалы, а остальные на зарплату строителям. Один комплект мебели для зала стоит 4 300 руб. Сколько комплектов мебели можно купить на сэкономленные деньги, если сделать ремонт собственными сил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5" name="Picture 2" descr="C:\Documents and Settings\Наташа\Мои документы\К открытому уроку 5 класс матем\помещение кафе.jpg"/>
          <p:cNvPicPr/>
          <p:nvPr/>
        </p:nvPicPr>
        <p:blipFill>
          <a:blip r:embed="rId1"/>
          <a:stretch/>
        </p:blipFill>
        <p:spPr>
          <a:xfrm>
            <a:off x="-1440" y="0"/>
            <a:ext cx="952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7" descr="C:\Documents and Settings\Наташа\Мои документы\К открытому уроку 5 класс матем\196854.jpg"/>
          <p:cNvPicPr/>
          <p:nvPr/>
        </p:nvPicPr>
        <p:blipFill>
          <a:blip r:embed="rId1"/>
          <a:stretch/>
        </p:blipFill>
        <p:spPr>
          <a:xfrm>
            <a:off x="2124000" y="3284640"/>
            <a:ext cx="4319640" cy="24494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1258560" y="404280"/>
            <a:ext cx="6049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Comic Sans MS"/>
              </a:rPr>
              <a:t>Ассортиме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596000" y="1719360"/>
            <a:ext cx="1090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C:\Documents and Settings\Наташа\Мои документы\К открытому уроку 5 класс матем\0203698.jpg"/>
          <p:cNvPicPr/>
          <p:nvPr/>
        </p:nvPicPr>
        <p:blipFill>
          <a:blip r:embed="rId2"/>
          <a:stretch/>
        </p:blipFill>
        <p:spPr>
          <a:xfrm>
            <a:off x="5508720" y="1413000"/>
            <a:ext cx="3635280" cy="2908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C:\Documents and Settings\Наташа\Мои документы\К открытому уроку 5 класс матем\351a82f86cd4.jpg"/>
          <p:cNvPicPr/>
          <p:nvPr/>
        </p:nvPicPr>
        <p:blipFill>
          <a:blip r:embed="rId3"/>
          <a:stretch/>
        </p:blipFill>
        <p:spPr>
          <a:xfrm>
            <a:off x="179280" y="1628640"/>
            <a:ext cx="2232000" cy="2613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Documents and Settings\Наташа\Мои документы\К открытому уроку 5 класс матем\cupcake.jpg"/>
          <p:cNvPicPr/>
          <p:nvPr/>
        </p:nvPicPr>
        <p:blipFill>
          <a:blip r:embed="rId4"/>
          <a:stretch/>
        </p:blipFill>
        <p:spPr>
          <a:xfrm>
            <a:off x="6948360" y="4721400"/>
            <a:ext cx="1727280" cy="2136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Documents and Settings\Наташа\Мои документы\К открытому уроку 5 класс матем\31ef429edda4.jpg"/>
          <p:cNvPicPr/>
          <p:nvPr/>
        </p:nvPicPr>
        <p:blipFill>
          <a:blip r:embed="rId5"/>
          <a:stretch/>
        </p:blipFill>
        <p:spPr>
          <a:xfrm>
            <a:off x="0" y="4581360"/>
            <a:ext cx="190800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7570800" cy="23698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330066"/>
                </a:solidFill>
                <a:latin typeface="Comic Sans MS"/>
              </a:rPr>
              <a:t>Магический квадрат</a:t>
            </a:r>
            <a:br>
              <a:rPr sz="1800"/>
            </a:br>
            <a:r>
              <a:rPr b="0" lang="ru-RU" sz="1800" spc="-1" strike="noStrike">
                <a:solidFill>
                  <a:srgbClr val="330066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330066"/>
                </a:solidFill>
                <a:latin typeface="Comic Sans MS"/>
              </a:rPr>
              <a:t>В свободные клетки квадрата запишите числа от 1 до 9 так, чтобы сумма чисел по любой горизонтали,  вертикали,  диагонали была одинаковая.</a:t>
            </a:r>
            <a:br>
              <a:rPr sz="18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Group 59" descr=""/>
          <p:cNvPicPr/>
          <p:nvPr/>
        </p:nvPicPr>
        <p:blipFill>
          <a:blip r:embed="rId2"/>
          <a:stretch/>
        </p:blipFill>
        <p:spPr>
          <a:xfrm>
            <a:off x="2773440" y="2567160"/>
            <a:ext cx="3170160" cy="32112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7956720" y="4149360"/>
            <a:ext cx="730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Прямоугольник 41" descr=""/>
          <p:cNvPicPr/>
          <p:nvPr/>
        </p:nvPicPr>
        <p:blipFill>
          <a:blip r:embed="rId3"/>
          <a:stretch/>
        </p:blipFill>
        <p:spPr>
          <a:xfrm>
            <a:off x="2712960" y="2438280"/>
            <a:ext cx="1298520" cy="112716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43" descr=""/>
          <p:cNvPicPr/>
          <p:nvPr/>
        </p:nvPicPr>
        <p:blipFill>
          <a:blip r:embed="rId4"/>
          <a:stretch/>
        </p:blipFill>
        <p:spPr>
          <a:xfrm>
            <a:off x="2712960" y="3371760"/>
            <a:ext cx="1298520" cy="113364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44" descr=""/>
          <p:cNvPicPr/>
          <p:nvPr/>
        </p:nvPicPr>
        <p:blipFill>
          <a:blip r:embed="rId5"/>
          <a:stretch/>
        </p:blipFill>
        <p:spPr>
          <a:xfrm>
            <a:off x="4724280" y="2438280"/>
            <a:ext cx="1298520" cy="1127160"/>
          </a:xfrm>
          <a:prstGeom prst="rect">
            <a:avLst/>
          </a:prstGeom>
          <a:ln w="0">
            <a:noFill/>
          </a:ln>
        </p:spPr>
      </p:pic>
      <p:pic>
        <p:nvPicPr>
          <p:cNvPr id="249" name="Прямоугольник 45" descr=""/>
          <p:cNvPicPr/>
          <p:nvPr/>
        </p:nvPicPr>
        <p:blipFill>
          <a:blip r:embed="rId6"/>
          <a:stretch/>
        </p:blipFill>
        <p:spPr>
          <a:xfrm>
            <a:off x="4724280" y="3371760"/>
            <a:ext cx="1298520" cy="1133640"/>
          </a:xfrm>
          <a:prstGeom prst="rect">
            <a:avLst/>
          </a:prstGeom>
          <a:ln w="0">
            <a:noFill/>
          </a:ln>
        </p:spPr>
      </p:pic>
      <p:pic>
        <p:nvPicPr>
          <p:cNvPr id="250" name="Прямоугольник 46" descr=""/>
          <p:cNvPicPr/>
          <p:nvPr/>
        </p:nvPicPr>
        <p:blipFill>
          <a:blip r:embed="rId7"/>
          <a:stretch/>
        </p:blipFill>
        <p:spPr>
          <a:xfrm>
            <a:off x="3790800" y="3371760"/>
            <a:ext cx="1298880" cy="113364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47" descr=""/>
          <p:cNvPicPr/>
          <p:nvPr/>
        </p:nvPicPr>
        <p:blipFill>
          <a:blip r:embed="rId8"/>
          <a:stretch/>
        </p:blipFill>
        <p:spPr>
          <a:xfrm>
            <a:off x="4705200" y="4449600"/>
            <a:ext cx="1298880" cy="113364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48" descr=""/>
          <p:cNvPicPr/>
          <p:nvPr/>
        </p:nvPicPr>
        <p:blipFill>
          <a:blip r:embed="rId9"/>
          <a:stretch/>
        </p:blipFill>
        <p:spPr>
          <a:xfrm>
            <a:off x="3790800" y="2438280"/>
            <a:ext cx="1298880" cy="112716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49" descr=""/>
          <p:cNvPicPr/>
          <p:nvPr/>
        </p:nvPicPr>
        <p:blipFill>
          <a:blip r:embed="rId10"/>
          <a:stretch/>
        </p:blipFill>
        <p:spPr>
          <a:xfrm>
            <a:off x="3790800" y="4449600"/>
            <a:ext cx="1298880" cy="113364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оугольник 50" descr=""/>
          <p:cNvPicPr/>
          <p:nvPr/>
        </p:nvPicPr>
        <p:blipFill>
          <a:blip r:embed="rId11"/>
          <a:stretch/>
        </p:blipFill>
        <p:spPr>
          <a:xfrm>
            <a:off x="2712960" y="4449600"/>
            <a:ext cx="1298520" cy="1133640"/>
          </a:xfrm>
          <a:prstGeom prst="rect">
            <a:avLst/>
          </a:prstGeom>
          <a:ln w="0">
            <a:noFill/>
          </a:ln>
        </p:spPr>
      </p:pic>
      <p:cxnSp>
        <p:nvCxnSpPr>
          <p:cNvPr id="255" name="Прямая со стрелкой 52"/>
          <p:cNvCxnSpPr/>
          <p:nvPr/>
        </p:nvCxnSpPr>
        <p:spPr>
          <a:xfrm>
            <a:off x="3348000" y="3429000"/>
            <a:ext cx="20167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6" name="Прямая со стрелкой 53"/>
          <p:cNvCxnSpPr/>
          <p:nvPr/>
        </p:nvCxnSpPr>
        <p:spPr>
          <a:xfrm flipH="1">
            <a:off x="3634560" y="2997000"/>
            <a:ext cx="2520" cy="216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7" name="Прямая со стрелкой 54"/>
          <p:cNvCxnSpPr/>
          <p:nvPr/>
        </p:nvCxnSpPr>
        <p:spPr>
          <a:xfrm>
            <a:off x="3348000" y="5516640"/>
            <a:ext cx="20167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8" name="Прямая со стрелкой 55"/>
          <p:cNvCxnSpPr/>
          <p:nvPr/>
        </p:nvCxnSpPr>
        <p:spPr>
          <a:xfrm>
            <a:off x="3419640" y="4508640"/>
            <a:ext cx="20167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9" name="Прямая со стрелкой 57"/>
          <p:cNvCxnSpPr/>
          <p:nvPr/>
        </p:nvCxnSpPr>
        <p:spPr>
          <a:xfrm flipH="1">
            <a:off x="4715640" y="2997000"/>
            <a:ext cx="2520" cy="216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0" name="Прямая со стрелкой 58"/>
          <p:cNvCxnSpPr/>
          <p:nvPr/>
        </p:nvCxnSpPr>
        <p:spPr>
          <a:xfrm flipH="1">
            <a:off x="5651280" y="2997000"/>
            <a:ext cx="2160" cy="216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1" name="Прямая со стрелкой 59"/>
          <p:cNvCxnSpPr/>
          <p:nvPr/>
        </p:nvCxnSpPr>
        <p:spPr>
          <a:xfrm>
            <a:off x="3636000" y="3284280"/>
            <a:ext cx="1727640" cy="1873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2" name="Прямая со стрелкой 61"/>
          <p:cNvCxnSpPr/>
          <p:nvPr/>
        </p:nvCxnSpPr>
        <p:spPr>
          <a:xfrm flipV="1">
            <a:off x="3564000" y="3141000"/>
            <a:ext cx="1729440" cy="1872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Comic Sans MS"/>
              </a:rPr>
              <a:t>Подготовка персонал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125000"/>
            <a:ext cx="874872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я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3 булочки и 2 напитка заплатили 11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блей. Сколько стоит один напиток, если од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лочка стоит 28 рубл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ря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ция мороженого стоит 27 рублей, и о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шевле коробки конфет в 5 раз. Плит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околада в 3 раза дешевле коробки конфет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денег заплатит покупатель за вс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уп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ря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рожное стоит 42 рубля, и оно дешевл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та в 3 раза. Куплено 4 пирожных и 2 торт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стоит вся покуп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Comic Sans MS"/>
              </a:rPr>
              <a:t>Выбор 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Comic Sans MS"/>
              </a:rPr>
              <a:t>генерального директор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6" name="Picture 4" descr="C:\Documents and Settings\Наташа\Мои документы\К открытому уроку 5 класс матем\3.png"/>
          <p:cNvPicPr/>
          <p:nvPr/>
        </p:nvPicPr>
        <p:blipFill>
          <a:blip r:embed="rId1"/>
          <a:stretch/>
        </p:blipFill>
        <p:spPr>
          <a:xfrm>
            <a:off x="0" y="2205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C:\Documents and Settings\Наташа\Мои документы\К открытому уроку 5 класс матем\ььь.gif"/>
          <p:cNvPicPr/>
          <p:nvPr/>
        </p:nvPicPr>
        <p:blipFill>
          <a:blip r:embed="rId2"/>
          <a:stretch/>
        </p:blipFill>
        <p:spPr>
          <a:xfrm>
            <a:off x="4427640" y="2205000"/>
            <a:ext cx="1525320" cy="2160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C:\Documents and Settings\Наташа\Мои документы\К открытому уроку 5 класс матем\чайник.jpg"/>
          <p:cNvPicPr/>
          <p:nvPr/>
        </p:nvPicPr>
        <p:blipFill>
          <a:blip r:embed="rId3"/>
          <a:stretch/>
        </p:blipFill>
        <p:spPr>
          <a:xfrm>
            <a:off x="6012000" y="1844640"/>
            <a:ext cx="3132000" cy="2522520"/>
          </a:xfrm>
          <a:prstGeom prst="rect">
            <a:avLst/>
          </a:prstGeom>
          <a:ln w="0">
            <a:noFill/>
          </a:ln>
        </p:spPr>
      </p:pic>
      <p:pic>
        <p:nvPicPr>
          <p:cNvPr id="269" name="Прямоугольник 10" descr=""/>
          <p:cNvPicPr/>
          <p:nvPr/>
        </p:nvPicPr>
        <p:blipFill>
          <a:blip r:embed="rId4"/>
          <a:stretch/>
        </p:blipFill>
        <p:spPr>
          <a:xfrm>
            <a:off x="5541840" y="3170160"/>
            <a:ext cx="1803600" cy="2005200"/>
          </a:xfrm>
          <a:prstGeom prst="rect">
            <a:avLst/>
          </a:prstGeom>
          <a:ln w="0">
            <a:noFill/>
          </a:ln>
        </p:spPr>
      </p:pic>
      <p:pic>
        <p:nvPicPr>
          <p:cNvPr id="270" name="Прямоугольник 11" descr=""/>
          <p:cNvPicPr/>
          <p:nvPr/>
        </p:nvPicPr>
        <p:blipFill>
          <a:blip r:embed="rId5"/>
          <a:stretch/>
        </p:blipFill>
        <p:spPr>
          <a:xfrm>
            <a:off x="1279440" y="1414440"/>
            <a:ext cx="1500120" cy="203508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ая соединительная линия 13"/>
          <p:cNvSpPr/>
          <p:nvPr/>
        </p:nvSpPr>
        <p:spPr>
          <a:xfrm>
            <a:off x="1619280" y="1773360"/>
            <a:ext cx="865080" cy="576000"/>
          </a:xfrm>
          <a:prstGeom prst="line">
            <a:avLst/>
          </a:prstGeom>
          <a:ln w="57240">
            <a:solidFill>
              <a:srgbClr val="e52e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15"/>
          <p:cNvSpPr/>
          <p:nvPr/>
        </p:nvSpPr>
        <p:spPr>
          <a:xfrm>
            <a:off x="2340000" y="4221000"/>
            <a:ext cx="1944720" cy="0"/>
          </a:xfrm>
          <a:prstGeom prst="line">
            <a:avLst/>
          </a:prstGeom>
          <a:ln w="57240">
            <a:solidFill>
              <a:srgbClr val="850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6"/>
          <p:cNvSpPr/>
          <p:nvPr/>
        </p:nvSpPr>
        <p:spPr>
          <a:xfrm flipV="1">
            <a:off x="2339280" y="2204640"/>
            <a:ext cx="1584360" cy="2024280"/>
          </a:xfrm>
          <a:prstGeom prst="line">
            <a:avLst/>
          </a:prstGeom>
          <a:ln w="57240">
            <a:solidFill>
              <a:srgbClr val="850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Прямоугольник 19" descr=""/>
          <p:cNvPicPr/>
          <p:nvPr/>
        </p:nvPicPr>
        <p:blipFill>
          <a:blip r:embed="rId6"/>
          <a:stretch/>
        </p:blipFill>
        <p:spPr>
          <a:xfrm>
            <a:off x="244440" y="4979880"/>
            <a:ext cx="7594560" cy="110340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20" descr=""/>
          <p:cNvPicPr/>
          <p:nvPr/>
        </p:nvPicPr>
        <p:blipFill>
          <a:blip r:embed="rId7"/>
          <a:stretch/>
        </p:blipFill>
        <p:spPr>
          <a:xfrm>
            <a:off x="1474920" y="4979880"/>
            <a:ext cx="58957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C:\Documents and Settings\Наташа\Мои документы\К открытому уроку 5 класс матем\5709_1264601544.jpg"/>
          <p:cNvPicPr/>
          <p:nvPr/>
        </p:nvPicPr>
        <p:blipFill>
          <a:blip r:embed="rId1"/>
          <a:stretch/>
        </p:blipFill>
        <p:spPr>
          <a:xfrm>
            <a:off x="-923760" y="0"/>
            <a:ext cx="1057428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0066"/>
                </a:solidFill>
                <a:latin typeface="Monotype Corsiva"/>
              </a:rPr>
              <a:t>Реклама</a:t>
            </a:r>
            <a:endParaRPr b="1" lang="en-US" sz="7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1628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«Сладкоежка»  на пути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……………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Двери  смело открывай  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……………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99"/>
                </a:solidFill>
                <a:latin typeface="Times New Roman"/>
              </a:rPr>
              <a:t>Повторение и обобщение знаний, умений, навыков по тем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99"/>
                </a:solidFill>
                <a:latin typeface="Times New Roman"/>
              </a:rPr>
              <a:t>развитие логического мышления, изобретательности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3399"/>
                </a:solidFill>
                <a:latin typeface="Times New Roman"/>
              </a:rPr>
              <a:t>умения находить выход в нестандартной ситуаци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3399"/>
                </a:solidFill>
                <a:latin typeface="Times New Roman"/>
              </a:rPr>
              <a:t>применение математических знаний в жизн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99"/>
                </a:solidFill>
                <a:latin typeface="Times New Roman"/>
              </a:rPr>
              <a:t>«экономическое» воспитани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Comic Sans MS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Comic Sans MS"/>
              </a:rPr>
              <a:t>Задание на д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ые задания стр. 5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ческий квадрат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ом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Х 4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ый разместить числа от 1 до 16 так, чтобы сумма чисел по всем горизонталям, вертикалям и главным диагоналям была одинакова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дь для к/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-181440" y="0"/>
            <a:ext cx="9325080" cy="685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697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«Считай несчастны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тот день или час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в который 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не усвоил ничего ново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и ничего не прибави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к своему образованию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ятно 1 3"/>
          <p:cNvSpPr/>
          <p:nvPr/>
        </p:nvSpPr>
        <p:spPr>
          <a:xfrm rot="1143000">
            <a:off x="7310160" y="217440"/>
            <a:ext cx="1606320" cy="1658880"/>
          </a:xfrm>
          <a:prstGeom prst="irregularSeal1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Пятно 1 4"/>
          <p:cNvGrpSpPr/>
          <p:nvPr/>
        </p:nvGrpSpPr>
        <p:grpSpPr>
          <a:xfrm>
            <a:off x="-171360" y="4724280"/>
            <a:ext cx="1963800" cy="1798920"/>
            <a:chOff x="-171360" y="4724280"/>
            <a:chExt cx="1963800" cy="1798920"/>
          </a:xfrm>
        </p:grpSpPr>
        <p:pic>
          <p:nvPicPr>
            <p:cNvPr id="285" name="Пятно 1 4" descr=""/>
            <p:cNvPicPr/>
            <p:nvPr/>
          </p:nvPicPr>
          <p:blipFill>
            <a:blip r:embed="rId2"/>
            <a:stretch/>
          </p:blipFill>
          <p:spPr>
            <a:xfrm>
              <a:off x="-171360" y="4724280"/>
              <a:ext cx="196380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 rot="20379600">
              <a:off x="355680" y="5300280"/>
              <a:ext cx="98748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181080" y="333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Comic Sans MS"/>
              </a:rPr>
              <a:t>«Идет о математике молв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Comic Sans MS"/>
              </a:rPr>
              <a:t>Будто она в порядок ум приводи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Comic Sans MS"/>
              </a:rPr>
              <a:t>Так может быть поэтому 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Comic Sans MS"/>
              </a:rPr>
              <a:t>Так сильно уважаема в народе?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олнце 3"/>
          <p:cNvSpPr/>
          <p:nvPr/>
        </p:nvSpPr>
        <p:spPr>
          <a:xfrm>
            <a:off x="2484360" y="2492280"/>
            <a:ext cx="4751640" cy="4221360"/>
          </a:xfrm>
          <a:prstGeom prst="sun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Comic Sans MS"/>
              </a:rPr>
              <a:t>Проверка Д/З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7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 12 ∙ 35 = 420 вагонов предоставила ж/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. 46 000 кг  =  46 тон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 420 ∙ 46 = 19 320 тонн перевезут на комбина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19 320 тонн перевезут на комбина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Comic Sans MS"/>
              </a:rPr>
              <a:t>Проверка Д/З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560" y="1844280"/>
            <a:ext cx="2314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 –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 : 3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S – 4)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:3V=(S–4):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484000" y="1719360"/>
            <a:ext cx="6202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 длина грунтовой дор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м/ч скорость автомобиля по шо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часов затратит автомобиль по шо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м/ч скорость автомобиля по грунтовой дор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ремя, затраченное автомобилем по шоссе равно времени, затраченному по грунтовой дор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Documents and Settings\Наташа\Мои документы\К открытому уроку 5 класс матем\phoca_thumb_l_6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Comic Sans MS"/>
              </a:rPr>
              <a:t>Открытое Акционерное Общество</a:t>
            </a:r>
            <a:br>
              <a:rPr sz="40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181440" y="0"/>
            <a:ext cx="932508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Открытое акционерное обществ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(ОАО) – это организация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созданная для получения прибыл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Члены этой организации 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объединяют свои средства (</a:t>
            </a:r>
            <a:r>
              <a:rPr b="1" i="1" lang="ru-RU" sz="3000" spc="-1" strike="noStrike">
                <a:solidFill>
                  <a:srgbClr val="456868"/>
                </a:solidFill>
                <a:latin typeface="Arial"/>
              </a:rPr>
              <a:t>знания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) 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для приобретения некоторого 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предприятия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,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а взамен получают 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акции (</a:t>
            </a:r>
            <a:r>
              <a:rPr b="1" i="1" lang="ru-RU" sz="3000" spc="-1" strike="noStrike">
                <a:solidFill>
                  <a:srgbClr val="456868"/>
                </a:solidFill>
                <a:latin typeface="Arial"/>
              </a:rPr>
              <a:t>оценки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)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 – ценные бумаги, которые свидетельствуют о том, что держатели (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акционеры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) имеют право на часть имущества предприят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Разминка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. 25 + 3 ∙ 4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). 18 : 3 + 24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).  8 ∙ 6 – 19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). 31 – (14 + 8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). (9 ∙ 8) : 6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). 48 : (3 ∙ 8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). 3 ∙ (7 + 5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). (40 – 12) :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55640" y="4221000"/>
          <a:ext cx="7416720" cy="1368720"/>
        </p:xfrm>
        <a:graphic>
          <a:graphicData uri="http://schemas.openxmlformats.org/drawingml/2006/table">
            <a:tbl>
              <a:tblPr/>
              <a:tblGrid>
                <a:gridCol w="741240"/>
                <a:gridCol w="741600"/>
                <a:gridCol w="742680"/>
                <a:gridCol w="741600"/>
                <a:gridCol w="741240"/>
                <a:gridCol w="741240"/>
                <a:gridCol w="741600"/>
                <a:gridCol w="743040"/>
                <a:gridCol w="741240"/>
                <a:gridCol w="74124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C:\Documents and Settings\Наташа\Мои документы\К открытому уроку 5 класс матем\196854.jpg"/>
          <p:cNvPicPr/>
          <p:nvPr/>
        </p:nvPicPr>
        <p:blipFill>
          <a:blip r:embed="rId1"/>
          <a:stretch/>
        </p:blipFill>
        <p:spPr>
          <a:xfrm>
            <a:off x="2195640" y="2421000"/>
            <a:ext cx="4680000" cy="4437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f085e"/>
                </a:solidFill>
                <a:latin typeface="Monotype Corsiva"/>
              </a:rPr>
              <a:t>Кафе</a:t>
            </a:r>
            <a:endParaRPr b="1" lang="en-US" sz="8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ff"/>
                </a:solidFill>
                <a:latin typeface="Monotype Corsiva"/>
              </a:rPr>
              <a:t>«Сладкоежка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3:30:53Z</dcterms:created>
  <dc:creator>123</dc:creator>
  <dc:description/>
  <dc:language>en-US</dc:language>
  <cp:lastModifiedBy>Наташа</cp:lastModifiedBy>
  <dcterms:modified xsi:type="dcterms:W3CDTF">2011-02-08T12:13:02Z</dcterms:modified>
  <cp:revision>85</cp:revision>
  <dc:subject/>
  <dc:title>Урок математики в 5 классе.</dc:title>
</cp:coreProperties>
</file>