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11F-8646-4F3A-AE95-A1BB91F0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493-D1CE-46F3-8289-1AA04C8F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0BA-5CF0-4FBA-BC4D-C485A7E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FF7-3AC8-4D46-B52C-A395A828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525-C48E-4EF0-BEA7-3B5486D6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88D-CF47-434B-B7EA-335D83D5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E84-C0FA-45B6-B153-743A2A86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DDD-985A-422E-B3DD-E2AA1BB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3D9-41DE-4440-905F-F0103FA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C2F-0700-4A7E-9918-0B38065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818-F9FD-4CDC-9CB4-80EEC69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EEA-48EF-4897-B9E5-B72FFAF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F50-582A-4787-9606-A54F158B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Academy Engraved LET"/>
              </a:rPr>
              <a:t>Древние меры длины</a:t>
            </a:r>
            <a:r>
              <a:rPr b="0" lang="en-US" sz="5400" spc="-1" strike="noStrike">
                <a:solidFill>
                  <a:srgbClr val="008000"/>
                </a:solidFill>
                <a:latin typeface="Arial"/>
              </a:rPr>
              <a:t>, массы и объём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47920" y="45720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95480" y="57150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МОУ СОШ № 24 г.Ковров, Владимир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33"/>
          <p:cNvPicPr/>
          <p:nvPr/>
        </p:nvPicPr>
        <p:blipFill>
          <a:blip r:embed="rId1"/>
          <a:stretch/>
        </p:blipFill>
        <p:spPr>
          <a:xfrm>
            <a:off x="3505320" y="2895480"/>
            <a:ext cx="176184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5943600" y="3962520"/>
            <a:ext cx="266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Руководитель: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Евс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Лид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4120" y="3886200"/>
            <a:ext cx="3276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а Руси в старину использовались в качестве единиц измерения объема ведро(около 12л), штоф (десятая часть вед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19720" y="1599840"/>
            <a:ext cx="4419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ША, Англии и других странах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ррель (около159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ллон (около 4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шель (около 36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нта   (от 470 до 568 куб.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:\другое\0286963361.jpg"/>
          <p:cNvPicPr/>
          <p:nvPr/>
        </p:nvPicPr>
        <p:blipFill>
          <a:blip r:embed="rId1"/>
          <a:stretch/>
        </p:blipFill>
        <p:spPr>
          <a:xfrm>
            <a:off x="2514600" y="175248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:\другое\p78407.jpg"/>
          <p:cNvPicPr/>
          <p:nvPr/>
        </p:nvPicPr>
        <p:blipFill>
          <a:blip r:embed="rId2"/>
          <a:stretch/>
        </p:blipFill>
        <p:spPr>
          <a:xfrm>
            <a:off x="380880" y="1752480"/>
            <a:ext cx="2048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00 лет назад в разных странах, в том числе и в России, применялись различные системы единиц для измерения длины, массы и других велич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шения между мерами были сложны, существовали разные определения для единиц измерения. Поэтому назрела необходимость введения единой системы мер, удобной для всех стран, с простыми соотношениями между един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Такая система- её назвали метрической системой мер -была разработана во Фр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ую единицу длину, 1 метр (от греческого слова «метрон»-мера),определяли как сорокамиллионную долю окружности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ую единицу массы, 1 кг -как массу 1 кубического дециметра чист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ьные единицы определялись через эти д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ношения между единицами одной величины равнялись 10,100,1000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744120" y="2508120"/>
            <a:ext cx="3678120" cy="3456000"/>
            <a:chOff x="744120" y="2508120"/>
            <a:chExt cx="3678120" cy="3456000"/>
          </a:xfrm>
        </p:grpSpPr>
        <p:grpSp>
          <p:nvGrpSpPr>
            <p:cNvPr id="80" name="Group 5"/>
            <p:cNvGrpSpPr/>
            <p:nvPr/>
          </p:nvGrpSpPr>
          <p:grpSpPr>
            <a:xfrm>
              <a:off x="744120" y="2508120"/>
              <a:ext cx="3678120" cy="3456000"/>
              <a:chOff x="744120" y="2508120"/>
              <a:chExt cx="3678120" cy="3456000"/>
            </a:xfrm>
          </p:grpSpPr>
          <p:sp>
            <p:nvSpPr>
              <p:cNvPr id="81" name="Rectangle 6"/>
              <p:cNvSpPr/>
              <p:nvPr/>
            </p:nvSpPr>
            <p:spPr>
              <a:xfrm rot="19042800">
                <a:off x="294480" y="3996720"/>
                <a:ext cx="4576680" cy="45828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7"/>
              <p:cNvSpPr/>
              <p:nvPr/>
            </p:nvSpPr>
            <p:spPr>
              <a:xfrm rot="19042800">
                <a:off x="939960" y="5205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8"/>
              <p:cNvSpPr/>
              <p:nvPr/>
            </p:nvSpPr>
            <p:spPr>
              <a:xfrm rot="19042800">
                <a:off x="1284480" y="509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9"/>
              <p:cNvSpPr/>
              <p:nvPr/>
            </p:nvSpPr>
            <p:spPr>
              <a:xfrm rot="19042800">
                <a:off x="1530360" y="4844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10"/>
              <p:cNvSpPr/>
              <p:nvPr/>
            </p:nvSpPr>
            <p:spPr>
              <a:xfrm rot="19042800">
                <a:off x="1797480" y="4611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1"/>
              <p:cNvSpPr/>
              <p:nvPr/>
            </p:nvSpPr>
            <p:spPr>
              <a:xfrm rot="19042800">
                <a:off x="2056680" y="437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2"/>
              <p:cNvSpPr/>
              <p:nvPr/>
            </p:nvSpPr>
            <p:spPr>
              <a:xfrm rot="19042800">
                <a:off x="2314800" y="4135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13"/>
              <p:cNvSpPr/>
              <p:nvPr/>
            </p:nvSpPr>
            <p:spPr>
              <a:xfrm rot="19042800">
                <a:off x="2574720" y="3894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14"/>
              <p:cNvSpPr/>
              <p:nvPr/>
            </p:nvSpPr>
            <p:spPr>
              <a:xfrm rot="19042800">
                <a:off x="2833560" y="3655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5"/>
              <p:cNvSpPr/>
              <p:nvPr/>
            </p:nvSpPr>
            <p:spPr>
              <a:xfrm rot="19042800">
                <a:off x="3090960" y="341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6"/>
              <p:cNvSpPr/>
              <p:nvPr/>
            </p:nvSpPr>
            <p:spPr>
              <a:xfrm rot="19042800">
                <a:off x="3351240" y="317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7"/>
              <p:cNvSpPr/>
              <p:nvPr/>
            </p:nvSpPr>
            <p:spPr>
              <a:xfrm rot="19042800">
                <a:off x="3542760" y="2944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8"/>
              <p:cNvSpPr/>
              <p:nvPr/>
            </p:nvSpPr>
            <p:spPr>
              <a:xfrm rot="19042800">
                <a:off x="3790440" y="27036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9"/>
            <p:cNvGrpSpPr/>
            <p:nvPr/>
          </p:nvGrpSpPr>
          <p:grpSpPr>
            <a:xfrm>
              <a:off x="1002960" y="4177080"/>
              <a:ext cx="1357200" cy="1258920"/>
              <a:chOff x="1002960" y="4177080"/>
              <a:chExt cx="1357200" cy="1258920"/>
            </a:xfrm>
          </p:grpSpPr>
          <p:sp>
            <p:nvSpPr>
              <p:cNvPr id="95" name="Line 20"/>
              <p:cNvSpPr/>
              <p:nvPr/>
            </p:nvSpPr>
            <p:spPr>
              <a:xfrm>
                <a:off x="1002960" y="536868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1"/>
              <p:cNvSpPr/>
              <p:nvPr/>
            </p:nvSpPr>
            <p:spPr>
              <a:xfrm>
                <a:off x="1261800" y="5130720"/>
                <a:ext cx="61920" cy="6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2"/>
              <p:cNvSpPr/>
              <p:nvPr/>
            </p:nvSpPr>
            <p:spPr>
              <a:xfrm>
                <a:off x="1521000" y="489204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3"/>
              <p:cNvSpPr/>
              <p:nvPr/>
            </p:nvSpPr>
            <p:spPr>
              <a:xfrm>
                <a:off x="1780200" y="465372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>
                <a:off x="2039040" y="441540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5"/>
              <p:cNvSpPr/>
              <p:nvPr/>
            </p:nvSpPr>
            <p:spPr>
              <a:xfrm>
                <a:off x="2298240" y="417708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6"/>
            <p:cNvGrpSpPr/>
            <p:nvPr/>
          </p:nvGrpSpPr>
          <p:grpSpPr>
            <a:xfrm>
              <a:off x="2557440" y="2746440"/>
              <a:ext cx="1357200" cy="1259280"/>
              <a:chOff x="2557440" y="2746440"/>
              <a:chExt cx="1357200" cy="1259280"/>
            </a:xfrm>
          </p:grpSpPr>
          <p:sp>
            <p:nvSpPr>
              <p:cNvPr id="102" name="Line 27"/>
              <p:cNvSpPr/>
              <p:nvPr/>
            </p:nvSpPr>
            <p:spPr>
              <a:xfrm>
                <a:off x="2557440" y="393840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8"/>
              <p:cNvSpPr/>
              <p:nvPr/>
            </p:nvSpPr>
            <p:spPr>
              <a:xfrm>
                <a:off x="2816280" y="370008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9"/>
              <p:cNvSpPr/>
              <p:nvPr/>
            </p:nvSpPr>
            <p:spPr>
              <a:xfrm>
                <a:off x="3075480" y="346176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0"/>
              <p:cNvSpPr/>
              <p:nvPr/>
            </p:nvSpPr>
            <p:spPr>
              <a:xfrm>
                <a:off x="3334680" y="322344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1"/>
              <p:cNvSpPr/>
              <p:nvPr/>
            </p:nvSpPr>
            <p:spPr>
              <a:xfrm>
                <a:off x="3593520" y="298476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2"/>
              <p:cNvSpPr/>
              <p:nvPr/>
            </p:nvSpPr>
            <p:spPr>
              <a:xfrm>
                <a:off x="3852720" y="2746440"/>
                <a:ext cx="61920" cy="6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33"/>
          <p:cNvGrpSpPr/>
          <p:nvPr/>
        </p:nvGrpSpPr>
        <p:grpSpPr>
          <a:xfrm>
            <a:off x="1259280" y="3234240"/>
            <a:ext cx="587880" cy="841680"/>
            <a:chOff x="1259280" y="3234240"/>
            <a:chExt cx="587880" cy="841680"/>
          </a:xfrm>
        </p:grpSpPr>
        <p:sp>
          <p:nvSpPr>
            <p:cNvPr id="109" name="Freeform 34"/>
            <p:cNvSpPr/>
            <p:nvPr/>
          </p:nvSpPr>
          <p:spPr>
            <a:xfrm rot="21066600">
              <a:off x="1318680" y="3268800"/>
              <a:ext cx="490680" cy="52560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 rot="21066600">
              <a:off x="1269360" y="3921480"/>
              <a:ext cx="153000" cy="1432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WordArt 36"/>
          <p:cNvSpPr txBox="1"/>
          <p:nvPr/>
        </p:nvSpPr>
        <p:spPr>
          <a:xfrm>
            <a:off x="609480" y="1600200"/>
            <a:ext cx="2880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10 см=1 д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12" name="WordArt 37"/>
          <p:cNvSpPr txBox="1"/>
          <p:nvPr/>
        </p:nvSpPr>
        <p:spPr>
          <a:xfrm>
            <a:off x="1752480" y="5638680"/>
            <a:ext cx="2880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10 дм=1 м=100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13" name="WordArt 38"/>
          <p:cNvSpPr txBox="1"/>
          <p:nvPr/>
        </p:nvSpPr>
        <p:spPr>
          <a:xfrm>
            <a:off x="533520" y="2362320"/>
            <a:ext cx="287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1000 м=1 к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о традиции и в настоящее время иногда пользуются старыми единицами. Моряки измеряют расстояние милями (1852 м) и кабельтовыми (одна десятая часть мили ,т.е. около 185 м),скорость узлами(1 миля в час).Массу алмазов измеряют в каратах (200 мг, т.е. пятая часть грамма- масса пшеничного зерна)Объем нефти измеряют в баррелях (159 л) и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Метрическая система мер принята большинством стран мира. В России ее введение началось с 1899 года. Большие заслуги во введении и распространении  метрической системы мер в нашей стране принадлежит Дмитрию Ивановичу Менделееву, великому русскому химику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D:\другое\Mendeleev.jpg"/>
          <p:cNvPicPr/>
          <p:nvPr/>
        </p:nvPicPr>
        <p:blipFill>
          <a:blip r:embed="rId1"/>
          <a:stretch/>
        </p:blipFill>
        <p:spPr>
          <a:xfrm>
            <a:off x="1447920" y="609480"/>
            <a:ext cx="2476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Древней Руси в качестве единиц измерения длины применялись: косая сажень(248 см)-расстояние от левой ноги до конца пальцев поднятой правой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9416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Маховая сажень (176см)-расстояние между концами пальцев расставленных в стороны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777"/>
          <p:cNvPicPr/>
          <p:nvPr/>
        </p:nvPicPr>
        <p:blipFill>
          <a:blip r:embed="rId1"/>
          <a:stretch/>
        </p:blipFill>
        <p:spPr>
          <a:xfrm>
            <a:off x="2362320" y="1752480"/>
            <a:ext cx="4419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Локоть (45 см)-расстояние от концов пальцев до локтя согнутой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D10796_"/>
          <p:cNvPicPr/>
          <p:nvPr/>
        </p:nvPicPr>
        <p:blipFill>
          <a:blip r:embed="rId1"/>
          <a:stretch/>
        </p:blipFill>
        <p:spPr>
          <a:xfrm>
            <a:off x="3581280" y="1523880"/>
            <a:ext cx="2649600" cy="46483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/>
          <p:cNvSpPr/>
          <p:nvPr/>
        </p:nvSpPr>
        <p:spPr>
          <a:xfrm>
            <a:off x="3505320" y="1600200"/>
            <a:ext cx="152280" cy="1146240"/>
          </a:xfrm>
          <a:prstGeom prst="upDownArrow">
            <a:avLst>
              <a:gd name="adj1" fmla="val 50000"/>
              <a:gd name="adj2" fmla="val 149847"/>
            </a:avLst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В старину в России применялись меры массы не такие, как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 для взвешивания мелких, но дорогих товаров применялся золотник(око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рговле использова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т (1 фунт=96 золотник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д (1 пуд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т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ковец (1 берковец=10 пуд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5398" t="0" r="1842" b="0"/>
          <a:stretch/>
        </p:blipFill>
        <p:spPr>
          <a:xfrm>
            <a:off x="304920" y="1828800"/>
            <a:ext cx="42670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Первые единицы длины как в России ,так и в других странах были связаны с размерами частей тела. Таковы сажень, локоть, пя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9144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Англии и США до сих пор используется «ступня»-фут(31 см), «большой палец»-дюйм(25мм) и даже ярд(91см)-единица длины, появившаяся почти 900 лет назад. Она была равна расстоянию от кончика носа Генриха 1 до конца пальцев его вытянутой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BD10869_"/>
          <p:cNvPicPr/>
          <p:nvPr/>
        </p:nvPicPr>
        <p:blipFill>
          <a:blip r:embed="rId1"/>
          <a:stretch/>
        </p:blipFill>
        <p:spPr>
          <a:xfrm>
            <a:off x="76212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D10850_"/>
          <p:cNvPicPr/>
          <p:nvPr/>
        </p:nvPicPr>
        <p:blipFill>
          <a:blip r:embed="rId2"/>
          <a:stretch/>
        </p:blipFill>
        <p:spPr>
          <a:xfrm>
            <a:off x="762120" y="1066680"/>
            <a:ext cx="373356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9999"/>
          <p:cNvPicPr/>
          <p:nvPr/>
        </p:nvPicPr>
        <p:blipFill>
          <a:blip r:embed="rId3"/>
          <a:srcRect l="0" t="3756" r="0" b="10004"/>
          <a:stretch/>
        </p:blipFill>
        <p:spPr>
          <a:xfrm>
            <a:off x="5410080" y="4191120"/>
            <a:ext cx="289584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 flipH="1" rot="6809400">
            <a:off x="2418120" y="3587040"/>
            <a:ext cx="228600" cy="1143000"/>
          </a:xfrm>
          <a:prstGeom prst="upDownArrow">
            <a:avLst>
              <a:gd name="adj1" fmla="val 50000"/>
              <a:gd name="adj2" fmla="val 99537"/>
            </a:avLst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 rot="3258600">
            <a:off x="2073600" y="1721160"/>
            <a:ext cx="371520" cy="2122560"/>
          </a:xfrm>
          <a:prstGeom prst="upDownArrow">
            <a:avLst>
              <a:gd name="adj1" fmla="val 50000"/>
              <a:gd name="adj2" fmla="val 113734"/>
            </a:avLst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ля измерения больших расстояний на Руси использовали единицу поприще, замененной позже верстой (в разных местностях версту считал по-разному- от 500 до 750 саж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D:\другое\1277316304_10.jpg"/>
          <p:cNvPicPr/>
          <p:nvPr/>
        </p:nvPicPr>
        <p:blipFill>
          <a:blip r:embed="rId1"/>
          <a:stretch/>
        </p:blipFill>
        <p:spPr>
          <a:xfrm>
            <a:off x="2743200" y="1676520"/>
            <a:ext cx="39830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т восточных купцов пошла единица аршин (тоже означает «локоть»)-существовали турецкий аршин, персидский аршин и другие. Поэтому и возникла поговорка «мерить на свой аршин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жество единиц существовало и для измерения массы. Наиболее древняя русская мера- гривна, или гривенка (около 410г).Позднее появились золотники, фунты, п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02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ffd9"/>
            </a:gs>
            <a:gs pos="50000">
              <a:srgbClr val="66ff99"/>
            </a:gs>
            <a:gs pos="100000">
              <a:srgbClr val="c7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 связи с развитием торговли назрела необходимость устанавливать четкие определения единиц и соотношения между ними . При Петре I русские меры были приведены в определенную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ерста =500 саженям (1 км 67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сажень =3 аршинам (213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ршин =16 вешкам=28 дюймам(71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фут =12 дюймам (30 см 5м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пуд=40 фунтам (гривенкам) (16кг 400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фунт=96 золотникам (410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4-07-28T23:52:25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