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A7C-FEF4-4766-8314-696EC7E3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7F3-5C4C-498A-9F72-0F088B4B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60F-42F3-4EB1-8EA6-A169DFE0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262-7BD9-48F8-8FA2-E4C943D4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819-BD2D-487F-B3C8-628E259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480-3195-407E-A6A1-2CA1C48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68B-5EF8-418B-96B7-19934C24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A93-77E8-4B52-B26E-C279633B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A7F-B79C-4949-993F-DC803EA5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3D2-74F2-4DE5-9365-F3D59D6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4AF-4398-4AA4-A5E5-95F5E9D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52F-017A-4975-9630-4E58A18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BB2-8278-4602-8CA4-7935E57951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f0"/>
                </a:solidFill>
                <a:latin typeface="Book Antiqua"/>
              </a:rPr>
              <a:t>ЭЛЕКТРИЧЕСКАЯ ЭНЕРГИЯ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нергия электрического и магнитного п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14200" y="3286080"/>
            <a:ext cx="857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f0"/>
                </a:solidFill>
                <a:latin typeface="Calibri"/>
              </a:rPr>
              <a:t>Использование электрической энер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ышленность 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овые нуж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f0"/>
                </a:solidFill>
                <a:latin typeface="Calibri"/>
              </a:rPr>
              <a:t>Производство электроэнергии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ЕНЕРИР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ая энергия (аккумулято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статические маш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Тепловые       Гидроэлектростанции         Атом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вая энергия (солнечная батаре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треные ста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ергия Земли (стихийных бедств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>
            <a:off x="1071360" y="3286080"/>
            <a:ext cx="357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6"/>
          <p:cNvCxnSpPr/>
          <p:nvPr/>
        </p:nvCxnSpPr>
        <p:spPr>
          <a:xfrm flipH="1">
            <a:off x="3998160" y="3285720"/>
            <a:ext cx="252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10"/>
          <p:cNvCxnSpPr/>
          <p:nvPr/>
        </p:nvCxnSpPr>
        <p:spPr>
          <a:xfrm>
            <a:off x="6714000" y="3357360"/>
            <a:ext cx="4294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Правая фигурная скобка 11"/>
          <p:cNvSpPr/>
          <p:nvPr/>
        </p:nvSpPr>
        <p:spPr>
          <a:xfrm>
            <a:off x="6715080" y="4572000"/>
            <a:ext cx="357120" cy="13572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357200"/>
              <a:gd name="textAreaBottom" fmla="*/ 134820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7"/>
                  <a:pt x="10800" y="474"/>
                </a:cubicBezTo>
                <a:lnTo>
                  <a:pt x="10800" y="10326"/>
                </a:lnTo>
                <a:cubicBezTo>
                  <a:pt x="10800" y="10563"/>
                  <a:pt x="16200" y="10800"/>
                  <a:pt x="21600" y="10800"/>
                </a:cubicBezTo>
                <a:cubicBezTo>
                  <a:pt x="16200" y="10800"/>
                  <a:pt x="10800" y="11037"/>
                  <a:pt x="10800" y="11274"/>
                </a:cubicBezTo>
                <a:lnTo>
                  <a:pt x="10800" y="21126"/>
                </a:lnTo>
                <a:cubicBezTo>
                  <a:pt x="10800" y="213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нерато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электромеханический индукционны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обладающую роль в наше время играют электромеханические индукционные генераторы переменного тока. В этих генераторах механическая энергия превращается в электрическую. Их действие основано на Э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то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подвижная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льная станина цилиндрической формы, в пазах которой уложен          толстый медный пров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мотке статора индуцируется переменный электрический ток при изменении магнитного пот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то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одвижная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магнит. На стальной сердечник сложной формы надета обмотка, по которой протекает постоянный электрический ток (ток подводиться через щётки и кольца).Создаёт магнитное п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2401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Calibri"/>
              </a:rPr>
              <a:t>Многополюсные роторы</a:t>
            </a:r>
            <a:br>
              <a:rPr sz="4000"/>
            </a:br>
            <a:r>
              <a:rPr b="0" i="1" lang="ru-RU" sz="4000" spc="-1" strike="noStrike">
                <a:solidFill>
                  <a:srgbClr val="0d0d0d"/>
                </a:solidFill>
                <a:latin typeface="Calibri"/>
              </a:rPr>
              <a:t>используют на электростанц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8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7643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686800" cy="72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58ed5"/>
                </a:solidFill>
                <a:latin typeface="Calibri"/>
              </a:rPr>
              <a:t>ПЕРЕДАЧА ЭЛЕКТРОЭНЕРГИИ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ЛЭП</a:t>
            </a:r>
            <a:br>
              <a:rPr sz="4400"/>
            </a:br>
            <a:r>
              <a:rPr b="0" i="1" lang="ru-RU" sz="20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0" i="1" lang="ru-RU" sz="2400" spc="-1" strike="noStrike">
                <a:solidFill>
                  <a:srgbClr val="558ed5"/>
                </a:solidFill>
                <a:latin typeface="Calibri"/>
              </a:rPr>
              <a:t>переменного тока</a:t>
            </a:r>
            <a:br>
              <a:rPr sz="2400"/>
            </a:b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к потребителя в любом </a:t>
            </a:r>
            <a:br>
              <a:rPr sz="1800"/>
            </a:b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месте линии</a:t>
            </a:r>
            <a:br>
              <a:rPr sz="1800"/>
            </a:b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 Q=I</a:t>
            </a:r>
            <a:r>
              <a:rPr b="0" lang="ru-RU" sz="4400" spc="-1" strike="noStrike" baseline="30000">
                <a:solidFill>
                  <a:srgbClr val="92d05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Rt 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-потери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0" i="1" lang="ru-RU" sz="2200" spc="-1" strike="noStrike">
                <a:solidFill>
                  <a:srgbClr val="558ed5"/>
                </a:solidFill>
                <a:latin typeface="Calibri"/>
              </a:rPr>
              <a:t>постоянного тока</a:t>
            </a:r>
            <a:br>
              <a:rPr sz="2200"/>
            </a:br>
            <a:r>
              <a:rPr b="0" i="1" lang="ru-RU" sz="2000" spc="-1" strike="noStrike">
                <a:solidFill>
                  <a:srgbClr val="0d0d0d"/>
                </a:solidFill>
                <a:latin typeface="Calibri"/>
              </a:rPr>
              <a:t>нет потерь на </a:t>
            </a:r>
            <a:br>
              <a:rPr sz="2000"/>
            </a:br>
            <a:r>
              <a:rPr b="0" i="1" lang="ru-RU" sz="2000" spc="-1" strike="noStrike">
                <a:solidFill>
                  <a:srgbClr val="0d0d0d"/>
                </a:solidFill>
                <a:latin typeface="Calibri"/>
              </a:rPr>
              <a:t>сопротивление;</a:t>
            </a:r>
            <a:br>
              <a:rPr sz="2000"/>
            </a:br>
            <a:r>
              <a:rPr b="0" i="1" lang="ru-RU" sz="2000" spc="-1" strike="noStrike">
                <a:solidFill>
                  <a:srgbClr val="0d0d0d"/>
                </a:solidFill>
                <a:latin typeface="Calibri"/>
              </a:rPr>
              <a:t>малая металлоёмкость;</a:t>
            </a:r>
            <a:br>
              <a:rPr sz="2000"/>
            </a:br>
            <a:r>
              <a:rPr b="0" i="1" lang="ru-RU" sz="2000" spc="-1" strike="noStrike">
                <a:solidFill>
                  <a:srgbClr val="0d0d0d"/>
                </a:solidFill>
                <a:latin typeface="Calibri"/>
              </a:rPr>
              <a:t>меньше радиопомехи;</a:t>
            </a:r>
            <a:br>
              <a:rPr sz="2000"/>
            </a:br>
            <a:r>
              <a:rPr b="0" i="1" lang="ru-RU" sz="2000" spc="-1" strike="noStrike">
                <a:solidFill>
                  <a:srgbClr val="0d0d0d"/>
                </a:solidFill>
                <a:latin typeface="Calibri"/>
              </a:rPr>
              <a:t>высокая устойчивость </a:t>
            </a:r>
            <a:br>
              <a:rPr sz="2000"/>
            </a:br>
            <a:r>
              <a:rPr b="0" i="1" lang="ru-RU" sz="2000" spc="-1" strike="noStrike">
                <a:solidFill>
                  <a:srgbClr val="0d0d0d"/>
                </a:solidFill>
                <a:latin typeface="Calibri"/>
              </a:rPr>
              <a:t>энергосистемы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3357720" y="1285920"/>
            <a:ext cx="57862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АНСФОРМАТОР</a:t>
            </a:r>
            <a:br>
              <a:rPr sz="4000"/>
            </a:br>
            <a:r>
              <a:rPr b="0" i="1" lang="ru-RU" sz="2800" spc="-1" strike="noStrike">
                <a:solidFill>
                  <a:srgbClr val="77933c"/>
                </a:solidFill>
                <a:latin typeface="Calibri"/>
              </a:rPr>
              <a:t>прибор для преобразования переменного ток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</a:t>
            </a:r>
            <a:br>
              <a:rPr sz="25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1"/>
          <a:stretch/>
        </p:blipFill>
        <p:spPr>
          <a:xfrm>
            <a:off x="4643280" y="2500200"/>
            <a:ext cx="4038840" cy="36435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6" descr=""/>
          <p:cNvPicPr/>
          <p:nvPr/>
        </p:nvPicPr>
        <p:blipFill>
          <a:blip r:embed="rId2"/>
          <a:stretch/>
        </p:blipFill>
        <p:spPr>
          <a:xfrm>
            <a:off x="457200" y="2714760"/>
            <a:ext cx="3543480" cy="3244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857840" y="1357200"/>
            <a:ext cx="1500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6:50:14Z</dcterms:created>
  <dc:creator>Admin</dc:creator>
  <dc:description/>
  <dc:language>en-US</dc:language>
  <cp:lastModifiedBy>Admin</cp:lastModifiedBy>
  <dcterms:modified xsi:type="dcterms:W3CDTF">2011-11-29T19:53:59Z</dcterms:modified>
  <cp:revision>19</cp:revision>
  <dc:subject/>
  <dc:title>Слайд 1</dc:title>
</cp:coreProperties>
</file>