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28.png" ContentType="image/png"/>
  <Override PartName="/ppt/media/image9.jpeg" ContentType="image/jpeg"/>
  <Override PartName="/ppt/media/image11.jpeg" ContentType="image/jpeg"/>
  <Override PartName="/ppt/media/image23.wmf" ContentType="image/x-wmf"/>
  <Override PartName="/ppt/media/image7.jpeg" ContentType="image/jpeg"/>
  <Override PartName="/ppt/media/image12.wmf" ContentType="image/x-wmf"/>
  <Override PartName="/ppt/media/image27.png" ContentType="image/png"/>
  <Override PartName="/ppt/media/image6.jpeg" ContentType="image/jpeg"/>
  <Override PartName="/ppt/media/image5.jpeg" ContentType="image/jpeg"/>
  <Override PartName="/ppt/media/image18.wmf" ContentType="image/x-wmf"/>
  <Override PartName="/ppt/media/image26.jpeg" ContentType="image/jpeg"/>
  <Override PartName="/ppt/media/image29.wmf" ContentType="image/x-wmf"/>
  <Override PartName="/ppt/media/image17.wmf" ContentType="image/x-wmf"/>
  <Override PartName="/ppt/media/image24.wmf" ContentType="image/x-wmf"/>
  <Override PartName="/ppt/media/image21.jpeg" ContentType="image/jpeg"/>
  <Override PartName="/ppt/media/image15.wmf" ContentType="image/x-wmf"/>
  <Override PartName="/ppt/media/image20.gif" ContentType="image/gif"/>
  <Override PartName="/ppt/media/image19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22.gif" ContentType="image/gif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50BA-5D71-4CDF-9779-DF0288C0F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0D03-93A0-4AEB-BDFC-F367C291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21B1-61C8-4222-AB9A-6F50A819C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5564-D3D2-429C-BBC8-4B1750CBE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70F9-B02F-4CE9-9C8C-590EF03EC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3A06-BD48-4A0B-B303-A78F4DD7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BB4E-EA06-4C9A-A5FC-514AD40E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D113-2880-48AA-A19A-BEB2D562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AD5D-8364-43D7-A82A-613F5273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1CF6-4B40-415C-B30C-F6AB303D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F364-434E-43A0-A869-3F7778E3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7B74-B1B5-453E-882C-922FCBD6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FCD9-E0C7-47E7-AF4F-90B6211D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FAAE-EB2C-4647-BE8A-B824C0A0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5E77-10E8-41CC-8934-1CDB6FFF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5074-0845-49F5-93DC-0A2D6EA50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8A40-5127-4D3B-A2DC-BBEC06C81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22B2-E9EE-4D36-8766-A15159E7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251F-88AD-4FC1-8401-AB1902E4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C5FB-9724-4CDA-9EE0-0E522328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10EA-0700-4628-A754-11B42568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6081-51D6-4A86-BDFC-EB261DA6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5123-4745-4177-80DC-01C7413A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2A97-4847-4CF9-9E08-55CD08B0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642C-2A44-4E70-A907-76EDD6C7850F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059C-4D71-4129-BFEA-644FE61115DA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lsdn.ru/img/NI8.jp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>
                <a:solidFill>
                  <a:srgbClr val="ebf7ff"/>
                </a:solidFill>
                <a:latin typeface="Verdana"/>
              </a:rPr>
              <a:t>Использование фразеологизмов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Урок русского языка в 3 классе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Учитель: Макшакова Т.В.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ГБОУ лицей 533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" descr="Просмотреть подробности"/>
          <p:cNvPicPr/>
          <p:nvPr/>
        </p:nvPicPr>
        <p:blipFill>
          <a:blip r:embed="rId2"/>
          <a:stretch/>
        </p:blipFill>
        <p:spPr>
          <a:xfrm>
            <a:off x="6516720" y="333360"/>
            <a:ext cx="2016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Уносить ноги ,пускаться  наутек.  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    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0" name="" descr="собаки,поля,Fotolia,гонки,прыгать"/>
          <p:cNvPicPr/>
          <p:nvPr/>
        </p:nvPicPr>
        <p:blipFill>
          <a:blip r:embed="rId1"/>
          <a:stretch/>
        </p:blipFill>
        <p:spPr>
          <a:xfrm>
            <a:off x="395280" y="170028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бегать,галоп,дикие лошади,дикий,животные,лошади,природа,фотографии"/>
          <p:cNvPicPr/>
          <p:nvPr/>
        </p:nvPicPr>
        <p:blipFill>
          <a:blip r:embed="rId2"/>
          <a:stretch/>
        </p:blipFill>
        <p:spPr>
          <a:xfrm>
            <a:off x="4356000" y="220500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Кожа да кости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4" name="" descr="амфибии,висеть,древесные лягушки,живая природа,животные,красноглазые древесные лягушки,лягушки,природа,удерживаться,фотографические снимки"/>
          <p:cNvPicPr/>
          <p:nvPr/>
        </p:nvPicPr>
        <p:blipFill>
          <a:blip r:embed="rId1"/>
          <a:stretch/>
        </p:blipFill>
        <p:spPr>
          <a:xfrm>
            <a:off x="755640" y="155736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животные,природа,птицы,страусы,фотографии"/>
          <p:cNvPicPr/>
          <p:nvPr/>
        </p:nvPicPr>
        <p:blipFill>
          <a:blip r:embed="rId2"/>
          <a:stretch/>
        </p:blipFill>
        <p:spPr>
          <a:xfrm>
            <a:off x="5003640" y="242100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Расширяем словарный запас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Бить баклуш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За тридевять земель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Считать ворон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Точить ляс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Каша в голов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Во главу угл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Кануть в вечност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Семи пядей во лбу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372360" y="981000"/>
            <a:ext cx="2574720" cy="26146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6497640" y="419724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Город мастеров(столяр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Топорная работа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Разделать под орех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Снять стружку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Без сучка без задоринки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979640" y="4941720"/>
            <a:ext cx="904680" cy="9064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7812000" y="-1179360"/>
            <a:ext cx="905040" cy="9064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7605720" y="2592360"/>
            <a:ext cx="90504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Город мастеров(портной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Трещит по швам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Семь раз отмерь ,один раз отреж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Шито белыми ниткам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700680" y="3024360"/>
            <a:ext cx="1811520" cy="12459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2287440" y="4546440"/>
            <a:ext cx="4569120" cy="7621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880920" y="5081760"/>
            <a:ext cx="905040" cy="87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Город мастеров(повар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Калачом не заманиш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Заварить кашу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Толочь воду в ступ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92280" y="3551400"/>
            <a:ext cx="1841400" cy="16538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7020000" y="3071880"/>
            <a:ext cx="676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6666"/>
                </a:solidFill>
                <a:uFillTx/>
                <a:latin typeface="Verdana"/>
              </a:rPr>
              <a:t>Наблюдение над образным характером значений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Андрей шел по берегу моря и вдруг встал </a:t>
            </a:r>
            <a:r>
              <a:rPr b="0" i="1" lang="en-US" sz="4800" spc="-1" strike="noStrike">
                <a:solidFill>
                  <a:srgbClr val="cc3300"/>
                </a:solidFill>
                <a:latin typeface="Verdana"/>
              </a:rPr>
              <a:t>как вкопанный.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6" name="" descr="Fotolia,альтернатива,будущее,возможности,вперед,голубое небо,девочки,дети,дорога в никуда,дороги,люди,магистрали,молодежь,мужество,неопределенный,обдумывать,одинокий,одиночество,отважный,предназначение,приключения,прогресс,прогрессивный,путешествие,путешествия,развитие,ребята,решимость,решительный,смелость,смотреть вперед,сомнительный,судьба,тропы,уязвимый,фотографии,храбрый,эволюции"/>
          <p:cNvPicPr/>
          <p:nvPr/>
        </p:nvPicPr>
        <p:blipFill>
          <a:blip r:embed="rId1"/>
          <a:stretch/>
        </p:blipFill>
        <p:spPr>
          <a:xfrm>
            <a:off x="2411280" y="350028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6666"/>
                </a:solidFill>
                <a:uFillTx/>
                <a:latin typeface="Verdana"/>
              </a:rPr>
              <a:t>Наблюдение над образным характером значений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апа не смог пойти с нами в театр, потому что у него забот </a:t>
            </a:r>
            <a:r>
              <a:rPr b="0" i="1" lang="en-US" sz="4800" spc="-1" strike="noStrike">
                <a:solidFill>
                  <a:srgbClr val="cc3300"/>
                </a:solidFill>
                <a:latin typeface="Verdana"/>
              </a:rPr>
              <a:t>полон рот</a:t>
            </a:r>
            <a:r>
              <a:rPr b="0" lang="en-US" sz="2400" spc="-1" strike="noStrike">
                <a:solidFill>
                  <a:srgbClr val="cc33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784600" y="3209760"/>
            <a:ext cx="1228680" cy="7239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754200" y="4314960"/>
            <a:ext cx="1825560" cy="14619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823000" y="4395960"/>
            <a:ext cx="186840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Образный характер значений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Бабушка так вкусно готовит блинчики, </a:t>
            </a:r>
            <a:r>
              <a:rPr b="0" i="1" lang="en-US" sz="3600" spc="-1" strike="noStrike">
                <a:solidFill>
                  <a:srgbClr val="cc3300"/>
                </a:solidFill>
                <a:latin typeface="Verdana"/>
              </a:rPr>
              <a:t>просто пальчики оближешь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438360" y="2914560"/>
            <a:ext cx="570564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Образный характер значений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Если не исправим двойки по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математике ,родители нам покажут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cc3300"/>
                </a:solidFill>
                <a:latin typeface="Verdana"/>
              </a:rPr>
              <a:t>где раки зимуют</a:t>
            </a: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24320" y="3048120"/>
            <a:ext cx="4819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0256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3300"/>
                </a:solidFill>
                <a:latin typeface="Verdana"/>
              </a:rPr>
              <a:t>Цель: познакомить учащихся с понятием фразеологизма как</a:t>
            </a:r>
            <a:r>
              <a:rPr b="0" lang="en-US" sz="2000" spc="-1" strike="noStrike">
                <a:solidFill>
                  <a:srgbClr val="cc3300"/>
                </a:solidFill>
                <a:latin typeface="Verdana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cc3300"/>
                </a:solidFill>
                <a:latin typeface="Verdana"/>
              </a:rPr>
              <a:t>устойчивого сочетания слов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Задачи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Развивать умение правильно употреблять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фразеологизмы в речи и толковать их значения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воспитывать любовь к слову и родному языку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научиться ориентироваться в изучаемом материал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3300"/>
                </a:solidFill>
                <a:latin typeface="Verdana"/>
              </a:rPr>
              <a:t>Игра «Кто быстрее вспомнит</a:t>
            </a:r>
            <a:r>
              <a:rPr b="0" lang="en-US" sz="4400" spc="-1" strike="noStrike">
                <a:solidFill>
                  <a:srgbClr val="cc3300"/>
                </a:solidFill>
                <a:latin typeface="Verdana"/>
              </a:rPr>
              <a:t>?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Cloud"/>
          <p:cNvSpPr/>
          <p:nvPr/>
        </p:nvSpPr>
        <p:spPr>
          <a:xfrm>
            <a:off x="684360" y="2349360"/>
            <a:ext cx="2743200" cy="1838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Cloud"/>
          <p:cNvSpPr/>
          <p:nvPr/>
        </p:nvSpPr>
        <p:spPr>
          <a:xfrm>
            <a:off x="5867280" y="1844640"/>
            <a:ext cx="2743200" cy="1838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6699"/>
                </a:solidFill>
                <a:uFillTx/>
                <a:latin typeface="Verdana"/>
              </a:rPr>
              <a:t>Готовь сани летом, а ………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2" name="Cloud"/>
          <p:cNvSpPr/>
          <p:nvPr/>
        </p:nvSpPr>
        <p:spPr>
          <a:xfrm>
            <a:off x="3276720" y="3716280"/>
            <a:ext cx="2743200" cy="1838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3" name="Cloud"/>
          <p:cNvSpPr/>
          <p:nvPr/>
        </p:nvSpPr>
        <p:spPr>
          <a:xfrm>
            <a:off x="611280" y="2276640"/>
            <a:ext cx="274320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6699"/>
                </a:solidFill>
                <a:uFillTx/>
                <a:latin typeface="Verdana"/>
              </a:rPr>
              <a:t>Любишь кататься-…….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4" name="Cloud"/>
          <p:cNvSpPr/>
          <p:nvPr/>
        </p:nvSpPr>
        <p:spPr>
          <a:xfrm>
            <a:off x="3203640" y="3645000"/>
            <a:ext cx="274320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5" name="Cloud"/>
          <p:cNvSpPr/>
          <p:nvPr/>
        </p:nvSpPr>
        <p:spPr>
          <a:xfrm>
            <a:off x="3203640" y="3645000"/>
            <a:ext cx="274320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6" name="Cloud"/>
          <p:cNvSpPr/>
          <p:nvPr/>
        </p:nvSpPr>
        <p:spPr>
          <a:xfrm>
            <a:off x="3132000" y="3500280"/>
            <a:ext cx="2743200" cy="1838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6699"/>
                </a:solidFill>
                <a:uFillTx/>
                <a:latin typeface="Verdana"/>
              </a:rPr>
              <a:t>На вкус и цвет……..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3300"/>
                </a:solidFill>
                <a:latin typeface="Verdana"/>
              </a:rPr>
              <a:t>Игр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Cloud"/>
          <p:cNvSpPr/>
          <p:nvPr/>
        </p:nvSpPr>
        <p:spPr>
          <a:xfrm>
            <a:off x="826920" y="2349360"/>
            <a:ext cx="2743200" cy="1838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0" name="Cloud"/>
          <p:cNvSpPr/>
          <p:nvPr/>
        </p:nvSpPr>
        <p:spPr>
          <a:xfrm>
            <a:off x="5292720" y="2060640"/>
            <a:ext cx="274320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6699"/>
                </a:solidFill>
                <a:uFillTx/>
                <a:latin typeface="Verdana"/>
              </a:rPr>
              <a:t>Лучше синица в руках, чем……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1" name="Cloud"/>
          <p:cNvSpPr/>
          <p:nvPr/>
        </p:nvSpPr>
        <p:spPr>
          <a:xfrm>
            <a:off x="4572000" y="4365720"/>
            <a:ext cx="274320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6699"/>
                </a:solidFill>
                <a:uFillTx/>
                <a:latin typeface="Verdana"/>
              </a:rPr>
              <a:t>Не спеши языком,………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2" name="Cloud"/>
          <p:cNvSpPr/>
          <p:nvPr/>
        </p:nvSpPr>
        <p:spPr>
          <a:xfrm>
            <a:off x="826920" y="2349360"/>
            <a:ext cx="2743200" cy="1838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6699"/>
                </a:solidFill>
                <a:uFillTx/>
                <a:latin typeface="Verdana"/>
              </a:rPr>
              <a:t>Тише едешь -………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3300"/>
                </a:solidFill>
                <a:latin typeface="Verdana"/>
              </a:rPr>
              <a:t>Вывод: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PubBanner"/>
          <p:cNvSpPr/>
          <p:nvPr/>
        </p:nvSpPr>
        <p:spPr>
          <a:xfrm>
            <a:off x="3132000" y="1628640"/>
            <a:ext cx="2476800" cy="19432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6699"/>
                </a:solidFill>
                <a:uFillTx/>
                <a:latin typeface="Verdana"/>
              </a:rPr>
              <a:t>Откуда пришли фразеологизмы??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6" name="PubBanner"/>
          <p:cNvSpPr/>
          <p:nvPr/>
        </p:nvSpPr>
        <p:spPr>
          <a:xfrm>
            <a:off x="539640" y="3284640"/>
            <a:ext cx="2476440" cy="19429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6699"/>
                </a:solidFill>
                <a:uFillTx/>
                <a:latin typeface="Verdana"/>
              </a:rPr>
              <a:t>Из разговорной речи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7" name="PubBanner"/>
          <p:cNvSpPr/>
          <p:nvPr/>
        </p:nvSpPr>
        <p:spPr>
          <a:xfrm>
            <a:off x="3276720" y="3429000"/>
            <a:ext cx="2476440" cy="19432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6699"/>
                </a:solidFill>
                <a:uFillTx/>
                <a:latin typeface="Verdana"/>
              </a:rPr>
              <a:t>Из художественной литературы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8" name="PubBanner"/>
          <p:cNvSpPr/>
          <p:nvPr/>
        </p:nvSpPr>
        <p:spPr>
          <a:xfrm>
            <a:off x="6156360" y="3429000"/>
            <a:ext cx="2476440" cy="19432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6699"/>
                </a:solidFill>
                <a:uFillTx/>
                <a:latin typeface="Verdana"/>
              </a:rPr>
              <a:t>Из речи людей разных профессий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00"/>
                </a:solidFill>
                <a:latin typeface="Verdana"/>
              </a:rPr>
              <a:t>Выпиши  только те предложения, в которых употреблены фразеологизмы</a:t>
            </a: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Ледовый дворец в двух шагах от моего дом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Люся стояла в двух шагах от мен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В конкурсе рисунков Витя заткнул всех за пояс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Дима заткнул за пояс рукавиц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Бабушка утерла внуку нос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Наши футболисты утерли всем нос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3300"/>
                </a:solidFill>
                <a:latin typeface="Verdana"/>
              </a:rPr>
              <a:t>Итог уро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         </a:t>
            </a: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Самооценка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Выбери фразеологизм ,который соответствует твоей работе на уроке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66"/>
                </a:solidFill>
                <a:latin typeface="Verdana"/>
              </a:rPr>
              <a:t>Работал в поте лиц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66"/>
                </a:solidFill>
                <a:latin typeface="Verdana"/>
              </a:rPr>
              <a:t>Работал спустя рукав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66"/>
                </a:solidFill>
                <a:latin typeface="Verdana"/>
              </a:rPr>
              <a:t>Работал , не покладая рук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66"/>
                </a:solidFill>
                <a:latin typeface="Verdana"/>
              </a:rPr>
              <a:t>Заговаривал зубы соседу.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57600" y="3333600"/>
            <a:ext cx="28800" cy="190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8172360" y="7245360"/>
            <a:ext cx="1100160" cy="1100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7102440" y="4411800"/>
            <a:ext cx="1609920" cy="18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Литератур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олкова Т.Н. </a:t>
            </a:r>
            <a:r>
              <a:rPr b="0" i="1" lang="ru-RU" sz="2800" spc="-1" strike="noStrike">
                <a:solidFill>
                  <a:srgbClr val="cc3300"/>
                </a:solidFill>
                <a:latin typeface="Verdana"/>
              </a:rPr>
              <a:t>Новые формы организации обучения на уроках русского язык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Г. Иваново,1991 г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Verdana"/>
              </a:rPr>
              <a:t>Фразеологический словарь русского язык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Под редакцией Молоткова А.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Москва,1987 г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Verdana"/>
              </a:rPr>
              <a:t>Ушаков Н.Н. Внеклассная работа по русскому язык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Москва,1975 г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Фразеологизм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егодня мы продолжаем наше путешествие по стране Фразеология.Мы отправимся в чудесный и увлекательный мир фразеологизмов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ерите ли вы ,что я обучаю детей игре на  нервах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ерите ли вы,что я вчера в магазине купила хорошо подвешенный язык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ерите ли вы,что сегодня ваши тетради у меня со стола корова языком слизала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ерите ли вы, что фраза –это маленький фразеологизм?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Определите, какое из предложений является фразой, а какое фразеологизмом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Кошка съела мясо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Знает кошка чье  мясо съела.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Почему вы так решили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Докажит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Когда мы так говорим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Какой смысл имеет этот фразеологизм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659640" y="2421000"/>
            <a:ext cx="21430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Откуда к нам пришли фразеологизмы?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PubBanner"/>
          <p:cNvSpPr/>
          <p:nvPr/>
        </p:nvSpPr>
        <p:spPr>
          <a:xfrm>
            <a:off x="539640" y="2133720"/>
            <a:ext cx="2476440" cy="19429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Из разговорной речи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PubBanner"/>
          <p:cNvSpPr/>
          <p:nvPr/>
        </p:nvSpPr>
        <p:spPr>
          <a:xfrm>
            <a:off x="395280" y="3933720"/>
            <a:ext cx="2476440" cy="19432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6699"/>
                </a:solidFill>
                <a:latin typeface="Verdana"/>
              </a:rPr>
              <a:t>Язык до Киева доведет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PubBanner"/>
          <p:cNvSpPr/>
          <p:nvPr/>
        </p:nvSpPr>
        <p:spPr>
          <a:xfrm>
            <a:off x="3132000" y="2060640"/>
            <a:ext cx="2476800" cy="19429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Из художественной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литературы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PubBanner"/>
          <p:cNvSpPr/>
          <p:nvPr/>
        </p:nvSpPr>
        <p:spPr>
          <a:xfrm>
            <a:off x="3203640" y="3860640"/>
            <a:ext cx="2476440" cy="19432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А воз и ныне там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PubBanner"/>
          <p:cNvSpPr/>
          <p:nvPr/>
        </p:nvSpPr>
        <p:spPr>
          <a:xfrm>
            <a:off x="6141960" y="2050920"/>
            <a:ext cx="2476440" cy="19432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Из речи людей разных профессий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PubBanner"/>
          <p:cNvSpPr/>
          <p:nvPr/>
        </p:nvSpPr>
        <p:spPr>
          <a:xfrm>
            <a:off x="6012000" y="3879720"/>
            <a:ext cx="2476440" cy="19432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Стружку сниму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Verdana Ref"/>
              </a:rPr>
              <a:t>Сравнение фразеологизма и свободного сочетания слов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Verdana"/>
              </a:rPr>
              <a:t>Фразеологизм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Кормить завтраками учител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Считать ворон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Точить лясы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Работать спустя рукав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Verdana"/>
              </a:rPr>
              <a:t>Сочетания сло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Мама кормила Катю вкусными завтракам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Орнитолог считал ворон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Девочки разговаривали на перемен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Витя спустил рукава у рубашк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66"/>
                </a:solidFill>
                <a:latin typeface="Verdana"/>
              </a:rPr>
              <a:t>Фразеологизмы-устойчивые сочетания слов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а седьмом неб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0" name="" descr="животные,кошки,дети,обнимать,удовольствие,домашние,Fotolia,любовь,млекопитающие,домашние любимцы,портреты,улыбаться"/>
          <p:cNvPicPr/>
          <p:nvPr/>
        </p:nvPicPr>
        <p:blipFill>
          <a:blip r:embed="rId1"/>
          <a:stretch/>
        </p:blipFill>
        <p:spPr>
          <a:xfrm>
            <a:off x="468360" y="292428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Рад сквозь землю провалиться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3" name="" descr="живая природа,животные,орангутанги,приматы,природа,фотографии"/>
          <p:cNvPicPr/>
          <p:nvPr/>
        </p:nvPicPr>
        <p:blipFill>
          <a:blip r:embed="rId1"/>
          <a:stretch/>
        </p:blipFill>
        <p:spPr>
          <a:xfrm>
            <a:off x="1908000" y="2133720"/>
            <a:ext cx="4464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822960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Два сапога пара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6" name="" descr="разделочная доска,лещи,рубить,еда,Fotolia,свежая рыба,здоровый,травы,лимоны,питание,масла,подготовка,сырые морепродукты,тимьян"/>
          <p:cNvPicPr/>
          <p:nvPr/>
        </p:nvPicPr>
        <p:blipFill>
          <a:blip r:embed="rId1"/>
          <a:stretch/>
        </p:blipFill>
        <p:spPr>
          <a:xfrm>
            <a:off x="684360" y="907920"/>
            <a:ext cx="3887640" cy="5185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вода,гиппопотамы,животные,млекопитающие,подводный мир,природа,фотографии"/>
          <p:cNvPicPr/>
          <p:nvPr/>
        </p:nvPicPr>
        <p:blipFill>
          <a:blip r:embed="rId2"/>
          <a:stretch/>
        </p:blipFill>
        <p:spPr>
          <a:xfrm>
            <a:off x="4716360" y="170028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16:54:30Z</dcterms:created>
  <dc:creator>Татьяна</dc:creator>
  <dc:description/>
  <dc:language>en-US</dc:language>
  <cp:lastModifiedBy>Татьяна</cp:lastModifiedBy>
  <dcterms:modified xsi:type="dcterms:W3CDTF">2012-11-09T17:19:45Z</dcterms:modified>
  <cp:revision>28</cp:revision>
  <dc:subject/>
  <dc:title>Использование фразеологизмов</dc:title>
</cp:coreProperties>
</file>