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9.wmf" ContentType="image/x-wmf"/>
  <Override PartName="/ppt/media/image17.wmf" ContentType="image/x-wmf"/>
  <Override PartName="/ppt/media/image24.wmf" ContentType="image/x-wmf"/>
  <Override PartName="/ppt/media/image21.jpeg" ContentType="image/jpeg"/>
  <Override PartName="/ppt/media/image15.wmf" ContentType="image/x-wmf"/>
  <Override PartName="/ppt/media/image20.gif" ContentType="image/gi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C9C-A05D-4294-BD57-AA5D9216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657-4E6F-49BD-8706-D41B301B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EA1-10D7-4BD3-81D8-2E1607BA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C53-70F1-4209-A0A4-031A85D1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21B9-D2FC-4D3C-A7C0-46354666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F038-4EE3-4D88-8ADF-B2A128C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67B7-6AC8-43AA-8B3F-B4C336D2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74AA-C8FF-448E-A51C-C98CF2DA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EBFC-215B-43E5-838D-E8944107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0ACE-D106-47A7-9D92-1F991C6A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940D-B774-4015-875D-8327657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EF5-A696-4CA7-B92F-D46C12A0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A644-41B7-47C7-B676-EE09B8A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353B-BBCF-4C92-828C-7537953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406-EB17-4185-A428-BC69FD62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55AF-45DC-49EE-A6A0-E3A2D6BF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9396-0250-4E02-BB6A-A6E896EC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5D3-6D4D-455B-AD05-362E1C8A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87F-21F7-48D4-A47B-9D6A78B6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48E-D980-43AE-9F02-5681AF83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870-1F14-4142-87E9-BDBA0F4A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9C9-10A6-4CFA-9280-EFDCF091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670-7DBC-448C-8871-D920072A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353-20A6-4FB9-9364-EBBF7907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F285-4B72-41F0-90B9-6E037305C3C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D8F8-C6E0-4D34-A07F-422DE7DCCF6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sdn.ru/img/NI8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ebf7ff"/>
                </a:solidFill>
                <a:latin typeface="Verdana"/>
              </a:rPr>
              <a:t>Использование фразеологизмов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Урок русского языка в 3 классе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Учитель: Макшакова Т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БОУ лицей 533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Просмотреть подробности"/>
          <p:cNvPicPr/>
          <p:nvPr/>
        </p:nvPicPr>
        <p:blipFill>
          <a:blip r:embed="rId2"/>
          <a:stretch/>
        </p:blipFill>
        <p:spPr>
          <a:xfrm>
            <a:off x="6516720" y="333360"/>
            <a:ext cx="2016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Уносить ноги ,пускаться  наутек. 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" descr="собаки,поля,Fotolia,гонки,прыгать"/>
          <p:cNvPicPr/>
          <p:nvPr/>
        </p:nvPicPr>
        <p:blipFill>
          <a:blip r:embed="rId1"/>
          <a:stretch/>
        </p:blipFill>
        <p:spPr>
          <a:xfrm>
            <a:off x="395280" y="17002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бегать,галоп,дикие лошади,дикий,животные,лошади,природа,фотографии"/>
          <p:cNvPicPr/>
          <p:nvPr/>
        </p:nvPicPr>
        <p:blipFill>
          <a:blip r:embed="rId2"/>
          <a:stretch/>
        </p:blipFill>
        <p:spPr>
          <a:xfrm>
            <a:off x="4356000" y="2205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ожа да кост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амфибии,висеть,древесные лягушки,живая природа,животные,красноглазые древесные лягушки,лягушки,природа,удерживаться,фотографические снимки"/>
          <p:cNvPicPr/>
          <p:nvPr/>
        </p:nvPicPr>
        <p:blipFill>
          <a:blip r:embed="rId1"/>
          <a:stretch/>
        </p:blipFill>
        <p:spPr>
          <a:xfrm>
            <a:off x="755640" y="1557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животные,природа,птицы,страусы,фотографии"/>
          <p:cNvPicPr/>
          <p:nvPr/>
        </p:nvPicPr>
        <p:blipFill>
          <a:blip r:embed="rId2"/>
          <a:stretch/>
        </p:blipFill>
        <p:spPr>
          <a:xfrm>
            <a:off x="5003640" y="2421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асширяем словарный запас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ить баклуш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а тридевять земел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читать воро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очить ляс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ша в голов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о главу уг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нуть в веч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еми пядей во лб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72360" y="981000"/>
            <a:ext cx="2574720" cy="2614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497640" y="41972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ород мастеров(столяр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Топорная работ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Разделать под орех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Снять стружку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Без сучка без задоринки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79640" y="4941720"/>
            <a:ext cx="904680" cy="906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812000" y="-1179360"/>
            <a:ext cx="905040" cy="906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7605720" y="2592360"/>
            <a:ext cx="9050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ород мастеров(портной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рещит по шва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емь раз отмерь ,один раз отреж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Шито белыми нит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700680" y="3024360"/>
            <a:ext cx="1811520" cy="1245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287440" y="4546440"/>
            <a:ext cx="456912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880920" y="5081760"/>
            <a:ext cx="90504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ород мастеров(повар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лачом не заманиш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аварить каш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олочь воду в ступ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2280" y="3551400"/>
            <a:ext cx="1841400" cy="1653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020000" y="3071880"/>
            <a:ext cx="676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Наблюдение над образным характером значе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дрей шел по берегу моря и вдруг встал </a:t>
            </a:r>
            <a:r>
              <a:rPr b="0" i="1" lang="en-US" sz="4800" spc="-1" strike="noStrike">
                <a:solidFill>
                  <a:srgbClr val="cc3300"/>
                </a:solidFill>
                <a:latin typeface="Verdana"/>
              </a:rPr>
              <a:t>как вкопанный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" descr="Fotolia,альтернатива,будущее,возможности,вперед,голубое небо,девочки,дети,дорога в никуда,дороги,люди,магистрали,молодежь,мужество,неопределенный,обдумывать,одинокий,одиночество,отважный,предназначение,приключения,прогресс,прогрессивный,путешествие,путешествия,развитие,ребята,решимость,решительный,смелость,смотреть вперед,сомнительный,судьба,тропы,уязвимый,фотографии,храбрый,эволюции"/>
          <p:cNvPicPr/>
          <p:nvPr/>
        </p:nvPicPr>
        <p:blipFill>
          <a:blip r:embed="rId1"/>
          <a:stretch/>
        </p:blipFill>
        <p:spPr>
          <a:xfrm>
            <a:off x="2411280" y="3500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Наблюдение над образным характером значе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апа не смог пойти с нами в театр, потому что у него забот </a:t>
            </a:r>
            <a:r>
              <a:rPr b="0" i="1" lang="en-US" sz="4800" spc="-1" strike="noStrike">
                <a:solidFill>
                  <a:srgbClr val="cc3300"/>
                </a:solidFill>
                <a:latin typeface="Verdana"/>
              </a:rPr>
              <a:t>полон рот</a:t>
            </a: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84600" y="3209760"/>
            <a:ext cx="1228680" cy="723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54200" y="4314960"/>
            <a:ext cx="1825560" cy="1461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823000" y="439596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Образный характер значе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абушка так вкусно готовит блинчики, </a:t>
            </a:r>
            <a:r>
              <a:rPr b="0" i="1" lang="en-US" sz="3600" spc="-1" strike="noStrike">
                <a:solidFill>
                  <a:srgbClr val="cc3300"/>
                </a:solidFill>
                <a:latin typeface="Verdana"/>
              </a:rPr>
              <a:t>просто пальчики оближешь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438360" y="2914560"/>
            <a:ext cx="5705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Образный характер значе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Если не исправим двойки п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атематике ,родители нам покажу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где раки зимуют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4320" y="3048120"/>
            <a:ext cx="4819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025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Verdana"/>
              </a:rPr>
              <a:t>Цель: познакомить учащихся с понятием фразеологизма как</a:t>
            </a: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cc3300"/>
                </a:solidFill>
                <a:latin typeface="Verdana"/>
              </a:rPr>
              <a:t>устойчивого сочетания слов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адач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Развивать умение правильно употреблять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фразеологизмы в речи и толковать их знач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спитывать любовь к слову и родному языку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аучиться ориентироваться в изучаемом материал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Verdana"/>
              </a:rPr>
              <a:t>Игра «Кто быстрее вспомнит</a:t>
            </a: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?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84360" y="234936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Cloud"/>
          <p:cNvSpPr/>
          <p:nvPr/>
        </p:nvSpPr>
        <p:spPr>
          <a:xfrm>
            <a:off x="5867280" y="184464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Готовь сани летом, а ………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Cloud"/>
          <p:cNvSpPr/>
          <p:nvPr/>
        </p:nvSpPr>
        <p:spPr>
          <a:xfrm>
            <a:off x="3276720" y="371628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Cloud"/>
          <p:cNvSpPr/>
          <p:nvPr/>
        </p:nvSpPr>
        <p:spPr>
          <a:xfrm>
            <a:off x="611280" y="22766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Любишь кататься-…….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Cloud"/>
          <p:cNvSpPr/>
          <p:nvPr/>
        </p:nvSpPr>
        <p:spPr>
          <a:xfrm>
            <a:off x="3203640" y="3645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Cloud"/>
          <p:cNvSpPr/>
          <p:nvPr/>
        </p:nvSpPr>
        <p:spPr>
          <a:xfrm>
            <a:off x="3203640" y="3645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3132000" y="350028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На вкус и цвет…….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Verdana"/>
              </a:rPr>
              <a:t>Иг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Cloud"/>
          <p:cNvSpPr/>
          <p:nvPr/>
        </p:nvSpPr>
        <p:spPr>
          <a:xfrm>
            <a:off x="826920" y="234936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5292720" y="20606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Лучше синица в руках, чем……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4572000" y="436572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Не спеши языком,………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Cloud"/>
          <p:cNvSpPr/>
          <p:nvPr/>
        </p:nvSpPr>
        <p:spPr>
          <a:xfrm>
            <a:off x="826920" y="234936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6699"/>
                </a:solidFill>
                <a:uFillTx/>
                <a:latin typeface="Verdana"/>
              </a:rPr>
              <a:t>Тише едешь -………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3300"/>
                </a:solidFill>
                <a:latin typeface="Verdana"/>
              </a:rPr>
              <a:t>Вывод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ubBanner"/>
          <p:cNvSpPr/>
          <p:nvPr/>
        </p:nvSpPr>
        <p:spPr>
          <a:xfrm>
            <a:off x="3132000" y="1628640"/>
            <a:ext cx="247680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6699"/>
                </a:solidFill>
                <a:uFillTx/>
                <a:latin typeface="Verdana"/>
              </a:rPr>
              <a:t>Откуда пришли фразеологизмы??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PubBanner"/>
          <p:cNvSpPr/>
          <p:nvPr/>
        </p:nvSpPr>
        <p:spPr>
          <a:xfrm>
            <a:off x="539640" y="3284640"/>
            <a:ext cx="2476440" cy="1942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6699"/>
                </a:solidFill>
                <a:uFillTx/>
                <a:latin typeface="Verdana"/>
              </a:rPr>
              <a:t>Из разговорной реч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PubBanner"/>
          <p:cNvSpPr/>
          <p:nvPr/>
        </p:nvSpPr>
        <p:spPr>
          <a:xfrm>
            <a:off x="3276720" y="342900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6699"/>
                </a:solidFill>
                <a:uFillTx/>
                <a:latin typeface="Verdana"/>
              </a:rPr>
              <a:t>Из художественной литературы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PubBanner"/>
          <p:cNvSpPr/>
          <p:nvPr/>
        </p:nvSpPr>
        <p:spPr>
          <a:xfrm>
            <a:off x="6156360" y="342900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6699"/>
                </a:solidFill>
                <a:uFillTx/>
                <a:latin typeface="Verdana"/>
              </a:rPr>
              <a:t>Из речи людей разных профессий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Выпиши  только те предложения, в которых употреблены фразеологизмы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Ледовый дворец в двух шагах от моего до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Люся стояла в двух шагах от мен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 конкурсе рисунков Витя заткнул всех за поя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има заткнул за пояс рукавиц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абушка утерла внуку но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аши футболисты утерли всем но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Verdana"/>
              </a:rPr>
              <a:t>Итог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Самооценк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ыбери фразеологизм ,который соответствует твоей работе на урок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Работал в поте лиц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Работал спустя рука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Работал , не покладая рук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Заговаривал зубы соседу.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57600" y="3333600"/>
            <a:ext cx="28800" cy="190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172360" y="7245360"/>
            <a:ext cx="1100160" cy="1100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102440" y="4411800"/>
            <a:ext cx="16099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Литерату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лкова Т.Н. </a:t>
            </a:r>
            <a:r>
              <a:rPr b="0" i="1" lang="ru-RU" sz="2800" spc="-1" strike="noStrike">
                <a:solidFill>
                  <a:srgbClr val="cc3300"/>
                </a:solidFill>
                <a:latin typeface="Verdana"/>
              </a:rPr>
              <a:t>Новые формы организации обучения на уроках русского язы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. Иваново,1991 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Verdana"/>
              </a:rPr>
              <a:t>Фразеологический словарь русского язы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од редакцией Молоткова А.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Москва,1987 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Verdana"/>
              </a:rPr>
              <a:t>Ушаков Н.Н. Внеклассная работа по русскому язы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Москва,1975 г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разеологиз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егодня мы продолжаем наше путешествие по стране Фразеология.Мы отправимся в чудесный и увлекательный мир фразеологизм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рите ли вы ,что я обучаю детей игре на  нервах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рите ли вы,что я вчера в магазине купила хорошо подвешенный язык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рите ли вы,что сегодня ваши тетради у меня со стола корова языком слизала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рите ли вы, что фраза –это маленький фразеологизм?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Определите, какое из предложений является фразой, а какое фразеологизмо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ошка съела мяс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Знает кошка чье  мясо съела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очему вы так решил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окажи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огда мы так говорим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кой смысл имеет этот фразеологизм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Откуда к нам пришли фразеологизмы?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ubBanner"/>
          <p:cNvSpPr/>
          <p:nvPr/>
        </p:nvSpPr>
        <p:spPr>
          <a:xfrm>
            <a:off x="539640" y="2133720"/>
            <a:ext cx="2476440" cy="1942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Из разговорной реч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ubBanner"/>
          <p:cNvSpPr/>
          <p:nvPr/>
        </p:nvSpPr>
        <p:spPr>
          <a:xfrm>
            <a:off x="395280" y="393372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99"/>
                </a:solidFill>
                <a:latin typeface="Verdana"/>
              </a:rPr>
              <a:t>Язык до Киева доведе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ubBanner"/>
          <p:cNvSpPr/>
          <p:nvPr/>
        </p:nvSpPr>
        <p:spPr>
          <a:xfrm>
            <a:off x="3132000" y="2060640"/>
            <a:ext cx="2476800" cy="1942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Из художественной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литературы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ubBanner"/>
          <p:cNvSpPr/>
          <p:nvPr/>
        </p:nvSpPr>
        <p:spPr>
          <a:xfrm>
            <a:off x="3203640" y="386064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А воз и ныне та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ubBanner"/>
          <p:cNvSpPr/>
          <p:nvPr/>
        </p:nvSpPr>
        <p:spPr>
          <a:xfrm>
            <a:off x="6141960" y="205092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Из речи людей разных профессий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ubBanner"/>
          <p:cNvSpPr/>
          <p:nvPr/>
        </p:nvSpPr>
        <p:spPr>
          <a:xfrm>
            <a:off x="6012000" y="3879720"/>
            <a:ext cx="247644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тружку сним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 Ref"/>
              </a:rPr>
              <a:t>Сравнение фразеологизма и свободного сочетания слов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Verdana"/>
              </a:rPr>
              <a:t>Фразеологиз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Кормить завтраками учител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Считать воро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Точить ляс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Работать спустя рука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Сочетания сл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ама кормила Катю вкусными завтрак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рнитолог считал воро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евочки разговаривали на перемен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итя спустил рукава у рубаш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Фразеологизмы-устойчивые сочетания слов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 седьмом неб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животные,кошки,дети,обнимать,удовольствие,домашние,Fotolia,любовь,млекопитающие,домашние любимцы,портреты,улыбаться"/>
          <p:cNvPicPr/>
          <p:nvPr/>
        </p:nvPicPr>
        <p:blipFill>
          <a:blip r:embed="rId1"/>
          <a:stretch/>
        </p:blipFill>
        <p:spPr>
          <a:xfrm>
            <a:off x="468360" y="2924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ад сквозь землю провалитьс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" descr="живая природа,животные,орангутанги,приматы,природа,фотографии"/>
          <p:cNvPicPr/>
          <p:nvPr/>
        </p:nvPicPr>
        <p:blipFill>
          <a:blip r:embed="rId1"/>
          <a:stretch/>
        </p:blipFill>
        <p:spPr>
          <a:xfrm>
            <a:off x="1908000" y="2133720"/>
            <a:ext cx="446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сапога пар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разделочная доска,лещи,рубить,еда,Fotolia,свежая рыба,здоровый,травы,лимоны,питание,масла,подготовка,сырые морепродукты,тимьян"/>
          <p:cNvPicPr/>
          <p:nvPr/>
        </p:nvPicPr>
        <p:blipFill>
          <a:blip r:embed="rId1"/>
          <a:stretch/>
        </p:blipFill>
        <p:spPr>
          <a:xfrm>
            <a:off x="684360" y="907920"/>
            <a:ext cx="3887640" cy="5185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вода,гиппопотамы,животные,млекопитающие,подводный мир,природа,фотографии"/>
          <p:cNvPicPr/>
          <p:nvPr/>
        </p:nvPicPr>
        <p:blipFill>
          <a:blip r:embed="rId2"/>
          <a:stretch/>
        </p:blipFill>
        <p:spPr>
          <a:xfrm>
            <a:off x="4716360" y="1700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6:54:30Z</dcterms:created>
  <dc:creator>Татьяна</dc:creator>
  <dc:description/>
  <dc:language>en-US</dc:language>
  <cp:lastModifiedBy>Татьяна</cp:lastModifiedBy>
  <dcterms:modified xsi:type="dcterms:W3CDTF">2012-11-09T17:19:45Z</dcterms:modified>
  <cp:revision>28</cp:revision>
  <dc:subject/>
  <dc:title>Использование фразеологизмов</dc:title>
</cp:coreProperties>
</file>