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DC9-CFE1-44D3-AF22-68511505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4CD-7F3E-4296-8FAE-4134FD1B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70B-6E22-45FA-9002-A55EB724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0EB-3036-4DF8-A95C-7E3D917C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332F-967A-4B0A-98BF-CD14F940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6CE7-4BE4-4A2C-8E2A-EE5444FE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E23C-0F53-4144-B005-C412D0C6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A9D4-F13C-41E5-A21A-0CABB1A9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F283-1ED3-4F37-BB78-9286694D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F0DC-A80F-4D3C-8F8E-4B60FF3C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1E74-3C27-4230-8B2C-8E0A0652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4A1-9F13-4465-BEF6-CF2C421A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4B33-FF0E-4355-8078-2CBECB26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B069-79F7-44F2-885F-2141BC5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8678-585D-4BB1-8EBA-0A72C221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C13F-9549-4318-AA4B-2AED61D0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ECC1-4DBB-4492-ADD8-E2EA9696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DFB-64CC-4B25-A7CE-9E09194D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849-8ED5-4651-8E6F-BE7A2A17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67F-E63B-4153-A67A-1002031F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722-E724-4C78-8C70-AD3CCE79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8FB-BDC9-4C8D-9631-B514E5DD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6F1-C73B-475F-965C-B351DD32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A1F-36A7-478F-BC34-B6C6A2D0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0C57-E409-4B28-9BF3-E1A4A8F8E3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BD9F-A2FC-486F-BC34-E189388B62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Приветствие программы сканирования"/>
          <p:cNvPicPr/>
          <p:nvPr/>
        </p:nvPicPr>
        <p:blipFill>
          <a:blip r:embed="rId1"/>
          <a:stretch/>
        </p:blipFill>
        <p:spPr>
          <a:xfrm>
            <a:off x="-324000" y="189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645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663300"/>
                </a:solidFill>
                <a:latin typeface="Monotype Corsiva"/>
              </a:rPr>
              <a:t>Гендерное воспитание в подготови-тельной группе</a:t>
            </a:r>
            <a:br>
              <a:rPr sz="72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Работу выполнили: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Тахтаганова Ильмира Асхадовна,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ванова Наталья Тихоновна 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оспитатели подготовительной группы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МДОУ «Детский сад № 96   комбинированного вида»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Кировского района г.Казан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ёные отмечают разное содержание и игровые стили: </a:t>
            </a:r>
            <a:r>
              <a:rPr b="0" i="1" lang="ru-RU" sz="3200" spc="-1" strike="noStrike">
                <a:solidFill>
                  <a:srgbClr val="f8a500"/>
                </a:solidFill>
                <a:latin typeface="Tahoma"/>
              </a:rPr>
              <a:t>девочкам ближе тихие игры на семейно-бытовые темы, истинно «мужские игры» мальчиков – шумные, наполненные движением</a:t>
            </a:r>
            <a:r>
              <a:rPr b="0" lang="ru-RU" sz="3200" spc="-1" strike="noStrike">
                <a:solidFill>
                  <a:srgbClr val="f8a5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о учитывать эти особенности при организации предметно-развивающей среды групп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8a500"/>
                </a:solidFill>
                <a:latin typeface="Tahoma"/>
              </a:rPr>
              <a:t>Девочкам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статочно маленького уголка, так как они, раскладывая перед собой свои “богатства” – кукол, посуду, тряпочки, играют в ограниченном пространств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600" spc="-1" strike="noStrike">
                <a:solidFill>
                  <a:srgbClr val="f8a500"/>
                </a:solidFill>
                <a:latin typeface="Tahoma"/>
              </a:rPr>
              <a:t>Мальчикам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необходимо более обширное пространство, как правило, неограниченное и незамкнутое, так они бегают, бросают предметы в цель, собирают и разбирают игрушки и т.д. и используют при этом все предоставленное им пространство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Направление государственной политики в образовании, сформулированным в основополагающих документах.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84852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соответствии с направлениями современных подходов к дошкольному образованию  гендерное  воспитание – процесс, направленный на формирование качеств и свойств, определяющих необходимое обществу отношение человека к представителям противоположного по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ендерное воспитание рассматривается как комплексная психофизическая проблема, включающая в себя биологические, психологические и социальные аспект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пецифика процесса гендерной  социализации ребенка позволяет считать правомерной работу по половому воспитанию уже в дошкольном возрасте, требует продолжения и на других этапах развития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полоролевого воспитания должна осуществляться в аспекте целостной педагогической системы, не допускающей недооценку какого либо из ее компонентов. Именно поэтому важен принцип  интеграции, задач образовательных областей, предложенном в современной педагоги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чевидно, что работа педагога в данном направление предусматривает разнообразие форм и методов воспитания и обучения детей, которые обеспечивают разностороннее личностное развит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доровье и физическое развит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циально – личностно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знавательно-речевое развит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удожественно-эстетическ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ывая актуальность этой темы, а так же реализуя одно из приоритетных направлений, а именно «полоролевая социализация старших дошкольников в игре», мы поставили перед собой цель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зработать и апробировать систему дифференцированного подхода к воспитанию мальчиков и девочек в игров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 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еализации цели необходимо решить ряд задач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анатомо-физиологические, психологические и другие  особенности мальчиков и девоч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 особенности содержания и игровых стилей  у мальчиков и девоч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, апробировать систему и определить эффективность работы по формированию полоролевого поведения дошкольников в иг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9092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лан реализац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Сент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ть план работы по гендерному воспитанию в игре на учебный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бор и анализ методической литературы по те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Октябрь</a:t>
            </a:r>
            <a:r>
              <a:rPr b="1" lang="ru-RU" sz="2000" spc="-1" strike="noStrike">
                <a:solidFill>
                  <a:srgbClr val="f8a500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   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      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я  для специалистов, планирование работы по взаимодействи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литературу по те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Ноя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о-педагогические исследования по вопросам гендерного воспит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родителей для выявления их отношения к проблеме гендерного воспит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предметно-игровой среды в семье и детском саду с учетом предпочтений и интересов девочек и мальчи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Декабр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рисовать метки, эмблемы для мальчиков и девочек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ая деятельность педагога и детей « Мужчина и женщина,– какие они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24000" y="404640"/>
            <a:ext cx="864216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Янва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еды на тему «Мальчик, будущий мужчина,  девочка, будущая женщина» выставка на тему «Маленькие рыцари и Маленькие принцесс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8a500"/>
                </a:solidFill>
                <a:latin typeface="Tahoma"/>
              </a:rPr>
              <a:t>Февра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праздника « День Защитника Отечест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одный фольклор о мальчиках, девочках (пословицы, поговорки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Мар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праздника-конкурса « Кто дарит нам красоту!» руками русских мастеров и мастериц  (платки, посуда, литье, оруж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Апр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уголков труда с учетом гендерных особенностей « Мастера и Мастериц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f8a500"/>
                </a:solidFill>
                <a:latin typeface="Tahoma"/>
              </a:rPr>
              <a:t>Ма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итогового занятия «Я – мальчик, будущий мужчина. Я – девочка, будущая женщин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нно «Ладошки наших деток – Мамочка и папочка – найди меня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фотоальбомов на тему: « Мужские и женские професси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етодические приемы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е направления в организации воспитательно-образовательного процесса, определенные федеральными государственными требованиям,  предполагают несколько иной подход к содержанию нравственного воспитания дошкольников, включив формирование у ребенка гендерной принадлеж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чень важно сформировать у ребенка понимание. что он девочка или мальчик, а когда вырастет, будет женщиной или мужчиной, и эта принадлежность к полу не изменится в зависимости от ситуации или личных желаний ребен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этому среди методических </a:t>
            </a: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прием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спользуем: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наблюдения, рассматривание фотографий, беседы о том, кто есть кто и какой 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 же проводи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беседы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«Одинаковые и разные», «Кто мальчики помогают маме», «Как девочки могут помочь папе»  «Как люди заботятся друг о друге», «Как утешить товарища», «Одежда для девочек, для мальчиков и для всех», «У нас дружная семья», «Такие разные дети», «Кто я и кем хочу быть», «Наши прическ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е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дактические игры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«Давай познакомимся», «Какая твоя мама», «На кого ты похож», «Какое настроение», «Перед зеркалом», «Семья Бубенцовых», «В квартир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Рассматриваем иллюстрации и пиктограмм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б эмо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Читаем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Л.Успенский «Ты и твое имя», былина «Илья Муромец и Соловей-разбойник», русская народная сказка «Василиса Прекрасная», В. Косовицкий «Будущий мужчина», Р.Гамзатов «Мой дедушка», А.Барто «Ярасту», Н.Носов «Приключения Незнайки и его друзей», А.Печерский «Дети – герои Великой Отечественной войн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ем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итуации с вопросами и задани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южетно-ролевые игр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a500"/>
                </a:solidFill>
                <a:latin typeface="Tahoma"/>
              </a:rPr>
              <a:t>Для девоче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«Семья», «Ателье», «Салон красоты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a500"/>
                </a:solidFill>
                <a:latin typeface="Tahoma"/>
              </a:rPr>
              <a:t>Для мальчик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«Космонавты», «Охотники», «Погроничники», «Я строитель», «Водители», «Пожарные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г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20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 – путь поиска ребенком себя в коллективе сверстников, выход на социальный опыт, культуру прошлого, настоящего и будущего, повторение социальной практики, доступной пониманию. Для того чтобы игра стала эффективным средством гендерного воспитания, необходимо руководство содержанием ролевой игры с учетом особенностей мальчиков и девочек, как в детском саду, так и в семье, а также важно организовать включение ребенка в позицию субъекта игровой деятельности, которая наиболее полно соответствует его гендерным склонностям и интересам с целью воспитания ребенка, как будущего мужчину или будущую женщин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ируя качества, которые развиваются в игре, с учетом гендерного подхода мы видим портрет дошкольника соответствующий  предложенному в ФГТ портрету дошкольника – выпускника. Именно в игре, возможно, осуществить главную задачу дошкольного воспитания: « Учи дошкольника так, чтобы он не заметил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0:26:55Z</dcterms:created>
  <dc:creator>1</dc:creator>
  <dc:description/>
  <dc:language>en-US</dc:language>
  <cp:lastModifiedBy>Burnaeva</cp:lastModifiedBy>
  <dcterms:modified xsi:type="dcterms:W3CDTF">2012-11-11T10:40:48Z</dcterms:modified>
  <cp:revision>25</cp:revision>
  <dc:subject/>
  <dc:title>Гендерное воспитание в подготовительной группе</dc:title>
</cp:coreProperties>
</file>