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23AA-F990-42BF-9E5F-4E7BF87B00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BC3F-5ECE-4BF5-8651-C9A6CF337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231-1112-460F-AE33-BE92FA583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2BE-6456-4F17-A9D9-AA9658B33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7944-9C8D-4307-9B27-29C0F6005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BBC3-7466-4331-99FD-517EDF5AF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0D4C-E72F-4F6F-9F66-2FAB0195D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C53-C553-4BCB-A0F7-972250243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000-2A92-44FA-A668-281ACA9AF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AA73-C577-4533-97EB-324ACE80F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E624-BB32-46F1-BFE1-B41BBD911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D666-0973-45BF-B20E-7DFCC11E2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7DA0-F7C2-4805-A8B6-3D21B4589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1B4-630F-4A06-9434-F919E8C62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BD79-2A84-4F4F-8C06-167BB5A90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1E6D-032B-4C94-ADFF-7F8E529806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8942-10E2-460E-935F-D4F05395B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FCCC-78DA-4E24-8E28-DBD51DAF7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C8AC-105D-42C5-B2D5-34EC334C0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D929-C986-4E68-828D-08926B8EA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D278-6B99-4823-BF0B-65ABB1FA5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3649-71EA-4DCD-BD22-A14D8E55B9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093-276D-45BE-AE2E-27EF80054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414-9FCA-48DF-8798-1C602FEBC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5C03-F509-4983-9E52-7B6A402B1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35F7-BEC4-4B90-9F35-58F118B2D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41DD-8163-4CF5-9061-001B00401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A98-9DD7-485B-8EBE-7352B629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FD9-6FF6-41B4-90C2-0887C6D2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7B1-01E2-41D2-87D7-18101BED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3DE-0FE0-430A-A104-589FB7D5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E0AA-C3AD-4A9C-9C65-CF29DB16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7A1F-CCA0-4076-99D7-B7E9EC3D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C10C-E948-419E-84C7-B300D73D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F6C5-20D4-4199-AC94-83FB04E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0C2D-0421-487F-865B-CCB1E176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0F0C-57A9-41A5-9CC6-525E06D8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2607-086A-4D50-AD26-ECADCD4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538-59A4-4263-B5F8-1259A222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66CF-9CFD-458F-970E-61556D97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7D1C-1BDC-4404-A9BA-FF0F091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AC04-844F-4488-B73F-9799CDD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82FC-F083-4642-9DD6-13FFF83E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06AF-A6E3-4810-A4B3-F9B7B7EF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65BE-C54E-45C2-88D9-74E86D04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125AD-DEC1-4D34-9B3C-5430C02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815D-268A-4984-9E96-9640CF5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0FE6-801D-4759-922D-1644B9AD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844F-C798-4113-8ACF-8002D4B0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AED-74B8-42AE-89F7-A22BFBAC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AC86-66B0-44B7-B7A2-45C2AC1D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1D22-0E4A-48D9-ADB1-BAF7B3CB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700F-CC41-4070-8FB5-9F12097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23EC-0CD3-4B8B-88F6-8EDB0978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B7D7-1238-46B2-B238-708C3311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462C-E7FF-4EA9-94AF-233C4AB9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97B4-1E4A-49FB-BD16-09FD2195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91C43-84C4-4D1D-985C-D73DE880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BAC7-0BD1-4651-B82A-3CAA6817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DC86-911B-4C9E-BE6A-8DAF42C7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FA9-CB8B-435D-BA56-19E3660B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B184-A445-4121-B1C6-5AE27E6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492D-5AF5-4A19-BB1C-A9C92B8A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3BBF-1572-460C-A23E-0EAA7862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1584-995B-4304-AE17-3F6AA83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CB29-EE3F-4D73-87C9-AA164C0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BB2E-F7E0-48B9-9280-581295D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BD7E-C35C-4945-A6F9-8867BB3E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3059-7C37-455B-A4D1-362FFDD0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6241-BD0D-4C15-90DA-1CCEA830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DA12-0931-4D19-9F09-A21AC7FE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8E0-418E-4718-83CB-807BE395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176D-9D9B-442D-AD65-8B2847F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9101-69E7-4725-A879-AE0DD6CC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89468-8E02-4F84-B3B8-E2386C51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BA51-3430-403F-B8DF-6E1B3AB0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62DAC-CC93-476B-BBB5-EE94E21C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3D83F-93F1-4F57-9B84-C00A7AC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40A3-AA6A-48E1-922B-EFDEF78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12D7F-8503-4DED-AA81-D74F3D6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CC714-6467-4E89-9193-AFC1D6B1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1BD5-F4B7-4FE7-9619-4220402C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96C-EB88-4FDB-A6BA-686F77B2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1C12-8AD0-46C9-8EF7-2EE43513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C39C-CE87-4523-9B61-93F05456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4F92-BA5B-4F4F-8A4C-02BA3C65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B1C44-6D05-496D-8069-50BCCD6E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67C2-A390-4ABD-BE03-1ADC8F7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EC0D9-1927-4C3F-A240-B72EAC82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6D86-264D-46C9-A01C-0F097ECF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EAF6A-B7CE-49CB-8D68-FCBB4EC6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22059-7997-48F2-A3C6-C380D314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2666F-6ED0-4650-98FD-8AB1A953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FA0-9067-4562-B008-2DC356F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2993F-07F3-4A3F-A811-4E55664A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CC7A5-EAC6-479C-A206-7357C9A9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2C6E7-0E03-455B-85AD-58271279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269C2-CB3C-4489-88EE-D77710EA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1CDEA-8080-4E54-9873-ECF79CF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AFAD-8F8C-4589-8191-2872164E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61F0-E144-452C-9ACF-5F02384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C520A-9481-41A9-A31F-670D1A03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4DE9-4044-4966-9C59-B565C5A6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B0DC8-161D-473D-9C8F-2254D66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D78-5F79-4AFC-A860-CFAC39A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5723-4CC1-42EA-B011-3EEC3833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2BF06-97A5-46CD-AAC7-3D25BAF3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9F72-3031-4193-B882-34D8896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38091-C534-438F-8C64-9EDAFA45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B2311-62E5-498D-921B-9FEFEA53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4B3-2926-4ADF-AEE1-5BAB3171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A26A-F5FA-445C-9203-FF82C0E53D9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5CB4-2020-4618-AF9B-ED8615F55F5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93EB-275C-4955-8E22-DDB68C51B6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A3EA-CC60-4B37-8901-DACFC5C13A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2F00-986B-4024-A0A4-E6EF24BDD2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2912-1BD0-41AF-92AB-5945D013F1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F564-7228-4321-BD4D-DE8A2A71EC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0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1.xml"/><Relationship Id="rId8" Type="http://schemas.openxmlformats.org/officeDocument/2006/relationships/slide" Target="slide19.xml"/><Relationship Id="rId9" Type="http://schemas.openxmlformats.org/officeDocument/2006/relationships/slide" Target="slide18.xml"/><Relationship Id="rId10" Type="http://schemas.openxmlformats.org/officeDocument/2006/relationships/slide" Target="slide17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2168&amp;d_no=133504&amp;ext=Attachment.aspx?Id=47266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250920" y="1890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04920" y="1371600"/>
            <a:ext cx="847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В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2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258480" y="5029200"/>
            <a:ext cx="64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ушина О.Н.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Павд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8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1"/>
          <p:cNvSpPr/>
          <p:nvPr/>
        </p:nvSpPr>
        <p:spPr>
          <a:xfrm>
            <a:off x="51814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3"/>
          <p:cNvSpPr/>
          <p:nvPr/>
        </p:nvSpPr>
        <p:spPr>
          <a:xfrm>
            <a:off x="1600200" y="30481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1"/>
          <p:cNvSpPr/>
          <p:nvPr/>
        </p:nvSpPr>
        <p:spPr>
          <a:xfrm>
            <a:off x="304920" y="5335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цифры, обозначающие запятые между частям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сочиненног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инадцатом году он купил летнюю дачу (1),в которой я жил потом, перестроил всю (2),чтобы она была пригодна для зимы (3),и сам приходил наблюдать (4),как работают плотники (5),и сам руководил их рабо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AutoShape 8"/>
          <p:cNvSpPr/>
          <p:nvPr/>
        </p:nvSpPr>
        <p:spPr>
          <a:xfrm>
            <a:off x="1628640" y="32446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5029200" y="3389400"/>
            <a:ext cx="360360" cy="361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2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6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8"/>
          <p:cNvSpPr/>
          <p:nvPr/>
        </p:nvSpPr>
        <p:spPr>
          <a:xfrm>
            <a:off x="746748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9"/>
          <p:cNvSpPr/>
          <p:nvPr/>
        </p:nvSpPr>
        <p:spPr>
          <a:xfrm>
            <a:off x="35812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21"/>
          <p:cNvSpPr/>
          <p:nvPr/>
        </p:nvSpPr>
        <p:spPr>
          <a:xfrm>
            <a:off x="228600" y="38088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под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Жукова есть недостатки (1),за которые его не любили на франте (2),но надо сказать (3)что воевал он лучше Кон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1"/>
          <p:cNvSpPr/>
          <p:nvPr/>
        </p:nvSpPr>
        <p:spPr>
          <a:xfrm>
            <a:off x="5000760" y="5049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1" descr=""/>
          <p:cNvPicPr/>
          <p:nvPr/>
        </p:nvPicPr>
        <p:blipFill>
          <a:blip r:embed="rId1"/>
          <a:stretch/>
        </p:blipFill>
        <p:spPr>
          <a:xfrm>
            <a:off x="3408480" y="3097080"/>
            <a:ext cx="706320" cy="96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712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724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2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766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2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3"/>
          <p:cNvSpPr/>
          <p:nvPr/>
        </p:nvSpPr>
        <p:spPr>
          <a:xfrm>
            <a:off x="5791320" y="306396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5"/>
          <p:cNvSpPr/>
          <p:nvPr/>
        </p:nvSpPr>
        <p:spPr>
          <a:xfrm>
            <a:off x="1523880" y="4724280"/>
            <a:ext cx="175284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8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1"/>
          <p:cNvSpPr/>
          <p:nvPr/>
        </p:nvSpPr>
        <p:spPr>
          <a:xfrm>
            <a:off x="228600" y="38088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со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казал (1),что книга интересная (2),но давать ей премию нельзя (3),потому что публикация этой книги началась с обмана (4),а это противоречит этическим н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797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21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2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8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9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1"/>
          <p:cNvSpPr/>
          <p:nvPr/>
        </p:nvSpPr>
        <p:spPr>
          <a:xfrm>
            <a:off x="228600" y="38088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под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спомнил своё детство (1), когда под праздники прислуга мыла полы (2),а по улице текла неприютная вода (3),и он не знал (4),куда ему деться (5),и ему было тоскливо и задумчи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8" dur="indefinite" restart="never" nodeType="tmRoot">
          <p:childTnLst>
            <p:seq>
              <p:cTn id="869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870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18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228600" y="228600"/>
            <a:ext cx="847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>
            <a:hlinkClick r:id="rId1" action="ppaction://hlinksldjump"/>
          </p:cNvPr>
          <p:cNvSpPr/>
          <p:nvPr/>
        </p:nvSpPr>
        <p:spPr>
          <a:xfrm>
            <a:off x="1066680" y="3276720"/>
            <a:ext cx="69343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2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567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4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7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AutoShape 8"/>
          <p:cNvSpPr/>
          <p:nvPr/>
        </p:nvSpPr>
        <p:spPr>
          <a:xfrm>
            <a:off x="5791320" y="4038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9"/>
          <p:cNvSpPr/>
          <p:nvPr/>
        </p:nvSpPr>
        <p:spPr>
          <a:xfrm>
            <a:off x="5029200" y="4325760"/>
            <a:ext cx="360360" cy="360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0"/>
          <p:cNvSpPr/>
          <p:nvPr/>
        </p:nvSpPr>
        <p:spPr>
          <a:xfrm>
            <a:off x="1036800" y="4249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1"/>
          <p:cNvSpPr/>
          <p:nvPr/>
        </p:nvSpPr>
        <p:spPr>
          <a:xfrm>
            <a:off x="5105520" y="5697360"/>
            <a:ext cx="360360" cy="360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1036800" y="5641920"/>
            <a:ext cx="36180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>
            <a:off x="1600200" y="3962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6"/>
          <p:cNvSpPr/>
          <p:nvPr/>
        </p:nvSpPr>
        <p:spPr>
          <a:xfrm>
            <a:off x="5791320" y="53244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7"/>
          <p:cNvSpPr/>
          <p:nvPr/>
        </p:nvSpPr>
        <p:spPr>
          <a:xfrm>
            <a:off x="1600200" y="535320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1"/>
          <p:cNvSpPr/>
          <p:nvPr/>
        </p:nvSpPr>
        <p:spPr>
          <a:xfrm>
            <a:off x="7620120" y="5661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2"/>
          <p:cNvSpPr/>
          <p:nvPr/>
        </p:nvSpPr>
        <p:spPr>
          <a:xfrm>
            <a:off x="3675240" y="4335480"/>
            <a:ext cx="36180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3"/>
          <p:cNvSpPr/>
          <p:nvPr/>
        </p:nvSpPr>
        <p:spPr>
          <a:xfrm>
            <a:off x="7581960" y="4335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4"/>
          <p:cNvSpPr/>
          <p:nvPr/>
        </p:nvSpPr>
        <p:spPr>
          <a:xfrm>
            <a:off x="3495600" y="5641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21"/>
          <p:cNvSpPr/>
          <p:nvPr/>
        </p:nvSpPr>
        <p:spPr>
          <a:xfrm>
            <a:off x="169920" y="297000"/>
            <a:ext cx="88088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ишите цифру, обозначающую запятую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под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редложения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ть может,(1) во второй половине двадцатого века покой людям уже и не снится,(2) но все же мы жаждем душевного покоя,(3) в котором только и возможен творческий непокой и благотворный непокой в любой другой деятельности,(4) необходимой обще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20"/>
          <p:cNvSpPr/>
          <p:nvPr/>
        </p:nvSpPr>
        <p:spPr>
          <a:xfrm>
            <a:off x="322200" y="449280"/>
            <a:ext cx="88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65" dur="indefinite" restart="never" nodeType="tmRoot">
          <p:childTnLst>
            <p:seq>
              <p:cTn id="966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967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991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9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015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1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39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6480" y="189000"/>
            <a:ext cx="9137160" cy="6668640"/>
            <a:chOff x="6480" y="189000"/>
            <a:chExt cx="9137160" cy="6668640"/>
          </a:xfrm>
        </p:grpSpPr>
        <p:sp>
          <p:nvSpPr>
            <p:cNvPr id="595" name="Line 3"/>
            <p:cNvSpPr/>
            <p:nvPr/>
          </p:nvSpPr>
          <p:spPr>
            <a:xfrm>
              <a:off x="6480" y="189000"/>
              <a:ext cx="91371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"/>
            <p:cNvSpPr/>
            <p:nvPr/>
          </p:nvSpPr>
          <p:spPr>
            <a:xfrm>
              <a:off x="6480" y="18900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"/>
            <p:cNvSpPr/>
            <p:nvPr/>
          </p:nvSpPr>
          <p:spPr>
            <a:xfrm>
              <a:off x="6480" y="6857640"/>
              <a:ext cx="91371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AutoShape 8"/>
          <p:cNvSpPr/>
          <p:nvPr/>
        </p:nvSpPr>
        <p:spPr>
          <a:xfrm>
            <a:off x="1600200" y="5181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9"/>
          <p:cNvSpPr/>
          <p:nvPr/>
        </p:nvSpPr>
        <p:spPr>
          <a:xfrm>
            <a:off x="1009800" y="56498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0"/>
          <p:cNvSpPr/>
          <p:nvPr/>
        </p:nvSpPr>
        <p:spPr>
          <a:xfrm>
            <a:off x="5105520" y="4164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1"/>
          <p:cNvSpPr/>
          <p:nvPr/>
        </p:nvSpPr>
        <p:spPr>
          <a:xfrm>
            <a:off x="1008000" y="4173480"/>
            <a:ext cx="3621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2"/>
          <p:cNvSpPr/>
          <p:nvPr/>
        </p:nvSpPr>
        <p:spPr>
          <a:xfrm>
            <a:off x="5048280" y="56498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3"/>
          <p:cNvSpPr/>
          <p:nvPr/>
        </p:nvSpPr>
        <p:spPr>
          <a:xfrm>
            <a:off x="5715000" y="387684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4"/>
          <p:cNvSpPr/>
          <p:nvPr/>
        </p:nvSpPr>
        <p:spPr>
          <a:xfrm>
            <a:off x="1590840" y="3886200"/>
            <a:ext cx="16761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5"/>
          <p:cNvSpPr/>
          <p:nvPr/>
        </p:nvSpPr>
        <p:spPr>
          <a:xfrm>
            <a:off x="5695920" y="5181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7"/>
          <p:cNvSpPr/>
          <p:nvPr/>
        </p:nvSpPr>
        <p:spPr>
          <a:xfrm flipV="1">
            <a:off x="3505320" y="4163400"/>
            <a:ext cx="360360" cy="369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8"/>
          <p:cNvSpPr/>
          <p:nvPr/>
        </p:nvSpPr>
        <p:spPr>
          <a:xfrm flipV="1">
            <a:off x="7467480" y="4037760"/>
            <a:ext cx="360360" cy="3906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0"/>
          <p:cNvSpPr/>
          <p:nvPr/>
        </p:nvSpPr>
        <p:spPr>
          <a:xfrm>
            <a:off x="7543800" y="5565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21"/>
          <p:cNvSpPr/>
          <p:nvPr/>
        </p:nvSpPr>
        <p:spPr>
          <a:xfrm>
            <a:off x="6480" y="0"/>
            <a:ext cx="91440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ожносочиненног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(1), в вышине,(2) уже светило летнее солнце,(3) а на земле еще стоял сумрак,(4) и роса капала с белых зонтичных цветов дягиля в темную,(5) настоявшуюся за ночь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2"/>
          <p:cNvSpPr/>
          <p:nvPr/>
        </p:nvSpPr>
        <p:spPr>
          <a:xfrm>
            <a:off x="3538440" y="547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106668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3"/>
          <p:cNvSpPr/>
          <p:nvPr/>
        </p:nvSpPr>
        <p:spPr>
          <a:xfrm>
            <a:off x="1600200" y="33796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5"/>
          <p:cNvSpPr/>
          <p:nvPr/>
        </p:nvSpPr>
        <p:spPr>
          <a:xfrm>
            <a:off x="5695920" y="33796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7"/>
          <p:cNvSpPr/>
          <p:nvPr/>
        </p:nvSpPr>
        <p:spPr>
          <a:xfrm>
            <a:off x="350532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9"/>
          <p:cNvSpPr/>
          <p:nvPr/>
        </p:nvSpPr>
        <p:spPr>
          <a:xfrm flipV="1">
            <a:off x="7634160" y="5131800"/>
            <a:ext cx="366840" cy="353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1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31"/>
          <p:cNvSpPr/>
          <p:nvPr/>
        </p:nvSpPr>
        <p:spPr>
          <a:xfrm>
            <a:off x="266760" y="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ожнопод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едложен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от я не ленился ездить туда,(1) записывался в очередь,(2) приходил в читальный зал и терпеливо дожидался,(3) когда предыдущий читатель освободит книгу,(4) которую выдавали каждому на час-д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1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3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4"/>
          <p:cNvSpPr/>
          <p:nvPr/>
        </p:nvSpPr>
        <p:spPr>
          <a:xfrm>
            <a:off x="1600200" y="479124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,5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0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под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редлож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ню,(1) как они потрясли меня,(2) и я стал мечтать о том,(3) как было бы хорошо попасть на Таити,(4) куда я,(5) кстати,(6) всё-таки попал несколько лет назад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1" name="Прямоугольник 28"/>
          <p:cNvSpPr/>
          <p:nvPr/>
        </p:nvSpPr>
        <p:spPr>
          <a:xfrm>
            <a:off x="106200" y="38088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352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Rectangle 7"/>
          <p:cNvSpPr/>
          <p:nvPr/>
        </p:nvSpPr>
        <p:spPr>
          <a:xfrm>
            <a:off x="106200" y="100080"/>
            <a:ext cx="8937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ишите цифру, обозначающую запятую между частям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подчиненног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лучше всего было ошеломившее меня в первое же утро открытие,(1) что весь этот сухой берег с его колючками,(2) осыпями,(3) золотым дроком,(4) ветрами,(5) зернистым пляжем,(6) грудами водорослей,(7) небом и облаками,(8) все то жаркое и лиловое побережье не принадлежит никому или,(10) вернее,(11) принадлежит только мне од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5715000" y="47242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>
            <a:off x="5257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>
            <a:off x="990720" y="3433680"/>
            <a:ext cx="360360" cy="362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5181480" y="36147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1600200" y="321156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5715000" y="33256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3505320" y="3487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7553160" y="35924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22320" y="-573120"/>
            <a:ext cx="8937360" cy="6668640"/>
            <a:chOff x="-22320" y="-573120"/>
            <a:chExt cx="8937360" cy="6668640"/>
          </a:xfrm>
        </p:grpSpPr>
        <p:sp>
          <p:nvSpPr>
            <p:cNvPr id="672" name="Line 3"/>
            <p:cNvSpPr/>
            <p:nvPr/>
          </p:nvSpPr>
          <p:spPr>
            <a:xfrm>
              <a:off x="-22320" y="-5731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4"/>
            <p:cNvSpPr/>
            <p:nvPr/>
          </p:nvSpPr>
          <p:spPr>
            <a:xfrm>
              <a:off x="-22320" y="-5731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-22320" y="60955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8915040" y="-5731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7"/>
          <p:cNvSpPr/>
          <p:nvPr/>
        </p:nvSpPr>
        <p:spPr>
          <a:xfrm>
            <a:off x="228600" y="533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1066680" y="3746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5059440" y="3692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3"/>
          <p:cNvSpPr/>
          <p:nvPr/>
        </p:nvSpPr>
        <p:spPr>
          <a:xfrm>
            <a:off x="1593720" y="34336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4"/>
          <p:cNvSpPr/>
          <p:nvPr/>
        </p:nvSpPr>
        <p:spPr>
          <a:xfrm>
            <a:off x="5562720" y="4724280"/>
            <a:ext cx="17524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5"/>
          <p:cNvSpPr/>
          <p:nvPr/>
        </p:nvSpPr>
        <p:spPr>
          <a:xfrm>
            <a:off x="5638680" y="345744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8"/>
          <p:cNvSpPr/>
          <p:nvPr/>
        </p:nvSpPr>
        <p:spPr>
          <a:xfrm>
            <a:off x="3511440" y="3746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20"/>
          <p:cNvSpPr/>
          <p:nvPr/>
        </p:nvSpPr>
        <p:spPr>
          <a:xfrm>
            <a:off x="7589880" y="3743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27"/>
          <p:cNvSpPr/>
          <p:nvPr/>
        </p:nvSpPr>
        <p:spPr>
          <a:xfrm>
            <a:off x="0" y="-45720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пишите цифру, обозначающую запятую между частям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ожносочиненног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редл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стоило мне войти в безлюдные в Обсерваторный,(1) Стурдзовский или Батарейный переулки,(2) окружавшие Черноморскую,(3) услышать шелест старых акаций,(4) увидеть темный плющ на оградах,(5) освещенных золотеющим солнцем зимы,(6) почувствовать веяние моря на своем лице,(7) и тотчас возвращались спокойствие и душевная легк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9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Rectangle 7"/>
          <p:cNvSpPr/>
          <p:nvPr/>
        </p:nvSpPr>
        <p:spPr>
          <a:xfrm>
            <a:off x="106200" y="304920"/>
            <a:ext cx="8937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5050"/>
                </a:solidFill>
                <a:latin typeface="Times New Roman"/>
                <a:ea typeface="Times New Roman"/>
              </a:rPr>
              <a:t>7.</a:t>
            </a:r>
            <a:r>
              <a:rPr b="1" i="1" lang="ru-RU" sz="2400" spc="-1" strike="noStrike">
                <a:solidFill>
                  <a:srgbClr val="505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цифры, обозначающие запятые между частям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подчиненног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(1) это была самая тяжелая артиллерия,(2) артиллерия резерва главного командования,(3) но не того командования,(4) которое осуществляют земные маршалы и генералиссимусы. Это был гнев грозного и милосердного главного командования,(5) чья ставка и штаб артиллерии были скрыты за нависшими ту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8"/>
          <p:cNvSpPr/>
          <p:nvPr/>
        </p:nvSpPr>
        <p:spPr>
          <a:xfrm>
            <a:off x="5705640" y="33037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9"/>
          <p:cNvSpPr/>
          <p:nvPr/>
        </p:nvSpPr>
        <p:spPr>
          <a:xfrm>
            <a:off x="5105520" y="35924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0"/>
          <p:cNvSpPr/>
          <p:nvPr/>
        </p:nvSpPr>
        <p:spPr>
          <a:xfrm>
            <a:off x="990720" y="35924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2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8"/>
          <p:cNvSpPr/>
          <p:nvPr/>
        </p:nvSpPr>
        <p:spPr>
          <a:xfrm>
            <a:off x="3505320" y="3619440"/>
            <a:ext cx="360360" cy="333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9"/>
          <p:cNvSpPr/>
          <p:nvPr/>
        </p:nvSpPr>
        <p:spPr>
          <a:xfrm>
            <a:off x="7543800" y="35924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20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1600200" y="331776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1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0"/>
          <p:cNvSpPr/>
          <p:nvPr/>
        </p:nvSpPr>
        <p:spPr>
          <a:xfrm>
            <a:off x="5122800" y="3575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1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1066680" y="35607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5715000" y="3286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5"/>
          <p:cNvSpPr/>
          <p:nvPr/>
        </p:nvSpPr>
        <p:spPr>
          <a:xfrm>
            <a:off x="1600200" y="320040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7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8"/>
          <p:cNvSpPr/>
          <p:nvPr/>
        </p:nvSpPr>
        <p:spPr>
          <a:xfrm>
            <a:off x="7564320" y="35402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20"/>
          <p:cNvSpPr/>
          <p:nvPr/>
        </p:nvSpPr>
        <p:spPr>
          <a:xfrm>
            <a:off x="3505320" y="35402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22"/>
          <p:cNvSpPr/>
          <p:nvPr/>
        </p:nvSpPr>
        <p:spPr>
          <a:xfrm>
            <a:off x="228600" y="60948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цифру, обозначающую запятую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со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ушечных ударов дрожала набережная,(1) высокие эвкалипты,(2) дома,(3) и казалось,(4) что горы дрожали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3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7"/>
          <p:cNvSpPr/>
          <p:nvPr/>
        </p:nvSpPr>
        <p:spPr>
          <a:xfrm>
            <a:off x="108000" y="52560"/>
            <a:ext cx="8937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пишите цифру, обозначающую запятую между частям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ожносочиненног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редл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ец был на фронте,(1) а мы с мамой,(2) оставив квартиру на проспекте Науки,(3) бывшем проспекте Бенуа,(4) и сдав кое-какие вещи, велосипед и чемоданы на хранение на склад Академии связи,(5) перебрались к деду Куприяну Алексеевичу,(6) в его квартиру в главном здании Военно-медицинской академ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1600200" y="34560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1036800" y="3824280"/>
            <a:ext cx="361800" cy="361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12"/>
          <p:cNvSpPr/>
          <p:nvPr/>
        </p:nvSpPr>
        <p:spPr>
          <a:xfrm>
            <a:off x="510552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3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5"/>
          <p:cNvSpPr/>
          <p:nvPr/>
        </p:nvSpPr>
        <p:spPr>
          <a:xfrm>
            <a:off x="5715000" y="352116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9"/>
          <p:cNvSpPr/>
          <p:nvPr/>
        </p:nvSpPr>
        <p:spPr>
          <a:xfrm flipV="1">
            <a:off x="3505320" y="3733920"/>
            <a:ext cx="360360" cy="371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0"/>
          <p:cNvSpPr/>
          <p:nvPr/>
        </p:nvSpPr>
        <p:spPr>
          <a:xfrm>
            <a:off x="7572240" y="3819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4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3"/>
          <p:cNvSpPr/>
          <p:nvPr/>
        </p:nvSpPr>
        <p:spPr>
          <a:xfrm>
            <a:off x="5715000" y="314496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4"/>
          <p:cNvSpPr/>
          <p:nvPr/>
        </p:nvSpPr>
        <p:spPr>
          <a:xfrm>
            <a:off x="1628640" y="314496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15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7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"/>
          <p:cNvSpPr/>
          <p:nvPr/>
        </p:nvSpPr>
        <p:spPr>
          <a:xfrm>
            <a:off x="3240" y="36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пишите цифры, обозначающие запятые между частям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ожносочиненног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нишься(1), стоишь в очередях,(2) получаешь квартиру,(3) покупаешь мебель,(4) защищаешь кандидатскую,(5) а дети подрастают,(6) и только хочешь,(7) чтобы они были счастл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768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4">
            <a:hlinkClick r:id="rId3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95">
            <a:hlinkClick r:id="rId4" action="ppaction://hlinksldjump"/>
          </p:cNvPr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96">
            <a:hlinkClick r:id="rId5" action="ppaction://hlinksldjump"/>
          </p:cNvPr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97">
            <a:hlinkClick r:id="rId6" action="ppaction://hlinksldjump"/>
          </p:cNvPr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98">
            <a:hlinkClick r:id="rId7" action="ppaction://hlinksldjump"/>
          </p:cNvPr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99">
            <a:hlinkClick r:id="rId8" action="ppaction://hlinksldjump"/>
          </p:cNvPr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0">
            <a:hlinkClick r:id="rId9" action="ppaction://hlinksldjump"/>
          </p:cNvPr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01">
            <a:hlinkClick r:id="rId10" action="ppaction://hlinksldjump"/>
          </p:cNvPr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02">
            <a:hlinkClick r:id="rId11" action="ppaction://hlinksldjump"/>
          </p:cNvPr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Object 2"/>
          <p:cNvGraphicFramePr/>
          <p:nvPr/>
        </p:nvGraphicFramePr>
        <p:xfrm>
          <a:off x="990720" y="838080"/>
          <a:ext cx="67053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705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3300"/>
                </a:solidFill>
                <a:latin typeface="Candara"/>
              </a:rPr>
              <a:t>Повторим правило</a:t>
            </a:r>
            <a:br>
              <a:rPr sz="2200"/>
            </a:br>
            <a:br>
              <a:rPr sz="2200"/>
            </a:br>
            <a:r>
              <a:rPr b="1" lang="ru-RU" sz="1300" spc="-1" strike="noStrike">
                <a:solidFill>
                  <a:srgbClr val="006600"/>
                </a:solidFill>
                <a:latin typeface="Times New Roman"/>
              </a:rPr>
              <a:t>Чтобы открылась </a:t>
            </a:r>
            <a:r>
              <a:rPr b="1" lang="en-US" sz="1300" spc="-1" strike="noStrike">
                <a:solidFill>
                  <a:srgbClr val="006600"/>
                </a:solidFill>
                <a:latin typeface="Times New Roman"/>
              </a:rPr>
              <a:t>Flash </a:t>
            </a:r>
            <a:r>
              <a:rPr b="1" lang="ru-RU" sz="1300" spc="-1" strike="noStrike">
                <a:solidFill>
                  <a:srgbClr val="006600"/>
                </a:solidFill>
                <a:latin typeface="Times New Roman"/>
              </a:rPr>
              <a:t>таблица, щелкни по ней левой клавишей мыши и включи содержимое.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814" name="Object 3"/>
          <p:cNvGraphicFramePr/>
          <p:nvPr/>
        </p:nvGraphicFramePr>
        <p:xfrm>
          <a:off x="0" y="3276720"/>
          <a:ext cx="41148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4114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4"/>
          <p:cNvGraphicFramePr/>
          <p:nvPr/>
        </p:nvGraphicFramePr>
        <p:xfrm>
          <a:off x="0" y="2057400"/>
          <a:ext cx="419112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057400"/>
                    <a:ext cx="4191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5"/>
          <p:cNvGraphicFramePr/>
          <p:nvPr/>
        </p:nvGraphicFramePr>
        <p:xfrm>
          <a:off x="0" y="4724280"/>
          <a:ext cx="3962520" cy="129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724280"/>
                    <a:ext cx="39625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6"/>
          <p:cNvGraphicFramePr/>
          <p:nvPr/>
        </p:nvGraphicFramePr>
        <p:xfrm>
          <a:off x="4191120" y="3352680"/>
          <a:ext cx="4952880" cy="129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3352680"/>
                    <a:ext cx="4952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7"/>
          <p:cNvGraphicFramePr/>
          <p:nvPr/>
        </p:nvGraphicFramePr>
        <p:xfrm>
          <a:off x="4267080" y="2057400"/>
          <a:ext cx="4876920" cy="12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2057400"/>
                    <a:ext cx="4876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Object 8"/>
          <p:cNvGraphicFramePr/>
          <p:nvPr/>
        </p:nvGraphicFramePr>
        <p:xfrm>
          <a:off x="4267080" y="4724280"/>
          <a:ext cx="4876920" cy="129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4724280"/>
                    <a:ext cx="48769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22860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Миронова Ю. С. Русский язык. ЕГЭ. (Раздаточный  материал тренировочных тестов.) СПб.: Тригон, 2009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Пучкова Л.И. ЕГЭ 2007. Русский язык. Типовые тестовые задания. -  М.: Экзамен, 2007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Цыбулько И.П., Львова С.И., Коханова В.А. ЕГЭ-2007. Русский язык. Тренировочные задания.-М.: Просвещение, Эксмо, 2007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it-n.ru/communities.aspx?cat_no=130742&amp;tmpl=com</a:t>
            </a:r>
            <a:r>
              <a:rPr b="0" lang="ru-RU" sz="1300" spc="-1" strike="noStrike" u="sng">
                <a:solidFill>
                  <a:srgbClr val="073e87"/>
                </a:solidFill>
                <a:uFillTx/>
                <a:latin typeface="Candara"/>
              </a:rPr>
              <a:t> Захарова Т.А., Байдакова Т.Б. Шаблон учебного тренажёра и проверочного теста по русскому языку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188fa10f-84e8-4ad4-bd89-4dccf884829b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О и Ё в существительных после шипящих под ударением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e32f345-16fe-4e28-a39c-5bea2f621246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безударных окончаний прилагательных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5c666438-efd0-4caa-834c-f2d9e1963a37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безударных гласных в суффиксах и корнях глаголов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eb85246b-29ab-4ae3-82a2-c947b676fa69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  Таблица "Правописание суффиксов -ыва- и -ова-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a2ac389d-1c37-4a88-a168-fb4b3e26383c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суффиксов глагола -ива- и -ева-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6.   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7a533b5-a9a7-4930-a95e-6dca7f73af18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нтерактивная орфограмма "Правописание страдательных причастий прошедшего времени (суффикс ЕНН)«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7.   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f405884-060c-40aa-8703-87dcaee5c086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нтерактивная орфограмма "Правописание страдательных причастий прошедшего времени (суффиксы А и Я перед НН)"</a:t>
            </a:r>
            <a:br>
              <a:rPr sz="1300"/>
            </a:b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ndara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9"/>
          <p:cNvSpPr/>
          <p:nvPr/>
        </p:nvSpPr>
        <p:spPr>
          <a:xfrm>
            <a:off x="250920" y="1890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228600" y="12193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6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10"/>
          <p:cNvSpPr/>
          <p:nvPr/>
        </p:nvSpPr>
        <p:spPr>
          <a:xfrm>
            <a:off x="5791320" y="3276720"/>
            <a:ext cx="14475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"/>
          <p:cNvSpPr/>
          <p:nvPr/>
        </p:nvSpPr>
        <p:spPr>
          <a:xfrm>
            <a:off x="5181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2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3"/>
          <p:cNvSpPr/>
          <p:nvPr/>
        </p:nvSpPr>
        <p:spPr>
          <a:xfrm>
            <a:off x="1371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4"/>
          <p:cNvSpPr/>
          <p:nvPr/>
        </p:nvSpPr>
        <p:spPr>
          <a:xfrm>
            <a:off x="137160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7"/>
          <p:cNvSpPr/>
          <p:nvPr/>
        </p:nvSpPr>
        <p:spPr>
          <a:xfrm>
            <a:off x="5791320" y="4724280"/>
            <a:ext cx="14475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8"/>
          <p:cNvSpPr/>
          <p:nvPr/>
        </p:nvSpPr>
        <p:spPr>
          <a:xfrm>
            <a:off x="1981080" y="3276720"/>
            <a:ext cx="14479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9"/>
          <p:cNvSpPr/>
          <p:nvPr/>
        </p:nvSpPr>
        <p:spPr>
          <a:xfrm>
            <a:off x="1981080" y="4724280"/>
            <a:ext cx="14479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3"/>
          <p:cNvSpPr/>
          <p:nvPr/>
        </p:nvSpPr>
        <p:spPr>
          <a:xfrm>
            <a:off x="7467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467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9"/>
          <p:cNvSpPr/>
          <p:nvPr/>
        </p:nvSpPr>
        <p:spPr>
          <a:xfrm>
            <a:off x="3657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20"/>
          <p:cNvSpPr/>
          <p:nvPr/>
        </p:nvSpPr>
        <p:spPr>
          <a:xfrm>
            <a:off x="130320" y="457200"/>
            <a:ext cx="8937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о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редлож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знаю(1), что ты мне хочешь сказать (2), и все это знают. В ту пору мы часто встречались (3), но он вдруг внезапно исчез куда-то (4),и никто не знал (5), где 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AutoShape 10"/>
          <p:cNvSpPr/>
          <p:nvPr/>
        </p:nvSpPr>
        <p:spPr>
          <a:xfrm>
            <a:off x="5791320" y="4724280"/>
            <a:ext cx="17524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1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2"/>
          <p:cNvSpPr/>
          <p:nvPr/>
        </p:nvSpPr>
        <p:spPr>
          <a:xfrm>
            <a:off x="51814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3"/>
          <p:cNvSpPr/>
          <p:nvPr/>
        </p:nvSpPr>
        <p:spPr>
          <a:xfrm>
            <a:off x="8380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4"/>
          <p:cNvSpPr/>
          <p:nvPr/>
        </p:nvSpPr>
        <p:spPr>
          <a:xfrm>
            <a:off x="8380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7"/>
          <p:cNvSpPr/>
          <p:nvPr/>
        </p:nvSpPr>
        <p:spPr>
          <a:xfrm>
            <a:off x="5791320" y="3276720"/>
            <a:ext cx="17524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2,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1447920" y="3276720"/>
            <a:ext cx="1827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1486080" y="4740120"/>
            <a:ext cx="17506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2"/>
          <p:cNvSpPr/>
          <p:nvPr/>
        </p:nvSpPr>
        <p:spPr>
          <a:xfrm>
            <a:off x="350532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3"/>
          <p:cNvSpPr/>
          <p:nvPr/>
        </p:nvSpPr>
        <p:spPr>
          <a:xfrm>
            <a:off x="7848720" y="3581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4"/>
          <p:cNvSpPr/>
          <p:nvPr/>
        </p:nvSpPr>
        <p:spPr>
          <a:xfrm>
            <a:off x="7848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5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1"/>
          <p:cNvSpPr/>
          <p:nvPr/>
        </p:nvSpPr>
        <p:spPr>
          <a:xfrm>
            <a:off x="228600" y="0"/>
            <a:ext cx="8686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ишите цифру, обозначающую запятую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под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редлож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лос у него был слабый (1),стариковский (2), простуженный (3),но слушали его с таким вниманием (4),что шепот его доходил до самых далеких ря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AutoShape 10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1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3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4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16002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8"/>
          <p:cNvSpPr/>
          <p:nvPr/>
        </p:nvSpPr>
        <p:spPr>
          <a:xfrm>
            <a:off x="5676840" y="4724280"/>
            <a:ext cx="1557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6002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2"/>
          <p:cNvSpPr/>
          <p:nvPr/>
        </p:nvSpPr>
        <p:spPr>
          <a:xfrm>
            <a:off x="7467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3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4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5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1"/>
          <p:cNvSpPr/>
          <p:nvPr/>
        </p:nvSpPr>
        <p:spPr>
          <a:xfrm>
            <a:off x="106200" y="-152280"/>
            <a:ext cx="880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о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редлож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орил он воодушевленно (1), и мне хотелось отвечать ему искренне (2), но  тут находилась его мать (3), и это очень стесняло меня (4), так как я чувствовал (5), что она относится ко мне насторож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2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3"/>
          <p:cNvSpPr/>
          <p:nvPr/>
        </p:nvSpPr>
        <p:spPr>
          <a:xfrm>
            <a:off x="1676520" y="2895480"/>
            <a:ext cx="160020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8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0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1"/>
          <p:cNvSpPr/>
          <p:nvPr/>
        </p:nvSpPr>
        <p:spPr>
          <a:xfrm>
            <a:off x="304920" y="3049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под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Я от вас не скрою (1),что первой моей мыслью было обратиться к помощи власти (2),но я не сделал этого (3),и очень рад (4),что не сделал (5),потому что  сразу угадал в вас благородн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8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3"/>
          <p:cNvSpPr/>
          <p:nvPr/>
        </p:nvSpPr>
        <p:spPr>
          <a:xfrm>
            <a:off x="1628640" y="313992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1"/>
          <p:cNvSpPr/>
          <p:nvPr/>
        </p:nvSpPr>
        <p:spPr>
          <a:xfrm>
            <a:off x="304920" y="10008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цифру, обозначающую запятую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со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я познакомился с ним (1),он казался несокрушимо здоровым человеком (2),и даже медлительность походки не портила того впечатления (3),которое в те годы он производил на мен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6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AutoShape 8"/>
          <p:cNvSpPr/>
          <p:nvPr/>
        </p:nvSpPr>
        <p:spPr>
          <a:xfrm>
            <a:off x="1600200" y="31240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1600200" y="47242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1"/>
          <p:cNvSpPr/>
          <p:nvPr/>
        </p:nvSpPr>
        <p:spPr>
          <a:xfrm>
            <a:off x="222120" y="1584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цифры, обозначающие запятые между частя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подчиненн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вокзале (1),лишь только мы покинули вагон, мне показалось (2),что Илье Ефимовичу трудно идти (3),и я хотел взять его под руку (4),но он прерывисто шагнул прочь и бодрой походкой направился к вы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2-04-07T03:24:07Z</dcterms:modified>
  <cp:revision>1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