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0D0-67AC-4F7F-BA77-6435740B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59F-7C41-4131-AF87-6C7B8277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0AE-CBC9-4649-8CFD-7A9712C3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288-DA91-479E-A6F6-73EE61C1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855-D65B-4E20-9880-D3DDC430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863-C409-4547-AAC5-0D91A6F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78B-0B5E-44C3-ABCA-99558A5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61B-CFA6-475F-BEE1-AE05BBC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A9E-256E-4C79-81AB-634027D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D99-D367-4122-A9B4-A141A4E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BFC-2104-424B-83CC-7DBB91F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239-8859-444D-959D-6C54579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1F81-3581-4B6A-8EBB-A3C6E8749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krugsveta.ru/encyclopedia/images/5/5a/Machu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wildrussia.spb.ru/rus/Peru/Images/Foto2004/k119b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abinetgeo.narod.ru/bazalt2_big.gif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fotki.yandex.ru/users/elisevna/view/36452/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bud.com.ua/userfiles/image/sypuchi_i_vyazhuchi_materialy/Schebin/Cheben_2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leca.com.ua/PIC/Foto4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danilgubanov.narod.ru/photogallery/2/ds_photo_181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irsavia.net/images/speleo_01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catalogmineralov.ru/pic/135246050607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invest-perm.ru/UserFiles/Untitled-94.jpg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67622_1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radiosibir.ru/data/tomsk/image/tomsk_news/2008/09/torf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www.beenergy.ru/uploads/posts/2008-07/1216381922_picture.jpg" TargetMode="External"/><Relationship Id="rId6" Type="http://schemas.openxmlformats.org/officeDocument/2006/relationships/image" Target="../media/image32.jpeg"/><Relationship Id="rId7" Type="http://schemas.openxmlformats.org/officeDocument/2006/relationships/hyperlink" Target="http://vestnik.rosneft.ru/img/cont/v66_19_1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d-profstroy.ru/data/images/%E8%E7%E2%E5%F1%F2%ED%FF%EA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g-fotki.yandex.ru/get/10/mactak1.4/0_5fa4_9ccf4601_XL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sk.net.ua/i/goods/001/170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hina-consult.cn/images/news_images/183/big_ugol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futureplus.ru/joom/images/stories/easygallery/resized/80/1192039395_1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svetlf.narod.ru/glina4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rolker.ru/foto/nature/84.jpg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www.povarenok.ru/images/dict/10660.jpg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ldi.ru/kamni/rk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-fotki.yandex.ru/get/21/hontor.71/0_e52c_c48116a9_X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mindat.ru/minshop/images/KlopotovKI/page40/dsc04431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g-2003-01.photosight.ru/25/147867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selesia.ru/RNZ/images/sluda.gif" TargetMode="External"/><Relationship Id="rId3" Type="http://schemas.openxmlformats.org/officeDocument/2006/relationships/image" Target="../media/image17.png"/><Relationship Id="rId4" Type="http://schemas.openxmlformats.org/officeDocument/2006/relationships/hyperlink" Target="http://dl.krc.karelia.ru/collect/minerals/images/33_9.jpe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30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ная кора и верхняя часть мантии образуют твердую или каменную оболочку Земли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ОСФЕРУ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97800" cy="4570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26 из 2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09760"/>
            <a:ext cx="4859280" cy="3648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175400" y="146160"/>
            <a:ext cx="77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Храм Солнца столицы инков Мачу – Пикч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сложен из гранитных бл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Картинка 1 из 2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052640"/>
            <a:ext cx="507708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злившиеся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Базаль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лотная и твердая горная порода черного или темно-серого цвета. Залегает мощными покровами на материках и дне океанов. Используется в строитель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Картинка 3 из 46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852640"/>
            <a:ext cx="2222280" cy="2770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419640" y="234936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сидиа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улканическое стекло черного или темно-коричневого цвета. В древности использовался для изготовления ножей и наконечников для ст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0_8e63_ec9b5af6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292640"/>
            <a:ext cx="317808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ние осадочных п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ediment"/>
          <p:cNvPicPr/>
          <p:nvPr/>
        </p:nvPicPr>
        <p:blipFill>
          <a:blip r:embed="rId1"/>
          <a:stretch/>
        </p:blipFill>
        <p:spPr>
          <a:xfrm>
            <a:off x="250920" y="1268280"/>
            <a:ext cx="84978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987640" y="333360"/>
            <a:ext cx="3097080" cy="1871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50920" y="3284640"/>
            <a:ext cx="223200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ом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276720" y="4005360"/>
            <a:ext cx="2520720" cy="1439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6659640" y="3141720"/>
            <a:ext cx="234000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187280" y="1773360"/>
            <a:ext cx="792360" cy="1295280"/>
          </a:xfrm>
          <a:prstGeom prst="downArrow">
            <a:avLst>
              <a:gd name="adj1" fmla="val 50000"/>
              <a:gd name="adj2" fmla="val 408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4211640" y="2349360"/>
            <a:ext cx="647640" cy="1224000"/>
          </a:xfrm>
          <a:prstGeom prst="downArrow">
            <a:avLst>
              <a:gd name="adj1" fmla="val 50000"/>
              <a:gd name="adj2" fmla="val 47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6732720" y="1773360"/>
            <a:ext cx="792000" cy="1295280"/>
          </a:xfrm>
          <a:prstGeom prst="downArrow">
            <a:avLst>
              <a:gd name="adj1" fmla="val 50000"/>
              <a:gd name="adj2" fmla="val 40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Обломочны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90792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происхождение связано с процессами разруш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а текучими водами, ледниками, ветром: щеб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вий,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Картинка 6 из 63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308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Картинка 43 из 629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14800" y="3786120"/>
            <a:ext cx="3108240" cy="286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Картинка 49 из 563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4960" y="2000160"/>
            <a:ext cx="356544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Химически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лись из водных растворов минеральных веществ: поваренная соль, калийная 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Картинка 1 из 11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916280"/>
            <a:ext cx="3673440" cy="265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артинка 4 из 2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52840"/>
            <a:ext cx="3305160" cy="330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артинка 10 из 26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7680" y="1700280"/>
            <a:ext cx="30463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Органически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ю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ючие сла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Картинка 1 из 286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852640"/>
            <a:ext cx="3313080" cy="206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Картинка 17 из 36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716280"/>
            <a:ext cx="3240000" cy="198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Картинка 7 из 1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47149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Картинка 38 из 4350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765000"/>
            <a:ext cx="3377880" cy="2279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Морского происхож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сч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Картинка 35 из 68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933720"/>
            <a:ext cx="3708360" cy="278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Картинка 57 из 256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68920" y="1052640"/>
            <a:ext cx="3475080" cy="2608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Картинка 1 из 4079"/>
          <p:cNvPicPr/>
          <p:nvPr/>
        </p:nvPicPr>
        <p:blipFill>
          <a:blip r:embed="rId5"/>
          <a:stretch/>
        </p:blipFill>
        <p:spPr>
          <a:xfrm>
            <a:off x="2843280" y="2060640"/>
            <a:ext cx="365760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70436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аморфические горные породы возникли в результате преобразования осадочных или магматическ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formation"/>
          <p:cNvPicPr/>
          <p:nvPr/>
        </p:nvPicPr>
        <p:blipFill>
          <a:blip r:embed="rId1"/>
          <a:stretch/>
        </p:blipFill>
        <p:spPr>
          <a:xfrm>
            <a:off x="826920" y="1773360"/>
            <a:ext cx="7921800" cy="4711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Метаморфические горные породы -  </a:t>
            </a:r>
            <a:r>
              <a:rPr b="1" lang="ru-RU" sz="3200" spc="-1" strike="noStrike">
                <a:solidFill>
                  <a:srgbClr val="00cc99"/>
                </a:solidFill>
                <a:latin typeface="Comic Sans MS"/>
              </a:rPr>
              <a:t>породы, которые претерпели изменения в недрах земной к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чаник                   квар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ина                         сл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як                  мра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т                        гн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916360" y="220500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2627280" y="306864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2916360" y="3860640"/>
            <a:ext cx="934920" cy="287640"/>
          </a:xfrm>
          <a:prstGeom prst="rightArrow">
            <a:avLst>
              <a:gd name="adj1" fmla="val 50000"/>
              <a:gd name="adj2" fmla="val 8125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2771640" y="4797360"/>
            <a:ext cx="935280" cy="287280"/>
          </a:xfrm>
          <a:prstGeom prst="rightArrow">
            <a:avLst>
              <a:gd name="adj1" fmla="val 50000"/>
              <a:gd name="adj2" fmla="val 8139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Картинка 28 из 49792"/>
          <p:cNvPicPr/>
          <p:nvPr/>
        </p:nvPicPr>
        <p:blipFill>
          <a:blip r:embed="rId1"/>
          <a:stretch/>
        </p:blipFill>
        <p:spPr>
          <a:xfrm>
            <a:off x="5940360" y="1916280"/>
            <a:ext cx="2533680" cy="1819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Картинка 9 из 274"/>
          <p:cNvPicPr/>
          <p:nvPr/>
        </p:nvPicPr>
        <p:blipFill>
          <a:blip r:embed="rId2"/>
          <a:stretch/>
        </p:blipFill>
        <p:spPr>
          <a:xfrm>
            <a:off x="6012000" y="472428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6642360" y="3736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929640" y="632952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н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7451640" y="4076640"/>
            <a:ext cx="414360" cy="542880"/>
          </a:xfrm>
          <a:prstGeom prst="downArrow">
            <a:avLst>
              <a:gd name="adj1" fmla="val 50000"/>
              <a:gd name="adj2" fmla="val 32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Отгадай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, как сахар. Пока руки им не испачкаешь, ума -разу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наберешьс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ерен, как ворон, а греет, как Солнц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сперва в воде роди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воды боитс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Если встретишь на дорог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увязнут сильно н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делать миску или ваз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понадобиться ср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н очень нужен детво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на дорожках во дво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и на стройке, и на пляж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и в стекле расплавлен да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el_big"/>
          <p:cNvPicPr/>
          <p:nvPr/>
        </p:nvPicPr>
        <p:blipFill>
          <a:blip r:embed="rId1"/>
          <a:stretch/>
        </p:blipFill>
        <p:spPr>
          <a:xfrm>
            <a:off x="4932360" y="0"/>
            <a:ext cx="2448000" cy="19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Картинка 5 из 256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28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13 из 286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10440" y="1989000"/>
            <a:ext cx="177156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2 из 4514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2276640"/>
            <a:ext cx="2298960" cy="251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i?id=6587805&amp;tov=0"/>
          <p:cNvPicPr/>
          <p:nvPr/>
        </p:nvPicPr>
        <p:blipFill>
          <a:blip r:embed="rId8"/>
          <a:stretch/>
        </p:blipFill>
        <p:spPr>
          <a:xfrm>
            <a:off x="6877080" y="4941720"/>
            <a:ext cx="212580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артинка 69 из 190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03640" y="4005360"/>
            <a:ext cx="2381400" cy="178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Картинка 30 из 563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16000" y="2492280"/>
            <a:ext cx="3097080" cy="23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Картинка 1 из 4514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35280" y="692280"/>
            <a:ext cx="2952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артинка 36 из 4079"/>
          <p:cNvPicPr/>
          <p:nvPr/>
        </p:nvPicPr>
        <p:blipFill>
          <a:blip r:embed="rId1"/>
          <a:stretch/>
        </p:blipFill>
        <p:spPr>
          <a:xfrm>
            <a:off x="179280" y="189000"/>
            <a:ext cx="2737080" cy="205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2" name="Picture 3" descr="0_1858b_ef0d987f_L"/>
          <p:cNvPicPr/>
          <p:nvPr/>
        </p:nvPicPr>
        <p:blipFill>
          <a:blip r:embed="rId2"/>
          <a:stretch/>
        </p:blipFill>
        <p:spPr>
          <a:xfrm>
            <a:off x="324000" y="3860640"/>
            <a:ext cx="2158920" cy="21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3" name="Text Box 4"/>
          <p:cNvSpPr/>
          <p:nvPr/>
        </p:nvSpPr>
        <p:spPr>
          <a:xfrm>
            <a:off x="1117800" y="24922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ч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11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Картинка 7 из 18997"/>
          <p:cNvPicPr/>
          <p:nvPr/>
        </p:nvPicPr>
        <p:blipFill>
          <a:blip r:embed="rId3"/>
          <a:stretch/>
        </p:blipFill>
        <p:spPr>
          <a:xfrm>
            <a:off x="3203640" y="189000"/>
            <a:ext cx="2808360" cy="186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6" name="Text Box 7"/>
          <p:cNvSpPr/>
          <p:nvPr/>
        </p:nvSpPr>
        <p:spPr>
          <a:xfrm>
            <a:off x="4213080" y="22050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924360" y="6237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Картинка 5 из 6876"/>
          <p:cNvPicPr/>
          <p:nvPr/>
        </p:nvPicPr>
        <p:blipFill>
          <a:blip r:embed="rId4"/>
          <a:stretch/>
        </p:blipFill>
        <p:spPr>
          <a:xfrm>
            <a:off x="6372360" y="189000"/>
            <a:ext cx="2520720" cy="201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Картинка 27 из 39108"/>
          <p:cNvPicPr/>
          <p:nvPr/>
        </p:nvPicPr>
        <p:blipFill>
          <a:blip r:embed="rId5"/>
          <a:stretch/>
        </p:blipFill>
        <p:spPr>
          <a:xfrm>
            <a:off x="5724360" y="3933720"/>
            <a:ext cx="3221280" cy="206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0" name="AutoShape 11"/>
          <p:cNvSpPr/>
          <p:nvPr/>
        </p:nvSpPr>
        <p:spPr>
          <a:xfrm>
            <a:off x="1476360" y="299736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Картинка 36 из 5231"/>
          <p:cNvPicPr/>
          <p:nvPr/>
        </p:nvPicPr>
        <p:blipFill>
          <a:blip r:embed="rId6"/>
          <a:stretch/>
        </p:blipFill>
        <p:spPr>
          <a:xfrm>
            <a:off x="3059280" y="3789360"/>
            <a:ext cx="2197080" cy="219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AutoShape 13"/>
          <p:cNvSpPr/>
          <p:nvPr/>
        </p:nvSpPr>
        <p:spPr>
          <a:xfrm>
            <a:off x="3851280" y="278136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949800" y="22050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879960" y="602136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7380360" y="285264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7, вопросы в конце параграфа -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1_1"/>
          <p:cNvPicPr/>
          <p:nvPr/>
        </p:nvPicPr>
        <p:blipFill>
          <a:blip r:embed="rId1"/>
          <a:stretch/>
        </p:blipFill>
        <p:spPr>
          <a:xfrm>
            <a:off x="5148360" y="2852640"/>
            <a:ext cx="2665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Горные породы и минера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Состав Земной к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Горные пор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лотные и рыхлые массы, слагающие земную кор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Минера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ставные части горных пор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лезные ископае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инералы и горные    породы, которые использу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4480" y="3068640"/>
            <a:ext cx="76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8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емная кора образована химическими эле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2556000" y="342900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57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6372360" y="350028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176200" y="385596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335480" y="392760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м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567480" y="399888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юми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90640" y="4437000"/>
            <a:ext cx="72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18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земная кора образована химическими эле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169236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3708000" y="501336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5508720" y="494172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7308720" y="501336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455840" y="551196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55840" y="55832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ьц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416560" y="55832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тр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575840" y="56563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Пример минер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Arial"/>
              </a:rPr>
              <a:t>Кварц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дин из самых распространенных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остоит из кремния и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рц входит в состав многих горных пород, например, гран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артинка 12 из 8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781360"/>
            <a:ext cx="3240000" cy="2108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артинка 15 из 85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349360"/>
            <a:ext cx="2568600" cy="214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Картинка 3 из 85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4797360"/>
            <a:ext cx="3087720" cy="18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Картинка 14 из 4981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221000"/>
            <a:ext cx="25286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орные породы, из которых состоит земная кора залегают сло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4969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Organization Chart 2"/>
          <p:cNvGrpSpPr/>
          <p:nvPr/>
        </p:nvGrpSpPr>
        <p:grpSpPr>
          <a:xfrm>
            <a:off x="0" y="1280880"/>
            <a:ext cx="8892360" cy="3424680"/>
            <a:chOff x="0" y="1280880"/>
            <a:chExt cx="8892360" cy="3424680"/>
          </a:xfrm>
        </p:grpSpPr>
        <p:cxnSp>
          <p:nvCxnSpPr>
            <p:cNvPr id="81" name="_s1028"/>
            <p:cNvCxnSpPr>
              <a:stCxn id="82" idx="0"/>
              <a:endCxn id="83" idx="3"/>
            </p:cNvCxnSpPr>
            <p:nvPr/>
          </p:nvCxnSpPr>
          <p:spPr>
            <a:xfrm flipV="1" rot="16200000">
              <a:off x="5891760" y="1312560"/>
              <a:ext cx="224640" cy="326412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4" name="_s1029"/>
            <p:cNvCxnSpPr>
              <a:stCxn id="85" idx="0"/>
              <a:endCxn id="83" idx="3"/>
            </p:cNvCxnSpPr>
            <p:nvPr/>
          </p:nvCxnSpPr>
          <p:spPr>
            <a:xfrm flipV="1" rot="16200000">
              <a:off x="4336200" y="2868840"/>
              <a:ext cx="224640" cy="15156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6" name="_s1030"/>
            <p:cNvCxnSpPr>
              <a:stCxn id="87" idx="0"/>
              <a:endCxn id="83" idx="3"/>
            </p:cNvCxnSpPr>
            <p:nvPr/>
          </p:nvCxnSpPr>
          <p:spPr>
            <a:xfrm flipH="1" flipV="1" rot="5400000">
              <a:off x="2779560" y="1463760"/>
              <a:ext cx="224640" cy="2961720"/>
            </a:xfrm>
            <a:prstGeom prst="bentConnector3">
              <a:avLst>
                <a:gd name="adj1" fmla="val 499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83" name="_s1031"/>
            <p:cNvSpPr/>
            <p:nvPr/>
          </p:nvSpPr>
          <p:spPr>
            <a:xfrm>
              <a:off x="3112200" y="1280880"/>
              <a:ext cx="2667600" cy="1551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орны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р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2"/>
            <p:cNvSpPr/>
            <p:nvPr/>
          </p:nvSpPr>
          <p:spPr>
            <a:xfrm>
              <a:off x="0" y="3057120"/>
              <a:ext cx="2667600" cy="164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аг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3"/>
            <p:cNvSpPr/>
            <p:nvPr/>
          </p:nvSpPr>
          <p:spPr>
            <a:xfrm>
              <a:off x="3112200" y="3057120"/>
              <a:ext cx="2667600" cy="164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садоч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4"/>
            <p:cNvSpPr/>
            <p:nvPr/>
          </p:nvSpPr>
          <p:spPr>
            <a:xfrm>
              <a:off x="6224760" y="3057120"/>
              <a:ext cx="2667600" cy="164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аморф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5724360" y="3284640"/>
            <a:ext cx="2808360" cy="1584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ливш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539640" y="3213000"/>
            <a:ext cx="2737080" cy="15112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б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843280" y="549360"/>
            <a:ext cx="3024000" cy="1871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66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гма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е п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692360" y="2060640"/>
            <a:ext cx="936720" cy="1008000"/>
          </a:xfrm>
          <a:prstGeom prst="downArrow">
            <a:avLst>
              <a:gd name="adj1" fmla="val 50000"/>
              <a:gd name="adj2" fmla="val 26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084720" y="2060640"/>
            <a:ext cx="863640" cy="108108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1557360"/>
            <a:ext cx="104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т состоит из трех минералов: кварца, полевого шп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лю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?id=30656469&amp;tov=3"/>
          <p:cNvPicPr/>
          <p:nvPr/>
        </p:nvPicPr>
        <p:blipFill>
          <a:blip r:embed="rId1"/>
          <a:stretch/>
        </p:blipFill>
        <p:spPr>
          <a:xfrm>
            <a:off x="179280" y="3500280"/>
            <a:ext cx="3024360" cy="183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тинка 2 из 21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205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2 из 54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49228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0" y="5300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в строительстве, благодаря высокой прочности и стойкости к разру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82240" y="196920"/>
            <a:ext cx="55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Излившиеся горные п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7:41:22Z</dcterms:created>
  <dc:creator>Дом</dc:creator>
  <dc:description/>
  <dc:language>en-US</dc:language>
  <cp:lastModifiedBy>User</cp:lastModifiedBy>
  <dcterms:modified xsi:type="dcterms:W3CDTF">2012-11-11T14:42:54Z</dcterms:modified>
  <cp:revision>9</cp:revision>
  <dc:subject/>
  <dc:title> Земная кора и верхняя часть мантии образуют твердую или каменную оболочку Земли – ЛИТОСФЕРУ </dc:title>
</cp:coreProperties>
</file>