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wmf" ContentType="image/x-wmf"/>
  <Override PartName="/ppt/media/image15.jpeg" ContentType="image/jpeg"/>
  <Override PartName="/ppt/media/image16.png" ContentType="image/png"/>
  <Override PartName="/ppt/media/image14.jpeg" ContentType="image/jpeg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2DCA-CAD6-4A7B-982B-B30D6AD5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7044-E4E8-40D4-B23E-0D346A7B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4E8F-E981-402A-8F8D-1D5D3C56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A84E-3204-4D34-8CFF-2D7FF498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010B-EDE4-422A-825E-0EA17420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525B-FC5D-4310-B563-7D7ABDB0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AD45-F349-48B0-AA1F-31EB7CA2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35AF-9A53-4AFA-BF5B-9F40573F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C6D0-B337-47D3-9F3F-2F327FFE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E508-891A-4B0F-AC6A-DD87EA31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E5A9-4134-4E17-BD35-33C0A68C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354-9374-4130-875F-456EA750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FA87-6505-45F9-9E82-E8C09734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3918-90A7-4028-8FEF-57E99251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E60F-6C98-48F4-A118-5F45763B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B528-DEC6-448E-9E55-19ECF76F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D0E6-2DCF-4F7C-8F28-3ACFA8D7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35A-DAB3-4399-975B-8A7A3D16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0B4E-B8B4-4842-B538-95778996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01A-A09E-435B-B412-D6D7F90F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F8AB-53DE-4625-9991-E3008276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E0B0-7CA6-4C4A-82DC-436E8145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867F-6926-4F2B-A3BB-9E204B1F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0D99-E947-4750-8E53-B616669C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6b5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a68a58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F664-8F90-43CA-B5DC-26BBCA76EE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95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713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6b5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a68a58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95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713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3B03-B85C-4050-8151-BB93179E751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6.xml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slide" Target="slide13.xml"/><Relationship Id="rId14" Type="http://schemas.openxmlformats.org/officeDocument/2006/relationships/slide" Target="slide13.xml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jpeg"/><Relationship Id="rId4" Type="http://schemas.openxmlformats.org/officeDocument/2006/relationships/slide" Target="slide10.xml"/><Relationship Id="rId5" Type="http://schemas.openxmlformats.org/officeDocument/2006/relationships/image" Target="../media/image4.jpeg"/><Relationship Id="rId6" Type="http://schemas.openxmlformats.org/officeDocument/2006/relationships/slide" Target="slide7.xml"/><Relationship Id="rId7" Type="http://schemas.openxmlformats.org/officeDocument/2006/relationships/image" Target="../media/image5.jpeg"/><Relationship Id="rId8" Type="http://schemas.openxmlformats.org/officeDocument/2006/relationships/slide" Target="slide8.xml"/><Relationship Id="rId9" Type="http://schemas.openxmlformats.org/officeDocument/2006/relationships/image" Target="../media/image6.jpeg"/><Relationship Id="rId10" Type="http://schemas.openxmlformats.org/officeDocument/2006/relationships/hyperlink" Target="http://www.kmsnet.ru/photo/main.php?g2_view=core.DownloadItem&amp;g2_itemId=11455&amp;g2_serialNumber=2" TargetMode="External"/><Relationship Id="rId11" Type="http://schemas.openxmlformats.org/officeDocument/2006/relationships/image" Target="../media/image7.jpeg"/><Relationship Id="rId12" Type="http://schemas.openxmlformats.org/officeDocument/2006/relationships/hyperlink" Target="http://allplanet.ru/gallery/albums/userpics/10046/normal_hngsh-001.jpg" TargetMode="External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g-2002-10.photosight.ru/23/103082.jpg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www.saga.ua/modules/gallery/albums/111/9fc1a435eeab0aae63f7c390a963a53b_big.jpg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g-2007-06.photosight.ru/18/2150966.jpg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travelphoto.ru/db_files/conv_53595_IMG_4005.jpg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img-fotki.yandex.ru/get/8/izhota.0/0_3e80_c3dbdacc_XL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hotoalbums.ru/albums/userpics/normal_&#1093;&#1080;&#1073;&#1080;&#1085;&#1099;_&#1074;_100_&#1084;.jp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gallery.net.ru/gal2/u2k09.jp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 rot="21583200">
            <a:off x="755640" y="404640"/>
            <a:ext cx="6264360" cy="1438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500" spc="-1" strike="noStrike">
                <a:solidFill>
                  <a:srgbClr val="993300"/>
                </a:solidFill>
                <a:latin typeface="Arial"/>
                <a:ea typeface="Arial"/>
              </a:rPr>
              <a:t>Горы суши</a:t>
            </a:r>
            <a:endParaRPr b="0" lang="en-US" sz="85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763280" y="2421000"/>
            <a:ext cx="6985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99"/>
                </a:solidFill>
                <a:latin typeface="Arial"/>
              </a:rPr>
              <a:t>«С умом ли, Капля, ты? Меня пробить взялась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99"/>
                </a:solidFill>
                <a:latin typeface="Arial"/>
              </a:rPr>
              <a:t>Меня, гранитную! Ты, право, стоишь смеха»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99"/>
                </a:solidFill>
                <a:latin typeface="Arial"/>
              </a:rPr>
              <a:t>Но, Капля молча все кап, кап… и пробралась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99"/>
                </a:solidFill>
                <a:latin typeface="Arial"/>
              </a:rPr>
              <a:t>Настойчивость – залог успеха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99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cc99"/>
                </a:solidFill>
                <a:latin typeface="Arial"/>
              </a:rPr>
              <a:t>И. Дмитриев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4" descr="1071-011-05-1041"/>
          <p:cNvPicPr/>
          <p:nvPr/>
        </p:nvPicPr>
        <p:blipFill>
          <a:blip r:embed="rId1"/>
          <a:stretch/>
        </p:blipFill>
        <p:spPr>
          <a:xfrm>
            <a:off x="7740720" y="765000"/>
            <a:ext cx="1152360" cy="115128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>
            <a:hlinkClick r:id="rId2" action="ppaction://hlinksldjump"/>
          </p:cNvPr>
          <p:cNvSpPr/>
          <p:nvPr/>
        </p:nvSpPr>
        <p:spPr>
          <a:xfrm>
            <a:off x="8315280" y="623736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3794"/>
                </a:moveTo>
                <a:lnTo>
                  <a:pt x="25012" y="10800"/>
                </a:lnTo>
                <a:lnTo>
                  <a:pt x="11000" y="17806"/>
                </a:lnTo>
                <a:close/>
              </a:path>
            </a:pathLst>
          </a:custGeom>
          <a:solidFill>
            <a:srgbClr val="816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ad79c"/>
                </a:solidFill>
                <a:latin typeface="Arial"/>
              </a:rPr>
              <a:t>Игра «Третий лишний»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59280" y="1557000"/>
            <a:ext cx="5905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2400" spc="-1" strike="noStrike" u="sng">
                <a:solidFill>
                  <a:srgbClr val="ffb953"/>
                </a:solidFill>
                <a:uFillTx/>
                <a:latin typeface="Verdana"/>
                <a:hlinkClick r:id="rId1" action="ppaction://hlinksldjump"/>
              </a:rPr>
              <a:t>Австралия</a:t>
            </a: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, </a:t>
            </a:r>
            <a:r>
              <a:rPr b="0" lang="ru-RU" sz="2400" spc="-1" strike="noStrike" u="sng">
                <a:solidFill>
                  <a:srgbClr val="ffb953"/>
                </a:solidFill>
                <a:uFillTx/>
                <a:latin typeface="Verdana"/>
                <a:hlinkClick r:id="rId2" action="ppaction://hlinksldjump"/>
              </a:rPr>
              <a:t>Африка</a:t>
            </a: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, </a:t>
            </a:r>
            <a:r>
              <a:rPr b="0" lang="ru-RU" sz="2400" spc="-1" strike="noStrike" u="sng">
                <a:solidFill>
                  <a:srgbClr val="ffb953"/>
                </a:solidFill>
                <a:uFillTx/>
                <a:latin typeface="Verdana"/>
                <a:hlinkClick r:id="rId3" action="ppaction://hlinksldjump"/>
              </a:rPr>
              <a:t>гребен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2400" spc="-1" strike="noStrike" u="sng">
                <a:solidFill>
                  <a:srgbClr val="ffb953"/>
                </a:solidFill>
                <a:uFillTx/>
                <a:latin typeface="Verdana"/>
                <a:hlinkClick r:id="rId4" action="ppaction://hlinksldjump"/>
              </a:rPr>
              <a:t>север</a:t>
            </a: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ffb953"/>
                </a:solidFill>
                <a:uFillTx/>
                <a:latin typeface="Verdana"/>
                <a:hlinkClick r:id="rId5" action="ppaction://hlinksldjump"/>
              </a:rPr>
              <a:t>перевал</a:t>
            </a: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ffb953"/>
                </a:solidFill>
                <a:uFillTx/>
                <a:latin typeface="Verdana"/>
                <a:hlinkClick r:id="rId6" action="ppaction://hlinksldjump"/>
              </a:rPr>
              <a:t>восто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0" lang="ru-RU" sz="2400" spc="-1" strike="noStrike" u="sng">
                <a:solidFill>
                  <a:srgbClr val="ffb953"/>
                </a:solidFill>
                <a:uFillTx/>
                <a:latin typeface="Verdana"/>
                <a:hlinkClick r:id="rId7" action="ppaction://hlinksldjump"/>
              </a:rPr>
              <a:t>пик</a:t>
            </a: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ffb953"/>
                </a:solidFill>
                <a:uFillTx/>
                <a:latin typeface="Verdana"/>
                <a:hlinkClick r:id="rId8" action="ppaction://hlinksldjump"/>
              </a:rPr>
              <a:t>Альпы</a:t>
            </a: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ffb953"/>
                </a:solidFill>
                <a:uFillTx/>
                <a:latin typeface="Verdana"/>
                <a:hlinkClick r:id="rId9" action="ppaction://hlinksldjump"/>
              </a:rPr>
              <a:t>Гимала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2400" spc="-1" strike="noStrike" u="sng">
                <a:solidFill>
                  <a:srgbClr val="ffb953"/>
                </a:solidFill>
                <a:uFillTx/>
                <a:latin typeface="Verdana"/>
                <a:hlinkClick r:id="rId10" action="ppaction://hlinksldjump"/>
              </a:rPr>
              <a:t>хребет</a:t>
            </a: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ffb953"/>
                </a:solidFill>
                <a:uFillTx/>
                <a:latin typeface="Verdana"/>
                <a:hlinkClick r:id="rId11" action="ppaction://hlinksldjump"/>
              </a:rPr>
              <a:t>Камерун</a:t>
            </a: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ffb953"/>
                </a:solidFill>
                <a:uFillTx/>
                <a:latin typeface="Verdana"/>
                <a:hlinkClick r:id="rId12" action="ppaction://hlinksldjump"/>
              </a:rPr>
              <a:t>Везув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5. </a:t>
            </a:r>
            <a:r>
              <a:rPr b="0" lang="ru-RU" sz="2400" spc="-1" strike="noStrike" u="sng">
                <a:solidFill>
                  <a:srgbClr val="ffb953"/>
                </a:solidFill>
                <a:uFillTx/>
                <a:latin typeface="Verdana"/>
                <a:hlinkClick r:id="rId13" action="ppaction://hlinksldjump"/>
              </a:rPr>
              <a:t>Аконкагуа</a:t>
            </a: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, </a:t>
            </a:r>
            <a:r>
              <a:rPr b="0" lang="ru-RU" sz="2400" spc="-1" strike="noStrike" u="sng">
                <a:solidFill>
                  <a:srgbClr val="ffb953"/>
                </a:solidFill>
                <a:uFillTx/>
                <a:latin typeface="Verdana"/>
                <a:hlinkClick r:id="rId14" action="ppaction://hlinksldjump"/>
              </a:rPr>
              <a:t>Эльбрус</a:t>
            </a: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нагорь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6. Волга</a:t>
            </a: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долина</a:t>
            </a: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Амазон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7. горы</a:t>
            </a: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Япония</a:t>
            </a: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Мекси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8" descr="NOSOLUTN"/>
          <p:cNvPicPr/>
          <p:nvPr/>
        </p:nvPicPr>
        <p:blipFill>
          <a:blip r:embed="rId15"/>
          <a:stretch/>
        </p:blipFill>
        <p:spPr>
          <a:xfrm>
            <a:off x="468360" y="1700280"/>
            <a:ext cx="3024000" cy="309708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10"/>
          <p:cNvSpPr/>
          <p:nvPr/>
        </p:nvSpPr>
        <p:spPr>
          <a:xfrm>
            <a:off x="324000" y="6308640"/>
            <a:ext cx="431640" cy="217440"/>
          </a:xfrm>
          <a:custGeom>
            <a:avLst/>
            <a:gdLst>
              <a:gd name="textAreaLeft" fmla="*/ 14040 w 431640"/>
              <a:gd name="textAreaRight" fmla="*/ 417600 w 431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42843" h="21600">
                <a:moveTo>
                  <a:pt x="0" y="0"/>
                </a:moveTo>
                <a:lnTo>
                  <a:pt x="42843" y="0"/>
                </a:lnTo>
                <a:lnTo>
                  <a:pt x="42843" y="21600"/>
                </a:lnTo>
                <a:lnTo>
                  <a:pt x="0" y="21600"/>
                </a:lnTo>
                <a:close/>
              </a:path>
              <a:path fill="lightenLess" w="42843" h="21600">
                <a:moveTo>
                  <a:pt x="0" y="0"/>
                </a:moveTo>
                <a:lnTo>
                  <a:pt x="42843" y="0"/>
                </a:lnTo>
                <a:lnTo>
                  <a:pt x="41443" y="1400"/>
                </a:lnTo>
                <a:lnTo>
                  <a:pt x="1400" y="1400"/>
                </a:lnTo>
                <a:close/>
              </a:path>
              <a:path fill="darken" w="42843" h="21600">
                <a:moveTo>
                  <a:pt x="42843" y="0"/>
                </a:moveTo>
                <a:lnTo>
                  <a:pt x="42843" y="21600"/>
                </a:lnTo>
                <a:lnTo>
                  <a:pt x="41443" y="20200"/>
                </a:lnTo>
                <a:lnTo>
                  <a:pt x="41443" y="1400"/>
                </a:lnTo>
                <a:close/>
              </a:path>
              <a:path fill="darkenLess" w="42843" h="21600">
                <a:moveTo>
                  <a:pt x="42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443" y="20200"/>
                </a:lnTo>
                <a:close/>
              </a:path>
              <a:path fill="lighten" w="42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16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план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ad79c"/>
                </a:solidFill>
                <a:latin typeface="Arial"/>
              </a:rPr>
              <a:t>Высочайшие горные системы</a:t>
            </a:r>
            <a:endParaRPr b="0" lang="en-US" sz="3200" spc="-1" strike="noStrike">
              <a:solidFill>
                <a:srgbClr val="dad79c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79280" y="836640"/>
          <a:ext cx="8785440" cy="602136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  <a:gridCol w="2755800"/>
                <a:gridCol w="163692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Матер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Горная систе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Наивысшая верш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Высота, 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ffff"/>
                          </a:solidFill>
                          <a:latin typeface="Comic Sans MS"/>
                        </a:rPr>
                        <a:t>Евраз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Гимала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г. Джомолунг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88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ffff"/>
                          </a:solidFill>
                          <a:latin typeface="Comic Sans MS"/>
                        </a:rPr>
                        <a:t>Евраз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Пами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пик Коммун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74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ffff"/>
                          </a:solidFill>
                          <a:latin typeface="Comic Sans MS"/>
                        </a:rPr>
                        <a:t>Евраз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Тянь-Ша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пик Побе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74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ffff"/>
                          </a:solidFill>
                          <a:latin typeface="Comic Sans MS"/>
                        </a:rPr>
                        <a:t>Южная Амер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Ан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г. Аконкагу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69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ffff"/>
                          </a:solidFill>
                          <a:latin typeface="Comic Sans MS"/>
                        </a:rPr>
                        <a:t>Северная Амер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Кордилье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Мак-Кин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61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ffff"/>
                          </a:solidFill>
                          <a:latin typeface="Comic Sans MS"/>
                        </a:rPr>
                        <a:t>Афр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Восточно-Африканское плоскогорь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влк. Килиманджар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8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ffff"/>
                          </a:solidFill>
                          <a:latin typeface="Comic Sans MS"/>
                        </a:rPr>
                        <a:t>Евраз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Кавк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г. Эльбру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6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ffff"/>
                          </a:solidFill>
                          <a:latin typeface="Comic Sans MS"/>
                        </a:rPr>
                        <a:t>Евраз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Альп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г. Монбл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48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ffff"/>
                          </a:solidFill>
                          <a:latin typeface="Comic Sans MS"/>
                        </a:rPr>
                        <a:t>Австрал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Австралийские Альп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г. Косцюш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22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d79c"/>
                </a:solidFill>
                <a:latin typeface="Arial"/>
              </a:rPr>
              <a:t>Определите общее направление, протяженность гор, координаты самых высоких горных точек. Ответы занесите в таблицу:</a:t>
            </a:r>
            <a:endParaRPr b="0" lang="en-US" sz="2400" spc="-1" strike="noStrike">
              <a:solidFill>
                <a:srgbClr val="dad79c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50920" y="1600200"/>
          <a:ext cx="8642160" cy="4530600"/>
        </p:xfrm>
        <a:graphic>
          <a:graphicData uri="http://schemas.openxmlformats.org/drawingml/2006/table">
            <a:tbl>
              <a:tblPr/>
              <a:tblGrid>
                <a:gridCol w="1584360"/>
                <a:gridCol w="2665440"/>
                <a:gridCol w="2376360"/>
                <a:gridCol w="201600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Го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Направл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Протяжен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Координа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Кавка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Ур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Ан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ad79c"/>
                </a:solidFill>
                <a:latin typeface="Arial"/>
              </a:rPr>
              <a:t>Домашнее задание: </a:t>
            </a:r>
            <a:r>
              <a:rPr b="0" lang="en-US" sz="4000" spc="-1" strike="noStrike">
                <a:solidFill>
                  <a:srgbClr val="dad79c"/>
                </a:solidFill>
                <a:latin typeface="Arial"/>
                <a:ea typeface="Arial"/>
              </a:rPr>
              <a:t>§</a:t>
            </a:r>
            <a:r>
              <a:rPr b="0" lang="ru-RU" sz="4000" spc="-1" strike="noStrike">
                <a:solidFill>
                  <a:srgbClr val="dad79c"/>
                </a:solidFill>
                <a:latin typeface="Arial"/>
                <a:ea typeface="Arial"/>
              </a:rPr>
              <a:t> 20,</a:t>
            </a:r>
            <a:endParaRPr b="0" lang="en-US" sz="4000" spc="-1" strike="noStrike">
              <a:solidFill>
                <a:srgbClr val="dad79c"/>
              </a:solidFill>
              <a:latin typeface="Arial"/>
            </a:endParaRPr>
          </a:p>
        </p:txBody>
      </p:sp>
      <p:pic>
        <p:nvPicPr>
          <p:cNvPr id="173" name="Picture 6" descr="TEACHER"/>
          <p:cNvPicPr/>
          <p:nvPr/>
        </p:nvPicPr>
        <p:blipFill>
          <a:blip r:embed="rId1"/>
          <a:stretch/>
        </p:blipFill>
        <p:spPr>
          <a:xfrm>
            <a:off x="1116000" y="1773360"/>
            <a:ext cx="2532240" cy="31622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08000" y="1052280"/>
            <a:ext cx="4978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Wingdings"/>
                <a:ea typeface="Wingdings"/>
              </a:rPr>
              <a:t></a:t>
            </a:r>
            <a:r>
              <a:rPr b="0" lang="ru-RU" sz="2400" spc="-1" strike="noStrike">
                <a:solidFill>
                  <a:srgbClr val="663300"/>
                </a:solidFill>
                <a:latin typeface="Verdana"/>
              </a:rPr>
              <a:t>Задание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Verdana"/>
              </a:rPr>
              <a:t>обозначьте на к/к следующие объекты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Verdana"/>
              </a:rPr>
              <a:t>Гимала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Verdana"/>
              </a:rPr>
              <a:t>Кордильер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Verdana"/>
              </a:rPr>
              <a:t>Анд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Verdana"/>
              </a:rPr>
              <a:t>Аппалач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Verdana"/>
              </a:rPr>
              <a:t>Скандинавск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Verdana"/>
              </a:rPr>
              <a:t>Уральск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Verdana"/>
              </a:rPr>
              <a:t>Карпат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Verdana"/>
              </a:rPr>
              <a:t>Хибин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Verdana"/>
              </a:rPr>
              <a:t>Бырранг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324000" y="6308640"/>
            <a:ext cx="431640" cy="217440"/>
          </a:xfrm>
          <a:custGeom>
            <a:avLst/>
            <a:gdLst>
              <a:gd name="textAreaLeft" fmla="*/ 14040 w 431640"/>
              <a:gd name="textAreaRight" fmla="*/ 417600 w 431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42843" h="21600">
                <a:moveTo>
                  <a:pt x="0" y="0"/>
                </a:moveTo>
                <a:lnTo>
                  <a:pt x="42843" y="0"/>
                </a:lnTo>
                <a:lnTo>
                  <a:pt x="42843" y="21600"/>
                </a:lnTo>
                <a:lnTo>
                  <a:pt x="0" y="21600"/>
                </a:lnTo>
                <a:close/>
              </a:path>
              <a:path fill="lightenLess" w="42843" h="21600">
                <a:moveTo>
                  <a:pt x="0" y="0"/>
                </a:moveTo>
                <a:lnTo>
                  <a:pt x="42843" y="0"/>
                </a:lnTo>
                <a:lnTo>
                  <a:pt x="41443" y="1400"/>
                </a:lnTo>
                <a:lnTo>
                  <a:pt x="1400" y="1400"/>
                </a:lnTo>
                <a:close/>
              </a:path>
              <a:path fill="darken" w="42843" h="21600">
                <a:moveTo>
                  <a:pt x="42843" y="0"/>
                </a:moveTo>
                <a:lnTo>
                  <a:pt x="42843" y="21600"/>
                </a:lnTo>
                <a:lnTo>
                  <a:pt x="41443" y="20200"/>
                </a:lnTo>
                <a:lnTo>
                  <a:pt x="41443" y="1400"/>
                </a:lnTo>
                <a:close/>
              </a:path>
              <a:path fill="darkenLess" w="42843" h="21600">
                <a:moveTo>
                  <a:pt x="42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443" y="20200"/>
                </a:lnTo>
                <a:close/>
              </a:path>
              <a:path fill="lighten" w="42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16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план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7885080" y="616572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10800"/>
                </a:moveTo>
                <a:lnTo>
                  <a:pt x="25012" y="3794"/>
                </a:lnTo>
                <a:lnTo>
                  <a:pt x="25012" y="17806"/>
                </a:lnTo>
                <a:close/>
              </a:path>
            </a:pathLst>
          </a:custGeom>
          <a:solidFill>
            <a:srgbClr val="816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8317080" y="6165720"/>
            <a:ext cx="358560" cy="216000"/>
          </a:xfrm>
          <a:custGeom>
            <a:avLst/>
            <a:gdLst>
              <a:gd name="textAreaLeft" fmla="*/ 13680 w 358560"/>
              <a:gd name="textAreaRight" fmla="*/ 344880 w 358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5832" h="21600">
                <a:moveTo>
                  <a:pt x="0" y="0"/>
                </a:moveTo>
                <a:lnTo>
                  <a:pt x="35832" y="0"/>
                </a:lnTo>
                <a:lnTo>
                  <a:pt x="35832" y="21600"/>
                </a:lnTo>
                <a:lnTo>
                  <a:pt x="0" y="21600"/>
                </a:lnTo>
                <a:close/>
              </a:path>
              <a:path fill="lightenLess" w="35832" h="21600">
                <a:moveTo>
                  <a:pt x="0" y="0"/>
                </a:moveTo>
                <a:lnTo>
                  <a:pt x="35832" y="0"/>
                </a:lnTo>
                <a:lnTo>
                  <a:pt x="34432" y="1400"/>
                </a:lnTo>
                <a:lnTo>
                  <a:pt x="1400" y="1400"/>
                </a:lnTo>
                <a:close/>
              </a:path>
              <a:path fill="darken" w="35832" h="21600">
                <a:moveTo>
                  <a:pt x="35832" y="0"/>
                </a:moveTo>
                <a:lnTo>
                  <a:pt x="35832" y="21600"/>
                </a:lnTo>
                <a:lnTo>
                  <a:pt x="34432" y="20200"/>
                </a:lnTo>
                <a:lnTo>
                  <a:pt x="34432" y="1400"/>
                </a:lnTo>
                <a:close/>
              </a:path>
              <a:path fill="darkenLess" w="35832" h="21600">
                <a:moveTo>
                  <a:pt x="35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32" y="20200"/>
                </a:lnTo>
                <a:close/>
              </a:path>
              <a:path fill="lighten" w="35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32" h="21600">
                <a:moveTo>
                  <a:pt x="10910" y="3794"/>
                </a:moveTo>
                <a:lnTo>
                  <a:pt x="24923" y="10800"/>
                </a:lnTo>
                <a:lnTo>
                  <a:pt x="10910" y="17806"/>
                </a:lnTo>
                <a:close/>
              </a:path>
            </a:pathLst>
          </a:custGeom>
          <a:solidFill>
            <a:srgbClr val="816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5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435880" cy="16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Цель урока:</a:t>
            </a:r>
            <a:r>
              <a:rPr b="0" lang="ru-RU" sz="2400" spc="-1" strike="noStrike">
                <a:solidFill>
                  <a:srgbClr val="dad79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расширить знания об одной из крупнейших форм рельефа суши – горных системах. </a:t>
            </a:r>
            <a:endParaRPr b="0" lang="en-US" sz="20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Verdana"/>
              </a:rPr>
              <a:t>Задачи:</a:t>
            </a:r>
            <a:r>
              <a:rPr b="0" lang="ru-RU" sz="3200" spc="-1" strike="noStrike">
                <a:solidFill>
                  <a:srgbClr val="6633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Verdana"/>
              </a:rPr>
              <a:t>формировать умения работать с контурными картам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96600"/>
                </a:solidFill>
                <a:latin typeface="Verdana"/>
              </a:rPr>
              <a:t>знать виды гор по высоте и уметь их сравнивать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Verdana"/>
              </a:rPr>
              <a:t>уметь работать с разными источниками географических знаний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Verdana"/>
              </a:rPr>
              <a:t>научиться описывать географическое положение гор по плану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AutoShape 4">
            <a:hlinkClick r:id="rId1" action="ppaction://hlinksldjump"/>
          </p:cNvPr>
          <p:cNvSpPr/>
          <p:nvPr/>
        </p:nvSpPr>
        <p:spPr>
          <a:xfrm>
            <a:off x="8028000" y="6235560"/>
            <a:ext cx="289080" cy="21780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217800"/>
              <a:gd name="textAreaBottom" fmla="*/ 203760 h 217800"/>
            </a:gdLst>
            <a:ahLst/>
            <a:rect l="textAreaLeft" t="textAreaTop" r="textAreaRight" b="textAreaBottom"/>
            <a:pathLst>
              <a:path w="28657" h="21600">
                <a:moveTo>
                  <a:pt x="0" y="0"/>
                </a:moveTo>
                <a:lnTo>
                  <a:pt x="28657" y="0"/>
                </a:lnTo>
                <a:lnTo>
                  <a:pt x="28657" y="21600"/>
                </a:lnTo>
                <a:lnTo>
                  <a:pt x="0" y="21600"/>
                </a:lnTo>
                <a:close/>
              </a:path>
              <a:path fill="lightenLess" w="28657" h="21600">
                <a:moveTo>
                  <a:pt x="0" y="0"/>
                </a:moveTo>
                <a:lnTo>
                  <a:pt x="28657" y="0"/>
                </a:lnTo>
                <a:lnTo>
                  <a:pt x="27257" y="1400"/>
                </a:lnTo>
                <a:lnTo>
                  <a:pt x="1400" y="1400"/>
                </a:lnTo>
                <a:close/>
              </a:path>
              <a:path fill="darken" w="28657" h="21600">
                <a:moveTo>
                  <a:pt x="28657" y="0"/>
                </a:moveTo>
                <a:lnTo>
                  <a:pt x="28657" y="21600"/>
                </a:lnTo>
                <a:lnTo>
                  <a:pt x="27257" y="20200"/>
                </a:lnTo>
                <a:lnTo>
                  <a:pt x="27257" y="1400"/>
                </a:lnTo>
                <a:close/>
              </a:path>
              <a:path fill="darkenLess" w="28657" h="21600">
                <a:moveTo>
                  <a:pt x="28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57" y="20200"/>
                </a:lnTo>
                <a:close/>
              </a:path>
              <a:path fill="lighten" w="28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57" h="21600">
                <a:moveTo>
                  <a:pt x="7322" y="10800"/>
                </a:moveTo>
                <a:lnTo>
                  <a:pt x="21335" y="3794"/>
                </a:lnTo>
                <a:lnTo>
                  <a:pt x="21335" y="17806"/>
                </a:lnTo>
                <a:close/>
              </a:path>
            </a:pathLst>
          </a:custGeom>
          <a:solidFill>
            <a:srgbClr val="816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AutoShape 5">
            <a:hlinkClick r:id="rId2" action="ppaction://hlinksldjump"/>
          </p:cNvPr>
          <p:cNvSpPr/>
          <p:nvPr/>
        </p:nvSpPr>
        <p:spPr>
          <a:xfrm>
            <a:off x="8388360" y="623736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816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фото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9280" y="981000"/>
            <a:ext cx="2881440" cy="2141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Picture 5" descr="фото 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156360" y="3789360"/>
            <a:ext cx="2843280" cy="2054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4" name="Picture 6" descr="фото гор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084720" y="981000"/>
            <a:ext cx="2916360" cy="2025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5" name="Picture 7" descr="фото гор5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79280" y="3429000"/>
            <a:ext cx="2808360" cy="2138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6" name="Picture 14" descr="Картинка 13 из 13675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203640" y="1844640"/>
            <a:ext cx="2700360" cy="2025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7" name="Picture 16" descr="Картинка 91 из 136759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276720" y="4437000"/>
            <a:ext cx="2663640" cy="20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ора</a:t>
            </a:r>
            <a:r>
              <a:rPr b="1" lang="ru-RU" sz="2800" spc="-1" strike="noStrike">
                <a:solidFill>
                  <a:srgbClr val="dad79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dad79c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это положительная форма рельефа с относительной высотой более 200 м.</a:t>
            </a:r>
            <a:endParaRPr b="0" lang="en-US" sz="2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Verdana"/>
              </a:rPr>
              <a:t>Горы занимают 45% территории суш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0" name="Organization Chart 5"/>
          <p:cNvGrpSpPr/>
          <p:nvPr/>
        </p:nvGrpSpPr>
        <p:grpSpPr>
          <a:xfrm>
            <a:off x="324000" y="2421000"/>
            <a:ext cx="8362080" cy="4175280"/>
            <a:chOff x="324000" y="2421000"/>
            <a:chExt cx="8362080" cy="4175280"/>
          </a:xfrm>
        </p:grpSpPr>
        <p:cxnSp>
          <p:nvCxnSpPr>
            <p:cNvPr id="131" name="_s1028"/>
            <p:cNvCxnSpPr>
              <a:stCxn id="132" idx="0"/>
              <a:endCxn id="133" idx="2"/>
            </p:cNvCxnSpPr>
            <p:nvPr/>
          </p:nvCxnSpPr>
          <p:spPr>
            <a:xfrm flipV="1" rot="16200000">
              <a:off x="5550480" y="3044160"/>
              <a:ext cx="835560" cy="2927520"/>
            </a:xfrm>
            <a:prstGeom prst="bentConnector3">
              <a:avLst>
                <a:gd name="adj1" fmla="val 2090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4" name="_s1029"/>
            <p:cNvCxnSpPr>
              <a:stCxn id="135" idx="0"/>
              <a:endCxn id="133" idx="2"/>
            </p:cNvCxnSpPr>
            <p:nvPr/>
          </p:nvCxnSpPr>
          <p:spPr>
            <a:xfrm flipV="1">
              <a:off x="4504680" y="4090320"/>
              <a:ext cx="3240" cy="835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_s1030"/>
            <p:cNvCxnSpPr>
              <a:stCxn id="137" idx="0"/>
              <a:endCxn id="133" idx="2"/>
            </p:cNvCxnSpPr>
            <p:nvPr/>
          </p:nvCxnSpPr>
          <p:spPr>
            <a:xfrm flipH="1" flipV="1" rot="5400000">
              <a:off x="2624040" y="3044520"/>
              <a:ext cx="835560" cy="2927520"/>
            </a:xfrm>
            <a:prstGeom prst="bentConnector3">
              <a:avLst>
                <a:gd name="adj1" fmla="val 2090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3" name="_s1031"/>
            <p:cNvSpPr/>
            <p:nvPr/>
          </p:nvSpPr>
          <p:spPr>
            <a:xfrm>
              <a:off x="3250800" y="2421000"/>
              <a:ext cx="2508480" cy="1670040"/>
            </a:xfrm>
            <a:prstGeom prst="roundRect">
              <a:avLst>
                <a:gd name="adj" fmla="val 16667"/>
              </a:avLst>
            </a:prstGeom>
            <a:solidFill>
              <a:srgbClr val="816b3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ff"/>
                  </a:solidFill>
                  <a:latin typeface="Comic Sans MS"/>
                </a:rPr>
                <a:t>Различие гор 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ff"/>
                  </a:solidFill>
                  <a:latin typeface="Comic Sans MS"/>
                </a:rPr>
                <a:t>по высоте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" name="_s1032"/>
            <p:cNvSpPr/>
            <p:nvPr/>
          </p:nvSpPr>
          <p:spPr>
            <a:xfrm>
              <a:off x="324000" y="4926240"/>
              <a:ext cx="2508480" cy="1670040"/>
            </a:xfrm>
            <a:prstGeom prst="roundRect">
              <a:avLst>
                <a:gd name="adj" fmla="val 16667"/>
              </a:avLst>
            </a:prstGeom>
            <a:solidFill>
              <a:srgbClr val="816b3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Comic Sans MS"/>
                </a:rPr>
                <a:t>Высокие</a:t>
              </a:r>
              <a:endParaRPr b="0" lang="en-US" sz="1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Comic Sans MS"/>
                </a:rPr>
                <a:t>(выше 2000 м):</a:t>
              </a:r>
              <a:endParaRPr b="0" lang="en-US" sz="1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cc00"/>
                  </a:solidFill>
                  <a:latin typeface="Verdana"/>
                </a:rPr>
                <a:t>Кавказские горы,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cc00"/>
                  </a:solidFill>
                  <a:latin typeface="Verdana"/>
                </a:rPr>
                <a:t>Алтай, Тянь – Шань, 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cc00"/>
                  </a:solidFill>
                  <a:latin typeface="Verdana"/>
                </a:rPr>
                <a:t>Гималаи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5" name="_s1033"/>
            <p:cNvSpPr/>
            <p:nvPr/>
          </p:nvSpPr>
          <p:spPr>
            <a:xfrm>
              <a:off x="3250800" y="4926240"/>
              <a:ext cx="2508480" cy="1670040"/>
            </a:xfrm>
            <a:prstGeom prst="roundRect">
              <a:avLst>
                <a:gd name="adj" fmla="val 16667"/>
              </a:avLst>
            </a:prstGeom>
            <a:solidFill>
              <a:srgbClr val="816b3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omic Sans MS"/>
                </a:rPr>
                <a:t>Средние</a:t>
              </a:r>
              <a:endParaRPr b="0" lang="en-US" sz="1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omic Sans MS"/>
                </a:rPr>
                <a:t>(1000 – 2000 м):</a:t>
              </a:r>
              <a:endParaRPr b="0" lang="en-US" sz="1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cc00"/>
                  </a:solidFill>
                  <a:latin typeface="Verdana"/>
                </a:rPr>
                <a:t>Карпаты, </a:t>
              </a:r>
              <a:endParaRPr b="0" lang="en-US" sz="1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cc00"/>
                  </a:solidFill>
                  <a:latin typeface="Verdana"/>
                </a:rPr>
                <a:t>Крымские горы</a:t>
              </a:r>
              <a:endParaRPr b="0" lang="en-US" sz="19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2" name="_s1034"/>
            <p:cNvSpPr/>
            <p:nvPr/>
          </p:nvSpPr>
          <p:spPr>
            <a:xfrm>
              <a:off x="6177600" y="4926240"/>
              <a:ext cx="2508480" cy="1670040"/>
            </a:xfrm>
            <a:prstGeom prst="roundRect">
              <a:avLst>
                <a:gd name="adj" fmla="val 16667"/>
              </a:avLst>
            </a:prstGeom>
            <a:solidFill>
              <a:srgbClr val="816b3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omic Sans MS"/>
                </a:rPr>
                <a:t>Низкие</a:t>
              </a:r>
              <a:endParaRPr b="0" lang="en-US" sz="1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omic Sans MS"/>
                </a:rPr>
                <a:t>(500 – 1000 м):</a:t>
              </a:r>
              <a:endParaRPr b="0" lang="en-US" sz="1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cc00"/>
                  </a:solidFill>
                  <a:latin typeface="Verdana"/>
                </a:rPr>
                <a:t>Уральские горы,</a:t>
              </a:r>
              <a:endParaRPr b="0" lang="en-US" sz="1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cc00"/>
                  </a:solidFill>
                  <a:latin typeface="Verdana"/>
                </a:rPr>
                <a:t>Хибины</a:t>
              </a:r>
              <a:endParaRPr b="0" lang="en-US" sz="19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ысокие горы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pic>
        <p:nvPicPr>
          <p:cNvPr id="139" name="Picture 6" descr="Картинка 16 из 332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765000"/>
            <a:ext cx="3745080" cy="28101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40" name="Picture 8" descr="Картинка 14 из 527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0360" y="1125360"/>
            <a:ext cx="4572000" cy="28576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41" name="Picture 10" descr="Картинка 21 из 239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835280" y="3860640"/>
            <a:ext cx="4356000" cy="29019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редневысотные горы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pic>
        <p:nvPicPr>
          <p:cNvPr id="143" name="Picture 8" descr="Картинка 9 из 344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765000"/>
            <a:ext cx="4681800" cy="3513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44" name="Picture 10" descr="Картинка 12 из 69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27640" y="3338640"/>
            <a:ext cx="4500360" cy="3378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Низкие горы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pic>
        <p:nvPicPr>
          <p:cNvPr id="146" name="Picture 12" descr="Картинка 146 из 266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3352680"/>
            <a:ext cx="4673520" cy="350532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pic>
        <p:nvPicPr>
          <p:cNvPr id="147" name="Picture 8" descr="Картинка 40 из 164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981000"/>
            <a:ext cx="5042160" cy="33480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ad79c"/>
                </a:solidFill>
                <a:latin typeface="Arial"/>
              </a:rPr>
              <a:t>Различие гор по высоте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10920" y="1557000"/>
            <a:ext cx="4465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d79c"/>
                </a:solidFill>
                <a:latin typeface="Verdana"/>
              </a:rPr>
              <a:t>«С давних пор привыкли гор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d79c"/>
                </a:solidFill>
                <a:latin typeface="Verdana"/>
              </a:rPr>
              <a:t>О высотах вести спор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d79c"/>
                </a:solidFill>
                <a:latin typeface="Verdana"/>
              </a:rPr>
              <a:t>Трудно это или прост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d79c"/>
                </a:solidFill>
                <a:latin typeface="Verdana"/>
              </a:rPr>
              <a:t>Нам расставить их по росту?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324000" y="3645000"/>
            <a:ext cx="2016000" cy="2305080"/>
          </a:xfrm>
          <a:prstGeom prst="triangle">
            <a:avLst>
              <a:gd name="adj" fmla="val 50000"/>
            </a:avLst>
          </a:prstGeom>
          <a:solidFill>
            <a:srgbClr val="a68a5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ральск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482920" y="3645000"/>
            <a:ext cx="1873080" cy="2305080"/>
          </a:xfrm>
          <a:prstGeom prst="triangle">
            <a:avLst>
              <a:gd name="adj" fmla="val 50000"/>
            </a:avLst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имала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4427640" y="3645000"/>
            <a:ext cx="1944720" cy="2305080"/>
          </a:xfrm>
          <a:prstGeom prst="triangle">
            <a:avLst>
              <a:gd name="adj" fmla="val 50000"/>
            </a:avLst>
          </a:prstGeom>
          <a:solidFill>
            <a:srgbClr val="85453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нд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515280" y="3645000"/>
            <a:ext cx="2304720" cy="2305080"/>
          </a:xfrm>
          <a:prstGeom prst="triangle">
            <a:avLst>
              <a:gd name="adj" fmla="val 50000"/>
            </a:avLst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рдильер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AutoShape 8">
            <a:hlinkClick r:id="rId1" action="ppaction://hlinksldjump"/>
          </p:cNvPr>
          <p:cNvSpPr/>
          <p:nvPr/>
        </p:nvSpPr>
        <p:spPr>
          <a:xfrm>
            <a:off x="8317080" y="623736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3794"/>
                </a:moveTo>
                <a:lnTo>
                  <a:pt x="25012" y="10800"/>
                </a:lnTo>
                <a:lnTo>
                  <a:pt x="11000" y="17806"/>
                </a:lnTo>
                <a:close/>
              </a:path>
            </a:pathLst>
          </a:custGeom>
          <a:solidFill>
            <a:srgbClr val="816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AutoShape 9">
            <a:hlinkClick r:id="rId2" action="ppaction://hlinksldjump"/>
          </p:cNvPr>
          <p:cNvSpPr/>
          <p:nvPr/>
        </p:nvSpPr>
        <p:spPr>
          <a:xfrm>
            <a:off x="324000" y="6308640"/>
            <a:ext cx="431640" cy="217440"/>
          </a:xfrm>
          <a:custGeom>
            <a:avLst/>
            <a:gdLst>
              <a:gd name="textAreaLeft" fmla="*/ 14040 w 431640"/>
              <a:gd name="textAreaRight" fmla="*/ 417600 w 431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42843" h="21600">
                <a:moveTo>
                  <a:pt x="0" y="0"/>
                </a:moveTo>
                <a:lnTo>
                  <a:pt x="42843" y="0"/>
                </a:lnTo>
                <a:lnTo>
                  <a:pt x="42843" y="21600"/>
                </a:lnTo>
                <a:lnTo>
                  <a:pt x="0" y="21600"/>
                </a:lnTo>
                <a:close/>
              </a:path>
              <a:path fill="lightenLess" w="42843" h="21600">
                <a:moveTo>
                  <a:pt x="0" y="0"/>
                </a:moveTo>
                <a:lnTo>
                  <a:pt x="42843" y="0"/>
                </a:lnTo>
                <a:lnTo>
                  <a:pt x="41443" y="1400"/>
                </a:lnTo>
                <a:lnTo>
                  <a:pt x="1400" y="1400"/>
                </a:lnTo>
                <a:close/>
              </a:path>
              <a:path fill="darken" w="42843" h="21600">
                <a:moveTo>
                  <a:pt x="42843" y="0"/>
                </a:moveTo>
                <a:lnTo>
                  <a:pt x="42843" y="21600"/>
                </a:lnTo>
                <a:lnTo>
                  <a:pt x="41443" y="20200"/>
                </a:lnTo>
                <a:lnTo>
                  <a:pt x="41443" y="1400"/>
                </a:lnTo>
                <a:close/>
              </a:path>
              <a:path fill="darkenLess" w="42843" h="21600">
                <a:moveTo>
                  <a:pt x="42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443" y="20200"/>
                </a:lnTo>
                <a:close/>
              </a:path>
              <a:path fill="lighten" w="42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16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план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ad79c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324000" y="3789360"/>
            <a:ext cx="2016000" cy="2305080"/>
          </a:xfrm>
          <a:prstGeom prst="triangle">
            <a:avLst>
              <a:gd name="adj" fmla="val 50000"/>
            </a:avLst>
          </a:prstGeom>
          <a:solidFill>
            <a:srgbClr val="a68a5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ральск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6300720" y="1413000"/>
            <a:ext cx="1873440" cy="2305080"/>
          </a:xfrm>
          <a:prstGeom prst="triangle">
            <a:avLst>
              <a:gd name="adj" fmla="val 50000"/>
            </a:avLst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имала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4284720" y="2133720"/>
            <a:ext cx="1944720" cy="2305080"/>
          </a:xfrm>
          <a:prstGeom prst="triangle">
            <a:avLst>
              <a:gd name="adj" fmla="val 50000"/>
            </a:avLst>
          </a:prstGeom>
          <a:solidFill>
            <a:srgbClr val="85453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нд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2195640" y="2781360"/>
            <a:ext cx="2305080" cy="2305080"/>
          </a:xfrm>
          <a:prstGeom prst="triangle">
            <a:avLst>
              <a:gd name="adj" fmla="val 50000"/>
            </a:avLst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рдильер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AutoShape 7">
            <a:hlinkClick r:id="rId1" action="ppaction://hlinksldjump"/>
          </p:cNvPr>
          <p:cNvSpPr/>
          <p:nvPr/>
        </p:nvSpPr>
        <p:spPr>
          <a:xfrm>
            <a:off x="7885080" y="6237360"/>
            <a:ext cx="358920" cy="216000"/>
          </a:xfrm>
          <a:custGeom>
            <a:avLst/>
            <a:gdLst>
              <a:gd name="textAreaLeft" fmla="*/ 13680 w 358920"/>
              <a:gd name="textAreaRight" fmla="*/ 345240 w 358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5868" h="21600">
                <a:moveTo>
                  <a:pt x="0" y="0"/>
                </a:moveTo>
                <a:lnTo>
                  <a:pt x="35868" y="0"/>
                </a:lnTo>
                <a:lnTo>
                  <a:pt x="35868" y="21600"/>
                </a:lnTo>
                <a:lnTo>
                  <a:pt x="0" y="21600"/>
                </a:lnTo>
                <a:close/>
              </a:path>
              <a:path fill="lightenLess" w="35868" h="21600">
                <a:moveTo>
                  <a:pt x="0" y="0"/>
                </a:moveTo>
                <a:lnTo>
                  <a:pt x="35868" y="0"/>
                </a:lnTo>
                <a:lnTo>
                  <a:pt x="34468" y="1400"/>
                </a:lnTo>
                <a:lnTo>
                  <a:pt x="1400" y="1400"/>
                </a:lnTo>
                <a:close/>
              </a:path>
              <a:path fill="darken" w="35868" h="21600">
                <a:moveTo>
                  <a:pt x="35868" y="0"/>
                </a:moveTo>
                <a:lnTo>
                  <a:pt x="35868" y="21600"/>
                </a:lnTo>
                <a:lnTo>
                  <a:pt x="34468" y="20200"/>
                </a:lnTo>
                <a:lnTo>
                  <a:pt x="34468" y="1400"/>
                </a:lnTo>
                <a:close/>
              </a:path>
              <a:path fill="darkenLess" w="35868" h="21600">
                <a:moveTo>
                  <a:pt x="3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68" y="20200"/>
                </a:lnTo>
                <a:close/>
              </a:path>
              <a:path fill="lighten" w="3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68" h="21600">
                <a:moveTo>
                  <a:pt x="10928" y="10800"/>
                </a:moveTo>
                <a:lnTo>
                  <a:pt x="24941" y="3794"/>
                </a:lnTo>
                <a:lnTo>
                  <a:pt x="24941" y="17806"/>
                </a:lnTo>
                <a:close/>
              </a:path>
            </a:pathLst>
          </a:custGeom>
          <a:solidFill>
            <a:srgbClr val="816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AutoShape 8">
            <a:hlinkClick r:id="rId2" action="ppaction://hlinksldjump"/>
          </p:cNvPr>
          <p:cNvSpPr/>
          <p:nvPr/>
        </p:nvSpPr>
        <p:spPr>
          <a:xfrm>
            <a:off x="8317080" y="623736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3794"/>
                </a:moveTo>
                <a:lnTo>
                  <a:pt x="25012" y="10800"/>
                </a:lnTo>
                <a:lnTo>
                  <a:pt x="11000" y="17806"/>
                </a:lnTo>
                <a:close/>
              </a:path>
            </a:pathLst>
          </a:custGeom>
          <a:solidFill>
            <a:srgbClr val="816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AutoShape 9">
            <a:hlinkClick r:id="rId3" action="ppaction://hlinksldjump"/>
          </p:cNvPr>
          <p:cNvSpPr/>
          <p:nvPr/>
        </p:nvSpPr>
        <p:spPr>
          <a:xfrm>
            <a:off x="324000" y="6308640"/>
            <a:ext cx="431640" cy="217440"/>
          </a:xfrm>
          <a:custGeom>
            <a:avLst/>
            <a:gdLst>
              <a:gd name="textAreaLeft" fmla="*/ 14040 w 431640"/>
              <a:gd name="textAreaRight" fmla="*/ 417600 w 431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42843" h="21600">
                <a:moveTo>
                  <a:pt x="0" y="0"/>
                </a:moveTo>
                <a:lnTo>
                  <a:pt x="42843" y="0"/>
                </a:lnTo>
                <a:lnTo>
                  <a:pt x="42843" y="21600"/>
                </a:lnTo>
                <a:lnTo>
                  <a:pt x="0" y="21600"/>
                </a:lnTo>
                <a:close/>
              </a:path>
              <a:path fill="lightenLess" w="42843" h="21600">
                <a:moveTo>
                  <a:pt x="0" y="0"/>
                </a:moveTo>
                <a:lnTo>
                  <a:pt x="42843" y="0"/>
                </a:lnTo>
                <a:lnTo>
                  <a:pt x="41443" y="1400"/>
                </a:lnTo>
                <a:lnTo>
                  <a:pt x="1400" y="1400"/>
                </a:lnTo>
                <a:close/>
              </a:path>
              <a:path fill="darken" w="42843" h="21600">
                <a:moveTo>
                  <a:pt x="42843" y="0"/>
                </a:moveTo>
                <a:lnTo>
                  <a:pt x="42843" y="21600"/>
                </a:lnTo>
                <a:lnTo>
                  <a:pt x="41443" y="20200"/>
                </a:lnTo>
                <a:lnTo>
                  <a:pt x="41443" y="1400"/>
                </a:lnTo>
                <a:close/>
              </a:path>
              <a:path fill="darkenLess" w="42843" h="21600">
                <a:moveTo>
                  <a:pt x="42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443" y="20200"/>
                </a:lnTo>
                <a:close/>
              </a:path>
              <a:path fill="lighten" w="42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16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план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05:09:02Z</dcterms:created>
  <dc:creator>User</dc:creator>
  <dc:description/>
  <dc:language>en-US</dc:language>
  <cp:lastModifiedBy>User</cp:lastModifiedBy>
  <dcterms:modified xsi:type="dcterms:W3CDTF">2012-11-11T14:26:17Z</dcterms:modified>
  <cp:revision>22</cp:revision>
  <dc:subject/>
  <dc:title>Горы суши</dc:title>
</cp:coreProperties>
</file>